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90BD-A81D-4F13-9424-CDB3994944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05DA-B3D4-4144-9B67-9AA50671D50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FDB6-D2C8-4AEA-9132-2A2CD54DF65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3946-22C8-4EEB-89A4-7BE1DEE8F43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7E4D-0CE1-497A-ACC3-18D593059E2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2BC9-6C73-4AD9-9F34-CFD71E3B55C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6842-E602-4527-94E3-C1324E1788E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C2F0-D8CD-4012-9683-E02E4BC6602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37F2-3093-4D39-8A18-2BBBF654EE8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A837-71D5-47C1-B539-837EB0A14A0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A93C-8F23-4158-B8C0-F9FB941A821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836-6C39-48B5-A215-EE33BB49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E58-9946-48F3-BEB4-45D90958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C35-7FD6-44DC-B5AC-5E35F669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D2E-64B5-4290-BBE0-03011090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9AF-4923-4EF9-AFEE-1E41A05F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B7E-DE05-4F1C-897A-317CF04F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D2E4-A7E8-4AD9-AD09-23D2754C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16D-A2EF-4328-A7D3-6F38578C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E23-2214-4D7C-8DC0-AD8F26C1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CB4-AF91-4E83-B6EB-E6DCBB97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C18-698E-4224-9EE6-ECD566D7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92C-FDDE-4617-8357-6CCF72F6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CFF1-2FCD-4158-ADA2-D0A3B34A176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0440" y="0"/>
            <a:ext cx="8124840" cy="58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филактика плоскостопия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у детей группы «Лапушки»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2962440" y="2835360"/>
            <a:ext cx="3049560" cy="217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380360" y="573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уим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2862360" y="1916280"/>
            <a:ext cx="3705120" cy="2469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" descr=""/>
          <p:cNvPicPr/>
          <p:nvPr/>
        </p:nvPicPr>
        <p:blipFill>
          <a:blip r:embed="rId2"/>
          <a:stretch/>
        </p:blipFill>
        <p:spPr>
          <a:xfrm rot="21216000">
            <a:off x="403200" y="517320"/>
            <a:ext cx="2206800" cy="33080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"/>
          <p:cNvPicPr/>
          <p:nvPr/>
        </p:nvPicPr>
        <p:blipFill>
          <a:blip r:embed="rId3"/>
          <a:stretch/>
        </p:blipFill>
        <p:spPr>
          <a:xfrm rot="16396200">
            <a:off x="6106320" y="1002240"/>
            <a:ext cx="3317760" cy="2211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878040" y="5084640"/>
            <a:ext cx="76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ждение по массажной дорожке, массажным ковр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катывание гантелей ступней н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5280" y="54936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же нами разработан и внедрен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оект физкультурно-оздоровительной работы по профилактике и предупреждению нарушения осанки и плоскостопия у детей старшего дошкольного возраст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Создание в группе системы работы по профилактике и предупреждению нарушения осанки и плоскостоп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Создать условия для организации работы по профилактике и предупреждению нарушения осанки и плоскостоп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Дать детям понятие о здоровой стопе, красивой осанке, познакомить с приемами укрепл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овысить уровень развития двигательных умений и навыков у детей, способствующих профилактике и предупреждению нарушения осанки и плоскостоп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реализации проекта: 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нники группы, воспитатели, родители, инструктор по физическому воспитанию, медицинская сестра, музыкальный работн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и реализации: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Долгосрочный (сентябрь 2016-май 2018 учебный год) .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5840" y="1356840"/>
            <a:ext cx="857232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лаем здоровья!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2" descr=""/>
          <p:cNvPicPr/>
          <p:nvPr/>
        </p:nvPicPr>
        <p:blipFill>
          <a:blip r:embed="rId1"/>
          <a:stretch/>
        </p:blipFill>
        <p:spPr>
          <a:xfrm>
            <a:off x="2556000" y="3666960"/>
            <a:ext cx="4066920" cy="271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Что такое плоскостоп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714320"/>
            <a:ext cx="540072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оскостопи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– одно из самых распространенных заболеванийопорно-двигательного аппарата у дет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деформация стопы с уплощением ее свода (у детей обычно деформируется продольный свод, из-за чего подошва становится плоской и всей своей поверхностью касается пол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plosk3"/>
          <p:cNvPicPr/>
          <p:nvPr/>
        </p:nvPicPr>
        <p:blipFill>
          <a:blip r:embed="rId1"/>
          <a:stretch/>
        </p:blipFill>
        <p:spPr>
          <a:xfrm>
            <a:off x="6218280" y="1785960"/>
            <a:ext cx="2530440" cy="428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losk4"/>
          <p:cNvPicPr/>
          <p:nvPr/>
        </p:nvPicPr>
        <p:blipFill>
          <a:blip r:embed="rId1"/>
          <a:stretch/>
        </p:blipFill>
        <p:spPr>
          <a:xfrm>
            <a:off x="1000080" y="1251000"/>
            <a:ext cx="6838920" cy="505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 плоскостопия у де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2276640"/>
            <a:ext cx="44640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шний ве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хи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вмы стоп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ожденная слаб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шц и связок стоп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алич мышц н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3922920" cy="26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наки плоскостоп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страя утомляемость ног;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вечеру возможное появление отека стоп, которого не будет утром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ющие боли при стоянии или ходьбе в голенях и стопах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строе изнашивание внутренней стороны подошвы;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ок ходит с широко наставленными ногами, слегка сгибая ноги в коленях, развернув стопы;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опа имеет неправильную форму или становится шире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астание ногтей пальцев ног в кожу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кривление пальцев ног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ление мозол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 факторов развития плоскостоп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доразвитие мышц стопы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ость мышечно-связочного аппарата стопы, может быть в результате рахит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ие физические нагрузк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лишний вес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ительное пребывание в постели (в результате болезни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шение неправильно подобранной обув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солапость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-образная форма ножек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вмы стопы, голеностопного сустава, лодыжк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ледственная предрасположеннос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жнения по профилактике плоскостоп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04960"/>
            <a:ext cx="587196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Ходьб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месте, не отрывая носки от по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носках, в приседе на носках,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уприсяд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ятк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катом с пятки на нос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внешней стороне стоп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ставным шагом п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обруч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алке, веревке, кана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ребристой дорож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кочк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сенсорным дорожкам (в групп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5435640" y="1341360"/>
            <a:ext cx="3554280" cy="2352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"/>
          <p:cNvPicPr/>
          <p:nvPr/>
        </p:nvPicPr>
        <p:blipFill>
          <a:blip r:embed="rId2"/>
          <a:stretch/>
        </p:blipFill>
        <p:spPr>
          <a:xfrm>
            <a:off x="6443640" y="3693960"/>
            <a:ext cx="201600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071360"/>
            <a:ext cx="49068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Прокатывание предметов ногами(подошвами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счет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ольчатых мячи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оче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лких шар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Собирание пальцами ног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ише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лких игрушек (от Киндер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с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Самомассаж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жик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иш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2953080" cy="19684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3060720" cy="2040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3"/>
          <a:stretch/>
        </p:blipFill>
        <p:spPr>
          <a:xfrm>
            <a:off x="5435640" y="4724280"/>
            <a:ext cx="2978280" cy="198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95280" y="4149720"/>
            <a:ext cx="4554720" cy="24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ходное положение: упор сидя, леж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уговые вращение стоп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цы ног на себя, от себ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ки вместе, носки врозь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ски вместе, пятки вроз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5219640" y="3500280"/>
            <a:ext cx="3456000" cy="2305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230328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"/>
          <p:cNvPicPr/>
          <p:nvPr/>
        </p:nvPicPr>
        <p:blipFill>
          <a:blip r:embed="rId3"/>
          <a:stretch/>
        </p:blipFill>
        <p:spPr>
          <a:xfrm>
            <a:off x="5219640" y="6541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5:10:56Z</dcterms:created>
  <dc:creator>Аня</dc:creator>
  <dc:description/>
  <dc:language>en-US</dc:language>
  <cp:lastModifiedBy>7</cp:lastModifiedBy>
  <dcterms:modified xsi:type="dcterms:W3CDTF">2017-10-15T08:42:25Z</dcterms:modified>
  <cp:revision>61</cp:revision>
  <dc:subject/>
  <dc:title>Профилактика плоскостопия у детей дошкольного возраста</dc:title>
</cp:coreProperties>
</file>