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C1D3-9F02-45F1-8A87-DD520F8ABF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5B50-0C2D-4543-A640-2C17FAB28BD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7F70-C800-4FD9-B785-6BD30BF9450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2CD3-E448-451D-84B6-9249B2C5261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192B-D597-4148-B4A9-A77B154EE3A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DC1E-3229-4911-9B42-1A250FCF318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F04B-CE53-4794-99A5-64355E96565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B56C-A1B4-4E35-8658-65E0BFF54F7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B6A0-55AC-41B5-AF69-53DECCF9049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DE9A-58D3-4C89-85E3-A686A0329B2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1DAC-0437-4AE8-A9F4-2A0AE444FC6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CC5E-37FC-40EF-BF73-1F4F0B3B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752-DA9B-463A-9A84-3567AC32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4B6-6618-42A4-96A4-C3A258C9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B1E-3492-4597-A40F-A01921AF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D52-1A56-4251-8540-063B1A87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202-61C3-4222-8C8A-3573A380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663-8D4F-4225-BC7C-157DCFEF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A0A8-A1AD-48B4-8291-5A364A0A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2B66-6E90-47C2-AE16-ABF7490A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957-781F-4EF0-B440-A7E2E797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1CC6-FD88-483C-B1E4-600EA473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12BC-303C-4C39-9A72-69323023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7538-3C7F-4BCF-B4BD-6775C59EDE9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50440" y="0"/>
            <a:ext cx="812484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филактика плоскостопия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у детей группы «Лапушки»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2" descr=""/>
          <p:cNvPicPr/>
          <p:nvPr/>
        </p:nvPicPr>
        <p:blipFill>
          <a:blip r:embed="rId1"/>
          <a:stretch/>
        </p:blipFill>
        <p:spPr>
          <a:xfrm>
            <a:off x="2962440" y="2835360"/>
            <a:ext cx="3049560" cy="217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7380360" y="573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полнил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уимо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"/>
          <p:cNvPicPr/>
          <p:nvPr/>
        </p:nvPicPr>
        <p:blipFill>
          <a:blip r:embed="rId1"/>
          <a:stretch/>
        </p:blipFill>
        <p:spPr>
          <a:xfrm>
            <a:off x="2862360" y="1916280"/>
            <a:ext cx="3705120" cy="24699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" descr=""/>
          <p:cNvPicPr/>
          <p:nvPr/>
        </p:nvPicPr>
        <p:blipFill>
          <a:blip r:embed="rId2"/>
          <a:stretch/>
        </p:blipFill>
        <p:spPr>
          <a:xfrm rot="21216000">
            <a:off x="403200" y="517320"/>
            <a:ext cx="2206800" cy="330804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5" descr=""/>
          <p:cNvPicPr/>
          <p:nvPr/>
        </p:nvPicPr>
        <p:blipFill>
          <a:blip r:embed="rId3"/>
          <a:stretch/>
        </p:blipFill>
        <p:spPr>
          <a:xfrm rot="16396200">
            <a:off x="6106320" y="1002240"/>
            <a:ext cx="3317760" cy="2211480"/>
          </a:xfrm>
          <a:prstGeom prst="rect">
            <a:avLst/>
          </a:prstGeom>
          <a:ln w="0">
            <a:noFill/>
          </a:ln>
        </p:spPr>
      </p:pic>
      <p:sp>
        <p:nvSpPr>
          <p:cNvPr id="77" name="TextBox 6"/>
          <p:cNvSpPr/>
          <p:nvPr/>
        </p:nvSpPr>
        <p:spPr>
          <a:xfrm>
            <a:off x="878040" y="5084640"/>
            <a:ext cx="76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ождение по массажной дорожке, массажным ковр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катывание гантелей ступней н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5280" y="54936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акже нами разработан и внедрен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оект физкультурно-оздоровительной работы по профилактике и предупреждению нарушения осанки и плоскостопия у детей старшего дошкольного возраст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Создание в группе системы работы по профилактике и предупреждению нарушения осанки и плоскостоп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Создать условия для организации работы по профилактике и предупреждению нарушения осанки и плоскостоп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Дать детям понятие о здоровой стопе, красивой осанке, познакомить с приемами укрепл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овысить уровень развития двигательных умений и навыков у детей, способствующих профилактике и предупреждению нарушения осанки и плоскостоп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астники реализации проекта: 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спитанники группы, воспитатели, родители, инструктор по физическому воспитанию, медицинская сестра, музыкальный работни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оки реализации: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Долгосрочный (сентябрь 2016-май 2018 учебный год) .</a:t>
            </a: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5840" y="1356840"/>
            <a:ext cx="857232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елаем здоровья!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Рисунок 2" descr=""/>
          <p:cNvPicPr/>
          <p:nvPr/>
        </p:nvPicPr>
        <p:blipFill>
          <a:blip r:embed="rId1"/>
          <a:stretch/>
        </p:blipFill>
        <p:spPr>
          <a:xfrm>
            <a:off x="2556000" y="3666960"/>
            <a:ext cx="4066920" cy="2711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Что такое плоскостоп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14320"/>
            <a:ext cx="540072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лоскостопие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– одно из самых распространенных заболеванийопорно-двигательного аппарата у дет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деформация стопы с уплощением ее свода (у детей обычно деформируется продольный свод, из-за чего подошва становится плоской и всей своей поверхностью касается пол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plosk3"/>
          <p:cNvPicPr/>
          <p:nvPr/>
        </p:nvPicPr>
        <p:blipFill>
          <a:blip r:embed="rId1"/>
          <a:stretch/>
        </p:blipFill>
        <p:spPr>
          <a:xfrm>
            <a:off x="6218280" y="1785960"/>
            <a:ext cx="2530440" cy="42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plosk4"/>
          <p:cNvPicPr/>
          <p:nvPr/>
        </p:nvPicPr>
        <p:blipFill>
          <a:blip r:embed="rId1"/>
          <a:stretch/>
        </p:blipFill>
        <p:spPr>
          <a:xfrm>
            <a:off x="1000080" y="1251000"/>
            <a:ext cx="6838920" cy="5057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чины плоскостопия у дет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4000" y="2276640"/>
            <a:ext cx="44640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шний вес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хит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вмы стоп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ожденная слабость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ышц и связок стопы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ралич мышц н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 algn="r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3" descr=""/>
          <p:cNvPicPr/>
          <p:nvPr/>
        </p:nvPicPr>
        <p:blipFill>
          <a:blip r:embed="rId1"/>
          <a:stretch/>
        </p:blipFill>
        <p:spPr>
          <a:xfrm>
            <a:off x="4716360" y="2349360"/>
            <a:ext cx="3922920" cy="26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знаки плоскостоп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страя утомляемость ног;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 вечеру возможное появление отека стоп, которого не будет утром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ющие боли при стоянии или ходьбе в голенях и стопах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строе изнашивание внутренней стороны подошвы;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бенок ходит с широко наставленными ногами, слегка сгибая ноги в коленях, развернув стопы;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топа имеет неправильную форму или становится шире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астание ногтей пальцев ног в кожу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кривление пальцев ног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ление мозол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0 факторов развития плоскостоп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доразвитие мышц стопы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лабость мышечно-связочного аппарата стопы, может быть в результате рахит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ие физические нагруз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лишний вес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лительное пребывание в постели (в результате болезни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шение неправильно подобранной обув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солапость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Х-образная форма ножек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равмы стопы, голеностопного сустава, лодыжк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следственная предрасположенность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жнения по профилактике плоскостоп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04960"/>
            <a:ext cx="587196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 Ходьб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месте, не отрывая носки от пол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носках, в приседе на носках,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уприсяд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пятка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катом с пятки на носо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внешней стороне стоп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ставным шагом по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обруч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палке, веревке, кана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ребристой дорожк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кочк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 сенсорным дорожкам (в группе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>
            <a:off x="5435640" y="1341360"/>
            <a:ext cx="3554280" cy="2352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>
            <a:off x="6443640" y="3693960"/>
            <a:ext cx="201600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071360"/>
            <a:ext cx="49068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Прокатывание предметов ногами(подошвами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счет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гольчатых мячик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оч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лких шар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Собирание пальцами ног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ше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лких игрушек (от Киндер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с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Самомассаж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жикам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иш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5003640" y="476280"/>
            <a:ext cx="2953080" cy="19684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3060720" cy="204012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3" descr=""/>
          <p:cNvPicPr/>
          <p:nvPr/>
        </p:nvPicPr>
        <p:blipFill>
          <a:blip r:embed="rId3"/>
          <a:stretch/>
        </p:blipFill>
        <p:spPr>
          <a:xfrm>
            <a:off x="5435640" y="4724280"/>
            <a:ext cx="2978280" cy="1986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95280" y="4149720"/>
            <a:ext cx="4554720" cy="24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ходное положение: упор сидя, леж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уговые вращение стопо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льцы ног на себя, от себя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ятки вместе, носки врозь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оски вместе, пятки врозь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5219640" y="3500280"/>
            <a:ext cx="3456000" cy="23050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2303280" cy="34574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3"/>
          <a:stretch/>
        </p:blipFill>
        <p:spPr>
          <a:xfrm>
            <a:off x="5219640" y="654120"/>
            <a:ext cx="3456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5:10:56Z</dcterms:created>
  <dc:creator>Аня</dc:creator>
  <dc:description/>
  <dc:language>en-US</dc:language>
  <cp:lastModifiedBy>7</cp:lastModifiedBy>
  <dcterms:modified xsi:type="dcterms:W3CDTF">2017-10-15T08:42:25Z</dcterms:modified>
  <cp:revision>61</cp:revision>
  <dc:subject/>
  <dc:title>Профилактика плоскостопия у детей дошкольного возраста</dc:title>
</cp:coreProperties>
</file>