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E9EB-B112-428E-9800-A3A524411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5ED-F890-439F-BBA5-CD56F4C6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1149-7D71-4125-ACE9-C6C97698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F19-F65E-403E-BA0B-85F413DC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3C4-5C9E-42AB-96A6-2FD27271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F35A-C1B4-45FC-8FF1-DF25D83C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89F-AF2D-42D5-9B1F-0619BEC7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DB18-6930-481C-8149-36FEA412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EF5F-9CB9-4CFB-8C51-BF2DEAF1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8CF1-0D4D-4796-81E6-77E8B240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79C-6E05-417E-B3E2-D7B503EF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2FC0-5F3A-415C-8DC3-C5A1F3F7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427E-94A9-4F88-ADD4-F394E75ADD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6950160" cy="637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1187280" y="235080"/>
            <a:ext cx="66484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1116000" y="290520"/>
            <a:ext cx="6765840" cy="635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"/>
          <p:cNvPicPr/>
          <p:nvPr/>
        </p:nvPicPr>
        <p:blipFill>
          <a:blip r:embed="rId1"/>
          <a:stretch/>
        </p:blipFill>
        <p:spPr>
          <a:xfrm>
            <a:off x="1258920" y="231840"/>
            <a:ext cx="6583320" cy="6265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44840" cy="3097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4284720" y="3459240"/>
            <a:ext cx="4649760" cy="32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4541760" y="3510000"/>
            <a:ext cx="3340080" cy="3138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Picture 8" descr=""/>
          <p:cNvPicPr/>
          <p:nvPr/>
        </p:nvPicPr>
        <p:blipFill>
          <a:blip r:embed="rId2"/>
          <a:stretch/>
        </p:blipFill>
        <p:spPr>
          <a:xfrm>
            <a:off x="4579920" y="231840"/>
            <a:ext cx="3262320" cy="310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Picture 9" descr=""/>
          <p:cNvPicPr/>
          <p:nvPr/>
        </p:nvPicPr>
        <p:blipFill>
          <a:blip r:embed="rId3"/>
          <a:stretch/>
        </p:blipFill>
        <p:spPr>
          <a:xfrm>
            <a:off x="595440" y="3524400"/>
            <a:ext cx="3390840" cy="310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" name="Рисунок 1" descr=""/>
          <p:cNvPicPr/>
          <p:nvPr/>
        </p:nvPicPr>
        <p:blipFill>
          <a:blip r:embed="rId4"/>
          <a:stretch/>
        </p:blipFill>
        <p:spPr>
          <a:xfrm>
            <a:off x="595440" y="231840"/>
            <a:ext cx="339084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9:26:08Z</dcterms:created>
  <dc:creator>User</dc:creator>
  <dc:description/>
  <dc:language>en-US</dc:language>
  <cp:lastModifiedBy>Олеся</cp:lastModifiedBy>
  <dcterms:modified xsi:type="dcterms:W3CDTF">2017-10-15T12:41:52Z</dcterms:modified>
  <cp:revision>47</cp:revision>
  <dc:subject/>
  <dc:title>Слайд 1</dc:title>
</cp:coreProperties>
</file>