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A25-2EB8-4DC0-9A5F-4429A8CB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208-C271-4478-A85E-8AB5E868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E04-0930-47AC-A362-8E283817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40A-B977-491F-9C98-D11D9E41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21A-701E-49CE-98F0-B571596F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18A-D767-4324-B5B7-F8510069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249-4BEF-4D17-A3F7-01F4C032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0F5-87AC-4D34-B2F4-4033705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A83-8100-48DF-94E8-EA712A1E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F4A-A20B-4253-9543-5AAAC198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098-57CB-4125-AABB-F854F2C8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347-3C86-4FA1-A247-3084B217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F653-7910-45D3-81CB-730FC80B3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50160" cy="637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1187280" y="235080"/>
            <a:ext cx="66484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1116000" y="290520"/>
            <a:ext cx="6765840" cy="635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1258920" y="231840"/>
            <a:ext cx="6583320" cy="626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44840" cy="3097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284720" y="3459240"/>
            <a:ext cx="46497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4541760" y="3510000"/>
            <a:ext cx="3340080" cy="31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4579920" y="231840"/>
            <a:ext cx="3262320" cy="310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9" descr=""/>
          <p:cNvPicPr/>
          <p:nvPr/>
        </p:nvPicPr>
        <p:blipFill>
          <a:blip r:embed="rId3"/>
          <a:stretch/>
        </p:blipFill>
        <p:spPr>
          <a:xfrm>
            <a:off x="595440" y="3524400"/>
            <a:ext cx="3390840" cy="31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Рисунок 1" descr=""/>
          <p:cNvPicPr/>
          <p:nvPr/>
        </p:nvPicPr>
        <p:blipFill>
          <a:blip r:embed="rId4"/>
          <a:stretch/>
        </p:blipFill>
        <p:spPr>
          <a:xfrm>
            <a:off x="595440" y="231840"/>
            <a:ext cx="33908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9:26:08Z</dcterms:created>
  <dc:creator>User</dc:creator>
  <dc:description/>
  <dc:language>en-US</dc:language>
  <cp:lastModifiedBy>Олеся</cp:lastModifiedBy>
  <dcterms:modified xsi:type="dcterms:W3CDTF">2017-10-15T12:41:52Z</dcterms:modified>
  <cp:revision>47</cp:revision>
  <dc:subject/>
  <dc:title>Слайд 1</dc:title>
</cp:coreProperties>
</file>