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A947-D8B6-4A22-B85A-B475E797AE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5028-0DBD-49DC-BD76-20D752F40680}" type="slidenum">
              <a:rPr b="0" lang="ru-RU" sz="12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F40-3F9A-41EA-B2AE-BCFEC99D8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A45D-7D07-44AB-8592-999F2E89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F9DB-AF28-48AE-BE8F-49562079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43D8-7062-4612-AF41-79787DC10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529-D3B4-4BA2-A9AB-410BFB70C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E735-3415-41E8-9409-A9005A82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50AD-9D6E-46B7-A6C9-46852AA2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C2FF-2B81-46FA-8554-1E56F2B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A9DC-FF35-4B94-B9C7-E4B8C75D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0A12-6533-4D6B-85B9-2796BEAF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9CFD-5A03-414B-965B-8B8E4F37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EC9-592B-42C2-8B95-57A8CF97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FB25-55F5-45B1-842F-4D8CCC0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1EF6-D368-40A2-851A-21EFB38E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52C6-78EF-4060-87A2-9D03CACF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73006-E221-4DED-9DC0-E3021358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2062-7E30-4DB6-9218-70C94E7B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8030-8C0B-4901-9451-67F58D0F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87A-E23E-42BA-B070-BF3CFE04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BC9-6C53-45E1-8336-C15A6660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7F2-3441-422E-9A76-FF3FF1B1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17E-A2F2-4A8A-8493-5851A48D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4E21-301F-4A1C-957C-45514CF7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7462-5817-4FA9-928C-3EE92EFC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EE4D-1468-4DA8-A138-320DBCA2DCF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85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86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87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0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-1080" y="2601000"/>
              <a:ext cx="2687040" cy="3117600"/>
              <a:chOff x="-1080" y="2601000"/>
              <a:chExt cx="2687040" cy="3117600"/>
            </a:xfrm>
          </p:grpSpPr>
          <p:sp>
            <p:nvSpPr>
              <p:cNvPr id="92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97" name="Group 15"/>
              <p:cNvGrpSpPr/>
              <p:nvPr/>
            </p:nvGrpSpPr>
            <p:grpSpPr>
              <a:xfrm>
                <a:off x="852840" y="4053960"/>
                <a:ext cx="1833120" cy="1664640"/>
                <a:chOff x="852840" y="4053960"/>
                <a:chExt cx="1833120" cy="1664640"/>
              </a:xfrm>
            </p:grpSpPr>
            <p:sp>
              <p:nvSpPr>
                <p:cNvPr id="98" name="Freeform 16"/>
                <p:cNvSpPr/>
                <p:nvPr/>
              </p:nvSpPr>
              <p:spPr>
                <a:xfrm flipH="1" rot="7102800">
                  <a:off x="1267200" y="3941280"/>
                  <a:ext cx="476280" cy="12268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6880"/>
                    <a:gd name="textAreaBottom" fmla="*/ 1227240 h 12268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99" name="Freeform 17"/>
                <p:cNvSpPr/>
                <p:nvPr/>
              </p:nvSpPr>
              <p:spPr>
                <a:xfrm flipH="1" rot="7102800">
                  <a:off x="2342880" y="4977000"/>
                  <a:ext cx="110160" cy="50364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3640"/>
                    <a:gd name="textAreaBottom" fmla="*/ 504000 h 50364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00" name="Freeform 18"/>
                <p:cNvSpPr/>
                <p:nvPr/>
              </p:nvSpPr>
              <p:spPr>
                <a:xfrm flipH="1" rot="7102800">
                  <a:off x="2501280" y="5568480"/>
                  <a:ext cx="199800" cy="8424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4240"/>
                    <a:gd name="textAreaBottom" fmla="*/ 84600 h 842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0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1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02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3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4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5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6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7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9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0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1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2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3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4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7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8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19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6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grpSp>
        <p:nvGrpSpPr>
          <p:cNvPr id="127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128" name="Group 3"/>
            <p:cNvGrpSpPr/>
            <p:nvPr/>
          </p:nvGrpSpPr>
          <p:grpSpPr>
            <a:xfrm>
              <a:off x="5409720" y="58320"/>
              <a:ext cx="3620520" cy="6134040"/>
              <a:chOff x="5409720" y="58320"/>
              <a:chExt cx="3620520" cy="6134040"/>
            </a:xfrm>
          </p:grpSpPr>
          <p:sp>
            <p:nvSpPr>
              <p:cNvPr id="129" name="Freeform 4"/>
              <p:cNvSpPr/>
              <p:nvPr/>
            </p:nvSpPr>
            <p:spPr>
              <a:xfrm flipV="1" rot="11970000">
                <a:off x="6583320" y="3430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0" name="Freeform 5"/>
              <p:cNvSpPr/>
              <p:nvPr/>
            </p:nvSpPr>
            <p:spPr>
              <a:xfrm flipV="1" rot="11970000">
                <a:off x="7422120" y="195516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 flipV="1" rot="11970000">
                <a:off x="6825960" y="2587320"/>
                <a:ext cx="439200" cy="394920"/>
              </a:xfrm>
              <a:custGeom>
                <a:avLst/>
                <a:gdLst>
                  <a:gd name="textAreaLeft" fmla="*/ 0 w 439200"/>
                  <a:gd name="textAreaRight" fmla="*/ 439560 w 43920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 flipV="1" rot="11970000">
                <a:off x="7250760" y="66960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 flipV="1" rot="11970000">
                <a:off x="7151400" y="264600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 flipV="1" rot="11970000">
                <a:off x="7137720" y="12420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36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0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142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3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46" name="Group 21"/>
            <p:cNvGrpSpPr/>
            <p:nvPr/>
          </p:nvGrpSpPr>
          <p:grpSpPr>
            <a:xfrm>
              <a:off x="5648760" y="294840"/>
              <a:ext cx="894600" cy="820800"/>
              <a:chOff x="5648760" y="294840"/>
              <a:chExt cx="894600" cy="820800"/>
            </a:xfrm>
          </p:grpSpPr>
          <p:sp>
            <p:nvSpPr>
              <p:cNvPr id="147" name="Freeform 22"/>
              <p:cNvSpPr/>
              <p:nvPr/>
            </p:nvSpPr>
            <p:spPr>
              <a:xfrm rot="14908200">
                <a:off x="5760360" y="7848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 rot="14908200">
                <a:off x="5709240" y="46512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 rot="14908200">
                <a:off x="6254280" y="394560"/>
                <a:ext cx="318960" cy="153000"/>
              </a:xfrm>
              <a:custGeom>
                <a:avLst/>
                <a:gdLst>
                  <a:gd name="textAreaLeft" fmla="*/ 0 w 318960"/>
                  <a:gd name="textAreaRight" fmla="*/ 319320 w 31896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25"/>
            <p:cNvGrpSpPr/>
            <p:nvPr/>
          </p:nvGrpSpPr>
          <p:grpSpPr>
            <a:xfrm>
              <a:off x="970560" y="5264280"/>
              <a:ext cx="1055160" cy="829080"/>
              <a:chOff x="970560" y="5264280"/>
              <a:chExt cx="1055160" cy="829080"/>
            </a:xfrm>
          </p:grpSpPr>
          <p:sp>
            <p:nvSpPr>
              <p:cNvPr id="151" name="Freeform 26"/>
              <p:cNvSpPr/>
              <p:nvPr/>
            </p:nvSpPr>
            <p:spPr>
              <a:xfrm rot="8524800">
                <a:off x="1709280" y="5524200"/>
                <a:ext cx="250920" cy="29880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 rot="8524800">
                <a:off x="1195200" y="5739480"/>
                <a:ext cx="429480" cy="24804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040"/>
                  <a:gd name="textAreaBottom" fmla="*/ 248400 h 2480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 rot="8524800">
                <a:off x="961920" y="5388480"/>
                <a:ext cx="448920" cy="12744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4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55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6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57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58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59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0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61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62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4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5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6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7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68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E865-B47C-4FFA-AED0-AD622D75EA99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44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иколай Николаевич </a:t>
            </a:r>
            <a:br>
              <a:rPr sz="4400"/>
            </a:b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Носов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Рисунок 2" descr=""/>
          <p:cNvPicPr/>
          <p:nvPr/>
        </p:nvPicPr>
        <p:blipFill>
          <a:blip r:embed="rId1"/>
          <a:stretch/>
        </p:blipFill>
        <p:spPr>
          <a:xfrm>
            <a:off x="2522520" y="1628640"/>
            <a:ext cx="427212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5472360" cy="6408720"/>
          </a:xfrm>
          <a:prstGeom prst="rect">
            <a:avLst/>
          </a:prstGeom>
          <a:ln w="0">
            <a:noFill/>
          </a:ln>
        </p:spPr>
      </p:pic>
      <p:pic>
        <p:nvPicPr>
          <p:cNvPr id="220" name="НА ГОРКЕ-1.mp3" descr=""/>
          <p:cNvPicPr/>
          <p:nvPr/>
        </p:nvPicPr>
        <p:blipFill>
          <a:blip r:embed="rId2"/>
          <a:stretch/>
        </p:blipFill>
        <p:spPr>
          <a:xfrm>
            <a:off x="214200" y="6429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1" name="НА ГОРКЕ -2.mp3" descr=""/>
          <p:cNvPicPr/>
          <p:nvPr/>
        </p:nvPicPr>
        <p:blipFill>
          <a:blip r:embed="rId3"/>
          <a:stretch/>
        </p:blipFill>
        <p:spPr>
          <a:xfrm>
            <a:off x="864396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8877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62652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19:03:43Z</dcterms:created>
  <dc:creator>1</dc:creator>
  <dc:description/>
  <dc:language>en-US</dc:language>
  <cp:lastModifiedBy>foteeva</cp:lastModifiedBy>
  <dcterms:modified xsi:type="dcterms:W3CDTF">2013-12-02T12:30:23Z</dcterms:modified>
  <cp:revision>23</cp:revision>
  <dc:subject/>
  <dc:title>Слайд 1</dc:title>
</cp:coreProperties>
</file>