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BA0-E0DC-407E-9AD3-EA598E3024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E08-25F7-4251-9287-081B3F99AD00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B88-83F0-4F67-A035-A1E9924D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A32-280F-48ED-BC05-712C5F56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893-35AA-4DD1-8926-C3778552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EE2-446C-4898-BACF-302716D1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AC18-7674-46F9-9B11-FBE978F0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272F-4833-4307-87D1-84518A3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D37-FFB0-4D24-8470-A4ED105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CC0-37C4-420E-AEF9-A57D2F8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B957-1214-4440-9BFF-EED884D8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2C2-FF68-40E7-8B97-2EEC468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4E37-530F-4A80-9CB3-CD6ECCB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786-3ED5-40BC-AA47-D406BFE8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4068-5E70-4F1C-97C1-B0C1389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4430-38D8-4266-8A32-A95B374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92C8-1113-44F4-B7A1-4378E08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60D-6850-48FD-83F1-A1E95FA8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8C78-C6B0-4E8A-9CC9-6BA8D32F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6B2-202B-4258-8D46-8937B90E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D87-145D-4102-877C-98C973E2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9F5-ADFF-4010-BF25-8D2E382A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1B8-6AC1-46D7-B8AA-20D0F04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575-C2B7-4053-A5E0-82CB800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69F-500B-486E-B253-52D81D0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356-8D0E-4415-AE34-77719C2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4B0-0996-401B-B420-0C2CD9167C1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9720" y="58320"/>
              <a:ext cx="3620520" cy="6134040"/>
              <a:chOff x="5409720" y="58320"/>
              <a:chExt cx="3620520" cy="613404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5960" y="2587320"/>
                <a:ext cx="439200" cy="39492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8760" y="294840"/>
              <a:ext cx="894600" cy="820800"/>
              <a:chOff x="5648760" y="294840"/>
              <a:chExt cx="894600" cy="82080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0360" y="7848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9240" y="4651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4280" y="394560"/>
                <a:ext cx="318960" cy="15300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456-4C6A-4731-9A2A-3497F764B40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иколай Николаевич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ос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2522520" y="1628640"/>
            <a:ext cx="4272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6408720"/>
          </a:xfrm>
          <a:prstGeom prst="rect">
            <a:avLst/>
          </a:prstGeom>
          <a:ln w="0">
            <a:noFill/>
          </a:ln>
        </p:spPr>
      </p:pic>
      <p:pic>
        <p:nvPicPr>
          <p:cNvPr id="220" name="НА ГОРКЕ-1.mp3" descr=""/>
          <p:cNvPicPr/>
          <p:nvPr/>
        </p:nvPicPr>
        <p:blipFill>
          <a:blip r:embed="rId2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НА ГОРКЕ -2.mp3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77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265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03:43Z</dcterms:created>
  <dc:creator>1</dc:creator>
  <dc:description/>
  <dc:language>en-US</dc:language>
  <cp:lastModifiedBy>foteeva</cp:lastModifiedBy>
  <dcterms:modified xsi:type="dcterms:W3CDTF">2013-12-02T12:30:23Z</dcterms:modified>
  <cp:revision>23</cp:revision>
  <dc:subject/>
  <dc:title>Слайд 1</dc:title>
</cp:coreProperties>
</file>