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9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2.jpeg" ContentType="image/jpeg"/>
  <Override PartName="/ppt/media/image2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.jpeg" ContentType="image/jpeg"/>
  <Override PartName="/ppt/media/image25.jpeg" ContentType="image/jpeg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37E-91B0-4060-97FC-882C5A515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3BB-C30E-4603-927B-664F686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FC3F-A93C-4FA6-AED3-BF8170B45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2D48-35FF-4A19-9C68-6D93AAA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80B-0925-482B-9801-3292E0A2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D556-196C-402D-A53E-4A2A908D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67A-996B-415B-AC80-A5258B21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66E1-D1B2-4790-8E5A-55A64730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2C5A-82BB-4350-84C8-A7882CC6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D309-DEFF-433D-8148-8D75E19E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6FA5-7792-4F55-8B27-02580B0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B52-24CB-4137-8D92-041689E9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BC42-B807-4159-885B-AB364BEB3A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s05.radikal.ru/i178/1005/8d/bf2e27e3d7b5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skazles.ru/skazki/img/0011.jpg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img_url=www.animalist.ru/images/nuria/22062005105034.jpg&amp;pos=0&amp;rpt=simage&amp;lr=38&amp;noreask=1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img_url=www.belmamont.ru/authors/106/333_14.jpg&amp;pos=1&amp;rpt=simage&amp;lr=38&amp;noreask=1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noreask=1&amp;img_url=www.artscroll.ru/Images/2008/z/Zhdanova%20Lyubov/000081.jpg&amp;pos=6&amp;rpt=simage&amp;lr=38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yandex.ru/yandsearch?text=&#1080;&#1083;&#1083;&#1102;&#1089;&#1090;&#1088;&#1072;&#1094;&#1080;&#1080;%20&#1082;%20&#1089;&#1082;&#1072;&#1079;&#1082;&#1077;%20&#1083;&#1080;&#1089;&#1072;%20&#1080;%20&#1078;&#1091;&#1088;&#1072;&#1074;&#1083;&#1100;&amp;noreask=1&amp;img_url=img.labirint.ru/images/comments_pic/0906/01lab9hfr1233884255.jpg&amp;pos=8&amp;rpt=simage&amp;lr=38" TargetMode="External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0;&#1083;&#1083;&#1102;&#1089;&#1090;&#1088;&#1072;&#1094;&#1080;&#1080;%20&#1082;%20&#1089;&#1082;&#1072;&#1079;&#1082;&#1077;%20&#1075;&#1091;&#1089;&#1080;%20&#1083;&#1077;&#1073;&#1077;&#1076;&#1080;&amp;noreask=1&amp;img_url=imgal.ru/usrfile/img/illyustratsii-k-skazke-gusi-lebedi1.jpg&amp;pos=7&amp;rpt=simage&amp;lr=38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yandex.ru/yandsearch?p=1&amp;text=&#1080;&#1083;&#1083;&#1102;&#1089;&#1090;&#1088;&#1072;&#1094;&#1080;&#1080;%20&#1082;%20&#1089;&#1082;&#1072;&#1079;&#1082;&#1077;%20&#1083;&#1080;&#1089;&#1072;%20&#1080;%20&#1090;&#1077;&#1090;&#1077;&#1088;&#1077;&#1074;&amp;noreask=1&amp;img_url=detskiy-rai.ru/wp-content/uploads/2011/02/images1-150x150.jpg&amp;pos=38&amp;rpt=simage&amp;lr=38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yandex.ru/yandsearch?p=1&amp;text=&#1080;&#1083;&#1083;&#1102;&#1089;&#1090;&#1088;&#1072;&#1094;&#1080;&#1080;%20&#1082;%20&#1089;&#1082;&#1072;&#1079;&#1082;&#1077;%20&#1075;&#1091;&#1089;&#1080;%20&#1083;&#1077;&#1073;&#1077;&#1076;&#1080;&amp;noreask=1&amp;img_url=s.imhonet.ru/1/tmp_user_files/aa/c9/aac900d083ed37314999e435a5ead104/xlarge/c09d881f97ec6e9a363d100ab9d5368f.jpg&amp;pos=51&amp;rpt=simage&amp;lr=38" TargetMode="External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images.yandex.ru/yandsearch?p=3&amp;text=&#1080;&#1083;&#1083;&#1102;&#1089;&#1090;&#1088;&#1072;&#1094;&#1080;&#1080;%20&#1082;%20&#1089;&#1082;&#1072;&#1079;&#1082;&#1077;%20&#1083;&#1080;&#1089;&#1072;%20&#1080;%20&#1090;&#1077;&#1090;&#1077;&#1088;&#1077;&#1074;&amp;noreask=1&amp;img_url=oldskazki.chat.ru/picture/lisagurawl.jpg&amp;pos=92&amp;rpt=simage&amp;lr=38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Calibri"/>
              </a:rPr>
              <a:t>По дорогам сказо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01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C:\Documents and Settings\учитель\Мои документы\Мои рисунки\6b167cc2c382_1265818665_acdghlrvy6.jpg"/>
          <p:cNvPicPr/>
          <p:nvPr/>
        </p:nvPicPr>
        <p:blipFill>
          <a:blip r:embed="rId2"/>
          <a:stretch/>
        </p:blipFill>
        <p:spPr>
          <a:xfrm>
            <a:off x="179280" y="1773360"/>
            <a:ext cx="4140360" cy="4641840"/>
          </a:xfrm>
          <a:prstGeom prst="rect">
            <a:avLst/>
          </a:prstGeom>
          <a:ln w="0">
            <a:noFill/>
          </a:ln>
        </p:spPr>
      </p:pic>
      <p:sp>
        <p:nvSpPr>
          <p:cNvPr id="104" name="Скругленный прямоугольник 4"/>
          <p:cNvSpPr/>
          <p:nvPr/>
        </p:nvSpPr>
        <p:spPr>
          <a:xfrm>
            <a:off x="4500720" y="620640"/>
            <a:ext cx="4319280" cy="5256360"/>
          </a:xfrm>
          <a:custGeom>
            <a:avLst/>
            <a:gdLst>
              <a:gd name="textAreaLeft" fmla="*/ 210600 w 4319280"/>
              <a:gd name="textAreaRight" fmla="*/ 4108680 w 4319280"/>
              <a:gd name="textAreaTop" fmla="*/ 210600 h 5256360"/>
              <a:gd name="textAreaBottom" fmla="*/ 5045760 h 5256360"/>
            </a:gdLst>
            <a:ahLst/>
            <a:rect l="textAreaLeft" t="textAreaTop" r="textAreaRight" b="textAreaBottom"/>
            <a:pathLst>
              <a:path w="21600" h="26286">
                <a:moveTo>
                  <a:pt x="3600" y="0"/>
                </a:moveTo>
                <a:arcTo wR="3600" hR="3600" stAng="16200000" swAng="-5400000"/>
                <a:lnTo>
                  <a:pt x="0" y="22686"/>
                </a:lnTo>
                <a:arcTo wR="3600" hR="3600" stAng="10800000" swAng="-5400000"/>
                <a:lnTo>
                  <a:pt x="18000" y="262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3"/>
          <p:cNvSpPr/>
          <p:nvPr/>
        </p:nvSpPr>
        <p:spPr>
          <a:xfrm>
            <a:off x="4500720" y="549360"/>
            <a:ext cx="4186080" cy="58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Бабусю знает целый свет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Ей от роду лишь триста лет.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Там, на неведомых дорожках,</a:t>
            </a:r>
            <a:br>
              <a:rPr sz="3600"/>
            </a:br>
            <a:r>
              <a:rPr b="1" lang="ru-RU" sz="3600" spc="-1" strike="noStrike">
                <a:solidFill>
                  <a:srgbClr val="984807"/>
                </a:solidFill>
                <a:latin typeface="Comic Sans MS"/>
              </a:rPr>
              <a:t>Дом её на курьих ножк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кругленный прямоугольник 6"/>
          <p:cNvSpPr/>
          <p:nvPr/>
        </p:nvSpPr>
        <p:spPr>
          <a:xfrm>
            <a:off x="1476360" y="260280"/>
            <a:ext cx="7056360" cy="23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6bd"/>
              </a:gs>
              <a:gs pos="100000">
                <a:srgbClr val="ecf8ed"/>
              </a:gs>
            </a:gsLst>
            <a:lin ang="16200000"/>
          </a:gradFill>
          <a:ln w="9360">
            <a:solidFill>
              <a:srgbClr val="6ea072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09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C:\Documents and Settings\учитель\Мои документы\Мои рисунки\bichok501.jpg"/>
          <p:cNvPicPr/>
          <p:nvPr/>
        </p:nvPicPr>
        <p:blipFill>
          <a:blip r:embed="rId2"/>
          <a:stretch/>
        </p:blipFill>
        <p:spPr>
          <a:xfrm>
            <a:off x="2627280" y="2637000"/>
            <a:ext cx="3600360" cy="4051080"/>
          </a:xfrm>
          <a:prstGeom prst="rect">
            <a:avLst/>
          </a:prstGeom>
          <a:ln w="0">
            <a:noFill/>
          </a:ln>
        </p:spPr>
      </p:pic>
      <p:sp>
        <p:nvSpPr>
          <p:cNvPr id="112" name="Заголовок 3"/>
          <p:cNvSpPr/>
          <p:nvPr/>
        </p:nvSpPr>
        <p:spPr>
          <a:xfrm>
            <a:off x="1187280" y="274680"/>
            <a:ext cx="749952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сумел поймать волчишку,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поймал лису и мишку.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Он поймал их не сачком,</a:t>
            </a:r>
            <a:br>
              <a:rPr sz="3600"/>
            </a:br>
            <a:r>
              <a:rPr b="1" lang="ru-RU" sz="3600" spc="-1" strike="noStrike">
                <a:solidFill>
                  <a:srgbClr val="660066"/>
                </a:solidFill>
                <a:latin typeface="Comic Sans MS"/>
                <a:ea typeface="Times New Roman"/>
              </a:rPr>
              <a:t>А поймал он их боч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15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6"/>
          <p:cNvSpPr/>
          <p:nvPr/>
        </p:nvSpPr>
        <p:spPr>
          <a:xfrm>
            <a:off x="1476360" y="189000"/>
            <a:ext cx="6551640" cy="25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Заголовок 3"/>
          <p:cNvSpPr/>
          <p:nvPr/>
        </p:nvSpPr>
        <p:spPr>
          <a:xfrm>
            <a:off x="900000" y="274680"/>
            <a:ext cx="778680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 Алёнушки-сестрицы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Унесли братишку птицы.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Высоко они летят,</a:t>
            </a:r>
            <a:br>
              <a:rPr sz="4000"/>
            </a:br>
            <a:r>
              <a:rPr b="1" lang="ru-RU" sz="4000" spc="-1" strike="noStrike">
                <a:solidFill>
                  <a:srgbClr val="215968"/>
                </a:solidFill>
                <a:latin typeface="Comic Sans MS"/>
              </a:rPr>
              <a:t>Далеко они глядя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C:\Documents and Settings\учитель\Мои документы\Мои рисунки\gusi-lebedi.jpg"/>
          <p:cNvPicPr/>
          <p:nvPr/>
        </p:nvPicPr>
        <p:blipFill>
          <a:blip r:embed="rId2"/>
          <a:stretch/>
        </p:blipFill>
        <p:spPr>
          <a:xfrm>
            <a:off x="2195640" y="2781360"/>
            <a:ext cx="4653000" cy="3722760"/>
          </a:xfrm>
          <a:prstGeom prst="rect">
            <a:avLst/>
          </a:prstGeom>
          <a:ln w="0">
            <a:noFill/>
          </a:ln>
        </p:spPr>
      </p:pic>
      <p:sp>
        <p:nvSpPr>
          <p:cNvPr id="120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6"/>
          <p:cNvSpPr/>
          <p:nvPr/>
        </p:nvSpPr>
        <p:spPr>
          <a:xfrm>
            <a:off x="1476360" y="189000"/>
            <a:ext cx="6840720" cy="33112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23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9" descr="C:\Documents and Settings\учитель\Мои документы\Мои рисунки\fdb5c442e250.jpg"/>
          <p:cNvPicPr/>
          <p:nvPr/>
        </p:nvPicPr>
        <p:blipFill>
          <a:blip r:embed="rId2"/>
          <a:stretch/>
        </p:blipFill>
        <p:spPr>
          <a:xfrm>
            <a:off x="2411280" y="3573360"/>
            <a:ext cx="4286520" cy="31147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900000" y="1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Возле леса, на опушке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рое их живет в избушке.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ам три стула и три кружки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Три кроватки, три подушки.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Угадайте без подсказки,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Кто герои этой сказк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Скругленный прямоугольник 6"/>
          <p:cNvSpPr/>
          <p:nvPr/>
        </p:nvSpPr>
        <p:spPr>
          <a:xfrm>
            <a:off x="2700360" y="189000"/>
            <a:ext cx="5111640" cy="30240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30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1619280" y="189000"/>
            <a:ext cx="727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осик круглый, пятачк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в земле удобно рытьс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востик маленький крючко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место туфелек — копытца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рое их — и до чего ж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ратья дружные похожи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гадайте без подсказки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то герои этой сказки?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C:\Documents and Settings\учитель\Мои документы\Мои рисунки\tri-porosenka.jpg"/>
          <p:cNvPicPr/>
          <p:nvPr/>
        </p:nvPicPr>
        <p:blipFill>
          <a:blip r:embed="rId2"/>
          <a:stretch/>
        </p:blipFill>
        <p:spPr>
          <a:xfrm>
            <a:off x="324000" y="3368520"/>
            <a:ext cx="4319280" cy="3222720"/>
          </a:xfrm>
          <a:prstGeom prst="rect">
            <a:avLst/>
          </a:prstGeom>
          <a:ln w="0">
            <a:noFill/>
          </a:ln>
        </p:spPr>
      </p:pic>
      <p:sp>
        <p:nvSpPr>
          <p:cNvPr id="134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2195640" y="260280"/>
            <a:ext cx="4824360" cy="288144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37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6"/>
          <p:cNvSpPr/>
          <p:nvPr/>
        </p:nvSpPr>
        <p:spPr>
          <a:xfrm>
            <a:off x="2340000" y="54936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Ждали маму с молок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А пустили волка в д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Кем же были э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734b"/>
                </a:solidFill>
                <a:latin typeface="Comic Sans MS"/>
              </a:rPr>
              <a:t>Маленькие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:\Documents and Settings\учитель\Мои документы\Мои рисунки\1267009523_3.jpg"/>
          <p:cNvPicPr/>
          <p:nvPr/>
        </p:nvPicPr>
        <p:blipFill>
          <a:blip r:embed="rId2"/>
          <a:stretch/>
        </p:blipFill>
        <p:spPr>
          <a:xfrm>
            <a:off x="2124000" y="3284640"/>
            <a:ext cx="4630680" cy="334476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Скругленный прямоугольник 6"/>
          <p:cNvSpPr/>
          <p:nvPr/>
        </p:nvSpPr>
        <p:spPr>
          <a:xfrm>
            <a:off x="4427640" y="476280"/>
            <a:ext cx="4105080" cy="5113440"/>
          </a:xfrm>
          <a:custGeom>
            <a:avLst/>
            <a:gdLst>
              <a:gd name="textAreaLeft" fmla="*/ 200160 w 4105080"/>
              <a:gd name="textAreaRight" fmla="*/ 3904920 w 4105080"/>
              <a:gd name="textAreaTop" fmla="*/ 200160 h 5113440"/>
              <a:gd name="textAreaBottom" fmla="*/ 4913280 h 5113440"/>
            </a:gdLst>
            <a:ahLst/>
            <a:rect l="textAreaLeft" t="textAreaTop" r="textAreaRight" b="textAreaBottom"/>
            <a:pathLst>
              <a:path w="21600" h="26905">
                <a:moveTo>
                  <a:pt x="3600" y="0"/>
                </a:moveTo>
                <a:arcTo wR="3600" hR="3600" stAng="16200000" swAng="-5400000"/>
                <a:lnTo>
                  <a:pt x="0" y="23305"/>
                </a:lnTo>
                <a:arcTo wR="3600" hR="3600" stAng="10800000" swAng="-5400000"/>
                <a:lnTo>
                  <a:pt x="18000" y="2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44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4"/>
          <p:cNvSpPr/>
          <p:nvPr/>
        </p:nvSpPr>
        <p:spPr>
          <a:xfrm>
            <a:off x="4716360" y="692280"/>
            <a:ext cx="3581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В красной шапочке идет,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Пирожки с собой несет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За кустами волк сидит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И за девочкой след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C:\Documents and Settings\учитель\Мои документы\Мои рисунки\po_71246.jpg"/>
          <p:cNvPicPr/>
          <p:nvPr/>
        </p:nvPicPr>
        <p:blipFill>
          <a:blip r:embed="rId2"/>
          <a:stretch/>
        </p:blipFill>
        <p:spPr>
          <a:xfrm>
            <a:off x="250920" y="1484280"/>
            <a:ext cx="3568680" cy="5154480"/>
          </a:xfrm>
          <a:prstGeom prst="rect">
            <a:avLst/>
          </a:prstGeom>
          <a:ln w="0">
            <a:noFill/>
          </a:ln>
        </p:spPr>
      </p:pic>
      <p:sp>
        <p:nvSpPr>
          <p:cNvPr id="148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Скругленный прямоугольник 6"/>
          <p:cNvSpPr/>
          <p:nvPr/>
        </p:nvSpPr>
        <p:spPr>
          <a:xfrm>
            <a:off x="179280" y="1700280"/>
            <a:ext cx="4032360" cy="4753080"/>
          </a:xfrm>
          <a:custGeom>
            <a:avLst/>
            <a:gdLst>
              <a:gd name="textAreaLeft" fmla="*/ 196560 w 4032360"/>
              <a:gd name="textAreaRight" fmla="*/ 3835800 w 4032360"/>
              <a:gd name="textAreaTop" fmla="*/ 196560 h 4753080"/>
              <a:gd name="textAreaBottom" fmla="*/ 4556520 h 4753080"/>
            </a:gdLst>
            <a:ahLst/>
            <a:rect l="textAreaLeft" t="textAreaTop" r="textAreaRight" b="textAreaBottom"/>
            <a:pathLst>
              <a:path w="21600" h="25460">
                <a:moveTo>
                  <a:pt x="3600" y="0"/>
                </a:moveTo>
                <a:arcTo wR="3600" hR="3600" stAng="16200000" swAng="-5400000"/>
                <a:lnTo>
                  <a:pt x="0" y="21860"/>
                </a:lnTo>
                <a:arcTo wR="3600" hR="3600" stAng="10800000" swAng="-5400000"/>
                <a:lnTo>
                  <a:pt x="18000" y="25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6e2e2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151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250920" y="1989000"/>
            <a:ext cx="396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Домик в поле появился,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Он в жилище превратился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Для мышей, ежа, синицы</a:t>
            </a:r>
            <a:br>
              <a:rPr sz="3200"/>
            </a:br>
            <a:r>
              <a:rPr b="1" lang="ru-RU" sz="3200" spc="-1" strike="noStrike">
                <a:solidFill>
                  <a:srgbClr val="9d3232"/>
                </a:solidFill>
                <a:latin typeface="Comic Sans MS"/>
              </a:rPr>
              <a:t>Белки, пчелки и лис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:\Documents and Settings\учитель\Мои документы\Мои рисунки\tiger-1288015001.gif"/>
          <p:cNvPicPr/>
          <p:nvPr/>
        </p:nvPicPr>
        <p:blipFill>
          <a:blip r:embed="rId2"/>
          <a:stretch/>
        </p:blipFill>
        <p:spPr>
          <a:xfrm>
            <a:off x="4284720" y="260280"/>
            <a:ext cx="4648320" cy="518184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2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Путаниц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 «Котёнок и щенок»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и–были котёнок и щенок. У котёнка была избёнка хорошая, а у щенка плохая. Пришла весна-красна. У щенка избёнка сломалась, а у котёнка стоит по-старому. Вот щенок и попросился у него переночевать, да его и выгн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1 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Разминка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 «Гном и лев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дружился лев с гномом. Вот вздумал лев угостить гнома, пошёл звать его к себе в гост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риходи, куманёк гном, приходи, дорогой! Уж я тебя угощу. Пришёл гном на званный пир, а лев положил ему кусок сырого мяса на тарелку, подаёт и потчевае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Покушай голубчик куманёк, - сам добывал. Гном попробовал, не вкусно, а лев вертелся, вертелся около тарелки, так сам всё  и мясо съел. Мясо съел, и говорит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Не, обессудь, куманёк! Больше потчевать нечем. А гном ему отвечае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Спасибо кум лев и на этом, приходи теперь ко мне в г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Сказка  «Лена и тигр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Жили-были мама и папа. И была у них дочка Леночка. Пошла Леночка в лес за орехами и заблудилась. Набрела на избушку, а в избушке жил большущий тигр. Стала она у него жить, кашу варить. Задумала Лена убежать, напекла блинов и велела тигру их отнести маме и папе, а сама в рюкзак спряталась. Пришел тигр в город, а там кошки как стали на него мяукать! Испугался тигр, рюкзак бросил и убежал. А Лена вернулась к маме и папе живая и невредима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3ту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Собери картинку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Картинка 1 из 330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260280"/>
            <a:ext cx="8497800" cy="6281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Картинка 584 из 368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00" y="728640"/>
            <a:ext cx="7550280" cy="514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BK00014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формоза\Pictures\Маша и медведь.jpg"/>
          <p:cNvPicPr/>
          <p:nvPr/>
        </p:nvPicPr>
        <p:blipFill>
          <a:blip r:embed="rId1"/>
          <a:stretch/>
        </p:blipFill>
        <p:spPr>
          <a:xfrm>
            <a:off x="611280" y="326880"/>
            <a:ext cx="8137440" cy="653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BK00014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4ту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то внимательны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ушок Ряба» – «Курочка Ряб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аша и медведь» – «Маша и медведь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олк и семеро ягнят» – «Волк и семеро козля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етушок и гороховое зёрнышко» – «Петушок и бобовое зёрнышк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тки-лебеди» – «Гуси-лебед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Лисичка с кастрюлькой» – «Лисичка со скалоч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 рыбьему велению» – «По щучьему велению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У страха глаза огромны» – «У страха глаза велик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аюшкин домик» – «Заюшкина избушк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5ту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то стал первым жителем теремка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6"/>
          <p:cNvSpPr/>
          <p:nvPr/>
        </p:nvSpPr>
        <p:spPr>
          <a:xfrm>
            <a:off x="571680" y="428616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7"/>
          <p:cNvSpPr/>
          <p:nvPr/>
        </p:nvSpPr>
        <p:spPr>
          <a:xfrm>
            <a:off x="571680" y="307188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2000160" y="1857240"/>
            <a:ext cx="314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мы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9"/>
          <p:cNvSpPr/>
          <p:nvPr/>
        </p:nvSpPr>
        <p:spPr>
          <a:xfrm>
            <a:off x="1928880" y="3143160"/>
            <a:ext cx="471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ляг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000160" y="428616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за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358120" y="6143760"/>
            <a:ext cx="642960" cy="57132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24307" h="21600">
                <a:moveTo>
                  <a:pt x="0" y="0"/>
                </a:moveTo>
                <a:lnTo>
                  <a:pt x="24307" y="0"/>
                </a:lnTo>
                <a:lnTo>
                  <a:pt x="24307" y="21600"/>
                </a:lnTo>
                <a:lnTo>
                  <a:pt x="0" y="21600"/>
                </a:lnTo>
                <a:close/>
              </a:path>
              <a:path fill="lightenLess" w="24307" h="21600">
                <a:moveTo>
                  <a:pt x="0" y="0"/>
                </a:moveTo>
                <a:lnTo>
                  <a:pt x="24307" y="0"/>
                </a:lnTo>
                <a:lnTo>
                  <a:pt x="22907" y="1400"/>
                </a:lnTo>
                <a:lnTo>
                  <a:pt x="1400" y="1400"/>
                </a:lnTo>
                <a:close/>
              </a:path>
              <a:path fill="darken" w="24307" h="21600">
                <a:moveTo>
                  <a:pt x="24307" y="0"/>
                </a:moveTo>
                <a:lnTo>
                  <a:pt x="24307" y="21600"/>
                </a:lnTo>
                <a:lnTo>
                  <a:pt x="22907" y="20200"/>
                </a:lnTo>
                <a:lnTo>
                  <a:pt x="22907" y="1400"/>
                </a:lnTo>
                <a:close/>
              </a:path>
              <a:path fill="darkenLess" w="24307" h="21600">
                <a:moveTo>
                  <a:pt x="243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7" y="20200"/>
                </a:lnTo>
                <a:close/>
              </a:path>
              <a:path fill="lighten" w="243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7" h="21600">
                <a:moveTo>
                  <a:pt x="5147" y="7493"/>
                </a:moveTo>
                <a:lnTo>
                  <a:pt x="8655" y="7493"/>
                </a:lnTo>
                <a:lnTo>
                  <a:pt x="8655" y="12828"/>
                </a:lnTo>
                <a:cubicBezTo>
                  <a:pt x="8655" y="13751"/>
                  <a:pt x="9455" y="14482"/>
                  <a:pt x="10491" y="14482"/>
                </a:cubicBezTo>
                <a:lnTo>
                  <a:pt x="12153" y="14482"/>
                </a:lnTo>
                <a:cubicBezTo>
                  <a:pt x="13189" y="14482"/>
                  <a:pt x="13990" y="13751"/>
                  <a:pt x="13990" y="12828"/>
                </a:cubicBezTo>
                <a:lnTo>
                  <a:pt x="13990" y="7493"/>
                </a:lnTo>
                <a:lnTo>
                  <a:pt x="12153" y="7493"/>
                </a:lnTo>
                <a:lnTo>
                  <a:pt x="15661" y="3985"/>
                </a:lnTo>
                <a:lnTo>
                  <a:pt x="19334" y="7493"/>
                </a:lnTo>
                <a:lnTo>
                  <a:pt x="17497" y="7493"/>
                </a:lnTo>
                <a:lnTo>
                  <a:pt x="17497" y="12828"/>
                </a:lnTo>
                <a:cubicBezTo>
                  <a:pt x="17497" y="15596"/>
                  <a:pt x="14921" y="18155"/>
                  <a:pt x="12153" y="18155"/>
                </a:cubicBezTo>
                <a:lnTo>
                  <a:pt x="10491" y="18155"/>
                </a:lnTo>
                <a:cubicBezTo>
                  <a:pt x="7723" y="18155"/>
                  <a:pt x="5147" y="15596"/>
                  <a:pt x="5147" y="12828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познаются              добром плат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обро                                             в б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       рыбку из п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труда не вытащишь     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братство            дороже богат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Собери пословиц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узья познаются в бе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добро добром плат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лежачий камень вода не течё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з труда не вытащишь рыбку из пру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е братство дороже богатства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6 тур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8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ван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с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урав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увш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нная каш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лд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п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бу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ме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те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у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ти лишнего геро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олуш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чех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фель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н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ст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в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3" descr="http://im2-tub-ru.yandex.net/i?id=104701573-31-72&amp;n=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4240" y="357120"/>
            <a:ext cx="2857680" cy="31431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http://im4-tub-ru.yandex.net/i?id=272627473-37-72&amp;n=1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43200" y="285840"/>
            <a:ext cx="3000600" cy="321444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http://im8-tub-ru.yandex.net/i?id=461022371-32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7120" y="3786120"/>
            <a:ext cx="3071880" cy="26431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http://im6-tub-ru.yandex.net/i?id=365109834-56-72&amp;n=21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86160" y="3571920"/>
            <a:ext cx="309096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Рисунок 4" descr="http://im5-tub-ru.yandex.net/i?id=594556027-34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60" y="285840"/>
            <a:ext cx="3500280" cy="3000240"/>
          </a:xfrm>
          <a:prstGeom prst="rect">
            <a:avLst/>
          </a:prstGeom>
          <a:ln w="0">
            <a:noFill/>
          </a:ln>
        </p:spPr>
      </p:pic>
      <p:pic>
        <p:nvPicPr>
          <p:cNvPr id="199" name="Содержимое 4" descr="http://im3-tub-ru.yandex.net/i?id=294840942-67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357120"/>
            <a:ext cx="3786120" cy="292896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10" descr="http://im0-tub-ru.yandex.net/i?id=292493841-31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3857760"/>
            <a:ext cx="245736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Содержимое 3" descr="http://www.logvanov.r52.ru/data/zivotnie/102_103.jpg"/>
          <p:cNvPicPr/>
          <p:nvPr/>
        </p:nvPicPr>
        <p:blipFill>
          <a:blip r:embed="rId1"/>
          <a:stretch/>
        </p:blipFill>
        <p:spPr>
          <a:xfrm>
            <a:off x="785880" y="285840"/>
            <a:ext cx="4000320" cy="392904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4" descr="http://im0-tub-ru.yandex.net/i?id=6731221-05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0760" y="214200"/>
            <a:ext cx="30193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Конкурс капитано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колько человек вытянули реп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571680" y="407196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571680" y="29289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1928880" y="2000160"/>
            <a:ext cx="171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071800" y="2786040"/>
            <a:ext cx="9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071800" y="1857240"/>
            <a:ext cx="78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2071800" y="4000680"/>
            <a:ext cx="71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Управляющая кнопка: возврат 11">
            <a:hlinkClick r:id="rId1" action="ppaction://hlinksldjump"/>
          </p:cNvPr>
          <p:cNvSpPr/>
          <p:nvPr/>
        </p:nvSpPr>
        <p:spPr>
          <a:xfrm>
            <a:off x="8215200" y="6000840"/>
            <a:ext cx="500040" cy="64296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642960"/>
              <a:gd name="textAreaBottom" fmla="*/ 610560 h 642960"/>
            </a:gdLst>
            <a:ahLst/>
            <a:rect l="textAreaLeft" t="textAreaTop" r="textAreaRight" b="textAreaBottom"/>
            <a:pathLst>
              <a:path w="21600" h="27769">
                <a:moveTo>
                  <a:pt x="0" y="0"/>
                </a:moveTo>
                <a:lnTo>
                  <a:pt x="21600" y="0"/>
                </a:lnTo>
                <a:lnTo>
                  <a:pt x="21600" y="27769"/>
                </a:lnTo>
                <a:lnTo>
                  <a:pt x="0" y="27769"/>
                </a:lnTo>
                <a:close/>
              </a:path>
              <a:path fill="lightenLess" w="21600" h="2776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69">
                <a:moveTo>
                  <a:pt x="21600" y="0"/>
                </a:moveTo>
                <a:lnTo>
                  <a:pt x="21600" y="27769"/>
                </a:lnTo>
                <a:lnTo>
                  <a:pt x="20200" y="26369"/>
                </a:lnTo>
                <a:lnTo>
                  <a:pt x="20200" y="1400"/>
                </a:lnTo>
                <a:close/>
              </a:path>
              <a:path fill="darkenLess" w="21600" h="27769">
                <a:moveTo>
                  <a:pt x="21600" y="27769"/>
                </a:moveTo>
                <a:lnTo>
                  <a:pt x="0" y="27769"/>
                </a:lnTo>
                <a:lnTo>
                  <a:pt x="1400" y="26369"/>
                </a:lnTo>
                <a:lnTo>
                  <a:pt x="20200" y="26369"/>
                </a:lnTo>
                <a:close/>
              </a:path>
              <a:path fill="lighten" w="21600" h="27769">
                <a:moveTo>
                  <a:pt x="0" y="2776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69"/>
                </a:lnTo>
                <a:close/>
              </a:path>
              <a:path fill="darken" w="21600" h="27769">
                <a:moveTo>
                  <a:pt x="3794" y="10577"/>
                </a:moveTo>
                <a:lnTo>
                  <a:pt x="7301" y="10577"/>
                </a:lnTo>
                <a:lnTo>
                  <a:pt x="7301" y="15913"/>
                </a:lnTo>
                <a:cubicBezTo>
                  <a:pt x="7301" y="16835"/>
                  <a:pt x="8102" y="17566"/>
                  <a:pt x="9138" y="17566"/>
                </a:cubicBezTo>
                <a:lnTo>
                  <a:pt x="10800" y="17566"/>
                </a:lnTo>
                <a:cubicBezTo>
                  <a:pt x="11836" y="17566"/>
                  <a:pt x="12636" y="16835"/>
                  <a:pt x="12636" y="15913"/>
                </a:cubicBezTo>
                <a:lnTo>
                  <a:pt x="12636" y="10577"/>
                </a:lnTo>
                <a:lnTo>
                  <a:pt x="10800" y="10577"/>
                </a:lnTo>
                <a:lnTo>
                  <a:pt x="14308" y="7070"/>
                </a:lnTo>
                <a:lnTo>
                  <a:pt x="17981" y="10577"/>
                </a:lnTo>
                <a:lnTo>
                  <a:pt x="16144" y="10577"/>
                </a:lnTo>
                <a:lnTo>
                  <a:pt x="16144" y="15913"/>
                </a:lnTo>
                <a:cubicBezTo>
                  <a:pt x="16144" y="18680"/>
                  <a:pt x="13568" y="21239"/>
                  <a:pt x="10800" y="21239"/>
                </a:cubicBezTo>
                <a:lnTo>
                  <a:pt x="9138" y="21239"/>
                </a:lnTo>
                <a:cubicBezTo>
                  <a:pt x="6370" y="21239"/>
                  <a:pt x="3794" y="18680"/>
                  <a:pt x="3794" y="15913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втор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539640" y="1341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помните сказку «Репка». Кто встал не на своё мес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14"/>
          <p:cNvGrpSpPr/>
          <p:nvPr/>
        </p:nvGrpSpPr>
        <p:grpSpPr>
          <a:xfrm>
            <a:off x="826920" y="2349360"/>
            <a:ext cx="7372440" cy="3176640"/>
            <a:chOff x="826920" y="2349360"/>
            <a:chExt cx="7372440" cy="3176640"/>
          </a:xfrm>
        </p:grpSpPr>
        <p:pic>
          <p:nvPicPr>
            <p:cNvPr id="209" name="Picture 4" descr=""/>
            <p:cNvPicPr/>
            <p:nvPr/>
          </p:nvPicPr>
          <p:blipFill>
            <a:blip r:embed="rId1"/>
            <a:stretch/>
          </p:blipFill>
          <p:spPr>
            <a:xfrm>
              <a:off x="4716360" y="2349360"/>
              <a:ext cx="134460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"/>
            <p:cNvPicPr/>
            <p:nvPr/>
          </p:nvPicPr>
          <p:blipFill>
            <a:blip r:embed="rId2"/>
            <a:stretch/>
          </p:blipFill>
          <p:spPr>
            <a:xfrm>
              <a:off x="2340000" y="2781360"/>
              <a:ext cx="1911240" cy="15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6" descr=""/>
            <p:cNvPicPr/>
            <p:nvPr/>
          </p:nvPicPr>
          <p:blipFill>
            <a:blip r:embed="rId3"/>
            <a:stretch/>
          </p:blipFill>
          <p:spPr>
            <a:xfrm>
              <a:off x="826920" y="2349360"/>
              <a:ext cx="135288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7" descr=""/>
            <p:cNvPicPr/>
            <p:nvPr/>
          </p:nvPicPr>
          <p:blipFill>
            <a:blip r:embed="rId4"/>
            <a:stretch/>
          </p:blipFill>
          <p:spPr>
            <a:xfrm>
              <a:off x="6300720" y="2781360"/>
              <a:ext cx="1898640" cy="15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10"/>
            <p:cNvSpPr/>
            <p:nvPr/>
          </p:nvSpPr>
          <p:spPr>
            <a:xfrm>
              <a:off x="1258920" y="5084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db5353"/>
                  </a:solidFill>
                  <a:uFillTx/>
                  <a:latin typeface="Calibri"/>
                  <a:hlinkClick r:id="rId5" action="ppaction://hlinksldjump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1"/>
            <p:cNvSpPr/>
            <p:nvPr/>
          </p:nvSpPr>
          <p:spPr>
            <a:xfrm>
              <a:off x="2771640" y="515772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2"/>
            <p:cNvSpPr/>
            <p:nvPr/>
          </p:nvSpPr>
          <p:spPr>
            <a:xfrm>
              <a:off x="4932360" y="49417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3"/>
            <p:cNvSpPr/>
            <p:nvPr/>
          </p:nvSpPr>
          <p:spPr>
            <a:xfrm>
              <a:off x="6877080" y="4869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34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трет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8" name="Group 13"/>
          <p:cNvGrpSpPr/>
          <p:nvPr/>
        </p:nvGrpSpPr>
        <p:grpSpPr>
          <a:xfrm>
            <a:off x="611280" y="2637000"/>
            <a:ext cx="7635960" cy="3105000"/>
            <a:chOff x="611280" y="2637000"/>
            <a:chExt cx="7635960" cy="3105000"/>
          </a:xfrm>
        </p:grpSpPr>
        <p:pic>
          <p:nvPicPr>
            <p:cNvPr id="219" name="Picture 4" descr="yga"/>
            <p:cNvPicPr/>
            <p:nvPr/>
          </p:nvPicPr>
          <p:blipFill>
            <a:blip r:embed="rId1"/>
            <a:stretch/>
          </p:blipFill>
          <p:spPr>
            <a:xfrm>
              <a:off x="2700360" y="2637000"/>
              <a:ext cx="1905120" cy="23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5" descr="sneg"/>
            <p:cNvPicPr/>
            <p:nvPr/>
          </p:nvPicPr>
          <p:blipFill>
            <a:blip r:embed="rId2"/>
            <a:stretch/>
          </p:blipFill>
          <p:spPr>
            <a:xfrm>
              <a:off x="4788000" y="2637000"/>
              <a:ext cx="1406520" cy="23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6" descr=""/>
            <p:cNvPicPr/>
            <p:nvPr/>
          </p:nvPicPr>
          <p:blipFill>
            <a:blip r:embed="rId3"/>
            <a:srcRect l="38599" t="34478" r="0" b="12081"/>
            <a:stretch/>
          </p:blipFill>
          <p:spPr>
            <a:xfrm>
              <a:off x="611280" y="2637000"/>
              <a:ext cx="160344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7" descr=""/>
            <p:cNvPicPr/>
            <p:nvPr/>
          </p:nvPicPr>
          <p:blipFill>
            <a:blip r:embed="rId4"/>
            <a:stretch/>
          </p:blipFill>
          <p:spPr>
            <a:xfrm>
              <a:off x="6588000" y="2708280"/>
              <a:ext cx="165924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8"/>
            <p:cNvSpPr/>
            <p:nvPr/>
          </p:nvSpPr>
          <p:spPr>
            <a:xfrm>
              <a:off x="971640" y="530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9"/>
            <p:cNvSpPr/>
            <p:nvPr/>
          </p:nvSpPr>
          <p:spPr>
            <a:xfrm>
              <a:off x="320364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5292720" y="5373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1"/>
            <p:cNvSpPr/>
            <p:nvPr/>
          </p:nvSpPr>
          <p:spPr>
            <a:xfrm>
              <a:off x="7020000" y="5084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 Box 12"/>
          <p:cNvSpPr/>
          <p:nvPr/>
        </p:nvSpPr>
        <p:spPr>
          <a:xfrm>
            <a:off x="122400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то не является героем русской народной сказ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80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ур шесто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 16"/>
          <p:cNvGrpSpPr/>
          <p:nvPr/>
        </p:nvGrpSpPr>
        <p:grpSpPr>
          <a:xfrm>
            <a:off x="826920" y="3068640"/>
            <a:ext cx="6877080" cy="2313000"/>
            <a:chOff x="826920" y="3068640"/>
            <a:chExt cx="6877080" cy="2313000"/>
          </a:xfrm>
        </p:grpSpPr>
        <p:pic>
          <p:nvPicPr>
            <p:cNvPr id="230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3068640"/>
              <a:ext cx="1108080" cy="139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5" descr=""/>
            <p:cNvPicPr/>
            <p:nvPr/>
          </p:nvPicPr>
          <p:blipFill>
            <a:blip r:embed="rId2"/>
            <a:stretch/>
          </p:blipFill>
          <p:spPr>
            <a:xfrm>
              <a:off x="2019240" y="3173400"/>
              <a:ext cx="1513080" cy="116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6" descr=""/>
            <p:cNvPicPr/>
            <p:nvPr/>
          </p:nvPicPr>
          <p:blipFill>
            <a:blip r:embed="rId3"/>
            <a:stretch/>
          </p:blipFill>
          <p:spPr>
            <a:xfrm>
              <a:off x="3780000" y="3141720"/>
              <a:ext cx="181260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7"/>
            <p:cNvSpPr/>
            <p:nvPr/>
          </p:nvSpPr>
          <p:spPr>
            <a:xfrm>
              <a:off x="1114560" y="4653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8"/>
            <p:cNvSpPr/>
            <p:nvPr/>
          </p:nvSpPr>
          <p:spPr>
            <a:xfrm>
              <a:off x="2627280" y="458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9"/>
            <p:cNvSpPr/>
            <p:nvPr/>
          </p:nvSpPr>
          <p:spPr>
            <a:xfrm>
              <a:off x="4356000" y="4941720"/>
              <a:ext cx="10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13"/>
            <p:cNvSpPr/>
            <p:nvPr/>
          </p:nvSpPr>
          <p:spPr>
            <a:xfrm>
              <a:off x="6443640" y="50133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7" name="Picture 15" descr=""/>
            <p:cNvPicPr/>
            <p:nvPr/>
          </p:nvPicPr>
          <p:blipFill>
            <a:blip r:embed="rId4"/>
            <a:stretch/>
          </p:blipFill>
          <p:spPr>
            <a:xfrm>
              <a:off x="5796000" y="3141720"/>
              <a:ext cx="1908000" cy="1320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Text Box 17"/>
          <p:cNvSpPr/>
          <p:nvPr/>
        </p:nvSpPr>
        <p:spPr>
          <a:xfrm>
            <a:off x="395280" y="134136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61128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ого жилища не встретишь в русских народных сказк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0,-52,-80)"/>
                                          </p:val>
                                        </p:tav>
                                        <p:tav tm="50000">
                                          <p:val>
                                            <p:strVal val="rgb(83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841320" y="361800"/>
            <a:ext cx="6243840" cy="6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76a55"/>
                </a:solidFill>
                <a:latin typeface="Calibri"/>
              </a:rPr>
              <a:t>ПОДУМАЙ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ag00208_"/>
          <p:cNvPicPr/>
          <p:nvPr/>
        </p:nvPicPr>
        <p:blipFill>
          <a:blip r:embed="rId1"/>
          <a:stretch/>
        </p:blipFill>
        <p:spPr>
          <a:xfrm>
            <a:off x="2627280" y="1557360"/>
            <a:ext cx="4238640" cy="37861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>
            <a:off x="795672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7493"/>
                </a:moveTo>
                <a:lnTo>
                  <a:pt x="8861" y="7493"/>
                </a:lnTo>
                <a:lnTo>
                  <a:pt x="8861" y="12828"/>
                </a:lnTo>
                <a:cubicBezTo>
                  <a:pt x="8861" y="13751"/>
                  <a:pt x="9661" y="14482"/>
                  <a:pt x="10697" y="14482"/>
                </a:cubicBezTo>
                <a:lnTo>
                  <a:pt x="12359" y="14482"/>
                </a:lnTo>
                <a:cubicBezTo>
                  <a:pt x="13395" y="14482"/>
                  <a:pt x="14196" y="13751"/>
                  <a:pt x="14196" y="12828"/>
                </a:cubicBezTo>
                <a:lnTo>
                  <a:pt x="14196" y="7493"/>
                </a:lnTo>
                <a:lnTo>
                  <a:pt x="12359" y="7493"/>
                </a:lnTo>
                <a:lnTo>
                  <a:pt x="15867" y="3985"/>
                </a:lnTo>
                <a:lnTo>
                  <a:pt x="19540" y="7493"/>
                </a:lnTo>
                <a:lnTo>
                  <a:pt x="17703" y="7493"/>
                </a:lnTo>
                <a:lnTo>
                  <a:pt x="17703" y="12828"/>
                </a:lnTo>
                <a:cubicBezTo>
                  <a:pt x="17703" y="15596"/>
                  <a:pt x="15127" y="18155"/>
                  <a:pt x="12359" y="18155"/>
                </a:cubicBezTo>
                <a:lnTo>
                  <a:pt x="10697" y="18155"/>
                </a:lnTo>
                <a:cubicBezTo>
                  <a:pt x="7929" y="18155"/>
                  <a:pt x="5353" y="15596"/>
                  <a:pt x="5353" y="12828"/>
                </a:cubicBezTo>
                <a:close/>
              </a:path>
            </a:pathLst>
          </a:cu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ак передвигался Колобок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1928880" y="1857240"/>
            <a:ext cx="401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вырка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2000160" y="314316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мен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000160" y="428616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ти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возврат 10">
            <a:hlinkClick r:id="rId1" action="ppaction://hlinksldjump"/>
          </p:cNvPr>
          <p:cNvSpPr/>
          <p:nvPr/>
        </p:nvSpPr>
        <p:spPr>
          <a:xfrm>
            <a:off x="8215200" y="6072120"/>
            <a:ext cx="571680" cy="64296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642960"/>
              <a:gd name="textAreaBottom" fmla="*/ 606240 h 642960"/>
            </a:gdLst>
            <a:ahLst/>
            <a:rect l="textAreaLeft" t="textAreaTop" r="textAreaRight" b="textAreaBottom"/>
            <a:pathLst>
              <a:path w="21600" h="24292">
                <a:moveTo>
                  <a:pt x="0" y="0"/>
                </a:moveTo>
                <a:lnTo>
                  <a:pt x="21600" y="0"/>
                </a:lnTo>
                <a:lnTo>
                  <a:pt x="21600" y="24292"/>
                </a:lnTo>
                <a:lnTo>
                  <a:pt x="0" y="24292"/>
                </a:lnTo>
                <a:close/>
              </a:path>
              <a:path fill="lightenLess" w="21600" h="242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92">
                <a:moveTo>
                  <a:pt x="21600" y="0"/>
                </a:moveTo>
                <a:lnTo>
                  <a:pt x="21600" y="24292"/>
                </a:lnTo>
                <a:lnTo>
                  <a:pt x="20200" y="22892"/>
                </a:lnTo>
                <a:lnTo>
                  <a:pt x="20200" y="1400"/>
                </a:lnTo>
                <a:close/>
              </a:path>
              <a:path fill="darkenLess" w="21600" h="24292">
                <a:moveTo>
                  <a:pt x="21600" y="24292"/>
                </a:moveTo>
                <a:lnTo>
                  <a:pt x="0" y="24292"/>
                </a:lnTo>
                <a:lnTo>
                  <a:pt x="1400" y="22892"/>
                </a:lnTo>
                <a:lnTo>
                  <a:pt x="20200" y="22892"/>
                </a:lnTo>
                <a:close/>
              </a:path>
              <a:path fill="lighten" w="21600" h="24292">
                <a:moveTo>
                  <a:pt x="0" y="242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92"/>
                </a:lnTo>
                <a:close/>
              </a:path>
              <a:path fill="darken" w="21600" h="24292">
                <a:moveTo>
                  <a:pt x="3794" y="8838"/>
                </a:moveTo>
                <a:lnTo>
                  <a:pt x="7301" y="8838"/>
                </a:lnTo>
                <a:lnTo>
                  <a:pt x="7301" y="14174"/>
                </a:lnTo>
                <a:cubicBezTo>
                  <a:pt x="7301" y="15096"/>
                  <a:pt x="8102" y="15827"/>
                  <a:pt x="9138" y="15827"/>
                </a:cubicBezTo>
                <a:lnTo>
                  <a:pt x="10800" y="15827"/>
                </a:lnTo>
                <a:cubicBezTo>
                  <a:pt x="11836" y="15827"/>
                  <a:pt x="12636" y="15096"/>
                  <a:pt x="12636" y="14174"/>
                </a:cubicBezTo>
                <a:lnTo>
                  <a:pt x="12636" y="8838"/>
                </a:lnTo>
                <a:lnTo>
                  <a:pt x="10800" y="8838"/>
                </a:lnTo>
                <a:lnTo>
                  <a:pt x="14308" y="5331"/>
                </a:lnTo>
                <a:lnTo>
                  <a:pt x="17981" y="8838"/>
                </a:lnTo>
                <a:lnTo>
                  <a:pt x="16144" y="8838"/>
                </a:lnTo>
                <a:lnTo>
                  <a:pt x="16144" y="14174"/>
                </a:lnTo>
                <a:cubicBezTo>
                  <a:pt x="16144" y="16941"/>
                  <a:pt x="13568" y="19500"/>
                  <a:pt x="10800" y="19500"/>
                </a:cubicBezTo>
                <a:lnTo>
                  <a:pt x="9138" y="19500"/>
                </a:lnTo>
                <a:cubicBezTo>
                  <a:pt x="6370" y="19500"/>
                  <a:pt x="3794" y="16941"/>
                  <a:pt x="3794" y="14174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ем старик ловил рыб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2000160" y="192888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е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вод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1"/>
          <p:cNvSpPr/>
          <p:nvPr/>
        </p:nvSpPr>
        <p:spPr>
          <a:xfrm>
            <a:off x="2071800" y="44290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удочк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Управляющая кнопка: возврат 12">
            <a:hlinkClick r:id="rId1" action="ppaction://hlinksldjump"/>
          </p:cNvPr>
          <p:cNvSpPr/>
          <p:nvPr/>
        </p:nvSpPr>
        <p:spPr>
          <a:xfrm>
            <a:off x="8215200" y="5929200"/>
            <a:ext cx="571680" cy="714600"/>
          </a:xfrm>
          <a:custGeom>
            <a:avLst/>
            <a:gdLst>
              <a:gd name="textAreaLeft" fmla="*/ 36720 w 571680"/>
              <a:gd name="textAreaRight" fmla="*/ 534960 w 571680"/>
              <a:gd name="textAreaTop" fmla="*/ 36720 h 714600"/>
              <a:gd name="textAreaBottom" fmla="*/ 677880 h 714600"/>
            </a:gdLst>
            <a:ahLst/>
            <a:rect l="textAreaLeft" t="textAreaTop" r="textAreaRight" b="textAreaBottom"/>
            <a:pathLst>
              <a:path w="21600" h="26997">
                <a:moveTo>
                  <a:pt x="0" y="0"/>
                </a:moveTo>
                <a:lnTo>
                  <a:pt x="21600" y="0"/>
                </a:lnTo>
                <a:lnTo>
                  <a:pt x="21600" y="26997"/>
                </a:lnTo>
                <a:lnTo>
                  <a:pt x="0" y="26997"/>
                </a:lnTo>
                <a:close/>
              </a:path>
              <a:path fill="lightenLess" w="21600" h="269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97">
                <a:moveTo>
                  <a:pt x="21600" y="0"/>
                </a:moveTo>
                <a:lnTo>
                  <a:pt x="21600" y="26997"/>
                </a:lnTo>
                <a:lnTo>
                  <a:pt x="20200" y="25597"/>
                </a:lnTo>
                <a:lnTo>
                  <a:pt x="20200" y="1400"/>
                </a:lnTo>
                <a:close/>
              </a:path>
              <a:path fill="darkenLess" w="21600" h="26997">
                <a:moveTo>
                  <a:pt x="21600" y="26997"/>
                </a:moveTo>
                <a:lnTo>
                  <a:pt x="0" y="26997"/>
                </a:lnTo>
                <a:lnTo>
                  <a:pt x="1400" y="25597"/>
                </a:lnTo>
                <a:lnTo>
                  <a:pt x="20200" y="25597"/>
                </a:lnTo>
                <a:close/>
              </a:path>
              <a:path fill="lighten" w="21600" h="26997">
                <a:moveTo>
                  <a:pt x="0" y="269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97"/>
                </a:lnTo>
                <a:close/>
              </a:path>
              <a:path fill="darken" w="21600" h="26997">
                <a:moveTo>
                  <a:pt x="3794" y="10191"/>
                </a:moveTo>
                <a:lnTo>
                  <a:pt x="7301" y="10191"/>
                </a:lnTo>
                <a:lnTo>
                  <a:pt x="7301" y="15526"/>
                </a:lnTo>
                <a:cubicBezTo>
                  <a:pt x="7301" y="16449"/>
                  <a:pt x="8102" y="17180"/>
                  <a:pt x="9138" y="17180"/>
                </a:cubicBezTo>
                <a:lnTo>
                  <a:pt x="10800" y="17180"/>
                </a:lnTo>
                <a:cubicBezTo>
                  <a:pt x="11836" y="17180"/>
                  <a:pt x="12636" y="16449"/>
                  <a:pt x="12636" y="15526"/>
                </a:cubicBezTo>
                <a:lnTo>
                  <a:pt x="12636" y="10191"/>
                </a:lnTo>
                <a:lnTo>
                  <a:pt x="10800" y="10191"/>
                </a:lnTo>
                <a:lnTo>
                  <a:pt x="14308" y="6683"/>
                </a:lnTo>
                <a:lnTo>
                  <a:pt x="17981" y="10191"/>
                </a:lnTo>
                <a:lnTo>
                  <a:pt x="16144" y="10191"/>
                </a:lnTo>
                <a:lnTo>
                  <a:pt x="16144" y="15526"/>
                </a:lnTo>
                <a:cubicBezTo>
                  <a:pt x="16144" y="18294"/>
                  <a:pt x="13568" y="20853"/>
                  <a:pt x="10800" y="20853"/>
                </a:cubicBezTo>
                <a:lnTo>
                  <a:pt x="9138" y="20853"/>
                </a:lnTo>
                <a:cubicBezTo>
                  <a:pt x="6370" y="20853"/>
                  <a:pt x="3794" y="18294"/>
                  <a:pt x="3794" y="15526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3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b1cf2"/>
                                      </p:to>
                                    </p:animClr>
                                    <p:set>
                                      <p:cBhvr>
                                        <p:cTn id="4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транспортное средство, на котором Чебурашка и Крокодил Гена отправились на отды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Управляющая кнопка: возврат 9">
            <a:hlinkClick r:id="rId1" action="ppaction://hlinksldjump"/>
          </p:cNvPr>
          <p:cNvSpPr/>
          <p:nvPr/>
        </p:nvSpPr>
        <p:spPr>
          <a:xfrm>
            <a:off x="8429760" y="6000840"/>
            <a:ext cx="500040" cy="714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714240"/>
              <a:gd name="textAreaBottom" fmla="*/ 681840 h 714240"/>
            </a:gdLst>
            <a:ahLst/>
            <a:rect l="textAreaLeft" t="textAreaTop" r="textAreaRight" b="textAreaBottom"/>
            <a:pathLst>
              <a:path w="21600" h="30846">
                <a:moveTo>
                  <a:pt x="0" y="0"/>
                </a:moveTo>
                <a:lnTo>
                  <a:pt x="21600" y="0"/>
                </a:lnTo>
                <a:lnTo>
                  <a:pt x="21600" y="30846"/>
                </a:lnTo>
                <a:lnTo>
                  <a:pt x="0" y="30846"/>
                </a:lnTo>
                <a:close/>
              </a:path>
              <a:path fill="lightenLess" w="21600" h="30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6">
                <a:moveTo>
                  <a:pt x="21600" y="0"/>
                </a:moveTo>
                <a:lnTo>
                  <a:pt x="21600" y="30846"/>
                </a:lnTo>
                <a:lnTo>
                  <a:pt x="20200" y="29446"/>
                </a:lnTo>
                <a:lnTo>
                  <a:pt x="20200" y="1400"/>
                </a:lnTo>
                <a:close/>
              </a:path>
              <a:path fill="darkenLess" w="21600" h="30846">
                <a:moveTo>
                  <a:pt x="21600" y="30846"/>
                </a:moveTo>
                <a:lnTo>
                  <a:pt x="0" y="30846"/>
                </a:lnTo>
                <a:lnTo>
                  <a:pt x="1400" y="29446"/>
                </a:lnTo>
                <a:lnTo>
                  <a:pt x="20200" y="29446"/>
                </a:lnTo>
                <a:close/>
              </a:path>
              <a:path fill="lighten" w="21600" h="30846">
                <a:moveTo>
                  <a:pt x="0" y="30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6"/>
                </a:lnTo>
                <a:close/>
              </a:path>
              <a:path fill="darken" w="21600" h="30846">
                <a:moveTo>
                  <a:pt x="3794" y="12116"/>
                </a:moveTo>
                <a:lnTo>
                  <a:pt x="7301" y="12116"/>
                </a:lnTo>
                <a:lnTo>
                  <a:pt x="7301" y="17451"/>
                </a:lnTo>
                <a:cubicBezTo>
                  <a:pt x="7301" y="18374"/>
                  <a:pt x="8102" y="19105"/>
                  <a:pt x="9138" y="19105"/>
                </a:cubicBezTo>
                <a:lnTo>
                  <a:pt x="10800" y="19105"/>
                </a:lnTo>
                <a:cubicBezTo>
                  <a:pt x="11836" y="19105"/>
                  <a:pt x="12636" y="18374"/>
                  <a:pt x="12636" y="17451"/>
                </a:cubicBezTo>
                <a:lnTo>
                  <a:pt x="12636" y="12116"/>
                </a:lnTo>
                <a:lnTo>
                  <a:pt x="10800" y="12116"/>
                </a:lnTo>
                <a:lnTo>
                  <a:pt x="14308" y="8608"/>
                </a:lnTo>
                <a:lnTo>
                  <a:pt x="17981" y="12116"/>
                </a:lnTo>
                <a:lnTo>
                  <a:pt x="16144" y="12116"/>
                </a:lnTo>
                <a:lnTo>
                  <a:pt x="16144" y="17451"/>
                </a:lnTo>
                <a:cubicBezTo>
                  <a:pt x="16144" y="20219"/>
                  <a:pt x="13568" y="22778"/>
                  <a:pt x="10800" y="22778"/>
                </a:cubicBezTo>
                <a:lnTo>
                  <a:pt x="9138" y="22778"/>
                </a:lnTo>
                <a:cubicBezTo>
                  <a:pt x="6370" y="22778"/>
                  <a:pt x="3794" y="20219"/>
                  <a:pt x="3794" y="17451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2000160" y="1928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л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2000160" y="44290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set>
                                      <p:cBhvr>
                                        <p:cTn id="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зовите транспортное средство, на котором Чебурашка и Крокодил Гена отправились на отдых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571680" y="1928880"/>
            <a:ext cx="10713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7"/>
          <p:cNvSpPr/>
          <p:nvPr/>
        </p:nvSpPr>
        <p:spPr>
          <a:xfrm>
            <a:off x="571680" y="4357800"/>
            <a:ext cx="1071360" cy="642960"/>
          </a:xfrm>
          <a:prstGeom prst="rect">
            <a:avLst/>
          </a:prstGeom>
          <a:solidFill>
            <a:srgbClr val="00b05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571680" y="3143160"/>
            <a:ext cx="1071360" cy="6429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правляющая кнопка: возврат 9">
            <a:hlinkClick r:id="rId1" action="ppaction://hlinksldjump"/>
          </p:cNvPr>
          <p:cNvSpPr/>
          <p:nvPr/>
        </p:nvSpPr>
        <p:spPr>
          <a:xfrm>
            <a:off x="8429760" y="6000840"/>
            <a:ext cx="500040" cy="71424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714240"/>
              <a:gd name="textAreaBottom" fmla="*/ 681840 h 714240"/>
            </a:gdLst>
            <a:ahLst/>
            <a:rect l="textAreaLeft" t="textAreaTop" r="textAreaRight" b="textAreaBottom"/>
            <a:pathLst>
              <a:path w="21600" h="30846">
                <a:moveTo>
                  <a:pt x="0" y="0"/>
                </a:moveTo>
                <a:lnTo>
                  <a:pt x="21600" y="0"/>
                </a:lnTo>
                <a:lnTo>
                  <a:pt x="21600" y="30846"/>
                </a:lnTo>
                <a:lnTo>
                  <a:pt x="0" y="30846"/>
                </a:lnTo>
                <a:close/>
              </a:path>
              <a:path fill="lightenLess" w="21600" h="308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46">
                <a:moveTo>
                  <a:pt x="21600" y="0"/>
                </a:moveTo>
                <a:lnTo>
                  <a:pt x="21600" y="30846"/>
                </a:lnTo>
                <a:lnTo>
                  <a:pt x="20200" y="29446"/>
                </a:lnTo>
                <a:lnTo>
                  <a:pt x="20200" y="1400"/>
                </a:lnTo>
                <a:close/>
              </a:path>
              <a:path fill="darkenLess" w="21600" h="30846">
                <a:moveTo>
                  <a:pt x="21600" y="30846"/>
                </a:moveTo>
                <a:lnTo>
                  <a:pt x="0" y="30846"/>
                </a:lnTo>
                <a:lnTo>
                  <a:pt x="1400" y="29446"/>
                </a:lnTo>
                <a:lnTo>
                  <a:pt x="20200" y="29446"/>
                </a:lnTo>
                <a:close/>
              </a:path>
              <a:path fill="lighten" w="21600" h="30846">
                <a:moveTo>
                  <a:pt x="0" y="308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46"/>
                </a:lnTo>
                <a:close/>
              </a:path>
              <a:path fill="darken" w="21600" h="30846">
                <a:moveTo>
                  <a:pt x="3794" y="12116"/>
                </a:moveTo>
                <a:lnTo>
                  <a:pt x="7301" y="12116"/>
                </a:lnTo>
                <a:lnTo>
                  <a:pt x="7301" y="17451"/>
                </a:lnTo>
                <a:cubicBezTo>
                  <a:pt x="7301" y="18374"/>
                  <a:pt x="8102" y="19105"/>
                  <a:pt x="9138" y="19105"/>
                </a:cubicBezTo>
                <a:lnTo>
                  <a:pt x="10800" y="19105"/>
                </a:lnTo>
                <a:cubicBezTo>
                  <a:pt x="11836" y="19105"/>
                  <a:pt x="12636" y="18374"/>
                  <a:pt x="12636" y="17451"/>
                </a:cubicBezTo>
                <a:lnTo>
                  <a:pt x="12636" y="12116"/>
                </a:lnTo>
                <a:lnTo>
                  <a:pt x="10800" y="12116"/>
                </a:lnTo>
                <a:lnTo>
                  <a:pt x="14308" y="8608"/>
                </a:lnTo>
                <a:lnTo>
                  <a:pt x="17981" y="12116"/>
                </a:lnTo>
                <a:lnTo>
                  <a:pt x="16144" y="12116"/>
                </a:lnTo>
                <a:lnTo>
                  <a:pt x="16144" y="17451"/>
                </a:lnTo>
                <a:cubicBezTo>
                  <a:pt x="16144" y="20219"/>
                  <a:pt x="13568" y="22778"/>
                  <a:pt x="10800" y="22778"/>
                </a:cubicBezTo>
                <a:lnTo>
                  <a:pt x="9138" y="22778"/>
                </a:lnTo>
                <a:cubicBezTo>
                  <a:pt x="6370" y="22778"/>
                  <a:pt x="3794" y="20219"/>
                  <a:pt x="3794" y="17451"/>
                </a:cubicBezTo>
                <a:close/>
              </a:path>
            </a:pathLst>
          </a:cu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0"/>
          <p:cNvSpPr/>
          <p:nvPr/>
        </p:nvSpPr>
        <p:spPr>
          <a:xfrm>
            <a:off x="2000160" y="192888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теплох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2000160" y="30718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ез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000160" y="4429080"/>
            <a:ext cx="335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амол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db5353"/>
                                      </p:to>
                                    </p:animClr>
                                    <p:set>
                                      <p:cBhvr>
                                        <p:cTn id="6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C:\Documents and Settings\учитель\Мои документы\Мои рисунки\j0438205.jpg"/>
          <p:cNvPicPr/>
          <p:nvPr/>
        </p:nvPicPr>
        <p:blipFill>
          <a:blip r:embed="rId1"/>
          <a:stretch/>
        </p:blipFill>
        <p:spPr>
          <a:xfrm>
            <a:off x="324000" y="333360"/>
            <a:ext cx="1083960" cy="1085760"/>
          </a:xfrm>
          <a:prstGeom prst="rect">
            <a:avLst/>
          </a:prstGeom>
          <a:ln w="0">
            <a:noFill/>
          </a:ln>
        </p:spPr>
      </p:pic>
      <p:sp>
        <p:nvSpPr>
          <p:cNvPr id="94" name="Овал 2"/>
          <p:cNvSpPr/>
          <p:nvPr/>
        </p:nvSpPr>
        <p:spPr>
          <a:xfrm>
            <a:off x="539640" y="620640"/>
            <a:ext cx="647640" cy="50472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Управляющая кнопка: домой 3">
            <a:hlinkClick r:id="" action="ppaction://hlinkshowjump?jump=previousslide"/>
          </p:cNvPr>
          <p:cNvSpPr/>
          <p:nvPr/>
        </p:nvSpPr>
        <p:spPr>
          <a:xfrm>
            <a:off x="8712360" y="6381720"/>
            <a:ext cx="431640" cy="476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76280"/>
              <a:gd name="textAreaBottom" fmla="*/ 448560 h 476280"/>
            </a:gdLst>
            <a:ahLst/>
            <a:rect l="textAreaLeft" t="textAreaTop" r="textAreaRight" b="textAreaBottom"/>
            <a:pathLst>
              <a:path w="21600" h="23832">
                <a:moveTo>
                  <a:pt x="0" y="0"/>
                </a:moveTo>
                <a:lnTo>
                  <a:pt x="21600" y="0"/>
                </a:lnTo>
                <a:lnTo>
                  <a:pt x="21600" y="23832"/>
                </a:lnTo>
                <a:lnTo>
                  <a:pt x="0" y="23832"/>
                </a:lnTo>
                <a:close/>
              </a:path>
              <a:path fill="lightenLess" w="21600" h="238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32">
                <a:moveTo>
                  <a:pt x="21600" y="0"/>
                </a:moveTo>
                <a:lnTo>
                  <a:pt x="21600" y="23832"/>
                </a:lnTo>
                <a:lnTo>
                  <a:pt x="20200" y="22432"/>
                </a:lnTo>
                <a:lnTo>
                  <a:pt x="20200" y="1400"/>
                </a:lnTo>
                <a:close/>
              </a:path>
              <a:path fill="darkenLess" w="21600" h="23832">
                <a:moveTo>
                  <a:pt x="21600" y="23832"/>
                </a:moveTo>
                <a:lnTo>
                  <a:pt x="0" y="23832"/>
                </a:lnTo>
                <a:lnTo>
                  <a:pt x="1400" y="22432"/>
                </a:lnTo>
                <a:lnTo>
                  <a:pt x="20200" y="22432"/>
                </a:lnTo>
                <a:close/>
              </a:path>
              <a:path fill="lighten" w="21600" h="23832">
                <a:moveTo>
                  <a:pt x="0" y="238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32"/>
                </a:lnTo>
                <a:close/>
              </a:path>
              <a:path fill="darken" w="21600" h="23832">
                <a:moveTo>
                  <a:pt x="10800" y="4953"/>
                </a:moveTo>
                <a:lnTo>
                  <a:pt x="13376" y="7564"/>
                </a:ln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lnTo>
                  <a:pt x="17763" y="11916"/>
                </a:lnTo>
                <a:lnTo>
                  <a:pt x="16109" y="11916"/>
                </a:lnTo>
                <a:lnTo>
                  <a:pt x="16109" y="19105"/>
                </a:lnTo>
                <a:lnTo>
                  <a:pt x="5491" y="19105"/>
                </a:lnTo>
                <a:lnTo>
                  <a:pt x="5491" y="11916"/>
                </a:lnTo>
                <a:lnTo>
                  <a:pt x="3837" y="11916"/>
                </a:lnTo>
                <a:close/>
              </a:path>
              <a:path fill="darkenLess" w="21600" h="23832">
                <a:moveTo>
                  <a:pt x="13376" y="7564"/>
                </a:moveTo>
                <a:lnTo>
                  <a:pt x="13376" y="5823"/>
                </a:lnTo>
                <a:lnTo>
                  <a:pt x="15152" y="5823"/>
                </a:lnTo>
                <a:lnTo>
                  <a:pt x="15152" y="9340"/>
                </a:lnTo>
                <a:close/>
              </a:path>
              <a:path fill="darkenLess" w="21600" h="23832">
                <a:moveTo>
                  <a:pt x="9877" y="15415"/>
                </a:moveTo>
                <a:lnTo>
                  <a:pt x="11723" y="15415"/>
                </a:lnTo>
                <a:lnTo>
                  <a:pt x="11723" y="19105"/>
                </a:lnTo>
                <a:lnTo>
                  <a:pt x="16109" y="19105"/>
                </a:lnTo>
                <a:lnTo>
                  <a:pt x="16109" y="11916"/>
                </a:lnTo>
                <a:lnTo>
                  <a:pt x="5491" y="11916"/>
                </a:lnTo>
                <a:lnTo>
                  <a:pt x="5491" y="19105"/>
                </a:lnTo>
                <a:lnTo>
                  <a:pt x="9877" y="1910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8b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9" descr="C:\Documents and Settings\учитель\Мои документы\Мои рисунки\93317986.jpg"/>
          <p:cNvPicPr/>
          <p:nvPr/>
        </p:nvPicPr>
        <p:blipFill>
          <a:blip r:embed="rId2"/>
          <a:stretch/>
        </p:blipFill>
        <p:spPr>
          <a:xfrm>
            <a:off x="179280" y="1628640"/>
            <a:ext cx="3961080" cy="4950000"/>
          </a:xfrm>
          <a:prstGeom prst="rect">
            <a:avLst/>
          </a:prstGeom>
          <a:ln w="0">
            <a:noFill/>
          </a:ln>
        </p:spPr>
      </p:pic>
      <p:sp>
        <p:nvSpPr>
          <p:cNvPr id="97" name="Скругленный прямоугольник 4"/>
          <p:cNvSpPr/>
          <p:nvPr/>
        </p:nvSpPr>
        <p:spPr>
          <a:xfrm>
            <a:off x="4211640" y="189000"/>
            <a:ext cx="4753080" cy="6192720"/>
          </a:xfrm>
          <a:custGeom>
            <a:avLst/>
            <a:gdLst>
              <a:gd name="textAreaLeft" fmla="*/ 231840 w 4753080"/>
              <a:gd name="textAreaRight" fmla="*/ 4521240 w 4753080"/>
              <a:gd name="textAreaTop" fmla="*/ 231840 h 6192720"/>
              <a:gd name="textAreaBottom" fmla="*/ 5960880 h 6192720"/>
            </a:gdLst>
            <a:ahLst/>
            <a:rect l="textAreaLeft" t="textAreaTop" r="textAreaRight" b="textAreaBottom"/>
            <a:pathLst>
              <a:path w="21600" h="28142">
                <a:moveTo>
                  <a:pt x="3600" y="0"/>
                </a:moveTo>
                <a:arcTo wR="3600" hR="3600" stAng="16200000" swAng="-5400000"/>
                <a:lnTo>
                  <a:pt x="0" y="24542"/>
                </a:lnTo>
                <a:arcTo wR="3600" hR="3600" stAng="10800000" swAng="-5400000"/>
                <a:lnTo>
                  <a:pt x="18000" y="281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Заголовок 3"/>
          <p:cNvSpPr/>
          <p:nvPr/>
        </p:nvSpPr>
        <p:spPr>
          <a:xfrm>
            <a:off x="4500720" y="274680"/>
            <a:ext cx="418608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Всех на свете он добрей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Лечит он больных зверей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И однажды бегемота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Вытащил он из болота.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Он известен, знаменит,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omic Sans MS"/>
              </a:rPr>
              <a:t>Это доктор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Мотырева Ирина Фёдоровна МОУ "СОШ №15" Краснотурьин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46:42Z</dcterms:created>
  <dc:creator>SVETA</dc:creator>
  <dc:description/>
  <dc:language>en-US</dc:language>
  <cp:lastModifiedBy>SVETLANA</cp:lastModifiedBy>
  <dcterms:modified xsi:type="dcterms:W3CDTF">2015-11-30T13:09:54Z</dcterms:modified>
  <cp:revision>16</cp:revision>
  <dc:subject/>
  <dc:title>По дорогам сказок</dc:title>
</cp:coreProperties>
</file>