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.jpeg" ContentType="image/jpeg"/>
  <Override PartName="/ppt/media/image25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66F-08F6-4A24-8D8C-C9A78C89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9FA-0823-4085-927B-C89AFE5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95B-54C2-40D8-9301-232E56E1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8AD-6C9C-4187-B807-8ED267E6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DBD-5775-48BF-9DEC-2CD0122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0A9-C3C0-4B8D-94C4-2280197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F5A-4CE5-46C1-AB2E-29D9675F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3CA-1F67-4FF5-AC3F-E8CAEAB1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EE7-37FA-4278-8123-0F5C56AD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FA3-4623-44B8-93C3-4DA98EBB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CA5-5BFA-4D02-8E03-9B70A95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BC6-0B90-49C9-951E-666A8AA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56E3-1288-4277-A695-346CBB6D9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05.radikal.ru/i178/1005/8d/bf2e27e3d7b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kazles.ru/skazki/img/0011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img_url=www.animalist.ru/images/nuria/22062005105034.jpg&amp;pos=0&amp;rpt=simage&amp;lr=38&amp;noreask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img_url=www.belmamont.ru/authors/106/333_14.jpg&amp;pos=1&amp;rpt=simage&amp;lr=38&amp;noreask=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noreask=1&amp;img_url=www.artscroll.ru/Images/2008/z/Zhdanova%20Lyubov/000081.jpg&amp;pos=6&amp;rpt=simage&amp;lr=38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noreask=1&amp;img_url=img.labirint.ru/images/comments_pic/0906/01lab9hfr1233884255.jpg&amp;pos=8&amp;rpt=simage&amp;lr=38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0;&#1083;&#1083;&#1102;&#1089;&#1090;&#1088;&#1072;&#1094;&#1080;&#1080;%20&#1082;%20&#1089;&#1082;&#1072;&#1079;&#1082;&#1077;%20&#1075;&#1091;&#1089;&#1080;%20&#1083;&#1077;&#1073;&#1077;&#1076;&#1080;&amp;noreask=1&amp;img_url=imgal.ru/usrfile/img/illyustratsii-k-skazke-gusi-lebedi1.jpg&amp;pos=7&amp;rpt=simage&amp;lr=38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p=1&amp;text=&#1080;&#1083;&#1083;&#1102;&#1089;&#1090;&#1088;&#1072;&#1094;&#1080;&#1080;%20&#1082;%20&#1089;&#1082;&#1072;&#1079;&#1082;&#1077;%20&#1083;&#1080;&#1089;&#1072;%20&#1080;%20&#1090;&#1077;&#1090;&#1077;&#1088;&#1077;&#1074;&amp;noreask=1&amp;img_url=detskiy-rai.ru/wp-content/uploads/2011/02/images1-150x150.jpg&amp;pos=38&amp;rpt=simage&amp;lr=38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yandex.ru/yandsearch?p=1&amp;text=&#1080;&#1083;&#1083;&#1102;&#1089;&#1090;&#1088;&#1072;&#1094;&#1080;&#1080;%20&#1082;%20&#1089;&#1082;&#1072;&#1079;&#1082;&#1077;%20&#1075;&#1091;&#1089;&#1080;%20&#1083;&#1077;&#1073;&#1077;&#1076;&#1080;&amp;noreask=1&amp;img_url=s.imhonet.ru/1/tmp_user_files/aa/c9/aac900d083ed37314999e435a5ead104/xlarge/c09d881f97ec6e9a363d100ab9d5368f.jpg&amp;pos=51&amp;rpt=simage&amp;lr=38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ages.yandex.ru/yandsearch?p=3&amp;text=&#1080;&#1083;&#1083;&#1102;&#1089;&#1090;&#1088;&#1072;&#1094;&#1080;&#1080;%20&#1082;%20&#1089;&#1082;&#1072;&#1079;&#1082;&#1077;%20&#1083;&#1080;&#1089;&#1072;%20&#1080;%20&#1090;&#1077;&#1090;&#1077;&#1088;&#1077;&#1074;&amp;noreask=1&amp;img_url=oldskazki.chat.ru/picture/lisagurawl.jpg&amp;pos=92&amp;rpt=simage&amp;lr=38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По дорогам сказо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C:\Documents and Settings\учитель\Мои документы\Мои рисунки\6b167cc2c382_1265818665_acdghlrvy6.jpg"/>
          <p:cNvPicPr/>
          <p:nvPr/>
        </p:nvPicPr>
        <p:blipFill>
          <a:blip r:embed="rId2"/>
          <a:stretch/>
        </p:blipFill>
        <p:spPr>
          <a:xfrm>
            <a:off x="179280" y="1773360"/>
            <a:ext cx="4140360" cy="46418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4"/>
          <p:cNvSpPr/>
          <p:nvPr/>
        </p:nvSpPr>
        <p:spPr>
          <a:xfrm>
            <a:off x="4500720" y="620640"/>
            <a:ext cx="4319280" cy="5256360"/>
          </a:xfrm>
          <a:custGeom>
            <a:avLst/>
            <a:gdLst>
              <a:gd name="textAreaLeft" fmla="*/ 210600 w 4319280"/>
              <a:gd name="textAreaRight" fmla="*/ 4108680 w 4319280"/>
              <a:gd name="textAreaTop" fmla="*/ 210600 h 5256360"/>
              <a:gd name="textAreaBottom" fmla="*/ 5045760 h 5256360"/>
            </a:gdLst>
            <a:ahLst/>
            <a:rect l="textAreaLeft" t="textAreaTop" r="textAreaRight" b="textAreaBottom"/>
            <a:pathLst>
              <a:path w="21600" h="26286">
                <a:moveTo>
                  <a:pt x="3600" y="0"/>
                </a:moveTo>
                <a:arcTo wR="3600" hR="3600" stAng="16200000" swAng="-5400000"/>
                <a:lnTo>
                  <a:pt x="0" y="22686"/>
                </a:lnTo>
                <a:arcTo wR="3600" hR="3600" stAng="10800000" swAng="-5400000"/>
                <a:lnTo>
                  <a:pt x="18000" y="26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3"/>
          <p:cNvSpPr/>
          <p:nvPr/>
        </p:nvSpPr>
        <p:spPr>
          <a:xfrm>
            <a:off x="4500720" y="549360"/>
            <a:ext cx="418608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Бабусю знает целый свет,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Ей от роду лишь триста лет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Там, на неведомых дорожках,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Дом её на курьих нож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6"/>
          <p:cNvSpPr/>
          <p:nvPr/>
        </p:nvSpPr>
        <p:spPr>
          <a:xfrm>
            <a:off x="1476360" y="260280"/>
            <a:ext cx="705636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6bd"/>
              </a:gs>
              <a:gs pos="100000">
                <a:srgbClr val="ecf8ed"/>
              </a:gs>
            </a:gsLst>
            <a:lin ang="16200000"/>
          </a:gradFill>
          <a:ln w="9360">
            <a:solidFill>
              <a:srgbClr val="6ea07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C:\Documents and Settings\учитель\Мои документы\Мои рисунки\bichok501.jpg"/>
          <p:cNvPicPr/>
          <p:nvPr/>
        </p:nvPicPr>
        <p:blipFill>
          <a:blip r:embed="rId2"/>
          <a:stretch/>
        </p:blipFill>
        <p:spPr>
          <a:xfrm>
            <a:off x="2627280" y="2637000"/>
            <a:ext cx="3600360" cy="405108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3"/>
          <p:cNvSpPr/>
          <p:nvPr/>
        </p:nvSpPr>
        <p:spPr>
          <a:xfrm>
            <a:off x="1187280" y="274680"/>
            <a:ext cx="749952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Он сумел поймать волчишку,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Он поймал лису и мишку.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Он поймал их не сачком,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А поймал он их бо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6"/>
          <p:cNvSpPr/>
          <p:nvPr/>
        </p:nvSpPr>
        <p:spPr>
          <a:xfrm>
            <a:off x="1476360" y="189000"/>
            <a:ext cx="655164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3"/>
          <p:cNvSpPr/>
          <p:nvPr/>
        </p:nvSpPr>
        <p:spPr>
          <a:xfrm>
            <a:off x="900000" y="274680"/>
            <a:ext cx="77868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У Алёнушки-сестрицы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Унесли братишку птицы.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Высоко они летят,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Далеко они гляд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C:\Documents and Settings\учитель\Мои документы\Мои рисунки\gusi-lebedi.jpg"/>
          <p:cNvPicPr/>
          <p:nvPr/>
        </p:nvPicPr>
        <p:blipFill>
          <a:blip r:embed="rId2"/>
          <a:stretch/>
        </p:blipFill>
        <p:spPr>
          <a:xfrm>
            <a:off x="2195640" y="2781360"/>
            <a:ext cx="4653000" cy="372276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6"/>
          <p:cNvSpPr/>
          <p:nvPr/>
        </p:nvSpPr>
        <p:spPr>
          <a:xfrm>
            <a:off x="1476360" y="189000"/>
            <a:ext cx="6840720" cy="3311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:\Documents and Settings\учитель\Мои документы\Мои рисунки\fdb5c442e250.jpg"/>
          <p:cNvPicPr/>
          <p:nvPr/>
        </p:nvPicPr>
        <p:blipFill>
          <a:blip r:embed="rId2"/>
          <a:stretch/>
        </p:blipFill>
        <p:spPr>
          <a:xfrm>
            <a:off x="2411280" y="3573360"/>
            <a:ext cx="4286520" cy="3114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900000" y="189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Возле леса, на опушке,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Трое их живет в избушке.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Там три стула и три кружки,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Три кроватки, три подушки.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Угадайте без подсказки,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Кто герои этой сказ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кругленный прямоугольник 6"/>
          <p:cNvSpPr/>
          <p:nvPr/>
        </p:nvSpPr>
        <p:spPr>
          <a:xfrm>
            <a:off x="2700360" y="189000"/>
            <a:ext cx="5111640" cy="302400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1619280" y="189000"/>
            <a:ext cx="727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сик круглый, пятачко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в земле удобно рытьс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востик маленький крючко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место туфелек — копытц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ое их — и до чего ж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ратья дружные похож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гадайте без подсказки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то герои этой сказки?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учитель\Мои документы\Мои рисунки\tri-porosenka.jpg"/>
          <p:cNvPicPr/>
          <p:nvPr/>
        </p:nvPicPr>
        <p:blipFill>
          <a:blip r:embed="rId2"/>
          <a:stretch/>
        </p:blipFill>
        <p:spPr>
          <a:xfrm>
            <a:off x="324000" y="3368520"/>
            <a:ext cx="4319280" cy="322272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2195640" y="260280"/>
            <a:ext cx="4824360" cy="2881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2340000" y="5493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Ждали маму с моло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А пустили волк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Кем же были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Маленькие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:\Documents and Settings\учитель\Мои документы\Мои рисунки\1267009523_3.jpg"/>
          <p:cNvPicPr/>
          <p:nvPr/>
        </p:nvPicPr>
        <p:blipFill>
          <a:blip r:embed="rId2"/>
          <a:stretch/>
        </p:blipFill>
        <p:spPr>
          <a:xfrm>
            <a:off x="2124000" y="3284640"/>
            <a:ext cx="4630680" cy="334476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6"/>
          <p:cNvSpPr/>
          <p:nvPr/>
        </p:nvSpPr>
        <p:spPr>
          <a:xfrm>
            <a:off x="4427640" y="476280"/>
            <a:ext cx="4105080" cy="5113440"/>
          </a:xfrm>
          <a:custGeom>
            <a:avLst/>
            <a:gdLst>
              <a:gd name="textAreaLeft" fmla="*/ 200160 w 4105080"/>
              <a:gd name="textAreaRight" fmla="*/ 3904920 w 4105080"/>
              <a:gd name="textAreaTop" fmla="*/ 200160 h 5113440"/>
              <a:gd name="textAreaBottom" fmla="*/ 4913280 h 5113440"/>
            </a:gdLst>
            <a:ahLst/>
            <a:rect l="textAreaLeft" t="textAreaTop" r="textAreaRight" b="textAreaBottom"/>
            <a:pathLst>
              <a:path w="21600" h="26905">
                <a:moveTo>
                  <a:pt x="3600" y="0"/>
                </a:moveTo>
                <a:arcTo wR="3600" hR="3600" stAng="16200000" swAng="-5400000"/>
                <a:lnTo>
                  <a:pt x="0" y="23305"/>
                </a:lnTo>
                <a:arcTo wR="3600" hR="3600" stAng="10800000" swAng="-5400000"/>
                <a:lnTo>
                  <a:pt x="18000" y="2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716360" y="692280"/>
            <a:ext cx="358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расной шапочке иде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ирожки с собой несе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 кустами волк сиди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за девочкой след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:\Documents and Settings\учитель\Мои документы\Мои рисунки\po_71246.jpg"/>
          <p:cNvPicPr/>
          <p:nvPr/>
        </p:nvPicPr>
        <p:blipFill>
          <a:blip r:embed="rId2"/>
          <a:stretch/>
        </p:blipFill>
        <p:spPr>
          <a:xfrm>
            <a:off x="250920" y="1484280"/>
            <a:ext cx="3568680" cy="515448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6"/>
          <p:cNvSpPr/>
          <p:nvPr/>
        </p:nvSpPr>
        <p:spPr>
          <a:xfrm>
            <a:off x="179280" y="1700280"/>
            <a:ext cx="4032360" cy="47530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753080"/>
              <a:gd name="textAreaBottom" fmla="*/ 4556520 h 4753080"/>
            </a:gdLst>
            <a:ahLst/>
            <a:rect l="textAreaLeft" t="textAreaTop" r="textAreaRight" b="textAreaBottom"/>
            <a:pathLst>
              <a:path w="21600" h="25460">
                <a:moveTo>
                  <a:pt x="3600" y="0"/>
                </a:moveTo>
                <a:arcTo wR="3600" hR="3600" stAng="16200000" swAng="-5400000"/>
                <a:lnTo>
                  <a:pt x="0" y="21860"/>
                </a:lnTo>
                <a:arcTo wR="3600" hR="3600" stAng="10800000" swAng="-5400000"/>
                <a:lnTo>
                  <a:pt x="18000" y="25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6e2e2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51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50920" y="1989000"/>
            <a:ext cx="396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Домик в поле появился,</a:t>
            </a:r>
            <a:br>
              <a:rPr sz="3200"/>
            </a:b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Он в жилище превратился</a:t>
            </a:r>
            <a:br>
              <a:rPr sz="3200"/>
            </a:b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Для мышей, ежа, синицы</a:t>
            </a:r>
            <a:br>
              <a:rPr sz="3200"/>
            </a:b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Белки, пчелки и лис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Documents and Settings\учитель\Мои документы\Мои рисунки\tiger-1288015001.gif"/>
          <p:cNvPicPr/>
          <p:nvPr/>
        </p:nvPicPr>
        <p:blipFill>
          <a:blip r:embed="rId2"/>
          <a:stretch/>
        </p:blipFill>
        <p:spPr>
          <a:xfrm>
            <a:off x="4284720" y="260280"/>
            <a:ext cx="4648320" cy="518184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утаниц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казка «Котёнок и щенок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и–были котёнок и щенок. У котёнка была избёнка хорошая, а у щенка плохая. Пришла весна-красна. У щенка избёнка сломалась, а у котёнка стоит по-старому. Вот щенок и попросился у него переночевать, да его и выгн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казка «Гном и ле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ружился лев с гномом. Вот вздумал лев угостить гнома, пошёл звать его к себе в гост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Приходи, куманёк гном, приходи, дорогой! Уж я тебя угощу. Пришёл гном на званный пир, а лев положил ему кусок сырого мяса на тарелку, подаёт и потчевае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Покушай голубчик куманёк, - сам добывал. Гном попробовал, не вкусно, а лев вертелся, вертелся около тарелки, так сам всё  и мясо съел. Мясо съел, и говори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е, обессудь, куманёк! Больше потчевать нечем. А гном ему отвечае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Спасибо кум лев и на этом, приходи теперь ко мне в г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казка  «Лена и тиг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Жили-были мама и папа. И была у них дочка Леночка. Пошла Леночка в лес за орехами и заблудилась. Набрела на избушку, а в избушке жил большущий тигр. Стала она у него жить, кашу варить. Задумала Лена убежать, напекла блинов и велела тигру их отнести маме и папе, а сама в рюкзак спряталась. Пришел тигр в город, а там кошки как стали на него мяукать! Испугался тигр, рюкзак бросил и убежал. А Лена вернулась к маме и папе живая и невреди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3ту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бери картинку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Картинка 1 из 33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497800" cy="628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Картинка 584 из 368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00" y="728640"/>
            <a:ext cx="7550280" cy="514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формоза\Pictures\Маша и медведь.jpg"/>
          <p:cNvPicPr/>
          <p:nvPr/>
        </p:nvPicPr>
        <p:blipFill>
          <a:blip r:embed="rId1"/>
          <a:stretch/>
        </p:blipFill>
        <p:spPr>
          <a:xfrm>
            <a:off x="611280" y="326880"/>
            <a:ext cx="8137440" cy="653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ниматель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ушок Ряба» – «Курочка Ряб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аша и медведь» – «Маша и медвед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лк и семеро ягнят» – «Волк и семеро козля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етушок и гороховое зёрнышко» – «Петушок и бобовое зёрнышк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тки-лебеди» – «Гуси-лебед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Лисичка с кастрюлькой» – «Лисичка со скалоч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 рыбьему велению» – «По щучьему велению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 страха глаза огромны» – «У страха глаза вели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юшкин домик» – «Заюшкина избуш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5ту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обери пословиц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то стал первым жителем теремк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571680" y="428616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571680" y="307188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000160" y="18572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мы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28880" y="31431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яг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000160" y="428616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а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14376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7493"/>
                </a:moveTo>
                <a:lnTo>
                  <a:pt x="8655" y="7493"/>
                </a:lnTo>
                <a:lnTo>
                  <a:pt x="8655" y="12828"/>
                </a:lnTo>
                <a:cubicBezTo>
                  <a:pt x="8655" y="13751"/>
                  <a:pt x="9455" y="14482"/>
                  <a:pt x="10491" y="14482"/>
                </a:cubicBezTo>
                <a:lnTo>
                  <a:pt x="12153" y="14482"/>
                </a:lnTo>
                <a:cubicBezTo>
                  <a:pt x="13189" y="14482"/>
                  <a:pt x="13990" y="13751"/>
                  <a:pt x="13990" y="12828"/>
                </a:cubicBezTo>
                <a:lnTo>
                  <a:pt x="13990" y="7493"/>
                </a:lnTo>
                <a:lnTo>
                  <a:pt x="12153" y="7493"/>
                </a:lnTo>
                <a:lnTo>
                  <a:pt x="15661" y="3985"/>
                </a:lnTo>
                <a:lnTo>
                  <a:pt x="19334" y="7493"/>
                </a:lnTo>
                <a:lnTo>
                  <a:pt x="17497" y="7493"/>
                </a:lnTo>
                <a:lnTo>
                  <a:pt x="17497" y="12828"/>
                </a:lnTo>
                <a:cubicBezTo>
                  <a:pt x="17497" y="15596"/>
                  <a:pt x="14921" y="18155"/>
                  <a:pt x="12153" y="18155"/>
                </a:cubicBezTo>
                <a:lnTo>
                  <a:pt x="10491" y="18155"/>
                </a:lnTo>
                <a:cubicBezTo>
                  <a:pt x="7723" y="18155"/>
                  <a:pt x="5147" y="15596"/>
                  <a:pt x="5147" y="12828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обери пословиц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познаются              добром плат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добро                                             в б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лежачий камень        рыбку из пр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труда не вытащишь      вода не теч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е братство            дороже бога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обери пословиц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познаются в б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добро добром плат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лежачий камень вода не теч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труда не вытащишь рыбку из пр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е братство дороже богатства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6 ту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лишнего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урав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в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нная к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лишнего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д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п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бу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м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лишнего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ол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че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фель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с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в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3" descr="http://im2-tub-ru.yandex.net/i?id=104701573-31-72&amp;n=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57120"/>
            <a:ext cx="2857680" cy="31431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http://im4-tub-ru.yandex.net/i?id=272627473-37-72&amp;n=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43200" y="285840"/>
            <a:ext cx="3000600" cy="32144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http://im8-tub-ru.yandex.net/i?id=461022371-3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78612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http://im6-tub-ru.yandex.net/i?id=365109834-5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86160" y="3571920"/>
            <a:ext cx="3090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http://im5-tub-ru.yandex.net/i?id=594556027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85840"/>
            <a:ext cx="3500280" cy="30002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4" descr="http://im3-tub-ru.yandex.net/i?id=294840942-6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357120"/>
            <a:ext cx="378612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http://im0-tub-ru.yandex.net/i?id=292493841-3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3857760"/>
            <a:ext cx="24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Содержимое 3" descr="http://www.logvanov.r52.ru/data/zivotnie/102_103.jpg"/>
          <p:cNvPicPr/>
          <p:nvPr/>
        </p:nvPicPr>
        <p:blipFill>
          <a:blip r:embed="rId1"/>
          <a:stretch/>
        </p:blipFill>
        <p:spPr>
          <a:xfrm>
            <a:off x="785880" y="285840"/>
            <a:ext cx="4000320" cy="39290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http://im0-tub-ru.yandex.net/i?id=6731221-05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214200"/>
            <a:ext cx="3019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Конкурс капитан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человек вытянули реп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71680" y="407196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571680" y="29289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28880" y="2000160"/>
            <a:ext cx="171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071800" y="278604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071800" y="1857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07180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215200" y="60008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вто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39640" y="1341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ните сказку «Репка». Кто встал не на своё мес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826920" y="2349360"/>
            <a:ext cx="7372440" cy="3176640"/>
            <a:chOff x="826920" y="2349360"/>
            <a:chExt cx="7372440" cy="317664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4716360" y="2349360"/>
              <a:ext cx="13446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"/>
            <p:cNvPicPr/>
            <p:nvPr/>
          </p:nvPicPr>
          <p:blipFill>
            <a:blip r:embed="rId2"/>
            <a:stretch/>
          </p:blipFill>
          <p:spPr>
            <a:xfrm>
              <a:off x="2340000" y="2781360"/>
              <a:ext cx="19112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"/>
            <p:cNvPicPr/>
            <p:nvPr/>
          </p:nvPicPr>
          <p:blipFill>
            <a:blip r:embed="rId3"/>
            <a:stretch/>
          </p:blipFill>
          <p:spPr>
            <a:xfrm>
              <a:off x="826920" y="2349360"/>
              <a:ext cx="135288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7" descr=""/>
            <p:cNvPicPr/>
            <p:nvPr/>
          </p:nvPicPr>
          <p:blipFill>
            <a:blip r:embed="rId4"/>
            <a:stretch/>
          </p:blipFill>
          <p:spPr>
            <a:xfrm>
              <a:off x="6300720" y="2781360"/>
              <a:ext cx="18986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0"/>
            <p:cNvSpPr/>
            <p:nvPr/>
          </p:nvSpPr>
          <p:spPr>
            <a:xfrm>
              <a:off x="125892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db5353"/>
                  </a:solidFill>
                  <a:uFillTx/>
                  <a:latin typeface="Calibri"/>
                  <a:hlinkClick r:id="rId5" action="ppaction://hlinksldjump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2771640" y="5157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4932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877080" y="4869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трет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611280" y="2637000"/>
            <a:ext cx="7635960" cy="3105000"/>
            <a:chOff x="611280" y="2637000"/>
            <a:chExt cx="7635960" cy="3105000"/>
          </a:xfrm>
        </p:grpSpPr>
        <p:pic>
          <p:nvPicPr>
            <p:cNvPr id="219" name="Picture 4" descr="yga"/>
            <p:cNvPicPr/>
            <p:nvPr/>
          </p:nvPicPr>
          <p:blipFill>
            <a:blip r:embed="rId1"/>
            <a:stretch/>
          </p:blipFill>
          <p:spPr>
            <a:xfrm>
              <a:off x="2700360" y="2637000"/>
              <a:ext cx="1905120" cy="23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" descr="sneg"/>
            <p:cNvPicPr/>
            <p:nvPr/>
          </p:nvPicPr>
          <p:blipFill>
            <a:blip r:embed="rId2"/>
            <a:stretch/>
          </p:blipFill>
          <p:spPr>
            <a:xfrm>
              <a:off x="4788000" y="2637000"/>
              <a:ext cx="14065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"/>
            <p:cNvPicPr/>
            <p:nvPr/>
          </p:nvPicPr>
          <p:blipFill>
            <a:blip r:embed="rId3"/>
            <a:srcRect l="38599" t="34478" r="0" b="12081"/>
            <a:stretch/>
          </p:blipFill>
          <p:spPr>
            <a:xfrm>
              <a:off x="611280" y="2637000"/>
              <a:ext cx="160344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7" descr=""/>
            <p:cNvPicPr/>
            <p:nvPr/>
          </p:nvPicPr>
          <p:blipFill>
            <a:blip r:embed="rId4"/>
            <a:stretch/>
          </p:blipFill>
          <p:spPr>
            <a:xfrm>
              <a:off x="6588000" y="2708280"/>
              <a:ext cx="1659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8"/>
            <p:cNvSpPr/>
            <p:nvPr/>
          </p:nvSpPr>
          <p:spPr>
            <a:xfrm>
              <a:off x="97164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320364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5292720" y="5373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7020000" y="50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2"/>
          <p:cNvSpPr/>
          <p:nvPr/>
        </p:nvSpPr>
        <p:spPr>
          <a:xfrm>
            <a:off x="122400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то не является героем русской народной сказ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ше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826920" y="3068640"/>
            <a:ext cx="6877080" cy="2313000"/>
            <a:chOff x="826920" y="3068640"/>
            <a:chExt cx="6877080" cy="2313000"/>
          </a:xfrm>
        </p:grpSpPr>
        <p:pic>
          <p:nvPicPr>
            <p:cNvPr id="230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3068640"/>
              <a:ext cx="110808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5" descr=""/>
            <p:cNvPicPr/>
            <p:nvPr/>
          </p:nvPicPr>
          <p:blipFill>
            <a:blip r:embed="rId2"/>
            <a:stretch/>
          </p:blipFill>
          <p:spPr>
            <a:xfrm>
              <a:off x="2019240" y="3173400"/>
              <a:ext cx="15130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6" descr=""/>
            <p:cNvPicPr/>
            <p:nvPr/>
          </p:nvPicPr>
          <p:blipFill>
            <a:blip r:embed="rId3"/>
            <a:stretch/>
          </p:blipFill>
          <p:spPr>
            <a:xfrm>
              <a:off x="3780000" y="3141720"/>
              <a:ext cx="1812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7"/>
            <p:cNvSpPr/>
            <p:nvPr/>
          </p:nvSpPr>
          <p:spPr>
            <a:xfrm>
              <a:off x="1114560" y="4653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2627280" y="458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4356000" y="494172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6443640" y="501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5" descr=""/>
            <p:cNvPicPr/>
            <p:nvPr/>
          </p:nvPicPr>
          <p:blipFill>
            <a:blip r:embed="rId4"/>
            <a:stretch/>
          </p:blipFill>
          <p:spPr>
            <a:xfrm>
              <a:off x="5796000" y="3141720"/>
              <a:ext cx="1908000" cy="13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 Box 17"/>
          <p:cNvSpPr/>
          <p:nvPr/>
        </p:nvSpPr>
        <p:spPr>
          <a:xfrm>
            <a:off x="395280" y="134136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61128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го жилища не встретишь в русских народных сказ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841320" y="361800"/>
            <a:ext cx="62438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76a55"/>
                </a:solidFill>
                <a:latin typeface="Calibri"/>
              </a:rPr>
              <a:t>ПОДУМА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ag00208_"/>
          <p:cNvPicPr/>
          <p:nvPr/>
        </p:nvPicPr>
        <p:blipFill>
          <a:blip r:embed="rId1"/>
          <a:stretch/>
        </p:blipFill>
        <p:spPr>
          <a:xfrm>
            <a:off x="2627280" y="1557360"/>
            <a:ext cx="4238640" cy="37861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795672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передвигался Колоб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928880" y="1857240"/>
            <a:ext cx="401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вырка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000160" y="314316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ме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000160" y="4286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т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возврат 10">
            <a:hlinkClick r:id="rId1" action="ppaction://hlinksldjump"/>
          </p:cNvPr>
          <p:cNvSpPr/>
          <p:nvPr/>
        </p:nvSpPr>
        <p:spPr>
          <a:xfrm>
            <a:off x="8215200" y="607212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м старик ловил рыб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000160" y="192888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2000160" y="3071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во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071800" y="44290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оч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возврат 12">
            <a:hlinkClick r:id="rId1" action="ppaction://hlinksldjump"/>
          </p:cNvPr>
          <p:cNvSpPr/>
          <p:nvPr/>
        </p:nvSpPr>
        <p:spPr>
          <a:xfrm>
            <a:off x="8215200" y="5929200"/>
            <a:ext cx="571680" cy="71460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714600"/>
              <a:gd name="textAreaBottom" fmla="*/ 677880 h 714600"/>
            </a:gdLst>
            <a:ahLst/>
            <a:rect l="textAreaLeft" t="textAreaTop" r="textAreaRight" b="textAreaBottom"/>
            <a:pathLst>
              <a:path w="21600" h="26997">
                <a:moveTo>
                  <a:pt x="0" y="0"/>
                </a:moveTo>
                <a:lnTo>
                  <a:pt x="21600" y="0"/>
                </a:lnTo>
                <a:lnTo>
                  <a:pt x="21600" y="26997"/>
                </a:lnTo>
                <a:lnTo>
                  <a:pt x="0" y="26997"/>
                </a:lnTo>
                <a:close/>
              </a:path>
              <a:path fill="lightenLess" w="21600" h="26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7">
                <a:moveTo>
                  <a:pt x="21600" y="0"/>
                </a:moveTo>
                <a:lnTo>
                  <a:pt x="21600" y="26997"/>
                </a:lnTo>
                <a:lnTo>
                  <a:pt x="20200" y="25597"/>
                </a:lnTo>
                <a:lnTo>
                  <a:pt x="20200" y="1400"/>
                </a:lnTo>
                <a:close/>
              </a:path>
              <a:path fill="darkenLess" w="21600" h="26997">
                <a:moveTo>
                  <a:pt x="21600" y="26997"/>
                </a:moveTo>
                <a:lnTo>
                  <a:pt x="0" y="26997"/>
                </a:lnTo>
                <a:lnTo>
                  <a:pt x="1400" y="25597"/>
                </a:lnTo>
                <a:lnTo>
                  <a:pt x="20200" y="25597"/>
                </a:lnTo>
                <a:close/>
              </a:path>
              <a:path fill="lighten" w="21600" h="26997">
                <a:moveTo>
                  <a:pt x="0" y="26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7"/>
                </a:lnTo>
                <a:close/>
              </a:path>
              <a:path fill="darken" w="21600" h="26997">
                <a:moveTo>
                  <a:pt x="3794" y="10191"/>
                </a:moveTo>
                <a:lnTo>
                  <a:pt x="7301" y="10191"/>
                </a:lnTo>
                <a:lnTo>
                  <a:pt x="7301" y="15526"/>
                </a:lnTo>
                <a:cubicBezTo>
                  <a:pt x="7301" y="16449"/>
                  <a:pt x="8102" y="17180"/>
                  <a:pt x="9138" y="17180"/>
                </a:cubicBezTo>
                <a:lnTo>
                  <a:pt x="10800" y="17180"/>
                </a:lnTo>
                <a:cubicBezTo>
                  <a:pt x="11836" y="17180"/>
                  <a:pt x="12636" y="16449"/>
                  <a:pt x="12636" y="15526"/>
                </a:cubicBezTo>
                <a:lnTo>
                  <a:pt x="12636" y="10191"/>
                </a:lnTo>
                <a:lnTo>
                  <a:pt x="10800" y="10191"/>
                </a:lnTo>
                <a:lnTo>
                  <a:pt x="14308" y="6683"/>
                </a:lnTo>
                <a:lnTo>
                  <a:pt x="17981" y="10191"/>
                </a:lnTo>
                <a:lnTo>
                  <a:pt x="16144" y="10191"/>
                </a:lnTo>
                <a:lnTo>
                  <a:pt x="16144" y="15526"/>
                </a:lnTo>
                <a:cubicBezTo>
                  <a:pt x="16144" y="18294"/>
                  <a:pt x="13568" y="20853"/>
                  <a:pt x="10800" y="20853"/>
                </a:cubicBezTo>
                <a:lnTo>
                  <a:pt x="9138" y="20853"/>
                </a:lnTo>
                <a:cubicBezTo>
                  <a:pt x="6370" y="20853"/>
                  <a:pt x="3794" y="18294"/>
                  <a:pt x="3794" y="15526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транспортное средство, на котором Чебурашка и Крокодил Гена отправились на отды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возврат 9">
            <a:hlinkClick r:id="rId1" action="ppaction://hlinksldjump"/>
          </p:cNvPr>
          <p:cNvSpPr/>
          <p:nvPr/>
        </p:nvSpPr>
        <p:spPr>
          <a:xfrm>
            <a:off x="8429760" y="6000840"/>
            <a:ext cx="500040" cy="714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714240"/>
              <a:gd name="textAreaBottom" fmla="*/ 681840 h 714240"/>
            </a:gdLst>
            <a:ahLst/>
            <a:rect l="textAreaLeft" t="textAreaTop" r="textAreaRight" b="textAreaBottom"/>
            <a:pathLst>
              <a:path w="21600" h="30846">
                <a:moveTo>
                  <a:pt x="0" y="0"/>
                </a:moveTo>
                <a:lnTo>
                  <a:pt x="21600" y="0"/>
                </a:lnTo>
                <a:lnTo>
                  <a:pt x="21600" y="30846"/>
                </a:lnTo>
                <a:lnTo>
                  <a:pt x="0" y="30846"/>
                </a:lnTo>
                <a:close/>
              </a:path>
              <a:path fill="lightenLess" w="21600" h="308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6">
                <a:moveTo>
                  <a:pt x="21600" y="0"/>
                </a:moveTo>
                <a:lnTo>
                  <a:pt x="21600" y="30846"/>
                </a:lnTo>
                <a:lnTo>
                  <a:pt x="20200" y="29446"/>
                </a:lnTo>
                <a:lnTo>
                  <a:pt x="20200" y="1400"/>
                </a:lnTo>
                <a:close/>
              </a:path>
              <a:path fill="darkenLess" w="21600" h="30846">
                <a:moveTo>
                  <a:pt x="21600" y="30846"/>
                </a:moveTo>
                <a:lnTo>
                  <a:pt x="0" y="30846"/>
                </a:lnTo>
                <a:lnTo>
                  <a:pt x="1400" y="29446"/>
                </a:lnTo>
                <a:lnTo>
                  <a:pt x="20200" y="29446"/>
                </a:lnTo>
                <a:close/>
              </a:path>
              <a:path fill="lighten" w="21600" h="30846">
                <a:moveTo>
                  <a:pt x="0" y="308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6"/>
                </a:lnTo>
                <a:close/>
              </a:path>
              <a:path fill="darken" w="21600" h="30846">
                <a:moveTo>
                  <a:pt x="3794" y="12116"/>
                </a:moveTo>
                <a:lnTo>
                  <a:pt x="7301" y="12116"/>
                </a:lnTo>
                <a:lnTo>
                  <a:pt x="7301" y="17451"/>
                </a:lnTo>
                <a:cubicBezTo>
                  <a:pt x="7301" y="18374"/>
                  <a:pt x="8102" y="19105"/>
                  <a:pt x="9138" y="19105"/>
                </a:cubicBezTo>
                <a:lnTo>
                  <a:pt x="10800" y="19105"/>
                </a:lnTo>
                <a:cubicBezTo>
                  <a:pt x="11836" y="19105"/>
                  <a:pt x="12636" y="18374"/>
                  <a:pt x="12636" y="17451"/>
                </a:cubicBezTo>
                <a:lnTo>
                  <a:pt x="12636" y="12116"/>
                </a:lnTo>
                <a:lnTo>
                  <a:pt x="10800" y="12116"/>
                </a:lnTo>
                <a:lnTo>
                  <a:pt x="14308" y="8608"/>
                </a:lnTo>
                <a:lnTo>
                  <a:pt x="17981" y="12116"/>
                </a:lnTo>
                <a:lnTo>
                  <a:pt x="16144" y="12116"/>
                </a:lnTo>
                <a:lnTo>
                  <a:pt x="16144" y="17451"/>
                </a:lnTo>
                <a:cubicBezTo>
                  <a:pt x="16144" y="20219"/>
                  <a:pt x="13568" y="22778"/>
                  <a:pt x="10800" y="22778"/>
                </a:cubicBezTo>
                <a:lnTo>
                  <a:pt x="9138" y="22778"/>
                </a:lnTo>
                <a:cubicBezTo>
                  <a:pt x="6370" y="22778"/>
                  <a:pt x="3794" y="20219"/>
                  <a:pt x="3794" y="17451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000160" y="1928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л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000160" y="3071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000160" y="44290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транспортное средство, на котором Чебурашка и Крокодил Гена отправились на отды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возврат 9">
            <a:hlinkClick r:id="rId1" action="ppaction://hlinksldjump"/>
          </p:cNvPr>
          <p:cNvSpPr/>
          <p:nvPr/>
        </p:nvSpPr>
        <p:spPr>
          <a:xfrm>
            <a:off x="8429760" y="6000840"/>
            <a:ext cx="500040" cy="714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714240"/>
              <a:gd name="textAreaBottom" fmla="*/ 681840 h 714240"/>
            </a:gdLst>
            <a:ahLst/>
            <a:rect l="textAreaLeft" t="textAreaTop" r="textAreaRight" b="textAreaBottom"/>
            <a:pathLst>
              <a:path w="21600" h="30846">
                <a:moveTo>
                  <a:pt x="0" y="0"/>
                </a:moveTo>
                <a:lnTo>
                  <a:pt x="21600" y="0"/>
                </a:lnTo>
                <a:lnTo>
                  <a:pt x="21600" y="30846"/>
                </a:lnTo>
                <a:lnTo>
                  <a:pt x="0" y="30846"/>
                </a:lnTo>
                <a:close/>
              </a:path>
              <a:path fill="lightenLess" w="21600" h="308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6">
                <a:moveTo>
                  <a:pt x="21600" y="0"/>
                </a:moveTo>
                <a:lnTo>
                  <a:pt x="21600" y="30846"/>
                </a:lnTo>
                <a:lnTo>
                  <a:pt x="20200" y="29446"/>
                </a:lnTo>
                <a:lnTo>
                  <a:pt x="20200" y="1400"/>
                </a:lnTo>
                <a:close/>
              </a:path>
              <a:path fill="darkenLess" w="21600" h="30846">
                <a:moveTo>
                  <a:pt x="21600" y="30846"/>
                </a:moveTo>
                <a:lnTo>
                  <a:pt x="0" y="30846"/>
                </a:lnTo>
                <a:lnTo>
                  <a:pt x="1400" y="29446"/>
                </a:lnTo>
                <a:lnTo>
                  <a:pt x="20200" y="29446"/>
                </a:lnTo>
                <a:close/>
              </a:path>
              <a:path fill="lighten" w="21600" h="30846">
                <a:moveTo>
                  <a:pt x="0" y="308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6"/>
                </a:lnTo>
                <a:close/>
              </a:path>
              <a:path fill="darken" w="21600" h="30846">
                <a:moveTo>
                  <a:pt x="3794" y="12116"/>
                </a:moveTo>
                <a:lnTo>
                  <a:pt x="7301" y="12116"/>
                </a:lnTo>
                <a:lnTo>
                  <a:pt x="7301" y="17451"/>
                </a:lnTo>
                <a:cubicBezTo>
                  <a:pt x="7301" y="18374"/>
                  <a:pt x="8102" y="19105"/>
                  <a:pt x="9138" y="19105"/>
                </a:cubicBezTo>
                <a:lnTo>
                  <a:pt x="10800" y="19105"/>
                </a:lnTo>
                <a:cubicBezTo>
                  <a:pt x="11836" y="19105"/>
                  <a:pt x="12636" y="18374"/>
                  <a:pt x="12636" y="17451"/>
                </a:cubicBezTo>
                <a:lnTo>
                  <a:pt x="12636" y="12116"/>
                </a:lnTo>
                <a:lnTo>
                  <a:pt x="10800" y="12116"/>
                </a:lnTo>
                <a:lnTo>
                  <a:pt x="14308" y="8608"/>
                </a:lnTo>
                <a:lnTo>
                  <a:pt x="17981" y="12116"/>
                </a:lnTo>
                <a:lnTo>
                  <a:pt x="16144" y="12116"/>
                </a:lnTo>
                <a:lnTo>
                  <a:pt x="16144" y="17451"/>
                </a:lnTo>
                <a:cubicBezTo>
                  <a:pt x="16144" y="20219"/>
                  <a:pt x="13568" y="22778"/>
                  <a:pt x="10800" y="22778"/>
                </a:cubicBezTo>
                <a:lnTo>
                  <a:pt x="9138" y="22778"/>
                </a:lnTo>
                <a:cubicBezTo>
                  <a:pt x="6370" y="22778"/>
                  <a:pt x="3794" y="20219"/>
                  <a:pt x="3794" y="17451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000160" y="1928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л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000160" y="3071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000160" y="44290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94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Documents and Settings\учитель\Мои документы\Мои рисунки\93317986.jpg"/>
          <p:cNvPicPr/>
          <p:nvPr/>
        </p:nvPicPr>
        <p:blipFill>
          <a:blip r:embed="rId2"/>
          <a:stretch/>
        </p:blipFill>
        <p:spPr>
          <a:xfrm>
            <a:off x="179280" y="1628640"/>
            <a:ext cx="3961080" cy="49500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4"/>
          <p:cNvSpPr/>
          <p:nvPr/>
        </p:nvSpPr>
        <p:spPr>
          <a:xfrm>
            <a:off x="4211640" y="189000"/>
            <a:ext cx="4753080" cy="6192720"/>
          </a:xfrm>
          <a:custGeom>
            <a:avLst/>
            <a:gdLst>
              <a:gd name="textAreaLeft" fmla="*/ 231840 w 4753080"/>
              <a:gd name="textAreaRight" fmla="*/ 4521240 w 4753080"/>
              <a:gd name="textAreaTop" fmla="*/ 231840 h 6192720"/>
              <a:gd name="textAreaBottom" fmla="*/ 5960880 h 6192720"/>
            </a:gdLst>
            <a:ahLst/>
            <a:rect l="textAreaLeft" t="textAreaTop" r="textAreaRight" b="textAreaBottom"/>
            <a:pathLst>
              <a:path w="21600" h="28142">
                <a:moveTo>
                  <a:pt x="3600" y="0"/>
                </a:moveTo>
                <a:arcTo wR="3600" hR="3600" stAng="16200000" swAng="-5400000"/>
                <a:lnTo>
                  <a:pt x="0" y="24542"/>
                </a:lnTo>
                <a:arcTo wR="3600" hR="3600" stAng="10800000" swAng="-5400000"/>
                <a:lnTo>
                  <a:pt x="18000" y="28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Заголовок 3"/>
          <p:cNvSpPr/>
          <p:nvPr/>
        </p:nvSpPr>
        <p:spPr>
          <a:xfrm>
            <a:off x="4500720" y="274680"/>
            <a:ext cx="4186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Всех на свете он добрей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Лечит он больных зверей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И однажды бегемота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Вытащил он из болота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Он известен, знаменит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то доктор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7:46:42Z</dcterms:created>
  <dc:creator>SVETA</dc:creator>
  <dc:description/>
  <dc:language>en-US</dc:language>
  <cp:lastModifiedBy>SVETLANA</cp:lastModifiedBy>
  <dcterms:modified xsi:type="dcterms:W3CDTF">2015-11-30T13:09:54Z</dcterms:modified>
  <cp:revision>16</cp:revision>
  <dc:subject/>
  <dc:title>По дорогам сказок</dc:title>
</cp:coreProperties>
</file>