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901E-2F14-4D5E-A9E1-DD8F89477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0767-80AD-4179-924F-A6416DD1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6EB4-62D6-4560-B478-9B53295BA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DF09-7653-4E31-8DF5-79F02383E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BDCC-FBBA-43AB-BC36-99C4FF6D1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8D3B-04DA-48DB-8E1F-9DD0D0A3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2209-10F2-4C03-B1A5-241E2C7D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4BB3-890A-4E2D-8255-9E87EEF7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59B7-3707-4175-A492-8FB68E55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3833-645F-4964-9350-DDDD5BAB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4516-7F97-44E3-B6DA-FB3D5D52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B4BF-694D-46FF-9AE5-0D48178DE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B904-7ED7-467D-A6D8-4633EAB3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F55A-7951-4C1F-8C9E-E592B847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8A04-1498-4580-849C-7413DB1B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CE47-03F4-4178-91B4-7045B0DDF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DFA6-9B0A-4B1F-8946-66D85E0CD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6B21C-0F25-4202-9ED3-4B1DACF2F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9F439-882E-4782-893C-A5D6C4F8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1C085-D88C-4709-84EC-C153F316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87662-03ED-44FA-9B73-E6273118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198E3-C5B0-45C7-AA37-3F9C31A19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311E-44D7-4BAC-9C08-FFA16C97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FF0F8-CBFE-4FA3-9968-F79F039A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EEF3C-805E-4308-912F-101E0BC8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DB0ED-A37B-4E0C-8409-A74E4E1A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2AF66-F9A8-4C77-8A60-1A5A2B3F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426EA-BA3C-426B-9DA9-DD3EE985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1A1CC-CF86-453F-9366-95049D0DA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03CC7-A941-4D83-B5A5-1AFED1BDD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AA660-F2DA-4227-8296-33D640F84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D040D-432B-4E68-968F-35A6DA64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0140D-A661-4307-BEFB-663EA35E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5F00-8E9E-4C38-9978-1EAFFAAC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153B4-6100-4D62-B227-D21F38D5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C0DD7-BF5F-4FAE-99CD-BECE81DE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76C8B-54D9-40F1-8A37-289AA25A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1346D-F8E1-43BE-9C41-7D5BBA4F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F2512-B4B2-4DD1-91BC-47A31DBB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E4476-827F-4891-838C-D1EF52ED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F351F-F9D5-4021-B817-31B20C08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AFCEC-4652-4DA6-9DDA-32FA04F70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539E3-F67D-428C-BE41-C35CEAC6F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17BA9-819B-47EB-9FC0-D4F1C10C2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171F-BA19-4CDF-95FE-AC509DE6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C8F86-1044-4E44-887F-06E6CDE8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A601A-0CCA-459B-A700-AC5F3032C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5ABE3-587E-46AA-A4A5-F10FE83F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A5613-201E-4944-8662-064D0EFC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EECD4-3842-45BC-81BE-E8B7A971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A1281-9E38-491F-9AE9-094E2663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ABDE43-94FF-437C-A418-BAFBAA29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569CA-8A14-4FB9-802F-267EF46C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B5B09-4053-4786-AC07-A4112088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89260-217C-4C91-A5A6-079C6FF8C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02B4-2300-42A5-9530-33DDEE44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56F03-E75E-4E63-A5C6-3E3D2796A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F24F0-C5FC-4B99-9853-53A53A0F8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BDE2E-60E0-4291-9D4E-7BC554A0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CF384-E3D4-42FE-94FC-5509B443F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D3FA7-6870-471E-AE5F-E66B9971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AE750-1831-458B-9721-5D253EA7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B84B8-60E4-4F61-8C5F-64056B91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9EB84-284A-4538-9005-502AC884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4ED76-8C10-41CC-BFE6-146B2F1A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82988-E460-4C9A-A5A3-C93548A6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B5DB-06FC-4ABC-B0A9-D9F55A45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E7F08-1524-4069-8CC0-49802529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0EA30-0BF9-41FF-B4B0-46130EF64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2FE8B-BF77-4C2A-AB76-E354DB52A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415C4-918C-4F84-9479-2F95CD1C8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B05ED-864B-4A6F-82DA-9C81F539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388AB-FA6A-46F5-A38A-50B44EF1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E794C-759D-4571-92DD-FE41BA01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B7D5B-14E1-4814-8079-C0627BF9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D49A2-D2C3-4421-9C5D-970C8E5F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FA8C5-2FC6-42D7-A25A-867D75BF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5202-1F04-4919-9EA8-F9993869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D951D-9815-4580-8DE3-2B641341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15FF8-F451-479A-A7B5-5E651794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10E0B-5E4C-4CD0-A589-65CFB6EC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C18E5-4B51-4CEC-BA12-CB667E3F9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51EB0-FF67-4EE3-93BE-9E6D7736A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16B8-0D18-421E-B5EC-25A63626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0CCB-47AA-41D3-B959-550FA19C86B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15B6-A207-46B2-B99B-AA9A91F42C6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D215-9E07-4912-AFB0-F8657474354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6CA47-B5D6-49FF-AD2B-38A1C8924D4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B009-7983-4655-B181-3F599FA3A33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735A-83F8-488D-A65A-EFDB455BA61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7E6D-D5D8-4A04-A866-4DD310D7F3D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32000" y="404280"/>
            <a:ext cx="7407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азработка адаптированной образовательной программы  дошкольного образования для детей с ограниченными возможностями (ОВЗ) по нозологической группе: слабослышащих детей и детей, после кохлеарной имплантации.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7407360" cy="1224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оспитатели: Чемакина В.С., Марченко Л.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МБДОУ «Детский сад № 12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г. Торжок, Тверская област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4" descr="C:\Users\Борис\Desktop\i111.jpg"/>
          <p:cNvPicPr/>
          <p:nvPr/>
        </p:nvPicPr>
        <p:blipFill>
          <a:blip r:embed="rId1"/>
          <a:stretch/>
        </p:blipFill>
        <p:spPr>
          <a:xfrm>
            <a:off x="1476360" y="5589720"/>
            <a:ext cx="420372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5" descr="C:\Users\Борис\Desktop\Развитие-детей-с-нарушением-слуха-768x484.jpg"/>
          <p:cNvPicPr/>
          <p:nvPr/>
        </p:nvPicPr>
        <p:blipFill>
          <a:blip r:embed="rId1"/>
          <a:stretch/>
        </p:blipFill>
        <p:spPr>
          <a:xfrm>
            <a:off x="6345360" y="1484280"/>
            <a:ext cx="2073240" cy="13064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1238040" y="309240"/>
            <a:ext cx="7623000" cy="6288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Содержательный разде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1. Общие положения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. Описание образовательной деятельности в соответствии с направлениями развития ребёнка: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.1. Младенческий возраст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.2. Дошкольный возраст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.2.1 Социально-коммуникативное развитие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.2.2 Познавательное развитие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.2.3 Речевое развитие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.2.4 Художественно-эстетическое развитие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.2.5 Физическое развитие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3 Описание вариативных форм, способов, методов и средств реализации программы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4. Особенности образовательной деятельности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5. Взаимодействие взрослых с детьми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6. Способы и направления поддержки детской инициативы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7. Взаимодействие педагогического коллектива с семьями воспитанников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7.1. По направлениям:  участие в жизни ДОУ, педагогическое просвещение родителей, совместная творческая деятельность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7.2. Коррекционно-реабилитационная и психолого-педагогическая работа с семьями детей с нарушениями слуха (слабослышащими и дети, перенесшие кохлеарную имплантацию)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8. Психологическое сопровождение образовательного процесс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9. Логопедическое сопровождение образовательного процесс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10. Коррекционно-развивающее сопровождение образовательного процесс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4" descr="C:\Users\Борис\Desktop\i2.jpg"/>
          <p:cNvPicPr/>
          <p:nvPr/>
        </p:nvPicPr>
        <p:blipFill>
          <a:blip r:embed="rId1"/>
          <a:stretch/>
        </p:blipFill>
        <p:spPr>
          <a:xfrm>
            <a:off x="7164360" y="3860640"/>
            <a:ext cx="1609920" cy="1084320"/>
          </a:xfrm>
          <a:prstGeom prst="rect">
            <a:avLst/>
          </a:prstGeom>
          <a:ln w="0">
            <a:noFill/>
          </a:ln>
        </p:spPr>
      </p:pic>
      <p:sp>
        <p:nvSpPr>
          <p:cNvPr id="342" name="Прямоугольник 3"/>
          <p:cNvSpPr/>
          <p:nvPr/>
        </p:nvSpPr>
        <p:spPr>
          <a:xfrm>
            <a:off x="1187280" y="260280"/>
            <a:ext cx="7705800" cy="60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е приемы работы со слабослышащими детьми и детьми, после кохлеарной имплантац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нетическая ритмика, артикуляционные и дыхательные упражнения, игры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тановка звуков по методике Слезиной Н. Ф.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тод экрана, обучение слухозрительному и слуховому восприятию речи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тоды развития активного и пассивного словаря: тематические альбомы, карточки, дидактические игры)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имуляция речевой деятельности на режимных моментах и при непосредственной образовательной деятельности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ктильная (ручная) азбука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понимания слабослышащими детьми слов и словосочетаний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достаточное овладение звуковым составом слова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Ограниченность словарного запаса. 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понимание переносного смысла выражения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степенное значение для таких детей приобретает зрительное восприятие речи.  Чтение и анализ прочитанного текста в значительной степени способствуют компенсации недостаточной речевой практики, влияют на развитие и совершенствование устной, обогащают словарный запас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1115640" y="468000"/>
            <a:ext cx="7651800" cy="61196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Цели коррекционно-реабилитационной и психолого-педагогической работы с семьями детей с нарушениями слуха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слабослышащими детьми и дети, перенесшие кохлеарную имплантацию):</a:t>
            </a:r>
            <a:r>
              <a:rPr b="0" lang="ru-RU" sz="15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обеспечение адекватных микро социальных условий развития ребенка с нарушениями слуха в семье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преодоление состояния фрустрации и оптимизация самосознания родителей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формирование позитивного отношения близких лиц к ребенку с нарушениями слуха и оптимистического взгляда в будущее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ля достижения целей необходимо решить следующие задачи: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сформировать у родителей мотивацию к взаимодействию со специалистами образовательной организации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установить причины, дестабилизирующие внутрисемейную атмосферу и межличностные отношения и способствовать их коррекции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выявить социально-психологические внутрисемейные факторы, способствующие гармоничному развитию ребенка с нарушениями слуха в семье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добиваться оптимизации самосознания родителей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способствовать оптимизации личностного развития детей с нарушениями слуха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обучить родителей приемам формирования в семье реабилитационных условий, методам воспитания, обучения и реабилитации детей, обеспечивающим оптимальное развитие ребенка с нарушениями слуха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повысить психолого-педагогическую компетентность родителей в вопросах воспитания, обучения, развития и социальной адаптации ребенка с нарушениями слуха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скорректировать воспитательские позиции родителей, оказать им помощь в выборе адекватных мер воздействия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Picture 4" descr="C:\Users\Борис\Desktop\i111.jpg"/>
          <p:cNvPicPr/>
          <p:nvPr/>
        </p:nvPicPr>
        <p:blipFill>
          <a:blip r:embed="rId1"/>
          <a:stretch/>
        </p:blipFill>
        <p:spPr>
          <a:xfrm>
            <a:off x="1081080" y="187200"/>
            <a:ext cx="2232000" cy="4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115560"/>
            <a:ext cx="8280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существление квалифицированной коррекции нарушений развития детей с нарушениями слуха (слабослышащими детьми и дети, перенесшие кохлеарную имплантацию):</a:t>
            </a:r>
            <a:r>
              <a:rPr b="0" lang="ru-RU" sz="15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258920" y="6165720"/>
            <a:ext cx="7632720" cy="5032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оординация реализации программ образования осуществляется на заседаниях психолого-медико-педагогического консилиума ДОУ с участием всех педагогов и специалистов, задействованных в реализации образовательных программ.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187280" y="907920"/>
          <a:ext cx="7777440" cy="5153040"/>
        </p:xfrm>
        <a:graphic>
          <a:graphicData uri="http://schemas.openxmlformats.org/drawingml/2006/table">
            <a:tbl>
              <a:tblPr/>
              <a:tblGrid>
                <a:gridCol w="1403640"/>
                <a:gridCol w="6373800"/>
              </a:tblGrid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циали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квалифицированной коррекции наруш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35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тикуляционная гимнастика с элементами дыхательной и голосовой гимнасти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ьчиковая гимнастика; корригирующая и мини гимнастика после с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о-развивающая рабо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22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-психоло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над развитием высших психических функций (внимание, память, мышление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над социально-бытовыми, игровыми, коммуникативными, потребительскими навыками, навыками самообслуживания, личной гигиены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мотивации к обучению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опе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екционные подгрупповые занятия: работа с аудиограммой; корректировка речевого дыхания; работа над внятностью речи; расширение словарного запаса; активизация слуховой деятельности; постановка зву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3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льный руководител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льная релаксация, выравнивание психоэмоционального состоя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чувства рит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динация движений на музыкальных занятия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4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 по физической культур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коррекционные занятия на развитие общей моторики, координации движе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ьные упражнения, связанные со слухом и речь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екционные упраж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ыхательная и ритмическая гимнас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чечный массаж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25600" y="188640"/>
            <a:ext cx="7407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рганизационный раздел АОП ДО: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187280" y="549000"/>
            <a:ext cx="7848720" cy="2808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1. Психолого-педагогические условия, обеспечивающие развитие ребенка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2. Организация развивающей предметно-пространственной среды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3. Кадровые условия реализации Программы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4. Материально-техническое обеспечение Программы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5. Финансовые условия реализации Программы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6. Планирование образовательной деятельности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7. Режим дня и распорядок 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8. Перспективы работы по совершенствованию и развитию содержания Программы и обеспечивающих ее реализацию нормативно-правовых, финансовых, научно-методических, кадровых, информационных и материально-технических ресурсов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9. Перечень нормативных и нормативно-методических документов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10. Перечень литературных источников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Прямоугольник 3"/>
          <p:cNvSpPr/>
          <p:nvPr/>
        </p:nvSpPr>
        <p:spPr>
          <a:xfrm>
            <a:off x="1017720" y="3357720"/>
            <a:ext cx="799128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о-педагогические условия, обеспечивающие развитие детей: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Личностно-порождающее взаимодействие взрослых с детьми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риентированность педагогической оценки на относительные показатели детской успешности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Формирование игры как важнейшего фактора развития слабослышащих детей и детей, после кохлеарной имплантации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оздание развивающей образовательной среды, способствующей физическому, социально-коммуникативному, познавательному, речевому, художественно-эстетическому развитию ребенка и сохранению его индивидуальности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балансированность репродуктивной (воспроизводящей готовый образец) и продуктивной (производящей субъективно новый продукт) деятельности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частие семьи как необходимое условие для полноценного развития слабослышащего ребенка раннего и дошкольного возраста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рофессиональное развитие педагогов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1" name="Picture 4" descr="C:\Users\Борис\Desktop\i111.jpg"/>
          <p:cNvPicPr/>
          <p:nvPr/>
        </p:nvPicPr>
        <p:blipFill>
          <a:blip r:embed="rId1"/>
          <a:stretch/>
        </p:blipFill>
        <p:spPr>
          <a:xfrm>
            <a:off x="6948360" y="115920"/>
            <a:ext cx="196848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318680" y="333360"/>
            <a:ext cx="7656840" cy="3960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Организация развивающей предметно-пространственной среды (ППС)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Развивающая предметно-пространственная среда детского сада является: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содержательно-насыщенной, развивающей;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трансформируемой;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полифункциональной;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вариативной;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доступной;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безопасной;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здоровье сберегающей;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эстетически-привлекательной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едметная среда удовлетворяет следующим требованиям: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1. Качественная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. Развивающая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3. Комфортная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4. Индивидуально-направленная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5. Коррекционная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Прямоугольник 4"/>
          <p:cNvSpPr/>
          <p:nvPr/>
        </p:nvSpPr>
        <p:spPr>
          <a:xfrm>
            <a:off x="1198440" y="4149720"/>
            <a:ext cx="777744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ровые условия реализации АОП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и обучение дошкольников с нарушением слуха должны осуществлять специально подготовленные высококвалифицированные кадры: учителя-дефектологи (сурдопедагоги), учителя-логопеды, педагоги-психологи, воспитатели прошедшие профессиональную подготовку, знающие психофизические особенности детей с нарушениями слуха и владеющие методиками дифференцированной коррекционной работы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ровая обеспеченность ДОО во многом будет зависеть от наличия руководителей, педагогов, специалистов, прошедших профессиональную подготовку в области инклюзивного образования детей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1187280" y="260280"/>
            <a:ext cx="7848720" cy="2952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Материально-техническое обеспечение АОП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санитарно-гигиенических норм образовательного процесса с учетом потребностей детей с нарушением слуха (требования к водоснабжению, канализации, освещению, воздушно-тепловому режиму и т.д.)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возможности для беспрепятственного доступа детей, в том числе детей с ОВЗ, к объектам инфраструктуры образовательной организации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санитарно-бытовых условий с учетом потребностей детей, воспитывающихся в данной организации (наличие оборудованных гардеробов, санузлов, мест личной гигиены, включающих в себя кушетки т.д.)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социально-бытовых условий с учетом конкретных потребностей ребенка с нарушениями слуха, в данной организации (наличие адекватно оборудованного пространства организации, рабочего места ребенка и т.д.)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Подзаголовок 2"/>
          <p:cNvSpPr/>
          <p:nvPr/>
        </p:nvSpPr>
        <p:spPr>
          <a:xfrm>
            <a:off x="1150920" y="3284640"/>
            <a:ext cx="7777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ля осуществления психолого-педагогической работы по коррекции и реабилитации детей с нарушением слуха рабочее место (специальный кабинет)  должно быть оснащено следующими средствами</a:t>
            </a: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: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1.Электроакустическая аппаратура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. Сурдотехнические средства обучения и реабилитации, например, специальная аппаратура для практической работы, предназначенная для специалистов по реабилитации: преподавателей, а также родителей (в случае участия последних), представленная обычно в виде настольных аппаратов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3. Электроакустические комплексы (для индивидуальной и групповой работы, слухоречевой реабилитации, индивидуальной и групповой работы детей с кохлеарными имплантами, определения оптимального слухового поля)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4. Средства наглядности (предметно-образные и динамические)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5. Различные технические средства обучения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6. ИКТ-технологии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1195200" y="260280"/>
            <a:ext cx="7553160" cy="1656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Финансовые условия реализации Программы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Финансовое обеспечение</a:t>
            </a:r>
            <a:r>
              <a:rPr b="1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реализации АООП ДО, разработанной для  детей с нарушением слуха, осуществляется в соответствии с потребностями ДОО на осуществление всех необходимых расходов на обеспечение конституционного права на бесплатное и общедоступное дошкольное образование с учетом направленности группы, режима пребывания детей в группе, возрастом воспитанников и прочими особенностями реализации Программы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Подзаголовок 2"/>
          <p:cNvSpPr/>
          <p:nvPr/>
        </p:nvSpPr>
        <p:spPr>
          <a:xfrm>
            <a:off x="971640" y="1916280"/>
            <a:ext cx="792144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ланирование образова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ограммно-методическое обеспечение образовательного процесса как одно из основных условий реализации индивидуальной образовательной программы ориентировано на возможность постоянного и устойчивого доступа для всех субъектов образовательного процесса к любой информации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ОО реализовывает различные программы: коррекционные, вариативные, дополнитель-ного образования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ошкольные образовательные организации выбирают для работы программы из числа рекомендованных к применению в ДОО и адаптируют их с учетом особенностей контингента конкретной группы или организации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ля детей с ОВЗ (слабослышащих детей и детей, после кохлеарной имплантации) предусмотрены занятия по коррекции недостатков сенсорных, двигательных, речевых и психических функций, в зависимости от имеющихся у детей нарушений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Коррекционно-развивающее воздействие осуществляется на основе использования разнообразных практических, наглядных и словесных, двигательно-кинестетических методов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ыделяются следующие формы работы с детьми с нарушением слуха: индивидуальные, подгрупповые и фронтальные в соответствие с медицинскими показаниями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 зависимости от структуры нарушений коррекционно-развивающая работа с детьми данной категории строится дифференцированно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190160" y="401760"/>
            <a:ext cx="770580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Режим дня и распорядок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ограмма оставляет за ДОО право на самостоятельное определение режима и распорядка дня, устанавливаемых с учетом условий реализации программы ДОО, потребностей участников образовательных отношений, особенностей реализуемых авторских вариативных образовательных программ, в том числе программ дополнительного образования дошкольников и других особенностей образовательной деятельности, а также санитарно-эпидемиологических требований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Подзаголовок 2"/>
          <p:cNvSpPr/>
          <p:nvPr/>
        </p:nvSpPr>
        <p:spPr>
          <a:xfrm>
            <a:off x="1116000" y="2060640"/>
            <a:ext cx="77770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ерспективы работы по совершенствованию и развитию содержания Программы и обеспечивающих ее реализацию нормативно-правовых, финансовых, научно-методических, кадровых, информационных и материально-технических ресурсов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 соответствии с требованиями ФГОС ДО конкретное содержание образовательных областей может реализовываться в различных видах деятельности: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игровой (включая сюжетно-ролевую игру, игры с правилами и др.),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коммуникативной (общение и взаимодействие со взрослыми и сверстниками),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познавательно-исследовательской (исследование объектов окружающего мира и экспериментирование с ними),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восприятии художественной литературы и фольклора,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самообслуживании и элементарном бытовом труде,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конструировании из различного материала, включая конструкторы, модули, бумагу, природный и иной материал,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изобразительной (рисование, лепка, аппликация),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музыкальной (восприятие и понимание смысла музыкальных произведений, пение, музыкально-ритмические движения, театрализованная деятельность),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двигательной (овладение основными движениями)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одбор игрушек и оборудования для организации данных видов деятельности в дошкольном возрасте представлен перечнями, составленными по возрастным группам, отраженными в организационном разделе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4" descr="C:\Users\Борис\Desktop\i111.jpg"/>
          <p:cNvPicPr/>
          <p:nvPr/>
        </p:nvPicPr>
        <p:blipFill>
          <a:blip r:embed="rId1"/>
          <a:stretch/>
        </p:blipFill>
        <p:spPr>
          <a:xfrm>
            <a:off x="1055520" y="139680"/>
            <a:ext cx="25750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1116000" y="115560"/>
            <a:ext cx="7848720" cy="6481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еречень нормативных и нормативно-методических документов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«Конвенция о правах ребенка» (одобрена Генеральной Ассамблеей ООН 20.11.1989) (вступила в силу для СССР 15.09.1990)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«Конституция Российской Федерации» (принята всенародным голосованием 12.12.1993) (с учетом поправок, внесенных Законами РФ о поправках к Конституции РФ от 30.12.2008 N 6-ФКЗ, от 30.12.2008 № 7-ФКЗ, от 05.02.2014 № 2-ФКЗ, от 21.07.2014 № 11-ФКЗ)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Федеральный закон от 29.12.2012 № 273-ФЗ «Об образовании в Российской Федерации».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Федеральный закон «О социальной защите инвалидов в Российской Федерации» (с изменениями на 28.06.2014г).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иказ Министерства образования и науки Российской Федерации от 08.04.2014 № 293 «Об утверждении Порядка приема на обучение по образовательным программам дошкольного образования» (Зарегистрировано в Минюсте России 12.05.2014 № 32220).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иказ Министерства образования и науки Российской Федерации (Минобрнауки России) от 30.08.2013г. №1014  г. Москва «Об утверждении Порядка организации и осуществления образовательной деятельности по основным общеобразовательным программам – образовательным программам дошкольного образования».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иказ Министерства образования и науки Российской Федерации (Минобрнауки России) от 17.10.2013г. №1155   г. Москва «Об утверждении федерального государственного образовательного стандарта дошкольного образования».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иказ Минтруда России № 664н от 29.09.2014г. «О классификациях и критериях, используемых при осуществлении медико-социальной экспертизы граждан федеральными государственными учреждениями медико-социальной экспертизы».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исьмо Министерства образования и науки Российской Федерации от 7.06.2013г. № ИР-535/07 «О коррекционном и инклюзивном образовании детей».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Санитарно-эпидемиологические требования к устройству, содержанию и организации режима работы дошкольных образовательных организаций» (Утверждены постановлением Главного государственного санитарного врача Российской от 15.05.2013г. № 26 «Об утверждении СаНПиН» 2.4.3049-13);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имерная основная образовательная программа дошкольного образования (одобрена решением федерального учебно-методического объединения по общему образованию (протокол от 20.05.2015г. № 2/15))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01680" y="259920"/>
            <a:ext cx="78343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</a:t>
            </a: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ля детей с ограниченными возможностями (ОВЗ) должна быть разработана адаптированная образовательная программа (АОП). Исключительным правом на разработку и утверждение адаптированной программы обладает образовательная организация согласно ч.5 ст.12 Федерального закона №273-ФЗ. Образование обучающихся с ОВЗ  может быть организовано как совместно с другими обучающимися, так и в отдельных классах, группах или в отдельных организациях, осуществляющих образовательную деятельность» (ст.79, п.4).</a:t>
            </a:r>
            <a:endParaRPr b="0" lang="en-US" sz="1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187280" y="1844640"/>
            <a:ext cx="7777440" cy="22017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рудовые действия педагогического коллектива</a:t>
            </a: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Разработка адоптированной образовательной программы в рамках основной общеобразовательной программы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Аудит разработанной адоптированной образовательной программы (АОП) на соответствие федеральному государственному образовательному стандарту дошкольного образования  (ФГОС ДО) и примерной адоптированной основной образовательной программы (ПрАООП)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 </a:t>
            </a: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Calibri"/>
              </a:rPr>
              <a:t>Осуществление профессиональной деятельности в соответствии с требованиями федеральных государственных образовательных стандартов дошкольного образования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Прямоугольник 3"/>
          <p:cNvSpPr/>
          <p:nvPr/>
        </p:nvSpPr>
        <p:spPr>
          <a:xfrm>
            <a:off x="971640" y="4149720"/>
            <a:ext cx="7993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еализация АОП ребенка с нарушением слуха строится с учетом: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особенностей и содержания взаимодействия с родителями (законными представителями) на каждом этапе включения;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особенностей и содержания взаимодействия между сотрудниками ДОУ;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вариативности и технологий выбора форм и методов подготовки ребенка с нарушением слуха к включению;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критериев готовности ребенка с нарушениями слуха к продвижению по этапам инклюзивного процесса;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организации условий для максимального развития и эффективной адаптации ребенка в инклюзивной группе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1042920" y="188640"/>
            <a:ext cx="7940880" cy="6264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еречень литературных источников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20e04"/>
                </a:solidFill>
                <a:uFillTx/>
                <a:latin typeface="Times New Roman"/>
                <a:ea typeface="Times New Roman"/>
              </a:rPr>
              <a:t>Основная программа: </a:t>
            </a: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ограмма «От рождения до школы» под ред. Н.Е.Вераксы, Т.С. Комаровой, М.А. Васильевой (примерная общеобразовательная программа ДО (пилотный вариант)) М.: Мозаика-Синтез, 2014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20e04"/>
                </a:solidFill>
                <a:uFillTx/>
                <a:latin typeface="Times New Roman"/>
                <a:ea typeface="Times New Roman"/>
              </a:rPr>
              <a:t>Дополнительная литература</a:t>
            </a: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: Программа «Воспитание и обучение слабослышащих детей дошкольного возраста. Авторы Головчиц Л. А, Носкова Л. П и др. Москва. Прсвещение. 2012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ограмма дошкольных образовательных учреждений компенсирующего вида для детей с нарушением слуха «Коррекционно-развивающее обучение и воспитание» Е.А. Екжанова, Е.А.Стребелева М.: Просвещение, 2003.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Буре Р.С. Дошкольник и труд, М., Детство - Пресс, 2004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Буренина А.И. Ритмическая мозаика, С-П., ЛОИРО, 2000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Головчиц Л. А., Гаврилушкина О. П., Дмитриева О. П. Методические рекомендации к программе «Воспитание и обучение слабослышащих дошкольников со сложными (комплексными) нарушениями развития» [текст] / Л. А. Головчиц, О. П. Гаврилушкина., О. П. Дмитри − М.: ГНОМ и Д, 2006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идактические игры для дошкольников с нарушениями слуха: сборник игр для педагогов и родителей / Л.А. Головчиц, Л. В. Дмитриева, В. Л. Казанская, Е. В. Каширская, Т. А. Осипова и др. – М.: УМИЦ «Граф-пресс», 2003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Зонтова О.В. Коррекционно - педагогическая помощь детям после КИ,С-П., 2009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Королева И.В. «Слухоречевая реабилитация глухих детей с кохлеарными имплантами». С-П.: НИИ уха, горла, носа и речи, 2006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Королева И.В. Абилитация детей младшего возраста с КИ, С-П., 2006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Крюкова С.В., Слободяник Н.П. «Удивляюсь, злюсь, боюсь, хвастаюсь и радуюсь»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Марциновской Г. А. Аудиовизуальный курс верботонального метода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Назарова Л.П. «Методика развития слухового восприятия у детей с нарушениями слуха». М.: «Владос», 2001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Новикова О.О., Шматко Н.Д. «Речевая ритмика для малышей». Методическое пособие для педагогов и родителей. М.: «Владос», 2003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Обухова Т.И. Методика формирования речи детей раннего и дошкольного возраста с нарушением слуха, Мн.. БГПУ, 2005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елымская Т.В., Шматко Н. Д. Формирование устной речи дошкольников с нарушенным слухом: методическое пособие для учителей дефектологов и родителей [текст] / Т. В. Пелымская, Н. Д. Шматко. – М.: Владос, 2003.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ензулаева Л.И. "Физическая культура в детском саду«. – М.: Мозаика- Синтез, 2014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етрова В.А. Музыка - малышам, М., Мозаика - Синтез, 2001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фафенродт А. Н. Фонетическая ритмика – М.: Учебная литература, 1997.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Шматко Н.Д., Новикова О.О. Речевая ритмика для дошкольников, ИКП РАО, 2006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Яхнина Е.З. Методика музыкально-ритмических занятий с детьми, имеющими нарушения слуха: учебное пособие для студ. высш. учеб.заведений [текст] / Под ред. Б. П. Пузанова. – М.: Гуманит. изд. центр ВЛАДОС, 2003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331640" y="5444640"/>
            <a:ext cx="7405560" cy="427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Благодарим за внимание!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6" name="Picture 6" descr="C:\Users\Борис\Desktop\Учеба 2017 год\i.jpg"/>
          <p:cNvPicPr/>
          <p:nvPr/>
        </p:nvPicPr>
        <p:blipFill>
          <a:blip r:embed="rId1"/>
          <a:stretch/>
        </p:blipFill>
        <p:spPr>
          <a:xfrm>
            <a:off x="1042920" y="549360"/>
            <a:ext cx="78501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86920" y="360000"/>
            <a:ext cx="76518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собые образовательные потребности детей с ОВЗ (слабослышащие дети и дети, после кохлеарной имплантации):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403280" y="1268280"/>
            <a:ext cx="7407360" cy="223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мотивированное употребле­ние единиц языка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членораздельное, внятное произношение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развитие слухового восприятия и его использова­ние в образовательных, познавательных и коммуникативных си­туациях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обогащение жизненного опыта и формирование житейских понятий как основы овладения знаниями, умениями и навыками; 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индивидуальный подход к каждому обучаемому, включающий конкретную дозированную педагогическую помощь, специальные методы и средства (слуховые аппараты) обучения, компенсации и коррекции дефект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4" descr="C:\Users\Борис\Desktop\i.jpg"/>
          <p:cNvPicPr/>
          <p:nvPr/>
        </p:nvPicPr>
        <p:blipFill>
          <a:blip r:embed="rId1"/>
          <a:stretch/>
        </p:blipFill>
        <p:spPr>
          <a:xfrm>
            <a:off x="1692360" y="3716280"/>
            <a:ext cx="67672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15640" y="360000"/>
            <a:ext cx="77770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одержание </a:t>
            </a:r>
            <a:br>
              <a:rPr sz="2500"/>
            </a:br>
            <a:r>
              <a:rPr b="1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доптированной образовательной программы дошкольного образования (АОП ДО) для слабослышащих детей и детей, после кохлеарной имплантации.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31640" y="2565000"/>
            <a:ext cx="7405560" cy="3024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Целевой разде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Содержательный разде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Организационный разде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Picture 5" descr="C:\Users\Борис\Desktop\i1.jpg"/>
          <p:cNvPicPr/>
          <p:nvPr/>
        </p:nvPicPr>
        <p:blipFill>
          <a:blip r:embed="rId1"/>
          <a:stretch/>
        </p:blipFill>
        <p:spPr>
          <a:xfrm>
            <a:off x="5364000" y="3213000"/>
            <a:ext cx="3456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55840" y="260280"/>
            <a:ext cx="713880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Целевой раздел АОП  ДО: 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216080" y="907560"/>
            <a:ext cx="7407360" cy="1800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ояснительная записк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Определяет цели и задачи работы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инципы и подходы к формированию АОП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ланируемые результаты ее освоения в виде целевых ориентиров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Развивающее оценивание качества образовательной деятельности по Программ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Подзаголовок 2"/>
          <p:cNvSpPr/>
          <p:nvPr/>
        </p:nvSpPr>
        <p:spPr>
          <a:xfrm>
            <a:off x="1908000" y="2781360"/>
            <a:ext cx="695484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Corbe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Corbe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Подзаголовок 2"/>
          <p:cNvSpPr/>
          <p:nvPr/>
        </p:nvSpPr>
        <p:spPr>
          <a:xfrm>
            <a:off x="1204920" y="2781360"/>
            <a:ext cx="76741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ояснительная записка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Настоящая АОП предназначена для работы со слабослышащими детьми и детьми, после кохлеарной имплантации, дошкольного возраста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ограмма содержит необходимый материал для организации воспитательно-образовательной работы со слабослышащими детьми и детьми, после кохлеарной имплантации, в каждой возрастной группе детей по всем образовательным областям, обеспечивающим разностороннее развитие дошкольника и подготовку его к дальнейшему школьному обучению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Цель программы </a:t>
            </a:r>
            <a:r>
              <a:rPr b="0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– создание условий для всестороннего развития ребенка с ОВЗ, с целью обогащения его социального опыта и гармоничного включения в коллектив сверстников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Заголовок 1"/>
          <p:cNvSpPr/>
          <p:nvPr/>
        </p:nvSpPr>
        <p:spPr>
          <a:xfrm>
            <a:off x="1187280" y="189000"/>
            <a:ext cx="77058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Задачи, решение которых необходимо для реализации цели</a:t>
            </a:r>
            <a:r>
              <a:rPr b="0" lang="ru-RU" sz="14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охрана и укрепление физического и психического здоровья детей, их эмоционального благополучия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обеспечение равных возможностей для полноценного развития каждого ребёнка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обеспечение преемственности целей, задач и содержания образования, реализуемых в рамках образовательных программ различных уровней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создание благоприятных условий развития детей в соответствии с их возрастными и индивидуальными особенностями и склонностями, развитие способностей и творческого потенциала каждого ребёнка как субъекта отношений с самим собой, другими детьми, взрослыми и миром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объединение обучения и воспитания в целостный образовательный процесс на основе духовно-нравственных и социокультурных ценностей и принятых в обществе правил и норм поведения в интересах человека, семьи, общества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формирование общей культуры личности детей, в том числе ценностей здорового образа жизни, развитие их социальных, нравственных, эстетических, физических, интеллектуальных качеств, инициативности, самостоятельности и ответственности ребёнка, формирование предпосылок учебной деятельности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формирование социокультурной среды, соответствующей возрастным, индивидуальным, психологическим и физиологическим особенностям детей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беспечение психолого-педагогической поддержки семьи и повышение компетентности родителей (законных представителей) в вопросах развития и образования, охраны и укрепления здоровья детей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Задачи коррекционные: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обеспечение коррекции нарушений развития детей с ограниченными возможностями здоровья (нарушения слуха), оказание им квалифицированной помощи в освоении АОП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освоение слабослышащими детьми и детьми, после кохлеарной имплантации, АОП ДО, их разностороннее развитие с учётом возрастных и индивидуальных особенностей и особых образовательных потребностей, социальной адаптации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457200">
              <a:lnSpc>
                <a:spcPct val="100000"/>
              </a:lnSpc>
              <a:buClr>
                <a:srgbClr val="57231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Подзаголовок 2"/>
          <p:cNvSpPr/>
          <p:nvPr/>
        </p:nvSpPr>
        <p:spPr>
          <a:xfrm>
            <a:off x="1258920" y="404640"/>
            <a:ext cx="763416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320e04"/>
                </a:solidFill>
                <a:uFillTx/>
                <a:latin typeface="Times New Roman"/>
                <a:ea typeface="Times New Roman"/>
              </a:rPr>
              <a:t>Программа основывается на следующих научно обоснованных подходах: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</a:t>
            </a:r>
            <a:r>
              <a:rPr b="0" lang="ru-RU" sz="1500" spc="-1" strike="noStrike" u="sng">
                <a:solidFill>
                  <a:srgbClr val="320e04"/>
                </a:solidFill>
                <a:uFillTx/>
                <a:latin typeface="Times New Roman"/>
                <a:ea typeface="Times New Roman"/>
              </a:rPr>
              <a:t>коммуникативный</a:t>
            </a: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- последовательность формирования речи как средства общения и познания окружающего мира, использование в обучении детей с ОВЗ разных форм словесной речи в зависимости от этапа обучения;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</a:t>
            </a:r>
            <a:r>
              <a:rPr b="0" lang="ru-RU" sz="1500" spc="-1" strike="noStrike" u="sng">
                <a:solidFill>
                  <a:srgbClr val="320e04"/>
                </a:solidFill>
                <a:uFillTx/>
                <a:latin typeface="Times New Roman"/>
                <a:ea typeface="Times New Roman"/>
              </a:rPr>
              <a:t>деятельностный </a:t>
            </a: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строится на признании того факта, что развитие личности детей с ОВЗ, определяется характером организации доступной им деятельности: частично речевой, предметно-практической, игровой, изобразительной, конструктивной, трудовой; полноценное формирование этих видов деятельности у детей с ОВЗ происходит в процессе целенаправленного воздействия;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</a:t>
            </a:r>
            <a:r>
              <a:rPr b="0" lang="ru-RU" sz="1500" spc="-1" strike="noStrike" u="sng">
                <a:solidFill>
                  <a:srgbClr val="320e04"/>
                </a:solidFill>
                <a:uFillTx/>
                <a:latin typeface="Times New Roman"/>
                <a:ea typeface="Times New Roman"/>
              </a:rPr>
              <a:t>личностный </a:t>
            </a: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предполагает отношение к каждому ребёнку как к самостоятельной ценности, принятие его таким, каков он есть;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</a:t>
            </a:r>
            <a:r>
              <a:rPr b="0" lang="ru-RU" sz="1500" spc="-1" strike="noStrike" u="sng">
                <a:solidFill>
                  <a:srgbClr val="320e04"/>
                </a:solidFill>
                <a:uFillTx/>
                <a:latin typeface="Times New Roman"/>
                <a:ea typeface="Times New Roman"/>
              </a:rPr>
              <a:t>культурологический</a:t>
            </a: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- ориентирует образование на формирование общей культуры ребёнка, освоение им общечеловеческих культурных ценностей;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</a:t>
            </a:r>
            <a:r>
              <a:rPr b="0" lang="ru-RU" sz="1500" spc="-1" strike="noStrike" u="sng">
                <a:solidFill>
                  <a:srgbClr val="320e04"/>
                </a:solidFill>
                <a:uFillTx/>
                <a:latin typeface="Times New Roman"/>
                <a:ea typeface="Times New Roman"/>
              </a:rPr>
              <a:t>дифференцированный</a:t>
            </a: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- предполагает учет особых образовательных потребностей детей с ОВЗ, которые проявляются в неоднородности по возможностям освоения содержания образования; применение данного подхода к созданию образовательных программ обеспечивает разнообразие содержания, предоставляя детям с ОВЗ возможность реализовать индивидуальный потенциал развития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ограмма основывается также на универсальных ценностях, зафиксированных в Федеральном Законе «Об образовании в Российской Федерации», Конвенции ООН о правах ребёнка, в которых установлено право каждого ребёнка на качественное образование, на развитие личности, на раскрытие индивидуальных способностей и дарований; образовательная деятельность ДОО должна строиться на уважении к личности ребёнка, к родителям как первым воспитателям и к укладу семьи как первичного места социализации ребёнка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1187280" y="189000"/>
            <a:ext cx="7777440" cy="6480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инципы и подходы к формированию программы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полноценное проживание ребёнком всех этапов детства (младенческого, раннего и дошкольного возраста), обогащение (амплификация) детского развития;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построение образовательной деятельности на основе индивидуальных особенностей каждого ребенка, при котором сам ребенок становится активным в выборе содержания своего образования, становится субъектом образования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содействие и сотрудничество детей и взрослых (партнерство), признание ребенка полноценным участником (субъектом) образовательных отношений;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поддержка инициативы детей в различных видах деятельности;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тесное сотрудничество ДОУ с семьёй;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приобщение детей к социокультурным нормам, традициям семьи, общества и государства;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формирование познавательных интересов и познавательных действий ребенка в различных видах деятельности;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возрастная адекватность дошкольного образования (соответствие условий, требований, методов возрасту и особенностям развития ребенка)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Специфические принципы формирования программы: 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единство развития и коррекции (коррекционная работа осуществляется только на основе анализа внутренних и внешних условий развития ребенка, с учетом возрастных закономерностей развития и характера нарушений)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единство диагностики и коррекции развития (цели и содержание коррекционной работы могут определяться на основе комплексного, системного, целостного, динамического изучения ребенка);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взаимосвязь коррекции и компенсации (система коррекционной работы призвана компенсировать нарушения в развитии и направлена на реабилитацию и социальную адаптацию ребенка с проблемами слуха);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учет возрастных психологических и индивидуальных особенностей развития;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организация атмосферы успеха для ребенка, веру в ее положительный результат, поощрение его малейших достижений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1238040" y="309600"/>
            <a:ext cx="7623000" cy="1967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ланируемые результаты освоения АОП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 соответствии с ФГОС ДО специфика дошкольного детства и системные особенности дошкольного образования делают неправомерными требования от дошкольника конкретных образовательных достижений. Поэтому результаты освоения Программы представлены в виде целевых ориентиров и представляют собой возрастные характеристики возможных достижений слабослышащих и позднооглохших детей к концу дошкольного образования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Подзаголовок 2"/>
          <p:cNvSpPr/>
          <p:nvPr/>
        </p:nvSpPr>
        <p:spPr>
          <a:xfrm>
            <a:off x="1100160" y="2276640"/>
            <a:ext cx="77612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Система оценки качества дошкольного образования: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олжна быть сфокусирована на оценивании психолого-педагогических и других условий реализации АООП в ДОУ в пяти образовательных областях (по ФГОС ДО)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учитывает образовательные предпочтения и удовлетворенность дошкольным образованием со стороны семьи слабослышащих детей и детей, после кохлеарной имплантации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исключает использование оценки индивидуального развития ребенка в контексте оценки работы ДОУ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исключает унификацию и поддерживает вариативность программ, форм и методов дошкольного образования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способствует открытости по отношению к ожиданиям слабослышащих детей и детей,  после кохлеарной имплантации, семьи, педагогов, общества и государства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включает как оценку педагогами ДОУ собственной работы, так и независимую профессиональную и общественную оценку условий образовательной деятельности в ДОУ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использует единые инструменты, оценивающие условия реализации программы в ДОУ, как для самоанализа, так и для внешнего оценивания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25T11:08:42Z</dcterms:created>
  <dc:creator>Борис</dc:creator>
  <dc:description/>
  <dc:language>en-US</dc:language>
  <cp:lastModifiedBy>Борис</cp:lastModifiedBy>
  <dcterms:modified xsi:type="dcterms:W3CDTF">2017-10-11T14:53:44Z</dcterms:modified>
  <cp:revision>28</cp:revision>
  <dc:subject/>
  <dc:title>Разработка адаптированной образовательной программы  дошкольного образования для детей с ограниченными возможностями (ОВЗ) по нозологической группе: слабослышащих детей и детей, после кохлеарной имплантации.</dc:title>
</cp:coreProperties>
</file>