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868-D477-44D6-A6F1-270DB070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3FA-DE59-4BE2-AF02-A5BFC670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E1B-36DC-4589-8DE4-56EEE658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AAF-37A7-4165-ABA1-013B627C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F423-B94D-4C98-BDD4-D100E227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E0AC-4D74-48BA-923B-2CE62D53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A752-EF69-4196-8D31-E8B65421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C8A3-6815-4EBC-B996-1FD505BE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3D07-F8A2-4069-9B53-9121CC53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5ED9-AA60-45F7-AAB8-3AE9DD92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14E9-38E3-416C-88C6-5F3BDF9B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707-C44A-49DE-A56D-EA585161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4DD7-DD2C-4AAE-BF66-0081D06B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E1AB-34CC-47C4-B47A-015C64D1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A87D-603E-430A-B3B1-42E0537B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3B0E-DEE2-4FA1-B8B8-6D252B8E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DE59-68FD-4D52-894A-7EAB7C89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2CB9-B3EC-46F5-BDE1-267D310D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83B2A-5C56-4A9F-81F3-FEFED572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BA2E4-E1B1-4A27-8FDB-A154FD77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9F91-E1DB-41B3-B287-070D8CDA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544B8-3854-4A1E-9FF8-4F209D21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EC6-213C-496A-B96F-0FC00C52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6BC4D-3B50-4DD7-967F-DCF1C00F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CA21-2829-4D6D-BF98-73B9A4F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29887-E2D3-417B-A97F-98B6FA83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E4E2-0B35-4407-AAC2-C16CA088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BD84-9C05-4C34-BDAE-C24BF552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0816-0AD8-4904-B8AE-FA5F00AD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79C47-BB8C-4F8C-98C0-CBEFFD6A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FEAE-8364-4EBA-A3BF-21DAF9AC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ABAB3-DDC9-46EE-BD2D-DC695B16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0BD59-617E-4AC2-8E0F-1AB470F0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DC7-D13D-4C7D-97C5-F141A1F9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EBA2-F084-49B1-854D-AA7143DB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DA66D-15B0-493D-B98A-B67A5A29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528DC-BA5A-4CB1-8364-CD0F9738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5D7BA-0A6C-4FD0-A73B-B79410D2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66A6F-2293-4378-923D-D5B95355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F143C-78AC-4881-A34B-F56488B4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8C73A-4F6C-4B35-A2B7-23107EBB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92C07-88F5-4678-88B5-9CB15A1A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5AAC-778A-49C0-AD77-07E166A4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AF6A9-9810-44D3-88CC-4D370B0F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4D6-C537-494B-B2E9-A06F29FB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55219-9AE4-4D88-AD67-5956379B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7190E-72EB-479E-8967-16D1C2CF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4ADE1-776D-47A1-94C0-6B249F65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35866-3F05-4E65-A615-4BBC2444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95DC0-0FE3-40C7-9298-1E570023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82307-529A-46F0-8454-E4805E36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107A3-FB82-4CE9-8EDB-1E8D5540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8B4C5-0E19-4754-9628-BA4CB32B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303DD-78F6-4D91-9EE3-026FEB21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D05A8-E897-4F67-9323-52B7ED69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6C8-2700-4754-BAC6-F9FF7E67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DFB90-286E-4100-A3F0-781CBCAF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9C177-720A-41AE-AAC7-602C7BE6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E3A5C-9E48-434E-B4A0-7BB5708D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A6A4F-6F5A-4D3D-AEAE-3B5873CB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2CC44-2079-4C48-B0B7-37D752C7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27ACC-8D60-4603-BF85-D1138722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C33E8-0CB5-4BDF-9ABC-E620EDAE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04836-B780-43DC-A1F7-5FA48112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CB7D9-7E4B-40E6-ADCB-23EAFC34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DBA70-45D1-4CE6-A703-B2587BA7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C94-BE16-4018-BAB7-41042147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97095-7A63-4821-8A7A-2AAF9E27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31B3D-D517-4D18-8678-04966AA8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FD8B-E351-409D-B05B-8D459640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FB36B-6718-40D4-A0F0-29D386BA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EADAC-D08E-41F8-AEE0-BFA59820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B5CDD-A51F-45B5-A1F0-C4226E8A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D8538-FE75-4FE1-A99D-557EC8C6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BD3B6-3836-4BE5-80F8-CA6C5F9F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4A690-ECA0-4CAA-9F3C-156C3385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33555-74C4-4333-B3BB-1FF70F09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0F4-7FC8-4471-A5ED-41FC4C05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5E6D4-79F6-4AD2-AE7E-62B42CE0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7C387-38E6-4B9C-BF5E-BFE4D37D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8709C-730C-4B2E-A869-CD3C08FF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D5519-55B0-4E44-B398-41351F78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98922-2876-4F32-AEBE-5C56F766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8D1-A91F-4999-9502-21FACC5F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6866-CD0A-477D-AF49-DBE77DC696C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426D-2D9D-423F-9B64-B2EB9143FFB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A2FE-8148-4427-8DA3-FE4521A6452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8256-1176-44EA-952B-5DE4053C6A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4452-D6EE-45B3-B5EE-88C56C11E8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E7EC-BFFB-4934-92CC-0E244859067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226A-750D-4666-8CA6-C5F6E603CB9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7407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зработка адаптированной образовательной программы  дошкольного образования для детей с ограниченными возможностями (ОВЗ) по нозологической группе: слабослышащих детей и детей, после кохлеарной имплантации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7407360" cy="1224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спитатели: Чемакина В.С., Марченко Л.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БДОУ «Детский сад № 12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. Торжок, Тверская обла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1476360" y="5589720"/>
            <a:ext cx="42037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C:\Users\Борис\Desktop\Развитие-детей-с-нарушением-слуха-768x484.jpg"/>
          <p:cNvPicPr/>
          <p:nvPr/>
        </p:nvPicPr>
        <p:blipFill>
          <a:blip r:embed="rId1"/>
          <a:stretch/>
        </p:blipFill>
        <p:spPr>
          <a:xfrm>
            <a:off x="6345360" y="1484280"/>
            <a:ext cx="2073240" cy="1306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238040" y="309240"/>
            <a:ext cx="7623000" cy="6288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держательны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Общие положени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Описание образовательной деятельности в соответствии с направлениями развития ребёнка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1. Младенческий возра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 Дошкольный возра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1 Социально-коммуникативн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2 Познавательн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3 Речев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4 Художественно-эстетическ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5 Физическ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 Описание вариативных форм, способов, методов и средств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Особенности образова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Взаимодействие взрослых с деть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Способы и направления поддержки детской инициатив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 Взаимодействие педагогического коллектива с семьями воспитанников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1. По направлениям:  участие в жизни ДОУ, педагогическое просвещение родителей, совместная творческая деятельност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2. Коррекционно-реабилитационная и психолого-педагогическая работа с семьями детей с нарушениями слуха (слабослышащими и дети, перенесшие кохлеарную имплантацию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8. Психологическое сопровождение образовательного процесс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9. Логопедическое сопровождение образовательного процесс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0. Коррекционно-развивающее сопровождение образовательного процесс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C:\Users\Борис\Desktop\i2.jpg"/>
          <p:cNvPicPr/>
          <p:nvPr/>
        </p:nvPicPr>
        <p:blipFill>
          <a:blip r:embed="rId1"/>
          <a:stretch/>
        </p:blipFill>
        <p:spPr>
          <a:xfrm>
            <a:off x="7164360" y="3860640"/>
            <a:ext cx="1609920" cy="10843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3"/>
          <p:cNvSpPr/>
          <p:nvPr/>
        </p:nvSpPr>
        <p:spPr>
          <a:xfrm>
            <a:off x="1187280" y="260280"/>
            <a:ext cx="770580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приемы работы со слабослышащими детьми и детьми, после кохлеарной имплант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нетическая ритмика, артикуляционные и дыхательные упражнения, игры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новка звуков по методике Слезиной Н. Ф.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 экрана, обучение слухозрительному и слуховому восприятию реч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ы развития активного и пассивного словаря: тематические альбомы, карточки, дидактические игры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имуляция речевой деятельности на режимных моментах и при непосредственной образовательной деятельност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ктильная (ручная) азбук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онимания слабослышащими детьми слов и словосочетаний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аточное овладение звуковым составом слов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Ограниченность словарного запаса.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нимание переносного смысла выражения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степенное значение для таких детей приобретает зрительное восприятие речи.  Чтение и анализ прочитанного текста в значительной степени способствуют компенсации недостаточной речевой практики, влияют на развитие и совершенствование устной, обогащают словарный запас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15640" y="468000"/>
            <a:ext cx="7651800" cy="6119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ели коррекционно-реабилитационной и психолого-педагогической работы с семьями детей с нарушениями слуха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слабослышащими детьми и дети, перенесшие кохлеарную имплантацию):</a:t>
            </a:r>
            <a:r>
              <a:rPr b="0" lang="ru-RU" sz="15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беспечение адекватных микро социальных условий развития ребенка с нарушениями слуха в семь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преодоление состояния фрустрации и оптимизация самосознания родителей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формирование позитивного отношения близких лиц к ребенку с нарушениями слуха и оптимистического взгляда в будуще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ля достижения целей необходимо решить следующие задачи: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формировать у родителей мотивацию к взаимодействию со специалистами образовательной организаци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установить причины, дестабилизирующие внутрисемейную атмосферу и межличностные отношения и способствовать их коррекци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выявить социально-психологические внутрисемейные факторы, способствующие гармоничному развитию ребенка с нарушениями слуха в семь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добиваться оптимизации самосознания родителей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пособствовать оптимизации личностного развития детей с нарушениями слуха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бучить родителей приемам формирования в семье реабилитационных условий, методам воспитания, обучения и реабилитации детей, обеспечивающим оптимальное развитие ребенка с нарушениями слуха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повысить психолого-педагогическую компетентность родителей в вопросах воспитания, обучения, развития и социальной адаптации ребенка с нарушениями слуха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корректировать воспитательские позиции родителей, оказать им помощь в выборе адекватных мер воздейств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1081080" y="187200"/>
            <a:ext cx="223200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15560"/>
            <a:ext cx="8280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уществление квалифицированной коррекции нарушений развития детей с нарушениями слуха (слабослышащими детьми и дети, перенесшие кохлеарную имплантацию):</a:t>
            </a:r>
            <a:r>
              <a:rPr b="0" lang="ru-RU" sz="15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258920" y="6165720"/>
            <a:ext cx="7632720" cy="503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ординация реализации программ образования осуществляется на заседаниях психолого-медико-педагогического консилиума ДОУ с участием всех педагогов и специалистов, задействованных в реализации образовательных программ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187280" y="907920"/>
          <a:ext cx="7777440" cy="5153040"/>
        </p:xfrm>
        <a:graphic>
          <a:graphicData uri="http://schemas.openxmlformats.org/drawingml/2006/table">
            <a:tbl>
              <a:tblPr/>
              <a:tblGrid>
                <a:gridCol w="1403640"/>
                <a:gridCol w="637380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циал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валифицированной коррекции нару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яционная гимнастика с элементами дыхательной и голосовой гимнаст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; корригирующая и мини гимнастика после с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о-развивающая раб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развитием высших психических функций (внимание, память, мышление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социально-бытовыми, игровыми, коммуникативными, потребительскими навыками, навыками самообслуживания, личной гигиены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мотивации к обуч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ые подгрупповые занятия: работа с аудиограммой; корректировка речевого дыхания; работа над внятностью речи; расширение словарного запаса; активизация слуховой деятельности; постановка зву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ый руководи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ая релаксация, выравнивание психоэмоционального состоя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чувства рит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движений на музыкальных заняти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 по физической культур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ррекционные занятия на развитие общей моторики, координации движе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е упражнения, связанные со слухом и реч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ы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ая и ритмическая гимна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ечный массаж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25600" y="188640"/>
            <a:ext cx="740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ый раздел АОП ДО: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7280" y="549000"/>
            <a:ext cx="7848720" cy="280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1. Психолого-педагогические условия, обеспечивающие развитие ребенка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2. Организация развивающей предметно-пространственной сред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3. Кадровые условия реализации Программ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4. Материально-техническое обеспечение Программ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5. Финансовые условия реализации Программ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6. Планирование образовательной деятельности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7. Режим дня и распорядок 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8. Перспективы работы по совершенствованию и развитию содержания Программы и обеспечивающих ее реализацию нормативно-правовых, финансовых, научно-методических, кадровых, информационных и материально-технических ресурс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9. Перечень нормативных и нормативно-методических документов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10. Перечень литературных источник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1017720" y="3357720"/>
            <a:ext cx="799128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условия, обеспечивающие развитие детей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чностно-порождающее взаимодействие взрослых с детьм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риентированность педагогической оценки на относительные показатели детской успешност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ние игры как важнейшего фактора развития слабослышащих детей и детей, после кохлеарной имплантаци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ние развивающей образовательной среды, способствующей физическому, социально-коммуникативному, познавательному, речевому, художественно-эстетическому развитию ребенка и сохранению его индивидуальност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балансированность репродуктивной (воспроизводящей готовый образец) и продуктивной (производящей субъективно новый продукт) деятельност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частие семьи как необходимое условие для полноценного развития слабослышащего ребенка раннего и дошкольного возраста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офессиональное развитие педагогов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6948360" y="115920"/>
            <a:ext cx="196848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318680" y="333360"/>
            <a:ext cx="7656840" cy="396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рганизация развивающей предметно-пространственной среды (ППС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азвивающая предметно-пространственная среда детского сада является: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одержательно-насыщенной, развивающе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трансформируем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лифункциональ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ариатив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доступ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безопас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здоровье сберегающе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эстетически-привлекательной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едметная среда удовлетворяет следующим требованиям: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Качественн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Развивающ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Комфортн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Индивидуально-направленн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Коррекционна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1198440" y="4149720"/>
            <a:ext cx="777744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ые условия реализации АОП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и обучение дошкольников с нарушением слуха должны осуществлять специально подготовленные высококвалифицированные кадры: учителя-дефектологи (сурдопедагоги), учителя-логопеды, педагоги-психологи, воспитатели прошедшие профессиональную подготовку, знающие психофизические особенности детей с нарушениями слуха и владеющие методиками дифференцированной коррекционной работы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ая обеспеченность ДОО во многом будет зависеть от наличия руководителей, педагогов, специалистов, прошедших профессиональную подготовку в области инклюзивного образования детей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187280" y="260280"/>
            <a:ext cx="7848720" cy="295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атериально-техническое обеспечение АОП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анитарно-гигиенических норм образовательного процесса с учетом потребностей детей с нарушением слуха (требования к водоснабжению, канализации, освещению, воздушно-тепловому режиму и т.д.)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озможности для беспрепятственного доступа детей, в том числе детей с ОВЗ, к объектам инфраструктуры образовательной организаци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анитарно-бытовых условий с учетом потребностей детей, воспитывающихся в данной организации (наличие оборудованных гардеробов, санузлов, мест личной гигиены, включающих в себя кушетки т.д.)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оциально-бытовых условий с учетом конкретных потребностей ребенка с нарушениями слуха, в данной организации (наличие адекватно оборудованного пространства организации, рабочего места ребенка и т.д.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одзаголовок 2"/>
          <p:cNvSpPr/>
          <p:nvPr/>
        </p:nvSpPr>
        <p:spPr>
          <a:xfrm>
            <a:off x="1150920" y="3284640"/>
            <a:ext cx="7777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ля осуществления психолого-педагогической работы по коррекции и реабилитации детей с нарушением слуха рабочее место (специальный кабинет)  должно быть оснащено следующими средствами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Электроакустическая аппаратура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Сурдотехнические средства обучения и реабилитации, например, специальная аппаратура для практической работы, предназначенная для специалистов по реабилитации: преподавателей, а также родителей (в случае участия последних), представленная обычно в виде настольных аппаратов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Электроакустические комплексы (для индивидуальной и групповой работы, слухоречевой реабилитации, индивидуальной и групповой работы детей с кохлеарными имплантами, определения оптимального слухового поля)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Средства наглядности (предметно-образные и динамические)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Различные технические средства обучения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ИКТ-технологии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195200" y="260280"/>
            <a:ext cx="7553160" cy="1656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инансовые условия реализации Программ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инансовое обеспечение</a:t>
            </a:r>
            <a:r>
              <a:rPr b="1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еализации АООП ДО, разработанной для  детей с нарушением слуха, осуществляется в соответствии с потребностями ДОО на осуществление всех необходимых расходов на обеспечение конституционного права на бесплатное и общедоступное дошкольное образование с учетом направленности группы, режима пребывания детей в группе, возрастом воспитанников и прочими особенностями реализации Программы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одзаголовок 2"/>
          <p:cNvSpPr/>
          <p:nvPr/>
        </p:nvSpPr>
        <p:spPr>
          <a:xfrm>
            <a:off x="971640" y="1916280"/>
            <a:ext cx="7921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ланировани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но-методическое обеспечение образовательного процесса как одно из основных условий реализации индивидуальной образовательной программы ориентировано на возможность постоянного и устойчивого доступа для всех субъектов образовательного процесса к любой информаци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О реализовывает различные программы: коррекционные, вариативные, дополнитель-ного образования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школьные образовательные организации выбирают для работы программы из числа рекомендованных к применению в ДОО и адаптируют их с учетом особенностей контингента конкретной группы или организаци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ля детей с ОВЗ (слабослышащих детей и детей, после кохлеарной имплантации) предусмотрены занятия по коррекции недостатков сенсорных, двигательных, речевых и психических функций, в зависимости от имеющихся у детей нарушений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ррекционно-развивающее воздействие осуществляется на основе использования разнообразных практических, наглядных и словесных, двигательно-кинестетических методов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ыделяются следующие формы работы с детьми с нарушением слуха: индивидуальные, подгрупповые и фронтальные в соответствие с медицинскими показаниям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зависимости от структуры нарушений коррекционно-развивающая работа с детьми данной категории строится дифференцированно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90160" y="401760"/>
            <a:ext cx="7705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ежим дня и распорядо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оставляет за ДОО право на самостоятельное определение режима и распорядка дня, устанавливаемых с учетом условий реализации программы ДОО, потребностей участников образовательных отношений, особенностей реализуемых авторских вариативных образовательных программ, в том числе программ дополнительного образования дошкольников и других особенностей образовательной деятельности, а также санитарно-эпидемиологических требований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одзаголовок 2"/>
          <p:cNvSpPr/>
          <p:nvPr/>
        </p:nvSpPr>
        <p:spPr>
          <a:xfrm>
            <a:off x="1116000" y="2060640"/>
            <a:ext cx="7777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рспективы работы по совершенствованию и развитию содержания Программы и обеспечивающих ее реализацию нормативно-правовых, финансовых, научно-методических, кадровых, информационных и материально-технических ресурсов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соответствии с требованиями ФГОС ДО конкретное содержание образовательных областей может реализовываться в различных видах деятельности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гровой (включая сюжетно-ролевую игру, игры с правилами и др.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коммуникативной (общение и взаимодействие со взрослыми и сверстниками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знавательно-исследовательской (исследование объектов окружающего мира и экспериментирование с ними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осприятии художественной литературы и фольклора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амообслуживании и элементарном бытовом труде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конструировании из различного материала, включая конструкторы, модули, бумагу, природный и иной материал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зобразительной (рисование, лепка, аппликация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музыкальной (восприятие и понимание смысла музыкальных произведений, пение, музыкально-ритмические движения, театрализованная деятельность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двигательной (овладение основными движениями)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дбор игрушек и оборудования для организации данных видов деятельности в дошкольном возрасте представлен перечнями, составленными по возрастным группам, отраженными в организационном разделе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1055520" y="139680"/>
            <a:ext cx="2575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116000" y="115560"/>
            <a:ext cx="7848720" cy="6481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речень нормативных и нормативно-методических документов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Конвенция о правах ребенка» (одобрена Генеральной Ассамблеей ООН 20.11.1989) (вступила в силу для СССР 15.09.1990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Конституция Российской Федерации» (принята всенародным голосованием 12.12.1993) (с учетом поправок, внесенных Законами РФ о поправках к Конституции РФ от 30.12.2008 N 6-ФКЗ, от 30.12.2008 № 7-ФКЗ, от 05.02.2014 № 2-ФКЗ, от 21.07.2014 № 11-ФКЗ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едеральный закон от 29.12.2012 № 273-ФЗ «Об образовании в Российской Федерации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едеральный закон «О социальной защите инвалидов в Российской Федерации» (с изменениями на 28.06.2014г)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от 08.04.2014 № 293 «Об утверждении Порядка приема на обучение по образовательным программам дошкольного образования» (Зарегистрировано в Минюсте России 12.05.2014 № 32220)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(Минобрнауки России) от 30.08.2013г. №1014  г. Москва «Об утверждении Порядка организации и осуществления образовательной деятельности по основным общеобразовательным программам – образовательным программам дошкольного образования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(Минобрнауки России) от 17.10.2013г. №1155   г. Москва «Об утверждении федерального государственного образовательного стандарта дошкольного образования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труда России № 664н от 29.09.2014г. «О классификациях и критериях, используемых при осуществлении медико-социальной экспертизы граждан федеральными государственными учреждениями медико-социальной экспертизы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исьмо Министерства образования и науки Российской Федерации от 7.06.2013г. № ИР-535/07 «О коррекционном и инклюзивном образовании детей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анитарно-эпидемиологические требования к устройству, содержанию и организации режима работы дошкольных образовательных организаций» (Утверждены постановлением Главного государственного санитарного врача Российской от 15.05.2013г. № 26 «Об утверждении СаНПиН» 2.4.3049-13);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мерная основная образовательная программа дошкольного образования (одобрена решением федерального учебно-методического объединения по общему образованию (протокол от 20.05.2015г. № 2/15)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01680" y="259920"/>
            <a:ext cx="78343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ля детей с ограниченными возможностями (ОВЗ) должна быть разработана адаптированная образовательная программа (АОП). Исключительным правом на разработку и утверждение адаптированной программы обладает образовательная организация согласно ч.5 ст.12 Федерального закона №273-ФЗ. Образование обучающихся с ОВЗ  может быть организовано как совместно с другими обучающимися, так и в отдельных классах, группах или в отдельных организациях, осуществляющих образовательную деятельность» (ст.79, п.4).</a:t>
            </a:r>
            <a:endParaRPr b="0" lang="en-US" sz="1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87280" y="1844640"/>
            <a:ext cx="7777440" cy="2201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рудовые действия педагогического коллектива</a:t>
            </a: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Разработка адоптированной образовательной программы в рамках основной общеобразовательной программы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Аудит разработанной адоптированной образовательной программы (АОП) на соответствие федеральному государственному образовательному стандарту дошкольного образования  (ФГОС ДО) и примерной адоптированной основной образовательной программы (ПрАООП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 </a:t>
            </a: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Calibri"/>
              </a:rPr>
              <a:t>Осуществление профессиональной деятельности в соответствии с требованиями федеральных государственных образовательных стандартов дошкольного образова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971640" y="4149720"/>
            <a:ext cx="79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ализация АОП ребенка с нарушением слуха строится с учетом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собенностей и содержания взаимодействия с родителями (законными представителями) на каждом этапе включения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собенностей и содержания взаимодействия между сотрудниками ДОУ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вариативности и технологий выбора форм и методов подготовки ребенка с нарушением слуха к включению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критериев готовности ребенка с нарушениями слуха к продвижению по этапам инклюзивного процесса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рганизации условий для максимального развития и эффективной адаптации ребенка в инклюзивной группе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40880" cy="6264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речень литературных источников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Основная программа: </a:t>
            </a: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«От рождения до школы» под ред. Н.Е.Вераксы, Т.С. Комаровой, М.А. Васильевой (примерная общеобразовательная программа ДО (пилотный вариант)) М.: Мозаика-Синтез, 2014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Дополнительная литература</a:t>
            </a: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: Программа «Воспитание и обучение слабослышащих детей дошкольного возраста. Авторы Головчиц Л. А, Носкова Л. П и др. Москва. Прсвещение. 2012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дошкольных образовательных учреждений компенсирующего вида для детей с нарушением слуха «Коррекционно-развивающее обучение и воспитание» Е.А. Екжанова, Е.А.Стребелева М.: Просвещение, 2003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уре Р.С. Дошкольник и труд, М., Детство - Пресс, 2004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уренина А.И. Ритмическая мозаика, С-П., ЛОИРО, 2000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оловчиц Л. А., Гаврилушкина О. П., Дмитриева О. П. Методические рекомендации к программе «Воспитание и обучение слабослышащих дошкольников со сложными (комплексными) нарушениями развития» [текст] / Л. А. Головчиц, О. П. Гаврилушкина., О. П. Дмитри − М.: ГНОМ и Д, 2006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идактические игры для дошкольников с нарушениями слуха: сборник игр для педагогов и родителей / Л.А. Головчиц, Л. В. Дмитриева, В. Л. Казанская, Е. В. Каширская, Т. А. Осипова и др. – М.: УМИЦ «Граф-пресс», 2003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Зонтова О.В. Коррекционно - педагогическая помощь детям после КИ,С-П., 2009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ролева И.В. «Слухоречевая реабилитация глухих детей с кохлеарными имплантами». С-П.: НИИ уха, горла, носа и речи, 2006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ролева И.В. Абилитация детей младшего возраста с КИ, С-П., 2006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рюкова С.В., Слободяник Н.П. «Удивляюсь, злюсь, боюсь, хвастаюсь и радуюсь»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арциновской Г. А. Аудиовизуальный курс верботонального метода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азарова Л.П. «Методика развития слухового восприятия у детей с нарушениями слуха». М.: «Владос», 2001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овикова О.О., Шматко Н.Д. «Речевая ритмика для малышей». Методическое пособие для педагогов и родителей. М.: «Владос», 2003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бухова Т.И. Методика формирования речи детей раннего и дошкольного возраста с нарушением слуха, Мн.. БГПУ, 2005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лымская Т.В., Шматко Н. Д. Формирование устной речи дошкольников с нарушенным слухом: методическое пособие для учителей дефектологов и родителей [текст] / Т. В. Пелымская, Н. Д. Шматко. – М.: Владос, 2003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нзулаева Л.И. "Физическая культура в детском саду«. – М.: Мозаика- Синтез, 2014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трова В.А. Музыка - малышам, М., Мозаика - Синтез, 2001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фафенродт А. Н. Фонетическая ритмика – М.: Учебная литература, 1997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Шматко Н.Д., Новикова О.О. Речевая ритмика для дошкольников, ИКП РАО, 2006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Яхнина Е.З. Методика музыкально-ритмических занятий с детьми, имеющими нарушения слуха: учебное пособие для студ. высш. учеб.заведений [текст] / Под ред. Б. П. Пузанова. – М.: Гуманит. изд. центр ВЛАДОС, 2003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331640" y="5444640"/>
            <a:ext cx="7405560" cy="427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лагодарим за внимание!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6" descr="C:\Users\Борис\Desktop\Учеба 2017 год\i.jpg"/>
          <p:cNvPicPr/>
          <p:nvPr/>
        </p:nvPicPr>
        <p:blipFill>
          <a:blip r:embed="rId1"/>
          <a:stretch/>
        </p:blipFill>
        <p:spPr>
          <a:xfrm>
            <a:off x="1042920" y="549360"/>
            <a:ext cx="7850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86920" y="360000"/>
            <a:ext cx="76518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обые образовательные потребности детей с ОВЗ (слабослышащие дети и дети, после кохлеарной имплантации):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7407360" cy="223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мотивированное употребле­ние единиц языка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членораздельное, внятное произношение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развитие слухового восприятия и его использова­ние в образовательных, познавательных и коммуникативных си­туациях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обогащение жизненного опыта и формирование житейских понятий как основы овладения знаниями, умениями и навыками;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ндивидуальный подход к каждому обучаемому, включающий конкретную дозированную педагогическую помощь, специальные методы и средства (слуховые аппараты) обучения, компенсации и коррекции дефект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4" descr="C:\Users\Борис\Desktop\i.jpg"/>
          <p:cNvPicPr/>
          <p:nvPr/>
        </p:nvPicPr>
        <p:blipFill>
          <a:blip r:embed="rId1"/>
          <a:stretch/>
        </p:blipFill>
        <p:spPr>
          <a:xfrm>
            <a:off x="1692360" y="3716280"/>
            <a:ext cx="6767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360000"/>
            <a:ext cx="7777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держание </a:t>
            </a: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доптированной образовательной программы дошкольного образования (АОП ДО) для слабослышащих детей и детей, после кохлеарной имплантации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405560" cy="3024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Целево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держательны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рганизационны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5" descr="C:\Users\Борис\Desktop\i1.jpg"/>
          <p:cNvPicPr/>
          <p:nvPr/>
        </p:nvPicPr>
        <p:blipFill>
          <a:blip r:embed="rId1"/>
          <a:stretch/>
        </p:blipFill>
        <p:spPr>
          <a:xfrm>
            <a:off x="5364000" y="321300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5840" y="260280"/>
            <a:ext cx="71388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левой раздел АОП  ДО: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216080" y="907560"/>
            <a:ext cx="7407360" cy="1800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пределяет цели и задачи работы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нципы и подходы к формированию АОП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ланируемые результаты ее освоения в виде целевых ориентиро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азвивающее оценивание качества образовательной деятельности по Программ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одзаголовок 2"/>
          <p:cNvSpPr/>
          <p:nvPr/>
        </p:nvSpPr>
        <p:spPr>
          <a:xfrm>
            <a:off x="1908000" y="2781360"/>
            <a:ext cx="69548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Corbe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Подзаголовок 2"/>
          <p:cNvSpPr/>
          <p:nvPr/>
        </p:nvSpPr>
        <p:spPr>
          <a:xfrm>
            <a:off x="1204920" y="2781360"/>
            <a:ext cx="76741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астоящая АОП предназначена для работы со слабослышащими детьми и детьми, после кохлеарной имплантации, дошкольного возраста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содержит необходимый материал для организации воспитательно-образовательной работы со слабослышащими детьми и детьми, после кохлеарной имплантации, в каждой возрастной группе детей по всем образовательным областям, обеспечивающим разностороннее развитие дошкольника и подготовку его к дальнейшему школьному обучению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Цель программы </a:t>
            </a: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– создание условий для всестороннего развития ребенка с ОВЗ, с целью обогащения его социального опыта и гармоничного включения в коллектив сверстников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Заголовок 1"/>
          <p:cNvSpPr/>
          <p:nvPr/>
        </p:nvSpPr>
        <p:spPr>
          <a:xfrm>
            <a:off x="1187280" y="189000"/>
            <a:ext cx="77058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, решение которых необходимо для реализации цели</a:t>
            </a:r>
            <a:r>
              <a:rPr b="0" lang="ru-RU" sz="14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храна и укрепление физического и психического здоровья детей, их эмоционального благополучия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еспечение равных возможностей для полноценного развития каждого ребёнка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еспечение преемственности целей, задач и содержания образования, реализуемых в рамках образовательных программ различных уровней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создание благоприятных условий развития детей в соответствии с их возрастными и индивидуальными особенностями и склонностями, развитие способностей и творческого потенциала каждого ребёнка как субъекта отношений с самим собой, другими детьми, взрослыми и миром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ъединение обучения и воспитания в целостный образовательный процесс на основе духовно-нравственных и социокультурных ценностей и принятых в обществе правил и норм поведения в интересах человека, семьи, общества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формирование общей культуры личности детей, в том числе ценностей здорового образа жизни, развитие их социальных, нравственных, эстетических, физических, интеллектуальных качеств, инициативности, самостоятельности и ответственности ребёнка, формирование предпосылок учебной деятельности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формирование социокультурной среды, соответствующей возрастным, индивидуальным, психологическим и физиологическим особенностям детей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е компетентности родителей (законных представителей) в вопросах развития и образования, охраны и укрепления здоровья детей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 коррекционные: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еспечение коррекции нарушений развития детей с ограниченными возможностями здоровья (нарушения слуха), оказание им квалифицированной помощи в освоении АОП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своение слабослышащими детьми и детьми, после кохлеарной имплантации, АОП ДО, их разностороннее развитие с учётом возрастных и индивидуальных особенностей и особых образовательных потребностей, социальной адаптации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457200">
              <a:lnSpc>
                <a:spcPct val="100000"/>
              </a:lnSpc>
              <a:buClr>
                <a:srgbClr val="57231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одзаголовок 2"/>
          <p:cNvSpPr/>
          <p:nvPr/>
        </p:nvSpPr>
        <p:spPr>
          <a:xfrm>
            <a:off x="1258920" y="404640"/>
            <a:ext cx="763416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Программа основывается на следующих научно обоснованных подходах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коммуникативный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- последовательность формирования речи как средства общения и познания окружающего мира, использование в обучении детей с ОВЗ разных форм словесной речи в зависимости от этапа обучения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деятельностный 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троится на признании того факта, что развитие личности детей с ОВЗ, определяется характером организации доступной им деятельности: частично речевой, предметно-практической, игровой, изобразительной, конструктивной, трудовой; полноценное формирование этих видов деятельности у детей с ОВЗ происходит в процессе целенаправленного воздействия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личностный 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редполагает отношение к каждому ребёнку как к самостоятельной ценности, принятие его таким, каков он есть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культурологический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- ориентирует образование на формирование общей культуры ребёнка, освоение им общечеловеческих культурных ценностей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дифференцированный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- предполагает учет особых образовательных потребностей детей с ОВЗ, которые проявляются в неоднородности по возможностям освоения содержания образования; применение данного подхода к созданию образовательных программ обеспечивает разнообразие содержания, предоставляя детям с ОВЗ возможность реализовать индивидуальный потенциал развития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основывается также на универсальных ценностях, зафиксированных в Федеральном Законе «Об образовании в Российской Федерации», Конвенции ООН о правах ребёнка, в которых установлено право каждого ребёнка на качественное образование, на развитие личности, на раскрытие индивидуальных способностей и дарований; образовательная деятельность ДОО должна строиться на уважении к личности ребёнка, к родителям как первым воспитателям и к укладу семьи как первичного места социализации ребёнка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187280" y="189000"/>
            <a:ext cx="7777440" cy="6480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нципы и подходы к формированию программы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лноценное проживание ребёнком всех этапов детства (младенческого, раннего и дошкольного возраста), обогащение (амплификация) детского развития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строение образовательной деятельности на основе индивидуальных особенностей каждого ребенка, при котором сам ребенок становится активным в выборе содержания своего образования, становится субъектом образования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одействие и сотрудничество детей и взрослых (партнерство), признание ребенка полноценным участником (субъектом) образовательных отношений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ддержка инициативы детей в различных видах деятельности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тесное сотрудничество ДОУ с семьёй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риобщение детей к социокультурным нормам, традициям семьи, общества и государства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формирование познавательных интересов и познавательных действий ребенка в различных видах деятельности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озрастная адекватность дошкольного образования (соответствие условий, требований, методов возрасту и особенностям развития ребенка)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пецифические принципы формирования программы: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единство развития и коррекции (коррекционная работа осуществляется только на основе анализа внутренних и внешних условий развития ребенка, с учетом возрастных закономерностей развития и характера нарушений)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единство диагностики и коррекции развития (цели и содержание коррекционной работы могут определяться на основе комплексного, системного, целостного, динамического изучения ребенка)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заимосвязь коррекции и компенсации (система коррекционной работы призвана компенсировать нарушения в развитии и направлена на реабилитацию и социальную адаптацию ребенка с проблемами слуха)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учет возрастных психологических и индивидуальных особенностей развития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организация атмосферы успеха для ребенка, веру в ее положительный результат, поощрение его малейших достижени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238040" y="309600"/>
            <a:ext cx="7623000" cy="196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ланируемые результаты освоения АОП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соответствии с ФГОС ДО специфика дошкольного детства и системные особенности дошкольного образования делают неправомерными требования от дошкольника конкретных образовательных достижений. Поэтому результаты освоения Программы представлены в виде целевых ориентиров и представляют собой возрастные характеристики возможных достижений слабослышащих и позднооглохших детей к концу дошкольного образова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одзаголовок 2"/>
          <p:cNvSpPr/>
          <p:nvPr/>
        </p:nvSpPr>
        <p:spPr>
          <a:xfrm>
            <a:off x="1100160" y="2276640"/>
            <a:ext cx="7761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истема оценки качества дошкольного образования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лжна быть сфокусирована на оценивании психолого-педагогических и других условий реализации АООП в ДОУ в пяти образовательных областях (по ФГОС ДО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учитывает образовательные предпочтения и удовлетворенность дошкольным образованием со стороны семьи слабослышащих детей и детей, после кохлеарной имплантаци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сключает использование оценки индивидуального развития ребенка в контексте оценки работы ДОУ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сключает унификацию и поддерживает вариативность программ, форм и методов дошкольного образования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пособствует открытости по отношению к ожиданиям слабослышащих детей и детей,  после кохлеарной имплантации, семьи, педагогов, общества и государства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ключает как оценку педагогами ДОУ собственной работы, так и независимую профессиональную и общественную оценку условий образовательной деятельности в ДОУ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спользует единые инструменты, оценивающие условия реализации программы в ДОУ, как для самоанализа, так и для внешнего оценивания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5T11:08:42Z</dcterms:created>
  <dc:creator>Борис</dc:creator>
  <dc:description/>
  <dc:language>en-US</dc:language>
  <cp:lastModifiedBy>Борис</cp:lastModifiedBy>
  <dcterms:modified xsi:type="dcterms:W3CDTF">2017-10-11T14:53:44Z</dcterms:modified>
  <cp:revision>28</cp:revision>
  <dc:subject/>
  <dc:title>Разработка адаптированной образовательной программы  дошкольного образования для детей с ограниченными возможностями (ОВЗ) по нозологической группе: слабослышащих детей и детей, после кохлеарной имплантации.</dc:title>
</cp:coreProperties>
</file>