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3.wmf" ContentType="image/x-wmf"/>
  <Override PartName="/ppt/media/image12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11.png" ContentType="image/png"/>
  <Override PartName="/ppt/media/image6.wmf" ContentType="image/x-wmf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7180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784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71800" y="94784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0944-81D2-4BEC-B0DA-AD6FE5E0E5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4000" y="4740120"/>
            <a:ext cx="54673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E9C6-FA62-4E3C-85AC-3C904032C5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D8A3-F8C2-42E0-B750-25C34F80A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0BAD-17F2-45A6-954A-A7D0B50D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EA70-7A5F-4680-B3D0-1C159B4DB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59FC-38D3-4459-9513-0648E14C7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31B5-AEE7-47CA-97A4-0F80EE68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FD34-485D-4955-8B00-A96FFC94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5FD7-1091-4B50-BD7B-666EB771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B24B-FAB4-40F1-9BEC-885ADE90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DED1-A066-4003-B41D-A80566AA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992F-29BC-4456-91BD-C7772C94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B018-6901-4521-8F1E-E36C8C51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C5A0-C894-4D01-AA6F-B20D16B0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4409-B021-4C42-8EE4-3F2D6E368E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3"/>
          <p:cNvSpPr/>
          <p:nvPr/>
        </p:nvSpPr>
        <p:spPr>
          <a:xfrm>
            <a:off x="358920" y="3573360"/>
            <a:ext cx="8426160" cy="3018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Игры, направленные на коррекцию проблемных форм межличностных отношений дошкольников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820872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2411280" y="333360"/>
            <a:ext cx="65217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0" y="234936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8424720" cy="48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179280" y="1484280"/>
            <a:ext cx="59454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0" y="115920"/>
            <a:ext cx="9144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2627280" y="404640"/>
            <a:ext cx="64087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5946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17:27:54Z</dcterms:created>
  <dc:creator>user</dc:creator>
  <dc:description/>
  <dc:language>en-US</dc:language>
  <cp:lastModifiedBy>User</cp:lastModifiedBy>
  <dcterms:modified xsi:type="dcterms:W3CDTF">2010-08-17T23:52:48Z</dcterms:modified>
  <cp:revision>5</cp:revision>
  <dc:subject/>
  <dc:title>Презентация PowerPoint</dc:title>
</cp:coreProperties>
</file>