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1.png" ContentType="image/png"/>
  <Override PartName="/ppt/media/image3.wmf" ContentType="image/x-wmf"/>
  <Override PartName="/ppt/media/image12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11.png" ContentType="image/png"/>
  <Override PartName="/ppt/media/image6.wmf" ContentType="image/x-wmf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71800" y="-36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7844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71800" y="947844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A5EE4-9734-42C8-B792-C9C730E6273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86DAE-1C18-42F6-AFA9-4EB851E7257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F090-14BD-4F16-B2AF-AA6235803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9E1C-DBB2-435A-93A4-A1658D25A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1D9A-4F31-4FFD-9EE5-C3A6A07A0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3DB4-9B1B-4ECA-BBED-3DE686CAD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5DF8-F05B-41D0-BB6F-5A68B112B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647B-FABF-4AA9-B448-0C99FF10E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E290-34CE-48DC-B79A-14E8A9558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73CA-74D0-460A-A8AE-4CC2F5A10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AFD4-32EF-47E4-ADCE-5DF3B377D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BEF6-78FF-4839-8432-B149C836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C3B0-ABD1-442E-B836-630B56B4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8458-6B26-4F3E-BB08-E9E27291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F0C84-6BCA-4B66-A87F-D672CAB797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3"/>
          <p:cNvSpPr/>
          <p:nvPr/>
        </p:nvSpPr>
        <p:spPr>
          <a:xfrm>
            <a:off x="358920" y="3573360"/>
            <a:ext cx="8426160" cy="3018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Игры, направленные на коррекцию проблемных форм межличностных отношений дошкольников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-108000" y="0"/>
            <a:ext cx="9252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324000" y="2060640"/>
            <a:ext cx="820872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2411280" y="333360"/>
            <a:ext cx="65217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0" y="2349360"/>
            <a:ext cx="9144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8424720" cy="48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-108000" y="0"/>
            <a:ext cx="9252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179280" y="1484280"/>
            <a:ext cx="59454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0" y="115920"/>
            <a:ext cx="9144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-108000" y="0"/>
            <a:ext cx="9252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2627280" y="404640"/>
            <a:ext cx="640872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59468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17:27:54Z</dcterms:created>
  <dc:creator>user</dc:creator>
  <dc:description/>
  <dc:language>en-US</dc:language>
  <cp:lastModifiedBy>User</cp:lastModifiedBy>
  <dcterms:modified xsi:type="dcterms:W3CDTF">2010-08-17T23:52:48Z</dcterms:modified>
  <cp:revision>5</cp:revision>
  <dc:subject/>
  <dc:title>Презентация PowerPoint</dc:title>
</cp:coreProperties>
</file>