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272-C071-49D5-B012-F130FE41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8C9-395C-48F8-9AAB-A5855AA7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8CD-CE02-404B-ACAC-82F94C38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58A-AA7C-4A99-A91B-5E212665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097-A764-4B94-9845-1F02D931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C01-63C1-47E0-B2BB-FC5DC92F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572-A474-4D66-8C5F-51BCA192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7FC-B5AA-432F-9190-B8B7F9CD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C73-752A-4B46-AB85-5D674392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E2D-DC36-4CFB-AE9C-7AF87105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E97-31D1-4B86-B58A-80328F4E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F13-F279-4389-91F9-A7B7A19B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0432-6B6C-4DFD-A020-11354F0D1E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064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Тема презентации: Защита детских проектов по поисково-познавательной деятельност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3068640"/>
            <a:ext cx="806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а: Алексеенкова А.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Обмен впечатления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Содержимое 3" descr="DSC0466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ный проект Королева Макара 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«Почему корабли не тонут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Содержимое 3" descr="DSC0465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Интересно попробовать сами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Содержимое 5" descr="DSC0468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ывод: Совместная проектная деятельность  помогает мамам  и папам почувствовать, что интересно детям, позволяет сотрудничать с ними как с равноправными партнерами, помогает раскрыть свои таланты и творческие способности, создает атмосферу тепла и доверия во взаимоотношениях педагогического коллектива и род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4200"/>
                </a:solidFill>
                <a:latin typeface="Times New Roman"/>
              </a:rPr>
              <a:t>Одной из важнейших функций воспитателя является оказание помощи родителям в образовании  и воспитании детей дошкольного возраста. Взаимодействие с семьёй необходимо для полноценного развития ребёнка. Положительных результатов в воспитании  можно достичь только  при согласованных действиях детского сада и семьи, а так же при условии развития интереса родителей к вопросам воспитани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200"/>
                </a:solidFill>
                <a:latin typeface="Times New Roman"/>
              </a:rPr>
              <a:t>Формы работы с родителям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Содержимое 5" descr="Изображение 037.jpg"/>
          <p:cNvPicPr/>
          <p:nvPr/>
        </p:nvPicPr>
        <p:blipFill>
          <a:blip r:embed="rId1"/>
          <a:stretch/>
        </p:blipFill>
        <p:spPr>
          <a:xfrm>
            <a:off x="4643280" y="2205000"/>
            <a:ext cx="3889440" cy="316872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3" descr="мастерская игрушек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57200" y="2205000"/>
            <a:ext cx="3827520" cy="3171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200"/>
                </a:solidFill>
                <a:latin typeface="Times New Roman"/>
              </a:rPr>
              <a:t>Проектный метод в работе с семьей</a:t>
            </a:r>
            <a:br>
              <a:rPr sz="3600"/>
            </a:br>
            <a:r>
              <a:rPr b="1" lang="ru-RU" sz="2800" spc="-1" strike="noStrike">
                <a:solidFill>
                  <a:srgbClr val="004200"/>
                </a:solidFill>
                <a:latin typeface="Times New Roman"/>
              </a:rPr>
              <a:t>1. Этап. Информац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брание на тему «Технология проектной деятельности в ДО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ивидуальная раб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 темы.</a:t>
            </a:r>
            <a:br>
              <a:rPr sz="2800"/>
            </a:br>
            <a:r>
              <a:rPr b="1" lang="ru-RU" sz="2800" spc="-1" strike="noStrike">
                <a:solidFill>
                  <a:srgbClr val="004200"/>
                </a:solidFill>
                <a:latin typeface="Times New Roman"/>
              </a:rPr>
              <a:t>2. Этап. Проектная деятельность детей</a:t>
            </a:r>
            <a:r>
              <a:rPr b="0" lang="ru-RU" sz="2800" spc="-1" strike="noStrike">
                <a:solidFill>
                  <a:srgbClr val="0042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4200"/>
                </a:solidFill>
                <a:latin typeface="Times New Roman"/>
              </a:rPr>
              <a:t>и родител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ультации по выполнению проектов.</a:t>
            </a:r>
            <a:br>
              <a:rPr sz="2800"/>
            </a:br>
            <a:r>
              <a:rPr b="1" lang="ru-RU" sz="2800" spc="-1" strike="noStrike">
                <a:solidFill>
                  <a:srgbClr val="004200"/>
                </a:solidFill>
                <a:latin typeface="Times New Roman"/>
              </a:rPr>
              <a:t>3. Этап. Защита проек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Проект Кудрявцевой Ярославы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«Что плавает, а что тонет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Содержимое 3" descr="DSC0463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200"/>
                </a:solidFill>
                <a:latin typeface="Times New Roman"/>
              </a:rPr>
              <a:t>Семейный проект Волковицкой Алины </a:t>
            </a:r>
            <a:br>
              <a:rPr sz="2800"/>
            </a:br>
            <a:r>
              <a:rPr b="0" lang="ru-RU" sz="2800" spc="-1" strike="noStrike">
                <a:solidFill>
                  <a:srgbClr val="004200"/>
                </a:solidFill>
                <a:latin typeface="Times New Roman"/>
              </a:rPr>
              <a:t>«Комнатные растени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7" descr="DSC0462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ный проект Макаренко Ксюши «Что растворяется в вод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Содержимое 3" descr="DSC0467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200"/>
                </a:solidFill>
                <a:latin typeface="Times New Roman"/>
              </a:rPr>
              <a:t>Семейный проект Матвеевой Оли «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3" descr="DSC04697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Рассматривание проект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Содержимое 3" descr="DSC04688.JPG"/>
          <p:cNvPicPr/>
          <p:nvPr/>
        </p:nvPicPr>
        <p:blipFill>
          <a:blip r:embed="rId1"/>
          <a:stretch/>
        </p:blipFill>
        <p:spPr>
          <a:xfrm>
            <a:off x="1554120" y="1557360"/>
            <a:ext cx="60357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user</cp:lastModifiedBy>
  <dcterms:modified xsi:type="dcterms:W3CDTF">2017-10-15T20:13:50Z</dcterms:modified>
  <cp:revision>48</cp:revision>
  <dc:subject/>
  <dc:title>Слайд 1</dc:title>
</cp:coreProperties>
</file>