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566-42F4-428C-A2F4-9C97651C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56B-5303-4FDC-BDE6-017E96B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99D2-1EFA-4D40-9D6C-FAFB1D96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282-6236-4422-880D-C3B3D7D5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2A1F-0281-4C62-B755-F26B27A3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C778-D9E3-4CBB-B63A-9B310F8F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EFB-C1CD-42CF-BEDB-9D5599E1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9297-CEED-4654-BAFA-6EE04093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2D9-FB59-4037-BB7A-52A65DE5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FA64-880D-436E-885D-5A172692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B10-A84B-493E-AE54-728895A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09D6-05A2-43B8-8E4E-9EDFBC2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0113-235F-4C9B-BC7D-251E7ECAE1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Тема презентации: Защита детских проектов по поисково-познавательной деятельност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640" y="3068640"/>
            <a:ext cx="806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дготовила: Алексеенкова А.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Обмен впечатления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Содержимое 3" descr="DSC0466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ный проект Королева Макара 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«Почему корабли не тону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Содержимое 3" descr="DSC0465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Times New Roman"/>
              </a:rPr>
              <a:t>Интересно попробовать сами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Содержимое 5" descr="DSC0468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</a:rPr>
              <a:t>Вывод: Совместная проектная деятельность  помогает мамам  и папам почувствовать, что интересно детям, позволяет сотрудничать с ними как с равноправными партнерами, помогает раскрыть свои таланты и творческие способности, создает атмосферу тепла и доверия во взаимоотношениях педагогического коллектива и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Одной из важнейших функций воспитателя является оказание помощи родителям в образовании  и воспитании детей дошкольного возраста. Взаимодействие с семьёй необходимо для полноценного развития ребёнка. Положительных результатов в воспитании  можно достичь только  при согласованных действиях детского сада и семьи, а так же при условии развития интереса родителей к вопросам воспитания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200"/>
                </a:solidFill>
                <a:latin typeface="Times New Roman"/>
              </a:rPr>
              <a:t>Формы работы с родителям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Содержимое 5" descr="Изображение 037.jpg"/>
          <p:cNvPicPr/>
          <p:nvPr/>
        </p:nvPicPr>
        <p:blipFill>
          <a:blip r:embed="rId1"/>
          <a:stretch/>
        </p:blipFill>
        <p:spPr>
          <a:xfrm>
            <a:off x="4643280" y="2205000"/>
            <a:ext cx="3889440" cy="316872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3" descr="мастерская игрушек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2205000"/>
            <a:ext cx="3827520" cy="317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4200"/>
                </a:solidFill>
                <a:latin typeface="Times New Roman"/>
              </a:rPr>
              <a:t>Проектный метод в работе с семьей</a:t>
            </a:r>
            <a:br>
              <a:rPr sz="36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1. Этап. Информац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брание на тему «Технология проектной деятельности в ДОУ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ивидуальная раб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темы.</a:t>
            </a:r>
            <a:br>
              <a:rPr sz="28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2. Этап. Проектная деятельность детей</a:t>
            </a: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и родителей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ультации по выполнению проектов.</a:t>
            </a:r>
            <a:br>
              <a:rPr sz="2800"/>
            </a:br>
            <a:r>
              <a:rPr b="1" lang="ru-RU" sz="2800" spc="-1" strike="noStrike">
                <a:solidFill>
                  <a:srgbClr val="004200"/>
                </a:solidFill>
                <a:latin typeface="Times New Roman"/>
              </a:rPr>
              <a:t>3. Этап. Защита проек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Проект Кудрявцевой Ярославы </a:t>
            </a:r>
            <a:br>
              <a:rPr sz="2400"/>
            </a:b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«Что плавает, а что тонет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3" descr="DSC0463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Семейный проект Волковицкой Алины </a:t>
            </a:r>
            <a:br>
              <a:rPr sz="2800"/>
            </a:b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«Комнатные растения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7" descr="DSC0462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Семейный проект Макаренко Ксюши «Что растворяется в вод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3" descr="DSC04672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200"/>
                </a:solidFill>
                <a:latin typeface="Times New Roman"/>
              </a:rPr>
              <a:t>Семейный проект Матвеевой Оли «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3" descr="DSC0469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Рассматривание проек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Содержимое 3" descr="DSC04688.JPG"/>
          <p:cNvPicPr/>
          <p:nvPr/>
        </p:nvPicPr>
        <p:blipFill>
          <a:blip r:embed="rId1"/>
          <a:stretch/>
        </p:blipFill>
        <p:spPr>
          <a:xfrm>
            <a:off x="1554120" y="1557360"/>
            <a:ext cx="60357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7-10-15T20:13:50Z</dcterms:modified>
  <cp:revision>48</cp:revision>
  <dc:subject/>
  <dc:title>Слайд 1</dc:title>
</cp:coreProperties>
</file>