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C59-2444-460E-B339-8B23053F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2DF-E6F0-4453-8860-645C2285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900C-02DC-4C0C-91FD-347F975A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9828-3590-4316-838E-D8495C9E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79A-3613-44BF-AF16-76A99743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B3DB-EF62-427B-BA12-1CD853F5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A2F-A06F-49B0-AA6C-996FAB41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515-61FE-4258-94BA-9AF78AEF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646-8182-43AB-B5B9-80CA971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480-C7C3-4289-9E8A-201E4621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D621-23F1-45BE-AB34-FF0FFCBA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B6B5-B2D0-4FB4-99DD-B1EE2770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9F1B-7C3C-4F4F-89CA-ED6ECBCBA4D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5640" y="1052640"/>
            <a:ext cx="8677080" cy="23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 Unicode MS"/>
              </a:rPr>
              <a:t>Презентация на тему: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 Unicode MS"/>
              </a:rPr>
              <a:t>«Организация работы с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  <a:ea typeface="Arial Unicode MS"/>
              </a:rPr>
              <a:t>семьей по патриотическому воспитанию дошкольников»</a:t>
            </a:r>
            <a:br>
              <a:rPr sz="2200"/>
            </a:br>
            <a:br>
              <a:rPr sz="18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58920" y="3499920"/>
            <a:ext cx="7453440" cy="12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одготовила Алексеенкова А.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Воспитатель МДОУ  «Детский сад «Светляч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п.Калашнико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512280"/>
            <a:ext cx="8229600" cy="13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 «В стране веселых бабушек</a:t>
            </a: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зорных внучат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4" descr="DSCN0394.jpg"/>
          <p:cNvPicPr/>
          <p:nvPr/>
        </p:nvPicPr>
        <p:blipFill>
          <a:blip r:embed="rId1"/>
          <a:stretch/>
        </p:blipFill>
        <p:spPr>
          <a:xfrm>
            <a:off x="431640" y="2384280"/>
            <a:ext cx="4098960" cy="307512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5" descr="DSCN0381.jpg"/>
          <p:cNvPicPr/>
          <p:nvPr/>
        </p:nvPicPr>
        <p:blipFill>
          <a:blip r:embed="rId2"/>
          <a:stretch/>
        </p:blipFill>
        <p:spPr>
          <a:xfrm>
            <a:off x="4660920" y="2421000"/>
            <a:ext cx="405144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ушки  не только принимали поздравления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детей, но и активно участвовали в тематических конкурсах и эстафетах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Содержимое 4" descr="DSCN0405.jpg"/>
          <p:cNvPicPr/>
          <p:nvPr/>
        </p:nvPicPr>
        <p:blipFill>
          <a:blip r:embed="rId1"/>
          <a:stretch/>
        </p:blipFill>
        <p:spPr>
          <a:xfrm>
            <a:off x="1835280" y="2097000"/>
            <a:ext cx="5240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праздника было организовано чаепитие, где внуки ухаживали за бабушками: накрывали стол, угощали чае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5" descr="DSCN0419.jpg"/>
          <p:cNvPicPr/>
          <p:nvPr/>
        </p:nvPicPr>
        <p:blipFill>
          <a:blip r:embed="rId1"/>
          <a:stretch/>
        </p:blipFill>
        <p:spPr>
          <a:xfrm>
            <a:off x="1908000" y="1935000"/>
            <a:ext cx="5543640" cy="41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32360" y="620280"/>
            <a:ext cx="378000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выставка «Мои любимые бабушка и дедушка»  помогла нам в развитии в детях таких качеств, как любовь к родному дому, семье, воспитании уважения к старшим членам семь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Содержимое 3" descr="DSCN0424.jpg"/>
          <p:cNvPicPr/>
          <p:nvPr/>
        </p:nvPicPr>
        <p:blipFill>
          <a:blip r:embed="rId1"/>
          <a:stretch/>
        </p:blipFill>
        <p:spPr>
          <a:xfrm>
            <a:off x="611280" y="1052640"/>
            <a:ext cx="403200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828072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рассказывали об истории своей семьи, биографии бабушек и дедушек. Родителями была проведена большая работа по подготовке выступления 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Содержимое 4" descr="DSCN0359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5" descr="DSCN0341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чень полезное и увлекательное занятие - составление генеалогического древа своей семь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9" name="Объект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 детей появляется познавательный интерес к прошлому и настоящему своей семьи, формируются представления о преемственности покол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Объект 4" descr=""/>
          <p:cNvPicPr/>
          <p:nvPr/>
        </p:nvPicPr>
        <p:blipFill>
          <a:blip r:embed="rId1"/>
          <a:stretch/>
        </p:blipFill>
        <p:spPr>
          <a:xfrm>
            <a:off x="457200" y="2023920"/>
            <a:ext cx="4470480" cy="3353040"/>
          </a:xfrm>
          <a:prstGeom prst="rect">
            <a:avLst/>
          </a:prstGeom>
          <a:ln w="0">
            <a:noFill/>
          </a:ln>
        </p:spPr>
      </p:pic>
      <p:pic>
        <p:nvPicPr>
          <p:cNvPr id="152" name="Объект 7" descr="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февраля в детском сад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это возможность лишний раз напомнить мальчикам, а так же продемонстрировать родителям, что тако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елость, отвага, благородство и мужество.</a:t>
            </a:r>
            <a:br>
              <a:rPr sz="4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Содержимое 3" descr="1424373249519_0.jpg"/>
          <p:cNvPicPr/>
          <p:nvPr/>
        </p:nvPicPr>
        <p:blipFill>
          <a:blip r:embed="rId1"/>
          <a:stretch/>
        </p:blipFill>
        <p:spPr>
          <a:xfrm>
            <a:off x="541440" y="1600200"/>
            <a:ext cx="80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мощью бабушки Запорожана Кирилла  была организована выставка вязан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вышитых издел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Содержимое 4" descr="DSCN0442.jpg"/>
          <p:cNvPicPr/>
          <p:nvPr/>
        </p:nvPicPr>
        <p:blipFill>
          <a:blip r:embed="rId1"/>
          <a:stretch/>
        </p:blipFill>
        <p:spPr>
          <a:xfrm>
            <a:off x="431640" y="2421000"/>
            <a:ext cx="4050000" cy="3038400"/>
          </a:xfrm>
          <a:prstGeom prst="rect">
            <a:avLst/>
          </a:prstGeom>
          <a:ln w="0">
            <a:noFill/>
          </a:ln>
        </p:spPr>
      </p:pic>
      <p:pic>
        <p:nvPicPr>
          <p:cNvPr id="157" name="Содержимое 7" descr="DSCN0455.jpg"/>
          <p:cNvPicPr/>
          <p:nvPr/>
        </p:nvPicPr>
        <p:blipFill>
          <a:blip r:embed="rId2"/>
          <a:stretch/>
        </p:blipFill>
        <p:spPr>
          <a:xfrm>
            <a:off x="4708440" y="2457360"/>
            <a:ext cx="400392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Традиционно, каждой  весной в нашей группе проходит выставка  поделок к празднику Пасхи. Родители вместе с детьми всегда являются их активными участника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Содержимое 3" descr="DSCN0428.jpg"/>
          <p:cNvPicPr/>
          <p:nvPr/>
        </p:nvPicPr>
        <p:blipFill>
          <a:blip r:embed="rId1"/>
          <a:stretch/>
        </p:blipFill>
        <p:spPr>
          <a:xfrm>
            <a:off x="1692360" y="1703520"/>
            <a:ext cx="5759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дружеского взаимодействия,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з тонкого взаимопонимания педагога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родителей, детского сада и семьи невозможно счастье  ребенка,  жизнь его может лишиться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радости, а без этого нет детства.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                                                                                                                     В. А.  Сухомлинск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640" y="3536640"/>
            <a:ext cx="828072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d0d0d"/>
                </a:solidFill>
                <a:latin typeface="Calibri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1640" y="404640"/>
            <a:ext cx="82807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работы отмечаются грамотами. Всё это формирует у дошкольников чувство заинтересованности в выполнении общего дела, доставляет радость от результа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Содержимое 3" descr="DSC00291.JPG"/>
          <p:cNvPicPr/>
          <p:nvPr/>
        </p:nvPicPr>
        <p:blipFill>
          <a:blip r:embed="rId1"/>
          <a:stretch/>
        </p:blipFill>
        <p:spPr>
          <a:xfrm>
            <a:off x="1692360" y="1800360"/>
            <a:ext cx="6083280" cy="42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1640" y="620640"/>
            <a:ext cx="828072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ки родителей и детей группы «Колокольчики»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чкина Лолита.                             Соловьева Вика.          «Пасхальное яичко»                                 «Цыпленок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Содержимое 4" descr="DSCN0434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64" name="Содержимое 5" descr="DSCN0435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31528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сеньева София                     Макаренко Ксения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аздничный венок»           «Поздравительная открыт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Содержимое 4" descr="DSCN0437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5" descr="DSCN0438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3640" y="1089000"/>
            <a:ext cx="828036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ов Матвей                     Кудрявцева Яросла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исанки»                 Картина «С праздником Светлой Пасхи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4" descr="DSCN0441.jpg"/>
          <p:cNvPicPr/>
          <p:nvPr/>
        </p:nvPicPr>
        <p:blipFill>
          <a:blip r:embed="rId1"/>
          <a:stretch/>
        </p:blipFill>
        <p:spPr>
          <a:xfrm>
            <a:off x="585720" y="2446200"/>
            <a:ext cx="3781440" cy="2833920"/>
          </a:xfrm>
          <a:prstGeom prst="rect">
            <a:avLst/>
          </a:prstGeom>
          <a:ln w="0">
            <a:noFill/>
          </a:ln>
        </p:spPr>
      </p:pic>
      <p:pic>
        <p:nvPicPr>
          <p:cNvPr id="170" name="Содержимое 5" descr="DSCN0363.jpg"/>
          <p:cNvPicPr/>
          <p:nvPr/>
        </p:nvPicPr>
        <p:blipFill>
          <a:blip r:embed="rId2"/>
          <a:stretch/>
        </p:blipFill>
        <p:spPr>
          <a:xfrm>
            <a:off x="4778280" y="2446200"/>
            <a:ext cx="37782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вития интереса к русским народным традициям, играм, формирования заботливого отношения и любви к близким людям, мы провели праздник Пасхи в старшей группе с участием родите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Содержимое 3" descr="image (5).jpg"/>
          <p:cNvPicPr/>
          <p:nvPr/>
        </p:nvPicPr>
        <p:blipFill>
          <a:blip r:embed="rId1"/>
          <a:stretch/>
        </p:blipFill>
        <p:spPr>
          <a:xfrm>
            <a:off x="538200" y="1600200"/>
            <a:ext cx="8067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детском саду традиционным стал «Конкурс чтецов», который всегда проводиться при активной поддержке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Содержимое 3" descr="1424373398085_0.jpg"/>
          <p:cNvPicPr/>
          <p:nvPr/>
        </p:nvPicPr>
        <p:blipFill>
          <a:blip r:embed="rId1"/>
          <a:stretch/>
        </p:blipFill>
        <p:spPr>
          <a:xfrm>
            <a:off x="541440" y="1600200"/>
            <a:ext cx="80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1280" y="620280"/>
            <a:ext cx="374508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овместно с родителями мы  стараемся сделать так, чтобы наши дети уже в дошкольном возрасте знали и помнили  радостные и трагичные страницы нашей истории – 70 лет со дня Великой Побе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Содержимое 4" descr="DSCN2011.JPG"/>
          <p:cNvPicPr/>
          <p:nvPr/>
        </p:nvPicPr>
        <p:blipFill>
          <a:blip r:embed="rId1"/>
          <a:stretch/>
        </p:blipFill>
        <p:spPr>
          <a:xfrm>
            <a:off x="4248000" y="1557360"/>
            <a:ext cx="4569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тавка ко Дню Победы «Помним, гордимс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Объект 2" descr=""/>
          <p:cNvPicPr/>
          <p:nvPr/>
        </p:nvPicPr>
        <p:blipFill>
          <a:blip r:embed="rId1"/>
          <a:stretch/>
        </p:blipFill>
        <p:spPr>
          <a:xfrm>
            <a:off x="2050920" y="1233360"/>
            <a:ext cx="468180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63280" y="512280"/>
            <a:ext cx="788508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        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Традиционно , в преддверии 9 мая в нашей группе проводится экскурсия к братской  могиле поселка. В этом году возложение цветов было организовано совместно с родителям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Содержимое 3" descr="DSCN2002.JPG"/>
          <p:cNvPicPr/>
          <p:nvPr/>
        </p:nvPicPr>
        <p:blipFill>
          <a:blip r:embed="rId1"/>
          <a:stretch/>
        </p:blipFill>
        <p:spPr>
          <a:xfrm>
            <a:off x="1692360" y="2168640"/>
            <a:ext cx="575928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31280" y="620640"/>
            <a:ext cx="4140360" cy="511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астие в конкурсе поселка военно-патриотической песни и художественного слова, воспитывает в детях такие качества, как гордость за свой детский сад, уважительное отношение к ветеранам , даёт им возможность разнообразно и свободно проявлять свои таланты и интерес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Содержимое 3" descr="image (6).jpg"/>
          <p:cNvPicPr/>
          <p:nvPr/>
        </p:nvPicPr>
        <p:blipFill>
          <a:blip r:embed="rId1"/>
          <a:stretch/>
        </p:blipFill>
        <p:spPr>
          <a:xfrm>
            <a:off x="4967280" y="873000"/>
            <a:ext cx="318600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1280" y="981000"/>
            <a:ext cx="3132360" cy="52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по патриотическому воспитанию дошкольников большую роль играет содержание и оформление центра по патриотическому воспитанию детей. Благодаря помощи родителей изготовлены наглядные пособия, атрибуты, связанные с государственной символикой, пополняется коллекция предметов народных промысл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Содержимое 3" descr="DSC04549.JPG"/>
          <p:cNvPicPr/>
          <p:nvPr/>
        </p:nvPicPr>
        <p:blipFill>
          <a:blip r:embed="rId1"/>
          <a:stretch/>
        </p:blipFill>
        <p:spPr>
          <a:xfrm>
            <a:off x="3743280" y="1700280"/>
            <a:ext cx="495936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56944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Arial"/>
              </a:rPr>
              <a:t>Понимая значимость этого  мероприятия, родители проявили инициативу и оказали помощь при подготовке детей к участию в конкурсе: пошив костюмов, участие в репетициях, зрительская поддерж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Содержимое 3" descr="image.jpg"/>
          <p:cNvPicPr/>
          <p:nvPr/>
        </p:nvPicPr>
        <p:blipFill>
          <a:blip r:embed="rId1"/>
          <a:stretch/>
        </p:blipFill>
        <p:spPr>
          <a:xfrm>
            <a:off x="736560" y="2060640"/>
            <a:ext cx="73645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ом совместной деятельности стало 1 место в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Содержимое 4" descr="image (2).jpg"/>
          <p:cNvPicPr/>
          <p:nvPr/>
        </p:nvPicPr>
        <p:blipFill>
          <a:blip r:embed="rId1"/>
          <a:stretch/>
        </p:blipFill>
        <p:spPr>
          <a:xfrm>
            <a:off x="431640" y="2529000"/>
            <a:ext cx="4586400" cy="2844720"/>
          </a:xfrm>
          <a:prstGeom prst="rect">
            <a:avLst/>
          </a:prstGeom>
          <a:ln w="0">
            <a:noFill/>
          </a:ln>
        </p:spPr>
      </p:pic>
      <p:pic>
        <p:nvPicPr>
          <p:cNvPr id="187" name="Содержимое 5" descr="DSCN0257.JPG"/>
          <p:cNvPicPr/>
          <p:nvPr/>
        </p:nvPicPr>
        <p:blipFill>
          <a:blip r:embed="rId2"/>
          <a:stretch/>
        </p:blipFill>
        <p:spPr>
          <a:xfrm>
            <a:off x="5184720" y="1700280"/>
            <a:ext cx="30654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курсия в музей воинской славы посел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Объект 4" descr="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0" name="Объект 5" descr="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ботник по уборке территории ДО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Содержимое 3" descr="Субботник с родителями ДОУ..JPG"/>
          <p:cNvPicPr/>
          <p:nvPr/>
        </p:nvPicPr>
        <p:blipFill>
          <a:blip r:embed="rId1"/>
          <a:stretch/>
        </p:blipFill>
        <p:spPr>
          <a:xfrm>
            <a:off x="1692360" y="1827360"/>
            <a:ext cx="5832360" cy="43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15640" y="765000"/>
            <a:ext cx="867708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одя итоги проделанной работы можно сделать вывод, что кропотливые усилия родителей и педагогов обязательно приведут к формированию личности, которая будет 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26920" y="2565360"/>
            <a:ext cx="7453440" cy="26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живать свою сопричастность с далекими событиями истории, ощущать радость Великой Победы, испытывать гордость за свое Отечеств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280" y="620640"/>
            <a:ext cx="352764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любви к родному краю, своей стране способствовала организация фотовыстав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 я провел лето», организованная с помощью родител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3" descr="DSCN0250.JPG"/>
          <p:cNvPicPr/>
          <p:nvPr/>
        </p:nvPicPr>
        <p:blipFill>
          <a:blip r:embed="rId1"/>
          <a:stretch/>
        </p:blipFill>
        <p:spPr>
          <a:xfrm>
            <a:off x="4392720" y="873000"/>
            <a:ext cx="3922560" cy="52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620280"/>
            <a:ext cx="3708720" cy="51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Формирование у детей  таких чувств, как любовь к природе родного края, желание беречь её и защищать осуществлялось в таких совместных с родителями формах деятельности, как «Очистим территорию ДОУ», «Покормим птиц зимой», выставка «Дары осени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Содержимое 4" descr="DSC04706.JPG"/>
          <p:cNvPicPr/>
          <p:nvPr/>
        </p:nvPicPr>
        <p:blipFill>
          <a:blip r:embed="rId1"/>
          <a:stretch/>
        </p:blipFill>
        <p:spPr>
          <a:xfrm>
            <a:off x="4284720" y="1413000"/>
            <a:ext cx="4413240" cy="39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и родители помогли разнообразить и дополнить мир игрушек своих детей настоящими народными тряпичными куклами.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DSCN0450.jpg"/>
          <p:cNvPicPr/>
          <p:nvPr/>
        </p:nvPicPr>
        <p:blipFill>
          <a:blip r:embed="rId1"/>
          <a:stretch/>
        </p:blipFill>
        <p:spPr>
          <a:xfrm>
            <a:off x="1692360" y="1703520"/>
            <a:ext cx="5759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6000" y="549360"/>
            <a:ext cx="828036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ята с удовольствием используют их в сюжетно –ролевых играх и театрализованной деятель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3" descr="DSCN0454.jpg"/>
          <p:cNvPicPr/>
          <p:nvPr/>
        </p:nvPicPr>
        <p:blipFill>
          <a:blip r:embed="rId1"/>
          <a:stretch/>
        </p:blipFill>
        <p:spPr>
          <a:xfrm>
            <a:off x="1692360" y="1703520"/>
            <a:ext cx="5759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8072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я детей с традициями русской национальной культуры,  мы проводим театрализованные представления для родителей на тему русских народных сказок: «Теремок», «Три медведя», «Гуси-лебеди»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Содержимое 3" descr="Театральная деятельнось сказка Теремок.JPG"/>
          <p:cNvPicPr/>
          <p:nvPr/>
        </p:nvPicPr>
        <p:blipFill>
          <a:blip r:embed="rId1"/>
          <a:stretch/>
        </p:blipFill>
        <p:spPr>
          <a:xfrm>
            <a:off x="1554120" y="2457360"/>
            <a:ext cx="6035760" cy="36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280360" cy="17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тском саду  очень важно отмечать День пожилого человека , ведь этот праздник – дополнительная возможность воспитать у детей любовь и уважение к старшему поколению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br>
              <a:rPr sz="18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готовление пригласительных открыток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Содержимое 3" descr="DSCN0345.jpg"/>
          <p:cNvPicPr/>
          <p:nvPr/>
        </p:nvPicPr>
        <p:blipFill>
          <a:blip r:embed="rId1"/>
          <a:stretch/>
        </p:blipFill>
        <p:spPr>
          <a:xfrm>
            <a:off x="1692360" y="1882800"/>
            <a:ext cx="57592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user</cp:lastModifiedBy>
  <dcterms:modified xsi:type="dcterms:W3CDTF">2017-10-15T20:15:35Z</dcterms:modified>
  <cp:revision>60</cp:revision>
  <dc:subject/>
  <dc:title>Слайд 1</dc:title>
</cp:coreProperties>
</file>