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113-43F3-41F8-A1C7-655979F2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308-DC1E-4F32-B843-2D052DF7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339-04A9-411C-84D0-24F26E83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7B5-68CF-49AC-BE4A-7D81E179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E7D-CF35-4B6B-A26A-40A83472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649-9A9E-4272-AC1F-42B12641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42E-F833-4CA1-8535-5B80D93E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5A2-A6E0-41C5-B569-61CD4EEF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2CE-B3EA-48F3-A94F-D1ED8DAE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0F5-B330-4530-A60B-89C15F2D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8D5-0CF2-4D29-B014-58C04488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8DF-F609-4E99-8350-D91C7142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1B70-303E-4980-A813-AEE081AD2A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5640" y="1052640"/>
            <a:ext cx="8677080" cy="23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резентация на тему: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 Unicode MS"/>
              </a:rPr>
              <a:t>«Организация работы с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мьей по патриотическому воспитанию дошкольников»</a:t>
            </a:r>
            <a:br>
              <a:rPr sz="2200"/>
            </a:br>
            <a:br>
              <a:rPr sz="18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58920" y="3499920"/>
            <a:ext cx="7453440" cy="12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одготовила Алексеенкова А.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оспитатель МДОУ  «Детский сад «Светляч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.Калашнико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51228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«В стране веселых бабушек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зорных внучат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4" descr="DSCN0394.jpg"/>
          <p:cNvPicPr/>
          <p:nvPr/>
        </p:nvPicPr>
        <p:blipFill>
          <a:blip r:embed="rId1"/>
          <a:stretch/>
        </p:blipFill>
        <p:spPr>
          <a:xfrm>
            <a:off x="431640" y="2384280"/>
            <a:ext cx="4098960" cy="3075120"/>
          </a:xfrm>
          <a:prstGeom prst="rect">
            <a:avLst/>
          </a:prstGeom>
          <a:ln w="0">
            <a:noFill/>
          </a:ln>
        </p:spPr>
      </p:pic>
      <p:pic>
        <p:nvPicPr>
          <p:cNvPr id="137" name="Содержимое 5" descr="DSCN0381.jpg"/>
          <p:cNvPicPr/>
          <p:nvPr/>
        </p:nvPicPr>
        <p:blipFill>
          <a:blip r:embed="rId2"/>
          <a:stretch/>
        </p:blipFill>
        <p:spPr>
          <a:xfrm>
            <a:off x="4660920" y="2421000"/>
            <a:ext cx="40514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1640" y="620640"/>
            <a:ext cx="828072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и  не только принимали поздравлени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детей, но и активно участвовали в тематических конкурсах и эстафетах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4" descr="DSCN0405.jpg"/>
          <p:cNvPicPr/>
          <p:nvPr/>
        </p:nvPicPr>
        <p:blipFill>
          <a:blip r:embed="rId1"/>
          <a:stretch/>
        </p:blipFill>
        <p:spPr>
          <a:xfrm>
            <a:off x="1835280" y="2097000"/>
            <a:ext cx="5240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аздника было организовано чаепитие, где внуки ухаживали за бабушками: накрывали стол, угощали чае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5" descr="DSCN0419.jpg"/>
          <p:cNvPicPr/>
          <p:nvPr/>
        </p:nvPicPr>
        <p:blipFill>
          <a:blip r:embed="rId1"/>
          <a:stretch/>
        </p:blipFill>
        <p:spPr>
          <a:xfrm>
            <a:off x="1908000" y="1935000"/>
            <a:ext cx="554364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32360" y="620280"/>
            <a:ext cx="378000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выставка «Мои любимые бабушка и дедушка»  помогла нам в развитии в детях таких качеств, как любовь к родному дому, семье, воспитании уважения к старшим членам семь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3" descr="DSCN0424.jpg"/>
          <p:cNvPicPr/>
          <p:nvPr/>
        </p:nvPicPr>
        <p:blipFill>
          <a:blip r:embed="rId1"/>
          <a:stretch/>
        </p:blipFill>
        <p:spPr>
          <a:xfrm>
            <a:off x="611280" y="1052640"/>
            <a:ext cx="403200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16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рассказывали об истории своей семьи, биографии бабушек и дедушек. Родителями была проведена большая работа по подготовке выступления 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4" descr="DSCN0359.jpg"/>
          <p:cNvPicPr/>
          <p:nvPr/>
        </p:nvPicPr>
        <p:blipFill>
          <a:blip r:embed="rId1"/>
          <a:stretch/>
        </p:blipFill>
        <p:spPr>
          <a:xfrm>
            <a:off x="585720" y="2446200"/>
            <a:ext cx="3781440" cy="283392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5" descr="DSCN0341.jpg"/>
          <p:cNvPicPr/>
          <p:nvPr/>
        </p:nvPicPr>
        <p:blipFill>
          <a:blip r:embed="rId2"/>
          <a:stretch/>
        </p:blipFill>
        <p:spPr>
          <a:xfrm>
            <a:off x="4778280" y="2446200"/>
            <a:ext cx="37782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чень полезное и увлекательное занятие - составление генеалогического древа своей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Объект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9" name="Объект 5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детей появляется познавательный интерес к прошлому и настоящему своей семьи, формируются представления о преемственности покол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Объект 4" descr=""/>
          <p:cNvPicPr/>
          <p:nvPr/>
        </p:nvPicPr>
        <p:blipFill>
          <a:blip r:embed="rId1"/>
          <a:stretch/>
        </p:blipFill>
        <p:spPr>
          <a:xfrm>
            <a:off x="457200" y="2023920"/>
            <a:ext cx="4470480" cy="3353040"/>
          </a:xfrm>
          <a:prstGeom prst="rect">
            <a:avLst/>
          </a:prstGeom>
          <a:ln w="0">
            <a:noFill/>
          </a:ln>
        </p:spPr>
      </p:pic>
      <p:pic>
        <p:nvPicPr>
          <p:cNvPr id="152" name="Объект 7" descr="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февраля в детском сад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возможность лишний раз напомнить мальчикам, а так же продемонстрировать родителям, что так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лость, отвага, благородство и мужество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Содержимое 3" descr="1424373249519_0.jpg"/>
          <p:cNvPicPr/>
          <p:nvPr/>
        </p:nvPicPr>
        <p:blipFill>
          <a:blip r:embed="rId1"/>
          <a:stretch/>
        </p:blipFill>
        <p:spPr>
          <a:xfrm>
            <a:off x="541440" y="1600200"/>
            <a:ext cx="806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640" y="620640"/>
            <a:ext cx="8280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бабушки Запорожана Кирилла  была организована выставка вяза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шитых издел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Содержимое 4" descr="DSCN0442.jpg"/>
          <p:cNvPicPr/>
          <p:nvPr/>
        </p:nvPicPr>
        <p:blipFill>
          <a:blip r:embed="rId1"/>
          <a:stretch/>
        </p:blipFill>
        <p:spPr>
          <a:xfrm>
            <a:off x="431640" y="2421000"/>
            <a:ext cx="4050000" cy="3038400"/>
          </a:xfrm>
          <a:prstGeom prst="rect">
            <a:avLst/>
          </a:prstGeom>
          <a:ln w="0">
            <a:noFill/>
          </a:ln>
        </p:spPr>
      </p:pic>
      <p:pic>
        <p:nvPicPr>
          <p:cNvPr id="157" name="Содержимое 7" descr="DSCN0455.jpg"/>
          <p:cNvPicPr/>
          <p:nvPr/>
        </p:nvPicPr>
        <p:blipFill>
          <a:blip r:embed="rId2"/>
          <a:stretch/>
        </p:blipFill>
        <p:spPr>
          <a:xfrm>
            <a:off x="4708440" y="2457360"/>
            <a:ext cx="4003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Традиционно, каждой  весной в нашей группе проходит выставка  поделок к празднику Пасхи. Родители вместе с детьми всегда являются их активными участника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Содержимое 3" descr="DSCN0428.jpg"/>
          <p:cNvPicPr/>
          <p:nvPr/>
        </p:nvPicPr>
        <p:blipFill>
          <a:blip r:embed="rId1"/>
          <a:stretch/>
        </p:blipFill>
        <p:spPr>
          <a:xfrm>
            <a:off x="1692360" y="1703520"/>
            <a:ext cx="57592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1640" y="620640"/>
            <a:ext cx="828072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дружеского взаимодействия,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тонкого взаимопонимания педагога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родителей, детского сада и семьи невозможно счастье  ребенка,  жизнь его может лишиться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 радости, а без этого нет детства.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                                                                                                                     В. А.  Сухомлинск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31640" y="3536640"/>
            <a:ext cx="8280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1640" y="404640"/>
            <a:ext cx="828072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боты отмечаются грамотами. Всё это формирует у дошкольников чувство заинтересованности в выполнении общего дела, доставляет радость от результа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Содержимое 3" descr="DSC00291.JPG"/>
          <p:cNvPicPr/>
          <p:nvPr/>
        </p:nvPicPr>
        <p:blipFill>
          <a:blip r:embed="rId1"/>
          <a:stretch/>
        </p:blipFill>
        <p:spPr>
          <a:xfrm>
            <a:off x="1692360" y="1800360"/>
            <a:ext cx="608328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1640" y="620640"/>
            <a:ext cx="8280720" cy="18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и родителей и детей группы «Колокольчики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чкина Лолита.                             Соловьева Вика.          «Пасхальное яичко»                                 «Цыплен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одержимое 4" descr="DSCN0434.jpg"/>
          <p:cNvPicPr/>
          <p:nvPr/>
        </p:nvPicPr>
        <p:blipFill>
          <a:blip r:embed="rId1"/>
          <a:stretch/>
        </p:blipFill>
        <p:spPr>
          <a:xfrm>
            <a:off x="585720" y="2446200"/>
            <a:ext cx="3781440" cy="2833920"/>
          </a:xfrm>
          <a:prstGeom prst="rect">
            <a:avLst/>
          </a:prstGeom>
          <a:ln w="0">
            <a:noFill/>
          </a:ln>
        </p:spPr>
      </p:pic>
      <p:pic>
        <p:nvPicPr>
          <p:cNvPr id="164" name="Содержимое 5" descr="DSCN0435.jpg"/>
          <p:cNvPicPr/>
          <p:nvPr/>
        </p:nvPicPr>
        <p:blipFill>
          <a:blip r:embed="rId2"/>
          <a:stretch/>
        </p:blipFill>
        <p:spPr>
          <a:xfrm>
            <a:off x="4778280" y="2446200"/>
            <a:ext cx="37782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315280" cy="16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ьева София                     Макаренко Ксения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здничный венок»           «Поздравительная открыт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Содержимое 4" descr="DSCN0437.jpg"/>
          <p:cNvPicPr/>
          <p:nvPr/>
        </p:nvPicPr>
        <p:blipFill>
          <a:blip r:embed="rId1"/>
          <a:stretch/>
        </p:blipFill>
        <p:spPr>
          <a:xfrm>
            <a:off x="585720" y="2446200"/>
            <a:ext cx="3781440" cy="283392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5" descr="DSCN0438.jpg"/>
          <p:cNvPicPr/>
          <p:nvPr/>
        </p:nvPicPr>
        <p:blipFill>
          <a:blip r:embed="rId2"/>
          <a:stretch/>
        </p:blipFill>
        <p:spPr>
          <a:xfrm>
            <a:off x="4778280" y="2446200"/>
            <a:ext cx="37782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1089000"/>
            <a:ext cx="8280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Матвей                     Кудрявцева Ярослав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санки»                 Картина «С праздником Светлой Пасх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одержимое 4" descr="DSCN0441.jpg"/>
          <p:cNvPicPr/>
          <p:nvPr/>
        </p:nvPicPr>
        <p:blipFill>
          <a:blip r:embed="rId1"/>
          <a:stretch/>
        </p:blipFill>
        <p:spPr>
          <a:xfrm>
            <a:off x="585720" y="2446200"/>
            <a:ext cx="3781440" cy="2833920"/>
          </a:xfrm>
          <a:prstGeom prst="rect">
            <a:avLst/>
          </a:prstGeom>
          <a:ln w="0">
            <a:noFill/>
          </a:ln>
        </p:spPr>
      </p:pic>
      <p:pic>
        <p:nvPicPr>
          <p:cNvPr id="170" name="Содержимое 5" descr="DSCN0363.jpg"/>
          <p:cNvPicPr/>
          <p:nvPr/>
        </p:nvPicPr>
        <p:blipFill>
          <a:blip r:embed="rId2"/>
          <a:stretch/>
        </p:blipFill>
        <p:spPr>
          <a:xfrm>
            <a:off x="4778280" y="2446200"/>
            <a:ext cx="37782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интереса к русским народным традициям, играм, формирования заботливого отношения и любви к близким людям, мы провели праздник Пасхи в старшей группе с участием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Содержимое 3" descr="image (5).jpg"/>
          <p:cNvPicPr/>
          <p:nvPr/>
        </p:nvPicPr>
        <p:blipFill>
          <a:blip r:embed="rId1"/>
          <a:stretch/>
        </p:blipFill>
        <p:spPr>
          <a:xfrm>
            <a:off x="538200" y="1600200"/>
            <a:ext cx="806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детском саду традиционным стал «Конкурс чтецов», который всегда проводиться при активной поддержке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Содержимое 3" descr="1424373398085_0.jpg"/>
          <p:cNvPicPr/>
          <p:nvPr/>
        </p:nvPicPr>
        <p:blipFill>
          <a:blip r:embed="rId1"/>
          <a:stretch/>
        </p:blipFill>
        <p:spPr>
          <a:xfrm>
            <a:off x="541440" y="1600200"/>
            <a:ext cx="806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1280" y="620280"/>
            <a:ext cx="3745080" cy="51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овместно с родителями мы  стараемся сделать так, чтобы наши дети уже в дошкольном возрасте знали и помнили  радостные и трагичные страницы нашей истории – 70 лет со дня Великой Поб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Содержимое 4" descr="DSCN2011.JPG"/>
          <p:cNvPicPr/>
          <p:nvPr/>
        </p:nvPicPr>
        <p:blipFill>
          <a:blip r:embed="rId1"/>
          <a:stretch/>
        </p:blipFill>
        <p:spPr>
          <a:xfrm>
            <a:off x="4248000" y="1557360"/>
            <a:ext cx="45691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ко Дню Победы «Помним, гордимс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Объект 2" descr=""/>
          <p:cNvPicPr/>
          <p:nvPr/>
        </p:nvPicPr>
        <p:blipFill>
          <a:blip r:embed="rId1"/>
          <a:stretch/>
        </p:blipFill>
        <p:spPr>
          <a:xfrm>
            <a:off x="2050920" y="1233360"/>
            <a:ext cx="468180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63280" y="512280"/>
            <a:ext cx="788508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Традиционно , в преддверии 9 мая в нашей группе проводится экскурсия к братской  могиле поселка. В этом году возложение цветов было организовано совместно с родителя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Содержимое 3" descr="DSCN2002.JPG"/>
          <p:cNvPicPr/>
          <p:nvPr/>
        </p:nvPicPr>
        <p:blipFill>
          <a:blip r:embed="rId1"/>
          <a:stretch/>
        </p:blipFill>
        <p:spPr>
          <a:xfrm>
            <a:off x="1692360" y="2168640"/>
            <a:ext cx="575928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1280" y="620640"/>
            <a:ext cx="414036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частие в конкурсе поселка военно-патриотической песни и художественного слова, воспитывает в детях такие качества, как гордость за свой детский сад, уважительное отношение к ветеранам , даёт им возможность разнообразно и свободно проявлять свои таланты и интерес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Содержимое 3" descr="image (6).jpg"/>
          <p:cNvPicPr/>
          <p:nvPr/>
        </p:nvPicPr>
        <p:blipFill>
          <a:blip r:embed="rId1"/>
          <a:stretch/>
        </p:blipFill>
        <p:spPr>
          <a:xfrm>
            <a:off x="4967280" y="873000"/>
            <a:ext cx="3186000" cy="50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1280" y="981000"/>
            <a:ext cx="3132360" cy="52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по патриотическому воспитанию дошкольников большую роль играет содержание и оформление центра по патриотическому воспитанию детей. Благодаря помощи родителей изготовлены наглядные пособия, атрибуты, связанные с государственной символикой, пополняется коллекция предметов народных промысл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3" descr="DSC04549.JPG"/>
          <p:cNvPicPr/>
          <p:nvPr/>
        </p:nvPicPr>
        <p:blipFill>
          <a:blip r:embed="rId1"/>
          <a:stretch/>
        </p:blipFill>
        <p:spPr>
          <a:xfrm>
            <a:off x="3743280" y="1700280"/>
            <a:ext cx="49593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56944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онимая значимость этого  мероприятия, родители проявили инициативу и оказали помощь при подготовке детей к участию в конкурсе: пошив костюмов, участие в репетициях, зрительская поддерж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Содержимое 3" descr="image.jpg"/>
          <p:cNvPicPr/>
          <p:nvPr/>
        </p:nvPicPr>
        <p:blipFill>
          <a:blip r:embed="rId1"/>
          <a:stretch/>
        </p:blipFill>
        <p:spPr>
          <a:xfrm>
            <a:off x="736560" y="2060640"/>
            <a:ext cx="736452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совместной деятельности стало 1 место в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Содержимое 4" descr="image (2).jpg"/>
          <p:cNvPicPr/>
          <p:nvPr/>
        </p:nvPicPr>
        <p:blipFill>
          <a:blip r:embed="rId1"/>
          <a:stretch/>
        </p:blipFill>
        <p:spPr>
          <a:xfrm>
            <a:off x="431640" y="2529000"/>
            <a:ext cx="4586400" cy="284472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5" descr="DSCN0257.JPG"/>
          <p:cNvPicPr/>
          <p:nvPr/>
        </p:nvPicPr>
        <p:blipFill>
          <a:blip r:embed="rId2"/>
          <a:stretch/>
        </p:blipFill>
        <p:spPr>
          <a:xfrm>
            <a:off x="5184720" y="1700280"/>
            <a:ext cx="30654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курсия в музей воинской славы посел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Объект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0" name="Объект 5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ботник по уборке территории ДО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Содержимое 3" descr="Субботник с родителями ДОУ..JPG"/>
          <p:cNvPicPr/>
          <p:nvPr/>
        </p:nvPicPr>
        <p:blipFill>
          <a:blip r:embed="rId1"/>
          <a:stretch/>
        </p:blipFill>
        <p:spPr>
          <a:xfrm>
            <a:off x="1692360" y="1827360"/>
            <a:ext cx="583236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5640" y="765000"/>
            <a:ext cx="86770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 итоги проделанной работы можно сделать вывод, что кропотливые усилия родителей и педагогов обязательно приведут к формированию личности, которая будет 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26920" y="2565360"/>
            <a:ext cx="745344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живать свою сопричастность с далекими событиями истории, ощущать радость Великой Победы, испытывать гордость за свое Отече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1280" y="620640"/>
            <a:ext cx="352764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любви к родному краю, своей стране способствовала организация фотовыставк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я провел лето», организованная с помощью род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3" descr="DSCN0250.JPG"/>
          <p:cNvPicPr/>
          <p:nvPr/>
        </p:nvPicPr>
        <p:blipFill>
          <a:blip r:embed="rId1"/>
          <a:stretch/>
        </p:blipFill>
        <p:spPr>
          <a:xfrm>
            <a:off x="4392720" y="873000"/>
            <a:ext cx="392256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3708720" cy="51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Формирование у детей  таких чувств, как любовь к природе родного края, желание беречь её и защищать осуществлялось в таких совместных с родителями формах деятельности, как «Очистим территорию ДОУ», «Покормим птиц зимой», выставка «Дары осен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4" descr="DSC04706.JPG"/>
          <p:cNvPicPr/>
          <p:nvPr/>
        </p:nvPicPr>
        <p:blipFill>
          <a:blip r:embed="rId1"/>
          <a:stretch/>
        </p:blipFill>
        <p:spPr>
          <a:xfrm>
            <a:off x="4284720" y="1413000"/>
            <a:ext cx="44132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родители помогли разнообразить и дополнить мир игрушек своих детей настоящими народными тряпичными куклами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DSCN0450.jpg"/>
          <p:cNvPicPr/>
          <p:nvPr/>
        </p:nvPicPr>
        <p:blipFill>
          <a:blip r:embed="rId1"/>
          <a:stretch/>
        </p:blipFill>
        <p:spPr>
          <a:xfrm>
            <a:off x="1692360" y="1703520"/>
            <a:ext cx="57592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6000" y="549360"/>
            <a:ext cx="828036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с удовольствием используют их в сюжетно –ролевых играх и театрализован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Содержимое 3" descr="DSCN0454.jpg"/>
          <p:cNvPicPr/>
          <p:nvPr/>
        </p:nvPicPr>
        <p:blipFill>
          <a:blip r:embed="rId1"/>
          <a:stretch/>
        </p:blipFill>
        <p:spPr>
          <a:xfrm>
            <a:off x="1692360" y="1703520"/>
            <a:ext cx="57592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8072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 детей с традициями русской национальной культуры,  мы проводим театрализованные представления для родителей на тему русских народных сказок: «Теремок», «Три медведя», «Гуси-лебеди»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3" descr="Театральная деятельнось сказка Теремок.JPG"/>
          <p:cNvPicPr/>
          <p:nvPr/>
        </p:nvPicPr>
        <p:blipFill>
          <a:blip r:embed="rId1"/>
          <a:stretch/>
        </p:blipFill>
        <p:spPr>
          <a:xfrm>
            <a:off x="1554120" y="2457360"/>
            <a:ext cx="60357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28036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  очень важно отмечать День пожилого человека , ведь этот праздник – дополнительная возможность воспитать у детей любовь и уважение к старшему поколен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18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готовление пригласительных открыток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DSCN0345.jpg"/>
          <p:cNvPicPr/>
          <p:nvPr/>
        </p:nvPicPr>
        <p:blipFill>
          <a:blip r:embed="rId1"/>
          <a:stretch/>
        </p:blipFill>
        <p:spPr>
          <a:xfrm>
            <a:off x="1692360" y="1882800"/>
            <a:ext cx="5759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17-10-15T20:15:35Z</dcterms:modified>
  <cp:revision>60</cp:revision>
  <dc:subject/>
  <dc:title>Слайд 1</dc:title>
</cp:coreProperties>
</file>