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C527-F968-4AFF-AEBD-49EA7712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66C-7D96-4A9D-9542-DDEC34CD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6A2-D232-401C-BFB3-09E754163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62CA-1CD6-460A-8573-F3A6011DD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CF1C-1FCF-4272-AC35-FCC5787D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1D8E1-993F-4161-9260-CFBFE74A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09A8-1366-47AB-B22E-A594EC99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B007-E3D9-41F1-BC8B-CC7B9BEE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B85C-EB0C-49A8-8C8B-1F804D6A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71A2-A30F-4191-B3A2-848197C3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5C4B-E940-4794-97A3-A22A2B0D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E3D-B398-4E24-9C04-B905B19B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7152-ECAA-4FD4-8554-245E0F9C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7A62-DBE9-4969-9263-F68FCA3F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5D95-44B2-4599-968B-FFA72635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95B2-BEFE-4BDC-966B-6A0751E1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32BE-0F6F-4EE4-9BDE-32648655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BEA6-4131-462B-A0B8-E03D1DDB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F02-498D-498B-A420-8D889322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87C-7BA7-4784-9E3F-49EE13BE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CAAB-DD01-4319-AEDB-BC02633A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D382-5858-4B9D-971F-7B552766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9DB-7EB8-4309-9FD6-AD2FC440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920-F267-46B5-8D2A-16B824B6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27A8-85F8-4B5B-91B3-2DF5C9F6D0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96C9-0111-4BAE-92DE-C023FA3F106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МБОУ «Эртильская СОШ с УИОП»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структурное подразделение Ячейская школа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полнила: ученица 5 класса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Шпакова Ирин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: учитель физической культуры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охина З.М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17002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Проек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«Сколько весит здоровь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59280" y="6021360"/>
            <a:ext cx="30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016-2017 учебный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Наш эксперимент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Наши рекомендации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екомендации родителям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не покупайте тяжелые ранцы. Врачи рекомендуют средний вес ранца – 300г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у ваших детей от тяжелых нагрузок портится осанка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ваши дети быстрее устают, нося за спиной такие тяжест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пожалуйста, позаботьтесь о ваших детях и их здоровье!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4" name="Picture 2" descr="C:\Documents and Settings\Наташа\Рабочий стол\Рисунок1.jpg"/>
          <p:cNvPicPr/>
          <p:nvPr/>
        </p:nvPicPr>
        <p:blipFill>
          <a:blip r:embed="rId1"/>
          <a:stretch/>
        </p:blipFill>
        <p:spPr>
          <a:xfrm>
            <a:off x="2124000" y="4400640"/>
            <a:ext cx="4570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Что такое осанка</a:t>
            </a:r>
            <a:r>
              <a:rPr b="1" lang="en-US" sz="4400" spc="-1" strike="noStrike">
                <a:solidFill>
                  <a:srgbClr val="00ff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6" name="Picture 5" descr="C:\Documents and Settings\Наташа\Рабочий стол\фото к золот проекту 2015\CIMG2173.JPG"/>
          <p:cNvPicPr/>
          <p:nvPr/>
        </p:nvPicPr>
        <p:blipFill>
          <a:blip r:embed="rId1"/>
          <a:stretch/>
        </p:blipFill>
        <p:spPr>
          <a:xfrm>
            <a:off x="785880" y="1671480"/>
            <a:ext cx="3363840" cy="518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:\Documents and Settings\Наташа\Рабочий стол\фото к золот проекту 2015\CIMG2176.JPG"/>
          <p:cNvPicPr/>
          <p:nvPr/>
        </p:nvPicPr>
        <p:blipFill>
          <a:blip r:embed="rId2"/>
          <a:stretch/>
        </p:blipFill>
        <p:spPr>
          <a:xfrm>
            <a:off x="5000760" y="1695600"/>
            <a:ext cx="3568680" cy="5162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03200" y="907920"/>
            <a:ext cx="833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Verdana"/>
              </a:rPr>
              <a:t>Эксперимент:проверяем правильность осанки у школь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Рекомендации учителям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низить вес школьных ранцев обучающихся можно несколькими путями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используйте только те учебники, которые прошли гигиеническую экспертизу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при составлении школьного расписания учитывать гигиенические требования к весу ежедневных учебных комплек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организовать хранение сменной обуви и спортивного инвентаря, принадлежностей для уроков труда, изобразительного искусства в помещении школ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организовать в классе библиотеку необходимых книг для дополнительного чт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00"/>
                </a:solidFill>
                <a:latin typeface="Times New Roman"/>
              </a:rPr>
              <a:t>ВЫВОД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ыполняя эти рекомендации, мы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аши дети будем здоровы!                                                   Я здоровье сберегу, сам себе я помогу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3" name="Picture 2" descr="C:\Documents and Settings\Наташа\Рабочий стол\фото к золот проекту 2015\CIMG2171.JPG"/>
          <p:cNvPicPr/>
          <p:nvPr/>
        </p:nvPicPr>
        <p:blipFill>
          <a:blip r:embed="rId1"/>
          <a:stretch/>
        </p:blipFill>
        <p:spPr>
          <a:xfrm>
            <a:off x="714240" y="2097000"/>
            <a:ext cx="731376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        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ЦЕЛЬ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ыяснить - безопасен ли для здоровья вес моего портфеля и вес портфелей учеников 1-5 классов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ЗАДАЧИ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изучить (с помощью учителя) «Гигиенические требования к изданиям учебников для общего и начального профессионального образования», в частности весовые нормы;                                                                                             *провести взвешивание (с последующим анализом) учебников, школьных принадлежностей, портфеля и учеников;                                                                           *описать, как влияют тяжелые ранцы на растущий организм школьника, к каким последствиям это приводит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доказать, что тяжелый портфель вредит здоровью;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предложить свои способы решения проблемы.</a:t>
            </a:r>
            <a:br>
              <a:rPr sz="2400"/>
            </a:b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19280" y="0"/>
            <a:ext cx="61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00"/>
                </a:solidFill>
                <a:latin typeface="Times New Roman"/>
              </a:rPr>
              <a:t>Цели и задачи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Загадки Мудрого портфеля</a:t>
            </a:r>
            <a:br>
              <a:rPr sz="4000"/>
            </a:b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(историческая справка)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ртфель – слово французского происхождения, состоит из двух частей. «Порт» – несу, «фель» – листы, дословно переводится «ношу листы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огда на земле появился портфель? Совершая раскопки в Альпийских горах, ученые-археологи нашли тело древнего человека, рядом с которым лежал портфель. Хозяину портфеля было около 5 тысяч лет. Портфель был сделан из кожи и досок. Его можно было носить как на спине, так и в рука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427280" y="189000"/>
            <a:ext cx="42591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Мы привыкли считать ранец  исключительно школьным предметом, а его вместе с названием занесли к нам как «заплечный мешок» - 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anzen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наемные немецкие солдаты московских царей в 17 веке. Лет через 150-200 слово перешло на ученическую сумку, которые раньше делали из тюленьей кожи, также носимую на спине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5" descr="C:\Documents and Settings\Наташа\Рабочий стол\фото к золот проекту 2015\Копия CIMG2154.JPG"/>
          <p:cNvPicPr/>
          <p:nvPr/>
        </p:nvPicPr>
        <p:blipFill>
          <a:blip r:embed="rId1"/>
          <a:stretch/>
        </p:blipFill>
        <p:spPr>
          <a:xfrm>
            <a:off x="214200" y="115920"/>
            <a:ext cx="367344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00"/>
                </a:solidFill>
                <a:latin typeface="Times New Roman"/>
              </a:rPr>
              <a:t>Жители наших ранцев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Picture 4" descr="C:\Documents and Settings\Наташа\Рабочий стол\фото к золот проекту 2015\CIMG2158.JPG"/>
          <p:cNvPicPr/>
          <p:nvPr/>
        </p:nvPicPr>
        <p:blipFill>
          <a:blip r:embed="rId1"/>
          <a:stretch/>
        </p:blipFill>
        <p:spPr>
          <a:xfrm rot="20727600">
            <a:off x="395280" y="1484280"/>
            <a:ext cx="2411280" cy="17478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Documents and Settings\Наташа\Рабочий стол\фото к золот проекту 2015\CIMG2156.JPG"/>
          <p:cNvPicPr/>
          <p:nvPr/>
        </p:nvPicPr>
        <p:blipFill>
          <a:blip r:embed="rId2"/>
          <a:stretch/>
        </p:blipFill>
        <p:spPr>
          <a:xfrm>
            <a:off x="3571920" y="1214280"/>
            <a:ext cx="4419720" cy="911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C:\Documents and Settings\Наташа\Рабочий стол\фото к золот проекту 2015\CIMG2155.JPG"/>
          <p:cNvPicPr/>
          <p:nvPr/>
        </p:nvPicPr>
        <p:blipFill>
          <a:blip r:embed="rId3"/>
          <a:stretch/>
        </p:blipFill>
        <p:spPr>
          <a:xfrm>
            <a:off x="5940360" y="2421000"/>
            <a:ext cx="3203640" cy="903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:\Documents and Settings\Наташа\Рабочий стол\фото к золот проекту 2015\CIMG2161.JPG"/>
          <p:cNvPicPr/>
          <p:nvPr/>
        </p:nvPicPr>
        <p:blipFill>
          <a:blip r:embed="rId4"/>
          <a:stretch/>
        </p:blipFill>
        <p:spPr>
          <a:xfrm rot="1701000">
            <a:off x="3335040" y="3816360"/>
            <a:ext cx="4805280" cy="2022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C:\Documents and Settings\Наташа\Рабочий стол\фото к золот проекту 2015\CIMG2162.JPG"/>
          <p:cNvPicPr/>
          <p:nvPr/>
        </p:nvPicPr>
        <p:blipFill>
          <a:blip r:embed="rId5"/>
          <a:stretch/>
        </p:blipFill>
        <p:spPr>
          <a:xfrm>
            <a:off x="428760" y="3673440"/>
            <a:ext cx="221436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Изучение научно-популярной литературы по вопросу исследования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ёные провели эксперимент и сделали выводы: чем тяжелее портфель, тем больше ощущается боль в спине;  а средний вес ранца школьника обычно составляет 22% от веса тела; перекос правого плеча ведёт ещё и к нарушениям осанк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ёные установили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правильный портфель весит пустым 300-500грамм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ес учебного издания для возрастной группы 1-5 классов не должен превышать 300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Что лучше носить – ранец или портфель?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Picture 5" descr="C:\Documents and Settings\Наташа\Рабочий стол\фото к золот проекту 2015\CIMG2150.JPG"/>
          <p:cNvPicPr/>
          <p:nvPr/>
        </p:nvPicPr>
        <p:blipFill>
          <a:blip r:embed="rId1"/>
          <a:stretch/>
        </p:blipFill>
        <p:spPr>
          <a:xfrm>
            <a:off x="324000" y="1300320"/>
            <a:ext cx="3438360" cy="555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:\Documents and Settings\Наташа\Рабочий стол\фото к золот проекту 2015\CIMG2152.JPG"/>
          <p:cNvPicPr/>
          <p:nvPr/>
        </p:nvPicPr>
        <p:blipFill>
          <a:blip r:embed="rId2"/>
          <a:stretch/>
        </p:blipFill>
        <p:spPr>
          <a:xfrm>
            <a:off x="5508720" y="1278000"/>
            <a:ext cx="34290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Выбираем ранец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980640"/>
            <a:ext cx="4691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-487440">
              <a:spcBef>
                <a:spcPts val="4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Спинка должна быть твердо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. Ткань должна быть прочной и водонепроницаемой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3. Рюкзак должен быть с двумя лямками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4. Пустой рюкзак должен весить не более 500 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5. Ручки ранца должны быть гладкие, без вырезов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487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Picture 4" descr="C:\Documents and Settings\Наташа\Рабочий стол\фото к золот проекту 2015\CIMG2151.JPG"/>
          <p:cNvPicPr/>
          <p:nvPr/>
        </p:nvPicPr>
        <p:blipFill>
          <a:blip r:embed="rId1"/>
          <a:stretch/>
        </p:blipFill>
        <p:spPr>
          <a:xfrm>
            <a:off x="5929200" y="1071720"/>
            <a:ext cx="30718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Гигиенические требования к учебникам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345600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-4 классы – 300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5-6 классы – 400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7-8 классы – 500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-11 классы – 600г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Математика-27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Литературное чтение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2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Русский язык-25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кружающий мир-24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Тетрадь на печатной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основе-22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Проверочные работы-120г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Дневник-150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5" descr="C:\Documents and Settings\Наташа\Рабочий стол\фото к золот проекту 2015\CIMG2163.JPG"/>
          <p:cNvPicPr/>
          <p:nvPr/>
        </p:nvPicPr>
        <p:blipFill>
          <a:blip r:embed="rId1"/>
          <a:stretch/>
        </p:blipFill>
        <p:spPr>
          <a:xfrm>
            <a:off x="3564000" y="1557360"/>
            <a:ext cx="1479600" cy="2108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C:\Documents and Settings\Наташа\Рабочий стол\фото к золот проекту 2015\CIMG2167.JPG"/>
          <p:cNvPicPr/>
          <p:nvPr/>
        </p:nvPicPr>
        <p:blipFill>
          <a:blip r:embed="rId2"/>
          <a:stretch/>
        </p:blipFill>
        <p:spPr>
          <a:xfrm rot="1062600">
            <a:off x="5363640" y="1557360"/>
            <a:ext cx="3519720" cy="2230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C:\Documents and Settings\Наташа\Рабочий стол\фото к золот проекту 2015\CIMG2168.JPG"/>
          <p:cNvPicPr/>
          <p:nvPr/>
        </p:nvPicPr>
        <p:blipFill>
          <a:blip r:embed="rId3"/>
          <a:stretch/>
        </p:blipFill>
        <p:spPr>
          <a:xfrm rot="20799000">
            <a:off x="3995280" y="3860280"/>
            <a:ext cx="3429000" cy="2417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Documents and Settings\Наташа\Рабочий стол\фото к золот проекту 2015\CIMG2166.JPG"/>
          <p:cNvPicPr/>
          <p:nvPr/>
        </p:nvPicPr>
        <p:blipFill>
          <a:blip r:embed="rId4"/>
          <a:stretch/>
        </p:blipFill>
        <p:spPr>
          <a:xfrm>
            <a:off x="6551640" y="4613400"/>
            <a:ext cx="259236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4T11:13:55Z</dcterms:created>
  <dc:creator>ws</dc:creator>
  <dc:description/>
  <dc:language>en-US</dc:language>
  <cp:lastModifiedBy>ws</cp:lastModifiedBy>
  <dcterms:modified xsi:type="dcterms:W3CDTF">2017-04-04T13:53:08Z</dcterms:modified>
  <cp:revision>4</cp:revision>
  <dc:subject/>
  <dc:title>МБОУ «Эртильская СОШ с УИОП»  структурное подразделение Ячейская школа</dc:title>
</cp:coreProperties>
</file>