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C99C-E9B7-4867-A96A-44D378CA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BB3A-BCCE-4DCA-AB91-07E76767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DA6D-658F-490A-A515-2171F8AC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93E-83B9-4975-9441-A1539ED7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ADB8-ACD4-4B70-9EF7-9F11512B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6072-A107-43F8-855D-AA4CBBCE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0A38-A5E5-4324-B575-ECA7924F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8229-4931-4D6F-8E06-B4C7BED4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B314-4EA4-4689-88B4-668774D0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2B41-8D5C-4280-A723-1EBA5AFD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CEA3-0FA8-4977-A8C4-D6A8C284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3AF-24DD-43EB-8372-DAF4F46E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35B9-F145-493E-B790-050BFB66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C3F2-AA54-414D-B957-8BBD1B62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3F79-BBF7-4C12-B32A-A871CC85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5921-1709-4A1D-BF56-E04D2096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C24F-7436-4B7A-AA9C-711DBD78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60AE-8711-4D65-9E33-C880EDD6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3121-6A50-4739-BC8A-6643AB4B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D58D-9728-44AB-B2F3-7BB7DAF8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E47-27C3-47FE-BDD4-A11331A7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96DC-FBA5-4C50-BD98-6BEB17D2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11A0-F1AE-46F2-80DD-A3DAA7AA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AEF5-F94F-441A-8ED3-BF3E29A7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5776-3EF9-4A0C-B1E9-4AEB9941509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AD0B-C3B3-4703-A4A3-7AC33AA82B4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МБОУ «Эртильская СОШ с УИОП»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структурное подразделение Ячейская школ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: ученица 5 класс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Шпакова Ири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водитель: учитель физической культуры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охина З.М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1700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Проек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«Сколько весит здоровье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59280" y="6021360"/>
            <a:ext cx="30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016-2017 учебный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Наш эксперимент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Наши рекомендаци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комендации родителям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не покупайте тяжелые ранцы. Врачи рекомендуют средний вес ранца – 300г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у ваших детей от тяжелых нагрузок портится осанк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ваши дети быстрее устают, нося за спиной такие тяжест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пожалуйста, позаботьтесь о ваших детях и их здоровье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2" descr="C:\Documents and Settings\Наташа\Рабочий стол\Рисунок1.jpg"/>
          <p:cNvPicPr/>
          <p:nvPr/>
        </p:nvPicPr>
        <p:blipFill>
          <a:blip r:embed="rId1"/>
          <a:stretch/>
        </p:blipFill>
        <p:spPr>
          <a:xfrm>
            <a:off x="2124000" y="4400640"/>
            <a:ext cx="45705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Что такое осанка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6" name="Picture 5" descr="C:\Documents and Settings\Наташа\Рабочий стол\фото к золот проекту 2015\CIMG2173.JPG"/>
          <p:cNvPicPr/>
          <p:nvPr/>
        </p:nvPicPr>
        <p:blipFill>
          <a:blip r:embed="rId1"/>
          <a:stretch/>
        </p:blipFill>
        <p:spPr>
          <a:xfrm>
            <a:off x="785880" y="1671480"/>
            <a:ext cx="3363840" cy="5186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C:\Documents and Settings\Наташа\Рабочий стол\фото к золот проекту 2015\CIMG2176.JPG"/>
          <p:cNvPicPr/>
          <p:nvPr/>
        </p:nvPicPr>
        <p:blipFill>
          <a:blip r:embed="rId2"/>
          <a:stretch/>
        </p:blipFill>
        <p:spPr>
          <a:xfrm>
            <a:off x="5000760" y="1695600"/>
            <a:ext cx="3568680" cy="5162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03200" y="907920"/>
            <a:ext cx="833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Verdana"/>
              </a:rPr>
              <a:t>Эксперимент:проверяем правильность осанки у школь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Рекомендации учителям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низить вес школьных ранцев обучающихся можно несколькими путями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используйте только те учебники, которые прошли гигиеническую экспертизу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при составлении школьного расписания учитывать гигиенические требования к весу ежедневных учебных комплекто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организовать хранение сменной обуви и спортивного инвентаря, принадлежностей для уроков труда, изобразительного искусства в помещении школ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организовать в классе библиотеку необходимых книг для дополнительного чт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ВЫВОД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ыполняя эти рекомендации, мы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аши дети будем здоровы!                                                   Я здоровье сберегу, сам себе я помогу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2" descr="C:\Documents and Settings\Наташа\Рабочий стол\фото к золот проекту 2015\CIMG2171.JPG"/>
          <p:cNvPicPr/>
          <p:nvPr/>
        </p:nvPicPr>
        <p:blipFill>
          <a:blip r:embed="rId1"/>
          <a:stretch/>
        </p:blipFill>
        <p:spPr>
          <a:xfrm>
            <a:off x="714240" y="2097000"/>
            <a:ext cx="731376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ЦЕЛЬ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ыяснить - безопасен ли для здоровья вес моего портфеля и вес портфелей учеников 1-5 классов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ЗАДАЧИ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изучить (с помощью учителя) «Гигиенические требования к изданиям учебников для общего и начального профессионального образования», в частности весовые нормы;                                                                                             *провести взвешивание (с последующим анализом) учебников, школьных принадлежностей, портфеля и учеников;                                                                           *описать, как влияют тяжелые ранцы на растущий организм школьника, к каким последствиям это приводит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доказать, что тяжелый портфель вредит здоровью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предложить свои способы решения проблемы.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19280" y="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Цели и задачи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Загадки Мудрого портфеля</a:t>
            </a:r>
            <a:br>
              <a:rPr sz="4000"/>
            </a:b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(историческая справка)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ртфель – слово французского происхождения, состоит из двух частей. «Порт» – несу, «фель» – листы, дословно переводится «ношу листы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гда на земле появился портфель? Совершая раскопки в Альпийских горах, ученые-археологи нашли тело древнего человека, рядом с которым лежал портфель. Хозяину портфеля было около 5 тысяч лет. Портфель был сделан из кожи и досок. Его можно было носить как на спине, так и в рука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427280" y="189000"/>
            <a:ext cx="42591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ы привыкли считать ранец  исключительно школьным предметом, а его вместе с названием занесли к нам как «заплечный мешок» -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anzen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аемные немецкие солдаты московских царей в 17 веке. Лет через 150-200 слово перешло на ученическую сумку, которые раньше делали из тюленьей кожи, также носимую на спине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5" descr="C:\Documents and Settings\Наташа\Рабочий стол\фото к золот проекту 2015\Копия CIMG2154.JPG"/>
          <p:cNvPicPr/>
          <p:nvPr/>
        </p:nvPicPr>
        <p:blipFill>
          <a:blip r:embed="rId1"/>
          <a:stretch/>
        </p:blipFill>
        <p:spPr>
          <a:xfrm>
            <a:off x="214200" y="115920"/>
            <a:ext cx="36734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Жители наших ранцев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1" name="Picture 4" descr="C:\Documents and Settings\Наташа\Рабочий стол\фото к золот проекту 2015\CIMG2158.JPG"/>
          <p:cNvPicPr/>
          <p:nvPr/>
        </p:nvPicPr>
        <p:blipFill>
          <a:blip r:embed="rId1"/>
          <a:stretch/>
        </p:blipFill>
        <p:spPr>
          <a:xfrm rot="20727600">
            <a:off x="395280" y="1484280"/>
            <a:ext cx="2411280" cy="1747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:\Documents and Settings\Наташа\Рабочий стол\фото к золот проекту 2015\CIMG2156.JPG"/>
          <p:cNvPicPr/>
          <p:nvPr/>
        </p:nvPicPr>
        <p:blipFill>
          <a:blip r:embed="rId2"/>
          <a:stretch/>
        </p:blipFill>
        <p:spPr>
          <a:xfrm>
            <a:off x="3571920" y="1214280"/>
            <a:ext cx="4419720" cy="911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C:\Documents and Settings\Наташа\Рабочий стол\фото к золот проекту 2015\CIMG2155.JPG"/>
          <p:cNvPicPr/>
          <p:nvPr/>
        </p:nvPicPr>
        <p:blipFill>
          <a:blip r:embed="rId3"/>
          <a:stretch/>
        </p:blipFill>
        <p:spPr>
          <a:xfrm>
            <a:off x="5940360" y="2421000"/>
            <a:ext cx="3203640" cy="903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Documents and Settings\Наташа\Рабочий стол\фото к золот проекту 2015\CIMG2161.JPG"/>
          <p:cNvPicPr/>
          <p:nvPr/>
        </p:nvPicPr>
        <p:blipFill>
          <a:blip r:embed="rId4"/>
          <a:stretch/>
        </p:blipFill>
        <p:spPr>
          <a:xfrm rot="1701000">
            <a:off x="3335040" y="3816360"/>
            <a:ext cx="4805280" cy="2022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C:\Documents and Settings\Наташа\Рабочий стол\фото к золот проекту 2015\CIMG2162.JPG"/>
          <p:cNvPicPr/>
          <p:nvPr/>
        </p:nvPicPr>
        <p:blipFill>
          <a:blip r:embed="rId5"/>
          <a:stretch/>
        </p:blipFill>
        <p:spPr>
          <a:xfrm>
            <a:off x="428760" y="3673440"/>
            <a:ext cx="22143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Изучение научно-популярной литературы по вопросу исследования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чёные провели эксперимент и сделали выводы: чем тяжелее портфель, тем больше ощущается боль в спине;  а средний вес ранца школьника обычно составляет 22% от веса тела; перекос правого плеча ведёт ещё и к нарушениям осанк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чёные установили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правильный портфель весит пустым 300-500грам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ес учебного издания для возрастной группы 1-5 классов не должен превышать 300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Что лучше носить – ранец или портфель?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9" name="Picture 5" descr="C:\Documents and Settings\Наташа\Рабочий стол\фото к золот проекту 2015\CIMG2150.JPG"/>
          <p:cNvPicPr/>
          <p:nvPr/>
        </p:nvPicPr>
        <p:blipFill>
          <a:blip r:embed="rId1"/>
          <a:stretch/>
        </p:blipFill>
        <p:spPr>
          <a:xfrm>
            <a:off x="324000" y="1300320"/>
            <a:ext cx="3438360" cy="5557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C:\Documents and Settings\Наташа\Рабочий стол\фото к золот проекту 2015\CIMG2152.JPG"/>
          <p:cNvPicPr/>
          <p:nvPr/>
        </p:nvPicPr>
        <p:blipFill>
          <a:blip r:embed="rId2"/>
          <a:stretch/>
        </p:blipFill>
        <p:spPr>
          <a:xfrm>
            <a:off x="5508720" y="1278000"/>
            <a:ext cx="342900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Выбираем ранец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46911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87440" indent="-487440"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Спинка должна быть твердой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7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7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. Ткань должна быть прочной и водонепроницаемой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7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7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3. Рюкзак должен быть с двумя лямкам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7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7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4. Пустой рюкзак должен весить не более 500 г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7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7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5. Ручки ранца должны быть гладкие, без вырез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7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4" descr="C:\Documents and Settings\Наташа\Рабочий стол\фото к золот проекту 2015\CIMG2151.JPG"/>
          <p:cNvPicPr/>
          <p:nvPr/>
        </p:nvPicPr>
        <p:blipFill>
          <a:blip r:embed="rId1"/>
          <a:stretch/>
        </p:blipFill>
        <p:spPr>
          <a:xfrm>
            <a:off x="5929200" y="1071720"/>
            <a:ext cx="30718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Гигиенические требования к учебникам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3456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-4 классы – 300г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5-6 классы – 400г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7-8 классы – 500г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0-11 классы – 600г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Математика-270г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Литературное чтение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20г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Русский язык-250г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кружающий мир-240г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етрадь на печатно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снове-220г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оверочные работы-120г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невник-150г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5" descr="C:\Documents and Settings\Наташа\Рабочий стол\фото к золот проекту 2015\CIMG2163.JPG"/>
          <p:cNvPicPr/>
          <p:nvPr/>
        </p:nvPicPr>
        <p:blipFill>
          <a:blip r:embed="rId1"/>
          <a:stretch/>
        </p:blipFill>
        <p:spPr>
          <a:xfrm>
            <a:off x="3564000" y="1557360"/>
            <a:ext cx="1479600" cy="2108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C:\Documents and Settings\Наташа\Рабочий стол\фото к золот проекту 2015\CIMG2167.JPG"/>
          <p:cNvPicPr/>
          <p:nvPr/>
        </p:nvPicPr>
        <p:blipFill>
          <a:blip r:embed="rId2"/>
          <a:stretch/>
        </p:blipFill>
        <p:spPr>
          <a:xfrm rot="1062600">
            <a:off x="5363640" y="1557360"/>
            <a:ext cx="3519720" cy="2230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C:\Documents and Settings\Наташа\Рабочий стол\фото к золот проекту 2015\CIMG2168.JPG"/>
          <p:cNvPicPr/>
          <p:nvPr/>
        </p:nvPicPr>
        <p:blipFill>
          <a:blip r:embed="rId3"/>
          <a:stretch/>
        </p:blipFill>
        <p:spPr>
          <a:xfrm rot="20799000">
            <a:off x="3995280" y="3860280"/>
            <a:ext cx="3429000" cy="2417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:\Documents and Settings\Наташа\Рабочий стол\фото к золот проекту 2015\CIMG2166.JPG"/>
          <p:cNvPicPr/>
          <p:nvPr/>
        </p:nvPicPr>
        <p:blipFill>
          <a:blip r:embed="rId4"/>
          <a:stretch/>
        </p:blipFill>
        <p:spPr>
          <a:xfrm>
            <a:off x="6551640" y="4613400"/>
            <a:ext cx="259236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4T11:13:55Z</dcterms:created>
  <dc:creator>ws</dc:creator>
  <dc:description/>
  <dc:language>en-US</dc:language>
  <cp:lastModifiedBy>ws</cp:lastModifiedBy>
  <dcterms:modified xsi:type="dcterms:W3CDTF">2017-04-04T13:53:08Z</dcterms:modified>
  <cp:revision>4</cp:revision>
  <dc:subject/>
  <dc:title>МБОУ «Эртильская СОШ с УИОП»  структурное подразделение Ячейская школа</dc:title>
</cp:coreProperties>
</file>