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4AB-E08F-4983-AA25-52B3BFBA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51E-9FA4-4916-B55F-A9E9465A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B2F-D6D3-4A95-81E6-88615899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EF8-E76B-49D6-9629-11BF53B0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C3A-F2B9-45A2-8BF2-2CDDFE4C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5C3-FA58-4011-8644-0EE57A8F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F37-2EAC-4C3C-8AAB-1CE67113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358-92C8-4182-9319-13C397AC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EB1-E711-41D8-8952-0E7E54F5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57B-29DC-401C-8C71-0541EC57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BDE-307D-4CDC-93DD-95991FD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7A6-AB1F-49EA-BE6D-B7D0D7B0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29AA-C5ED-4A40-9EF6-8861A28F7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луг.gif"/>
          <p:cNvPicPr/>
          <p:nvPr/>
        </p:nvPicPr>
        <p:blipFill>
          <a:blip r:embed="rId4"/>
          <a:stretch/>
        </p:blipFill>
        <p:spPr>
          <a:xfrm>
            <a:off x="0" y="285840"/>
            <a:ext cx="9126360" cy="657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\Рабочий стол\угадай\Синий.gif"/>
          <p:cNvPicPr/>
          <p:nvPr/>
        </p:nvPicPr>
        <p:blipFill>
          <a:blip r:embed="rId5"/>
          <a:stretch/>
        </p:blipFill>
        <p:spPr>
          <a:xfrm>
            <a:off x="7715160" y="6429240"/>
            <a:ext cx="1214640" cy="258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206064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1f497d"/>
                </a:solidFill>
                <a:latin typeface="Georgia"/>
              </a:rPr>
              <a:t>«Коррекция гиперактивности детей старшего дошкольного возраста»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971640" y="4762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Работа с ро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286000" y="28288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Индивидуальные и групповые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Семинары-практику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971640" y="765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Georgia"/>
              </a:rPr>
              <a:t>ПРОГРАММА </a:t>
            </a:r>
            <a:br>
              <a:rPr sz="2400"/>
            </a:br>
            <a:r>
              <a:rPr b="1" i="1" lang="ru-RU" sz="2400" spc="-1" strike="noStrike">
                <a:solidFill>
                  <a:srgbClr val="1f497d"/>
                </a:solidFill>
                <a:latin typeface="Georgia"/>
              </a:rPr>
              <a:t>КОРРЕКЦИИ ДЕТЕЙ  С СИНДРОИМОМ ГИПЕРАКТИВ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Группа 2"/>
          <p:cNvGrpSpPr/>
          <p:nvPr/>
        </p:nvGrpSpPr>
        <p:grpSpPr>
          <a:xfrm>
            <a:off x="1186920" y="2708280"/>
            <a:ext cx="5472720" cy="611280"/>
            <a:chOff x="1186920" y="2708280"/>
            <a:chExt cx="5472720" cy="611280"/>
          </a:xfrm>
        </p:grpSpPr>
        <p:sp>
          <p:nvSpPr>
            <p:cNvPr id="117" name="Пятиугольник 3"/>
            <p:cNvSpPr/>
            <p:nvPr/>
          </p:nvSpPr>
          <p:spPr>
            <a:xfrm rot="10800000">
              <a:off x="1186920" y="2707920"/>
              <a:ext cx="5472360" cy="611280"/>
            </a:xfrm>
            <a:custGeom>
              <a:avLst/>
              <a:gdLst>
                <a:gd name="textAreaLeft" fmla="*/ 0 w 5472360"/>
                <a:gd name="textAreaRight" fmla="*/ 5472360 w 547236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ятиугольник 4"/>
            <p:cNvSpPr/>
            <p:nvPr/>
          </p:nvSpPr>
          <p:spPr>
            <a:xfrm>
              <a:off x="1339560" y="2708280"/>
              <a:ext cx="53200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1 ЭТАП- индивидуальные занят</a:t>
              </a:r>
              <a:r>
                <a:rPr b="1" lang="ru-RU" sz="1700" spc="-1" strike="noStrike">
                  <a:solidFill>
                    <a:srgbClr val="ffffff"/>
                  </a:solidFill>
                  <a:latin typeface="Calibri"/>
                </a:rPr>
                <a:t>ия</a:t>
              </a:r>
              <a:r>
                <a:rPr b="0" lang="ru-RU" sz="17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5"/>
          <p:cNvGrpSpPr/>
          <p:nvPr/>
        </p:nvGrpSpPr>
        <p:grpSpPr>
          <a:xfrm>
            <a:off x="1244160" y="3538440"/>
            <a:ext cx="5472720" cy="611280"/>
            <a:chOff x="1244160" y="3538440"/>
            <a:chExt cx="5472720" cy="611280"/>
          </a:xfrm>
        </p:grpSpPr>
        <p:sp>
          <p:nvSpPr>
            <p:cNvPr id="120" name="Пятиугольник 6"/>
            <p:cNvSpPr/>
            <p:nvPr/>
          </p:nvSpPr>
          <p:spPr>
            <a:xfrm rot="10800000">
              <a:off x="1244160" y="3538440"/>
              <a:ext cx="5472360" cy="611280"/>
            </a:xfrm>
            <a:custGeom>
              <a:avLst/>
              <a:gdLst>
                <a:gd name="textAreaLeft" fmla="*/ 0 w 5472360"/>
                <a:gd name="textAreaRight" fmla="*/ 5472360 w 547236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ятиугольник 4"/>
            <p:cNvSpPr/>
            <p:nvPr/>
          </p:nvSpPr>
          <p:spPr>
            <a:xfrm>
              <a:off x="1396800" y="3538440"/>
              <a:ext cx="53200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2 ЭТАП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 - игры в малых подгруппа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Группа 8"/>
          <p:cNvGrpSpPr/>
          <p:nvPr/>
        </p:nvGrpSpPr>
        <p:grpSpPr>
          <a:xfrm>
            <a:off x="1320840" y="4433760"/>
            <a:ext cx="5472000" cy="609840"/>
            <a:chOff x="1320840" y="4433760"/>
            <a:chExt cx="5472000" cy="609840"/>
          </a:xfrm>
        </p:grpSpPr>
        <p:sp>
          <p:nvSpPr>
            <p:cNvPr id="123" name="Пятиугольник 9"/>
            <p:cNvSpPr/>
            <p:nvPr/>
          </p:nvSpPr>
          <p:spPr>
            <a:xfrm rot="10800000">
              <a:off x="1320840" y="4433760"/>
              <a:ext cx="5472000" cy="609840"/>
            </a:xfrm>
            <a:custGeom>
              <a:avLst/>
              <a:gdLst>
                <a:gd name="textAreaLeft" fmla="*/ 0 w 5472000"/>
                <a:gd name="textAreaRight" fmla="*/ 5472360 w 54720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ятиугольник 4"/>
            <p:cNvSpPr/>
            <p:nvPr/>
          </p:nvSpPr>
          <p:spPr>
            <a:xfrm>
              <a:off x="1473120" y="4433760"/>
              <a:ext cx="5319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3 ЭТАП 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- игры на тренировку сразу двух функц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Группа 11"/>
          <p:cNvGrpSpPr/>
          <p:nvPr/>
        </p:nvGrpSpPr>
        <p:grpSpPr>
          <a:xfrm>
            <a:off x="1187280" y="5445000"/>
            <a:ext cx="5400720" cy="609840"/>
            <a:chOff x="1187280" y="5445000"/>
            <a:chExt cx="5400720" cy="609840"/>
          </a:xfrm>
        </p:grpSpPr>
        <p:sp>
          <p:nvSpPr>
            <p:cNvPr id="126" name="Пятиугольник 12"/>
            <p:cNvSpPr/>
            <p:nvPr/>
          </p:nvSpPr>
          <p:spPr>
            <a:xfrm rot="10800000">
              <a:off x="1187280" y="5445000"/>
              <a:ext cx="5400720" cy="609840"/>
            </a:xfrm>
            <a:custGeom>
              <a:avLst/>
              <a:gdLst>
                <a:gd name="textAreaLeft" fmla="*/ 0 w 5400720"/>
                <a:gd name="textAreaRight" fmla="*/ 5401080 w 54007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80" y="0"/>
                  </a:lnTo>
                  <a:lnTo>
                    <a:pt x="21600" y="10800"/>
                  </a:lnTo>
                  <a:lnTo>
                    <a:pt x="2038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ятиугольник 4"/>
            <p:cNvSpPr/>
            <p:nvPr/>
          </p:nvSpPr>
          <p:spPr>
            <a:xfrm>
              <a:off x="1339560" y="5445000"/>
              <a:ext cx="5248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4 ЭТАП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 - одновременная отработка(в одной игре) всех 3-х функци</a:t>
              </a:r>
              <a:r>
                <a:rPr b="1" lang="ru-RU" sz="17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Группа 1"/>
          <p:cNvGrpSpPr/>
          <p:nvPr/>
        </p:nvGrpSpPr>
        <p:grpSpPr>
          <a:xfrm>
            <a:off x="250920" y="1143000"/>
            <a:ext cx="1008000" cy="4572000"/>
            <a:chOff x="250920" y="1143000"/>
            <a:chExt cx="1008000" cy="4572000"/>
          </a:xfrm>
        </p:grpSpPr>
        <p:sp>
          <p:nvSpPr>
            <p:cNvPr id="129" name="Блок-схема: ручное управление 2"/>
            <p:cNvSpPr/>
            <p:nvPr/>
          </p:nvSpPr>
          <p:spPr>
            <a:xfrm rot="16200000">
              <a:off x="-1530720" y="2925000"/>
              <a:ext cx="4572000" cy="1008000"/>
            </a:xfrm>
            <a:prstGeom prst="flowChartManualOperation">
              <a:avLst/>
            </a:prstGeom>
            <a:solidFill>
              <a:srgbClr val="9bbb59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Блок-схема: ручное управление 4"/>
            <p:cNvSpPr/>
            <p:nvPr/>
          </p:nvSpPr>
          <p:spPr>
            <a:xfrm>
              <a:off x="250920" y="2057400"/>
              <a:ext cx="10080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i="1" lang="ru-RU" sz="1600" spc="-1" strike="noStrike">
                  <a:solidFill>
                    <a:srgbClr val="ffffff"/>
                  </a:solidFill>
                  <a:latin typeface="Georgia"/>
                </a:rPr>
                <a:t>растяжка - 4-5 мину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4"/>
          <p:cNvGrpSpPr/>
          <p:nvPr/>
        </p:nvGrpSpPr>
        <p:grpSpPr>
          <a:xfrm>
            <a:off x="1258920" y="1143000"/>
            <a:ext cx="1368360" cy="4572000"/>
            <a:chOff x="1258920" y="1143000"/>
            <a:chExt cx="1368360" cy="4572000"/>
          </a:xfrm>
        </p:grpSpPr>
        <p:sp>
          <p:nvSpPr>
            <p:cNvPr id="132" name="Блок-схема: ручное управление 5"/>
            <p:cNvSpPr/>
            <p:nvPr/>
          </p:nvSpPr>
          <p:spPr>
            <a:xfrm rot="16200000">
              <a:off x="-342720" y="2744640"/>
              <a:ext cx="4572000" cy="1368360"/>
            </a:xfrm>
            <a:prstGeom prst="flowChartManualOperation">
              <a:avLst/>
            </a:prstGeom>
            <a:solidFill>
              <a:srgbClr val="b3a2c7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Блок-схема: ручное управление 4"/>
            <p:cNvSpPr/>
            <p:nvPr/>
          </p:nvSpPr>
          <p:spPr>
            <a:xfrm>
              <a:off x="1258920" y="2057400"/>
              <a:ext cx="1368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релаксация - 4-5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7"/>
          <p:cNvGrpSpPr/>
          <p:nvPr/>
        </p:nvGrpSpPr>
        <p:grpSpPr>
          <a:xfrm>
            <a:off x="2627280" y="1146240"/>
            <a:ext cx="1513080" cy="4572000"/>
            <a:chOff x="2627280" y="1146240"/>
            <a:chExt cx="1513080" cy="4572000"/>
          </a:xfrm>
        </p:grpSpPr>
        <p:sp>
          <p:nvSpPr>
            <p:cNvPr id="135" name="Блок-схема: ручное управление 8"/>
            <p:cNvSpPr/>
            <p:nvPr/>
          </p:nvSpPr>
          <p:spPr>
            <a:xfrm rot="16200000">
              <a:off x="1097640" y="2675520"/>
              <a:ext cx="4572000" cy="1513080"/>
            </a:xfrm>
            <a:prstGeom prst="flowChartManualOperation">
              <a:avLst/>
            </a:prstGeom>
            <a:solidFill>
              <a:srgbClr val="d99694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Блок-схема: ручное управление 4"/>
            <p:cNvSpPr/>
            <p:nvPr/>
          </p:nvSpPr>
          <p:spPr>
            <a:xfrm>
              <a:off x="2627280" y="2060640"/>
              <a:ext cx="15130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дыхательное упражнение - 3-4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10"/>
          <p:cNvGrpSpPr/>
          <p:nvPr/>
        </p:nvGrpSpPr>
        <p:grpSpPr>
          <a:xfrm>
            <a:off x="4140360" y="1143000"/>
            <a:ext cx="1800000" cy="4572000"/>
            <a:chOff x="4140360" y="1143000"/>
            <a:chExt cx="1800000" cy="4572000"/>
          </a:xfrm>
        </p:grpSpPr>
        <p:sp>
          <p:nvSpPr>
            <p:cNvPr id="138" name="Блок-схема: ручное управление 11"/>
            <p:cNvSpPr/>
            <p:nvPr/>
          </p:nvSpPr>
          <p:spPr>
            <a:xfrm rot="16200000">
              <a:off x="2754360" y="2529000"/>
              <a:ext cx="4572000" cy="1800000"/>
            </a:xfrm>
            <a:prstGeom prst="flowChartManualOperation">
              <a:avLst/>
            </a:prstGeom>
            <a:solidFill>
              <a:srgbClr val="b3a2c7"/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Блок-схема: ручное управление 4"/>
            <p:cNvSpPr/>
            <p:nvPr/>
          </p:nvSpPr>
          <p:spPr>
            <a:xfrm>
              <a:off x="4572000" y="2057400"/>
              <a:ext cx="1368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Georgia"/>
                </a:rPr>
                <a:t>функциональные упражнения (развитие внимания, произвольности, самоконтроля), коммуникативные и когнитивные упражнения, элиминация гнева и агрессии - 20- 25 мину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Группа 13"/>
          <p:cNvGrpSpPr/>
          <p:nvPr/>
        </p:nvGrpSpPr>
        <p:grpSpPr>
          <a:xfrm>
            <a:off x="5940360" y="1268280"/>
            <a:ext cx="1289160" cy="4572000"/>
            <a:chOff x="5940360" y="1268280"/>
            <a:chExt cx="1289160" cy="4572000"/>
          </a:xfrm>
        </p:grpSpPr>
        <p:sp>
          <p:nvSpPr>
            <p:cNvPr id="141" name="Блок-схема: ручное управление 14"/>
            <p:cNvSpPr/>
            <p:nvPr/>
          </p:nvSpPr>
          <p:spPr>
            <a:xfrm rot="16200000">
              <a:off x="4298760" y="2909520"/>
              <a:ext cx="4572000" cy="1289160"/>
            </a:xfrm>
            <a:prstGeom prst="flowChartManualOperation">
              <a:avLst/>
            </a:prstGeom>
            <a:solidFill>
              <a:srgbClr val="fac09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Блок-схема: ручное управление 4"/>
            <p:cNvSpPr/>
            <p:nvPr/>
          </p:nvSpPr>
          <p:spPr>
            <a:xfrm>
              <a:off x="5940360" y="2182680"/>
              <a:ext cx="12891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упражн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для развития мелкой моторики рук - 10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Группа 16"/>
          <p:cNvGrpSpPr/>
          <p:nvPr/>
        </p:nvGrpSpPr>
        <p:grpSpPr>
          <a:xfrm>
            <a:off x="7229520" y="1268280"/>
            <a:ext cx="1735200" cy="4572000"/>
            <a:chOff x="7229520" y="1268280"/>
            <a:chExt cx="1735200" cy="4572000"/>
          </a:xfrm>
        </p:grpSpPr>
        <p:sp>
          <p:nvSpPr>
            <p:cNvPr id="144" name="Блок-схема: ручное управление 17"/>
            <p:cNvSpPr/>
            <p:nvPr/>
          </p:nvSpPr>
          <p:spPr>
            <a:xfrm rot="16200000">
              <a:off x="5811120" y="2686680"/>
              <a:ext cx="4572000" cy="1735200"/>
            </a:xfrm>
            <a:prstGeom prst="flowChartManualOperation">
              <a:avLst/>
            </a:prstGeom>
            <a:solidFill>
              <a:srgbClr val="e6b9b8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Блок-схема: ручное управление 4"/>
            <p:cNvSpPr/>
            <p:nvPr/>
          </p:nvSpPr>
          <p:spPr>
            <a:xfrm>
              <a:off x="7229520" y="2182680"/>
              <a:ext cx="17352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глазодвигательное упражнение - 3-4 мину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рямоугольник 19"/>
          <p:cNvSpPr/>
          <p:nvPr/>
        </p:nvSpPr>
        <p:spPr>
          <a:xfrm>
            <a:off x="900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Georgia"/>
              </a:rPr>
              <a:t>Структура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1835280" y="1628640"/>
            <a:ext cx="367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Georgia"/>
              </a:rPr>
              <a:t>игры, направленные на развитие внимания или игры, которые учат ребенка контролировать свои импульсивные дей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604800" y="189000"/>
            <a:ext cx="79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Индивидуальные занятия 1 эт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4"/>
          <p:cNvSpPr/>
          <p:nvPr/>
        </p:nvSpPr>
        <p:spPr>
          <a:xfrm>
            <a:off x="2484360" y="2133720"/>
            <a:ext cx="360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Georgia"/>
              </a:rPr>
              <a:t>Использование игр, которые помогут ребёнку приобрести навыки контроля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1476360" y="765000"/>
            <a:ext cx="65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Занятия 2 эта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539640" y="474840"/>
            <a:ext cx="820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итоге есть основания считать, что система работы по снижению гиперактивности детей дошкольного возраста дает положительные результаты: воспитанники с повышенной активностью учатся приемам саморегуляции.  Гиперактивные  дети учатся общаться со сверстниками, овладевают умениями слушать и слышать окружающих.Тесное сотрудничество педагога-психолога, родителей и воспитателей помогают общению и правильному воздействию на гиперактивного ребенка,  в связи с этим уровень гиперактивности, как  конкретного ребенка, так и всего детского коллектива снижается. Дети становятся более отзывчивыми , спокойными и внимательными. Детский коллектив становится более  спокойнее, дружелюбнее и сплочен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Список используемой литера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Е.Алексеева Проблемы детей дошкольного возраста. Е.А.Алябьева Занятия по психогимнастике с дошколь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Т.О.Никитина, М.А.Афанасьева Песок как универсальное сре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вития до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.Кволс Радость восп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В.Фесенко  Если у вас «ребёнок с моторчиком»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.В.Сагдеева  Совместная деятельность родителей с детьми в ДО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Шаг навстреч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К.Лютова Г.Б.Монина Тренинг эффективного Взаимодействия с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611280" y="170028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В настоящее время необходимым является изучение детей с гипердинамическим синдромом (СДВГ) в дошкольном возрасте, т.к. данный синдром это одна из наиболее частых причин обращения за психологической помощью в детском возрасте. Длительные проявления невнимательности, импульсивности гиперактивности, ведущих признаков СДВГ, часто приводят к формированию девиантных форм поведения. Когнитивные и поведенческие нарушения продолжают сохраняться почти у 70% подростков и более чем у 50% взрослых людей, которым в детстве ставился диагноз гипердинамический син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08000" y="1052640"/>
            <a:ext cx="871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Проблема распространенности гипердинамического синдрома актуальна не только потому, что является одной из современных характеристик состояния здоровья детского организма. Это важнейшая психологическая проблема цивилизованного мира, доказательством чему является то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о-первых, дети с гиперактивностью плохо усваивают програм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о-вторых, они не подчиняются общепринятым правилам поведения и часто становятся на преступный путь. Более 80% криминального контингента составляют лица СДВ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третьих, с ними в 3 раза чаще происходят различные несчастные случаи, в частности, они в 7 раз чаще попадают в автокатастроф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четвёртых, вероятность стать наркоманом или алкоголиком у этих детей в 5 - 6 раз выше, чем у детей с нормальным онтогенез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пятых, нарушениями внимания страдают от 5% до 30% всех детей школьного возраста, т.е. в каждом классе обычной школы 2 - 3 человека - дети с нарушениями внимания и гиперактив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im6-tub-ru.yandex.net/i?id=33900209-61-72&amp;n=21"/>
          <p:cNvPicPr/>
          <p:nvPr/>
        </p:nvPicPr>
        <p:blipFill>
          <a:blip r:embed="rId1"/>
          <a:stretch/>
        </p:blipFill>
        <p:spPr>
          <a:xfrm>
            <a:off x="6229440" y="0"/>
            <a:ext cx="1293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Цели и задач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39640" y="-1879560"/>
            <a:ext cx="756144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ормализация обстановки в семье ребенка, его взаимоотношений с родителями и другими родственниками. Важно научить членов семьи избегать новых конфликтных ситу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Достичь у ребенка послушания, привить ему аккуратность, навыки самоорганизации, способность апанировать и доводить до конца начатые дела. Развить у него чувство ответственности за собственные поступ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аучить ребенка уважению прав окружающих людей, правильному речевому общению, контролю собственных эмоции и поступ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63.gif"/>
          <p:cNvPicPr/>
          <p:nvPr/>
        </p:nvPicPr>
        <p:blipFill>
          <a:blip r:embed="rId1"/>
          <a:stretch/>
        </p:blipFill>
        <p:spPr>
          <a:xfrm>
            <a:off x="2843280" y="5229360"/>
            <a:ext cx="1928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24000" y="692280"/>
            <a:ext cx="882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Добиться у ребенка самооценки, уверенности в собственных силах за счет усвоения им новых навыков, достижений успехов в учебе и повседнев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еобходимо определить сильные стороны личности ребенка, с тем чтобы опираться на них в преодолении имеющихся трудно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Развитие внимания ребёнка (концентрация, переключаемость, распреде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Тренировка психомотор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Снижение эмоциональн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Тренировка узнавания эмоций по внешним сигна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Обучение детей выразительным движ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Формирование у детей моральных предст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Коррекция поведения с помощью ролевы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Тип проекта</a:t>
            </a:r>
            <a:r>
              <a:rPr b="1" i="1" lang="ru-RU" sz="3200" spc="-1" strike="noStrike">
                <a:solidFill>
                  <a:srgbClr val="1f497d"/>
                </a:solidFill>
                <a:latin typeface="Georgia"/>
              </a:rPr>
              <a:t>: исследовательский</a:t>
            </a:r>
            <a:br>
              <a:rPr sz="32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Срок реализации</a:t>
            </a:r>
            <a:r>
              <a:rPr b="1" i="1" lang="ru-RU" sz="3600" spc="-1" strike="noStrike">
                <a:solidFill>
                  <a:srgbClr val="1f497d"/>
                </a:solidFill>
                <a:latin typeface="Georgia"/>
              </a:rPr>
              <a:t>: 2 года</a:t>
            </a:r>
            <a:br>
              <a:rPr sz="36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Участники проекта</a:t>
            </a:r>
            <a:r>
              <a:rPr b="1" i="1" lang="ru-RU" sz="3600" spc="-1" strike="noStrike">
                <a:solidFill>
                  <a:srgbClr val="1f497d"/>
                </a:solidFill>
                <a:latin typeface="Georgia"/>
              </a:rPr>
              <a:t>: педагогическое сообщество, воспитанники, родители 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63.gif"/>
          <p:cNvPicPr/>
          <p:nvPr/>
        </p:nvPicPr>
        <p:blipFill>
          <a:blip r:embed="rId1"/>
          <a:stretch/>
        </p:blipFill>
        <p:spPr>
          <a:xfrm>
            <a:off x="611280" y="5229360"/>
            <a:ext cx="1928880" cy="13572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63.gif"/>
          <p:cNvPicPr/>
          <p:nvPr/>
        </p:nvPicPr>
        <p:blipFill>
          <a:blip r:embed="rId2"/>
          <a:stretch/>
        </p:blipFill>
        <p:spPr>
          <a:xfrm>
            <a:off x="3708360" y="5240160"/>
            <a:ext cx="1928880" cy="1357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63.gif"/>
          <p:cNvPicPr/>
          <p:nvPr/>
        </p:nvPicPr>
        <p:blipFill>
          <a:blip r:embed="rId3"/>
          <a:stretch/>
        </p:blipFill>
        <p:spPr>
          <a:xfrm>
            <a:off x="6300720" y="5240160"/>
            <a:ext cx="19288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1f497d"/>
                </a:solidFill>
                <a:latin typeface="Georgia"/>
              </a:rPr>
              <a:t>Этапы реализаци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714240" y="3573360"/>
            <a:ext cx="8178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Группа 1"/>
          <p:cNvGrpSpPr/>
          <p:nvPr/>
        </p:nvGrpSpPr>
        <p:grpSpPr>
          <a:xfrm>
            <a:off x="324000" y="2374920"/>
            <a:ext cx="3816360" cy="2108160"/>
            <a:chOff x="324000" y="2374920"/>
            <a:chExt cx="3816360" cy="2108160"/>
          </a:xfrm>
        </p:grpSpPr>
        <p:sp>
          <p:nvSpPr>
            <p:cNvPr id="102" name="Прямоугольник 2"/>
            <p:cNvSpPr/>
            <p:nvPr/>
          </p:nvSpPr>
          <p:spPr>
            <a:xfrm>
              <a:off x="324000" y="2374920"/>
              <a:ext cx="3816360" cy="2108160"/>
            </a:xfrm>
            <a:prstGeom prst="rect">
              <a:avLst/>
            </a:prstGeom>
            <a:solidFill>
              <a:srgbClr val="d99694"/>
            </a:solidFill>
            <a:ln w="7632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3"/>
            <p:cNvSpPr/>
            <p:nvPr/>
          </p:nvSpPr>
          <p:spPr>
            <a:xfrm>
              <a:off x="324000" y="2374920"/>
              <a:ext cx="381636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родителям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Группа 4"/>
          <p:cNvGrpSpPr/>
          <p:nvPr/>
        </p:nvGrpSpPr>
        <p:grpSpPr>
          <a:xfrm>
            <a:off x="5076720" y="2346480"/>
            <a:ext cx="3514680" cy="2109600"/>
            <a:chOff x="5076720" y="2346480"/>
            <a:chExt cx="3514680" cy="2109600"/>
          </a:xfrm>
        </p:grpSpPr>
        <p:sp>
          <p:nvSpPr>
            <p:cNvPr id="105" name="Прямоугольник 5"/>
            <p:cNvSpPr/>
            <p:nvPr/>
          </p:nvSpPr>
          <p:spPr>
            <a:xfrm>
              <a:off x="5076720" y="2346480"/>
              <a:ext cx="3514680" cy="2109600"/>
            </a:xfrm>
            <a:prstGeom prst="rect">
              <a:avLst/>
            </a:prstGeom>
            <a:solidFill>
              <a:srgbClr val="d99694"/>
            </a:solidFill>
            <a:ln w="7632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педагогами ДО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6"/>
            <p:cNvSpPr/>
            <p:nvPr/>
          </p:nvSpPr>
          <p:spPr>
            <a:xfrm>
              <a:off x="5076720" y="2346480"/>
              <a:ext cx="3514680" cy="21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7"/>
          <p:cNvGrpSpPr/>
          <p:nvPr/>
        </p:nvGrpSpPr>
        <p:grpSpPr>
          <a:xfrm>
            <a:off x="2700360" y="2374920"/>
            <a:ext cx="3629160" cy="4387680"/>
            <a:chOff x="2700360" y="2374920"/>
            <a:chExt cx="3629160" cy="4387680"/>
          </a:xfrm>
        </p:grpSpPr>
        <p:sp>
          <p:nvSpPr>
            <p:cNvPr id="108" name="Прямоугольник 8"/>
            <p:cNvSpPr/>
            <p:nvPr/>
          </p:nvSpPr>
          <p:spPr>
            <a:xfrm>
              <a:off x="2700360" y="4653000"/>
              <a:ext cx="3515040" cy="2109600"/>
            </a:xfrm>
            <a:prstGeom prst="rect">
              <a:avLst/>
            </a:prstGeom>
            <a:solidFill>
              <a:srgbClr val="4f81bd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детьм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оугольник 9"/>
            <p:cNvSpPr/>
            <p:nvPr/>
          </p:nvSpPr>
          <p:spPr>
            <a:xfrm>
              <a:off x="2814480" y="2374920"/>
              <a:ext cx="3515040" cy="21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Прямоугольник 16"/>
          <p:cNvSpPr/>
          <p:nvPr/>
        </p:nvSpPr>
        <p:spPr>
          <a:xfrm>
            <a:off x="684360" y="40464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Система работы по коррекции гиперактив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2"/>
          <p:cNvSpPr/>
          <p:nvPr/>
        </p:nvSpPr>
        <p:spPr>
          <a:xfrm>
            <a:off x="755640" y="765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Работа с педагогами Д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042920" y="1700280"/>
            <a:ext cx="785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Индивидуальные беседы и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Анкетирование педагог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Семинары – практику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34:31Z</dcterms:created>
  <dc:creator>Sveta</dc:creator>
  <dc:description/>
  <dc:language>en-US</dc:language>
  <cp:lastModifiedBy>one</cp:lastModifiedBy>
  <dcterms:modified xsi:type="dcterms:W3CDTF">2017-10-10T11:17:59Z</dcterms:modified>
  <cp:revision>15</cp:revision>
  <dc:subject/>
  <dc:title>Слайд 1</dc:title>
</cp:coreProperties>
</file>