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5.jpeg" ContentType="image/jpeg"/>
  <Override PartName="/ppt/media/image25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E00-DAEB-4297-939C-169C356C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720-D12D-4DE1-B09A-464F6D63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C8F-04BA-4769-BB6D-54B25EAF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761-1402-47E7-A9BE-D5A7D176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237-B5A1-4F30-B68F-839A77E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544-D3C5-44D3-B206-6156D27B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2B5-D86F-4699-9B34-9428FC7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B19-55AE-404E-8E50-C2DFFC91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21D-E528-4000-B9FE-C520E0F8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D9E-A84D-43D5-A1F7-DE1149D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28D-89C8-459E-9E0F-BD7898AB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4AB-A198-48C6-A4B7-5BD80B7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01E3-0F53-46F7-8611-D500B6B3B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География 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на современных банкнотах 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России и Узбекиста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Рисунок1"/>
          <p:cNvPicPr/>
          <p:nvPr/>
        </p:nvPicPr>
        <p:blipFill>
          <a:blip r:embed="rId1"/>
          <a:stretch/>
        </p:blipFill>
        <p:spPr>
          <a:xfrm>
            <a:off x="1357200" y="4098960"/>
            <a:ext cx="3880080" cy="247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3.bp.blogspot.com/-Ta3nYhf0TSw/UxM1j9yUsHI/AAAAAAAAAR4/fveNeoYAkMA/s1600/P3021121.JPG"/>
          <p:cNvPicPr/>
          <p:nvPr/>
        </p:nvPicPr>
        <p:blipFill>
          <a:blip r:embed="rId2"/>
          <a:stretch/>
        </p:blipFill>
        <p:spPr>
          <a:xfrm>
            <a:off x="4643280" y="2857680"/>
            <a:ext cx="335772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и по запросу физическая карта узбекистана на русском язы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Узбекистан: 1 сум 1994 г."/>
          <p:cNvPicPr/>
          <p:nvPr/>
        </p:nvPicPr>
        <p:blipFill>
          <a:blip r:embed="rId2"/>
          <a:stretch/>
        </p:blipFill>
        <p:spPr>
          <a:xfrm>
            <a:off x="4714920" y="928800"/>
            <a:ext cx="1285920" cy="65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Узбекистан: 5 сумов 1994 г."/>
          <p:cNvPicPr/>
          <p:nvPr/>
        </p:nvPicPr>
        <p:blipFill>
          <a:blip r:embed="rId3"/>
          <a:stretch/>
        </p:blipFill>
        <p:spPr>
          <a:xfrm>
            <a:off x="5357880" y="1071720"/>
            <a:ext cx="134136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7" descr="Узбекистан: 100 сумов 1994 г."/>
          <p:cNvPicPr/>
          <p:nvPr/>
        </p:nvPicPr>
        <p:blipFill>
          <a:blip r:embed="rId4"/>
          <a:stretch/>
        </p:blipFill>
        <p:spPr>
          <a:xfrm>
            <a:off x="7143840" y="1571760"/>
            <a:ext cx="1346040" cy="642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9" descr="Узбекистан: 500 сумов 1999 г."/>
          <p:cNvPicPr/>
          <p:nvPr/>
        </p:nvPicPr>
        <p:blipFill>
          <a:blip r:embed="rId5"/>
          <a:stretch/>
        </p:blipFill>
        <p:spPr>
          <a:xfrm>
            <a:off x="8143920" y="1395360"/>
            <a:ext cx="100008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5" descr="Узбекистан: 1000 сумов 2001 г."/>
          <p:cNvPicPr/>
          <p:nvPr/>
        </p:nvPicPr>
        <p:blipFill>
          <a:blip r:embed="rId6"/>
          <a:stretch/>
        </p:blipFill>
        <p:spPr>
          <a:xfrm>
            <a:off x="6000840" y="1143000"/>
            <a:ext cx="1285920" cy="669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1" descr="Узбекистан: 5000 сумов 2013 г."/>
          <p:cNvPicPr/>
          <p:nvPr/>
        </p:nvPicPr>
        <p:blipFill>
          <a:blip r:embed="rId7"/>
          <a:stretch/>
        </p:blipFill>
        <p:spPr>
          <a:xfrm>
            <a:off x="6643800" y="1285920"/>
            <a:ext cx="1209600" cy="64296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9"/>
          <p:cNvCxnSpPr/>
          <p:nvPr/>
        </p:nvCxnSpPr>
        <p:spPr>
          <a:xfrm flipH="1">
            <a:off x="6143040" y="1927800"/>
            <a:ext cx="935640" cy="5720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95" name="Рисунок 7" descr="Узбекистан: 3 сума 1994 г."/>
          <p:cNvPicPr/>
          <p:nvPr/>
        </p:nvPicPr>
        <p:blipFill>
          <a:blip r:embed="rId8"/>
          <a:stretch/>
        </p:blipFill>
        <p:spPr>
          <a:xfrm>
            <a:off x="1857240" y="2070000"/>
            <a:ext cx="1530360" cy="78768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15"/>
          <p:cNvCxnSpPr/>
          <p:nvPr/>
        </p:nvCxnSpPr>
        <p:spPr>
          <a:xfrm>
            <a:off x="3357720" y="2571840"/>
            <a:ext cx="1000800" cy="7149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97" name="Рисунок 19" descr="Узбекистан: 10 сумов 1994 г."/>
          <p:cNvPicPr/>
          <p:nvPr/>
        </p:nvPicPr>
        <p:blipFill>
          <a:blip r:embed="rId9"/>
          <a:stretch/>
        </p:blipFill>
        <p:spPr>
          <a:xfrm>
            <a:off x="6500880" y="4214880"/>
            <a:ext cx="1500120" cy="72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5" descr="Узбекистан: 25 сумов 1994 г."/>
          <p:cNvPicPr/>
          <p:nvPr/>
        </p:nvPicPr>
        <p:blipFill>
          <a:blip r:embed="rId10"/>
          <a:stretch/>
        </p:blipFill>
        <p:spPr>
          <a:xfrm>
            <a:off x="5572080" y="4643280"/>
            <a:ext cx="1481040" cy="7146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1" descr="Узбекистан: 50 сумов 1994 г."/>
          <p:cNvPicPr/>
          <p:nvPr/>
        </p:nvPicPr>
        <p:blipFill>
          <a:blip r:embed="rId11"/>
          <a:stretch/>
        </p:blipFill>
        <p:spPr>
          <a:xfrm>
            <a:off x="4572000" y="5000760"/>
            <a:ext cx="1643040" cy="779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3" descr="Узбекистан: 200 сумов 1997 г."/>
          <p:cNvPicPr/>
          <p:nvPr/>
        </p:nvPicPr>
        <p:blipFill>
          <a:blip r:embed="rId12"/>
          <a:stretch/>
        </p:blipFill>
        <p:spPr>
          <a:xfrm>
            <a:off x="3714840" y="5357880"/>
            <a:ext cx="1482480" cy="78588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22"/>
          <p:cNvCxnSpPr/>
          <p:nvPr/>
        </p:nvCxnSpPr>
        <p:spPr>
          <a:xfrm flipH="1" flipV="1">
            <a:off x="5214600" y="3928680"/>
            <a:ext cx="714960" cy="5724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089720" y="357120"/>
            <a:ext cx="66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анкетировании участвов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9 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4190040"/>
            <a:ext cx="87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6 опрошенных считаю, что мон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явились раньше, чем бумажные купю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14200" y="21474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Какие деньги появились впер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А) бумажные      Б) 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"/>
          <p:cNvGraphicFramePr/>
          <p:nvPr/>
        </p:nvGraphicFramePr>
        <p:xfrm>
          <a:off x="214200" y="2000160"/>
          <a:ext cx="8535960" cy="46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000160"/>
                    <a:ext cx="853596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4"/>
          <p:cNvSpPr/>
          <p:nvPr/>
        </p:nvSpPr>
        <p:spPr>
          <a:xfrm>
            <a:off x="285840" y="7560"/>
            <a:ext cx="88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2. Что изображают на современных купюрах России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а. архитектурные строения  городов   б. портреты политических дея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в. памятники знаменитым людям страны.  г. фантастические орнаменты         д. животные    е. реки         ж.гер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"/>
          <p:cNvGraphicFramePr/>
          <p:nvPr/>
        </p:nvGraphicFramePr>
        <p:xfrm>
          <a:off x="0" y="1500120"/>
          <a:ext cx="89899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0120"/>
                    <a:ext cx="89899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4"/>
          <p:cNvSpPr/>
          <p:nvPr/>
        </p:nvSpPr>
        <p:spPr>
          <a:xfrm>
            <a:off x="24120" y="501480"/>
            <a:ext cx="83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3. Какие города изображены на банкнотах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286000" y="150444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рослав Мудрый- 9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нязь Владимир – 4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. Невский – 3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14200" y="28584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Какой киевский князь изображён на купюрах номиналов в 1000 рублей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3200" y="3430440"/>
            <a:ext cx="84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5. Как называется денежная единица Узбекист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4932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6. Что изображено на лицевой стороне всех банкнот Узбекист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71680" y="50004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ведено анкетирование среди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-х классов по следующим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428760" y="244296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Как вы думаете, каким номиналом будет следующая купю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Что бы вы предложили изобразить на денежной купю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Почему именно это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785880" y="735120"/>
            <a:ext cx="74293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9% опрошенных считают, что следующая по номиналу купюра будет достоинством в 100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1% считают, что это будет купюра достоинством в 70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3000" y="32940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зультаты анкетировани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428760" y="1285920"/>
          <a:ext cx="851688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85920"/>
                    <a:ext cx="85168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:\Users\User\Documents\нпк\купюра.jpeg"/>
          <p:cNvPicPr/>
          <p:nvPr/>
        </p:nvPicPr>
        <p:blipFill>
          <a:blip r:embed="rId1"/>
          <a:stretch/>
        </p:blipFill>
        <p:spPr>
          <a:xfrm>
            <a:off x="297000" y="1428840"/>
            <a:ext cx="84819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:\Users\User\Documents\нпк\купюра2.jpeg"/>
          <p:cNvPicPr/>
          <p:nvPr/>
        </p:nvPicPr>
        <p:blipFill>
          <a:blip r:embed="rId1"/>
          <a:stretch/>
        </p:blipFill>
        <p:spPr>
          <a:xfrm>
            <a:off x="290520" y="1214280"/>
            <a:ext cx="85629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ктуальность выбора темы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юди часто обращаются к денежным знакам, но не всегда заостряют внимание на том, что изображено на купюрах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D:\Users\User\Documents\нпк\купюра3.jpeg"/>
          <p:cNvPicPr/>
          <p:nvPr/>
        </p:nvPicPr>
        <p:blipFill>
          <a:blip r:embed="rId1"/>
          <a:stretch/>
        </p:blipFill>
        <p:spPr>
          <a:xfrm>
            <a:off x="222120" y="1428840"/>
            <a:ext cx="86122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:\Users\User\Documents\нпк\купюра4.jpeg"/>
          <p:cNvPicPr/>
          <p:nvPr/>
        </p:nvPicPr>
        <p:blipFill>
          <a:blip r:embed="rId1"/>
          <a:stretch/>
        </p:blipFill>
        <p:spPr>
          <a:xfrm>
            <a:off x="339840" y="1357200"/>
            <a:ext cx="8712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:\Users\User\Documents\нпк\купюра6.jpeg"/>
          <p:cNvPicPr/>
          <p:nvPr/>
        </p:nvPicPr>
        <p:blipFill>
          <a:blip r:embed="rId1"/>
          <a:stretch/>
        </p:blipFill>
        <p:spPr>
          <a:xfrm>
            <a:off x="176040" y="1357200"/>
            <a:ext cx="88934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Users\User\Documents\нпк\купюра 6.jpeg"/>
          <p:cNvPicPr/>
          <p:nvPr/>
        </p:nvPicPr>
        <p:blipFill>
          <a:blip r:embed="rId1"/>
          <a:stretch/>
        </p:blipFill>
        <p:spPr>
          <a:xfrm>
            <a:off x="220680" y="1357200"/>
            <a:ext cx="8637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Users\User\Documents\нпк\рис.8.jpeg"/>
          <p:cNvPicPr/>
          <p:nvPr/>
        </p:nvPicPr>
        <p:blipFill>
          <a:blip r:embed="rId1"/>
          <a:stretch/>
        </p:blipFill>
        <p:spPr>
          <a:xfrm>
            <a:off x="387360" y="785880"/>
            <a:ext cx="8469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блема – возможность изучения географии страны по географическим объектам, изображенным на современных банкнотах России и Узбекистан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Цель данной работы </a:t>
            </a: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– расширить свои знания по географии за счет изучения историко-географических объектов на современных денежных знаках Российской Федерации и Узбекистана.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Изучить денежные купюры России и Узбекистана, выявить объекты, изображенные на них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Сравнить деньги России и Узбекистана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Познакомиться с географическим положения городов, изображенных на денежных знаках России и Узбекистана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 Провести исследование знаний моих одноклассников по теме данной работы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. Разработать эскиз денежной купюр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35560" y="500040"/>
            <a:ext cx="61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временная денежная сист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3"/>
          <p:cNvCxnSpPr/>
          <p:nvPr/>
        </p:nvCxnSpPr>
        <p:spPr>
          <a:xfrm>
            <a:off x="5214960" y="1071360"/>
            <a:ext cx="92952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5"/>
          <p:cNvCxnSpPr/>
          <p:nvPr/>
        </p:nvCxnSpPr>
        <p:spPr>
          <a:xfrm flipH="1">
            <a:off x="2499840" y="1071360"/>
            <a:ext cx="85824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Прямоугольник 6"/>
          <p:cNvSpPr/>
          <p:nvPr/>
        </p:nvSpPr>
        <p:spPr>
          <a:xfrm>
            <a:off x="1650600" y="23572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567760" y="250020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1344600" y="342900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99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005520" y="3357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1"/>
          <p:cNvCxnSpPr/>
          <p:nvPr/>
        </p:nvCxnSpPr>
        <p:spPr>
          <a:xfrm>
            <a:off x="6500520" y="31431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3"/>
          <p:cNvCxnSpPr>
            <a:endCxn id="53" idx="0"/>
          </p:cNvCxnSpPr>
          <p:nvPr/>
        </p:nvCxnSpPr>
        <p:spPr>
          <a:xfrm flipH="1">
            <a:off x="1996560" y="3071880"/>
            <a:ext cx="75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Прямоугольник 14"/>
          <p:cNvSpPr/>
          <p:nvPr/>
        </p:nvSpPr>
        <p:spPr>
          <a:xfrm>
            <a:off x="858240" y="450072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ссийский руб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5739120" y="442908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збекский с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7"/>
          <p:cNvCxnSpPr/>
          <p:nvPr/>
        </p:nvCxnSpPr>
        <p:spPr>
          <a:xfrm>
            <a:off x="1856880" y="4000320"/>
            <a:ext cx="10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9"/>
          <p:cNvCxnSpPr/>
          <p:nvPr/>
        </p:nvCxnSpPr>
        <p:spPr>
          <a:xfrm>
            <a:off x="6786360" y="3928680"/>
            <a:ext cx="10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21800" y="-31680"/>
            <a:ext cx="77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ъекты, изображенные на банкнотах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2960" y="571680"/>
          <a:ext cx="7929720" cy="613548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357560"/>
                <a:gridCol w="2611080"/>
                <a:gridCol w="1960920"/>
              </a:tblGrid>
              <a:tr h="549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в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ня Параскевы Пят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й мост через Ени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ая ГЭ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льптура в основании Ростральной колонны на фоне Петропавловской креп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здание Биржи и Ростральную кол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льптурная группа на портике здания Большого теа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здание Большого теа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ник Петр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фоне парусного корабля и морского вокз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Соловецкий монасты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ослав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ник Ярославу Мудр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м Иоана Предтечи (Крестител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ник Н. Н. Муравьеву-Амурск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 через реку Аму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равним объекты, изображенные на банкнотах России и Узбекистан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-109440" y="1714680"/>
          <a:ext cx="909468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1714680"/>
                    <a:ext cx="90946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froggy\Desktop\krasnoyarsk-na-karte-rossii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3643200" y="4643280"/>
            <a:ext cx="13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643200" y="5786280"/>
            <a:ext cx="1457280" cy="635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22840" y="16430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анкт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85880" y="549360"/>
            <a:ext cx="1500120" cy="650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861840" y="2357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357120" y="3429000"/>
            <a:ext cx="1643040" cy="708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0"/>
          <p:cNvSpPr/>
          <p:nvPr/>
        </p:nvSpPr>
        <p:spPr>
          <a:xfrm>
            <a:off x="2002320" y="1785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Арханге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3857760" y="1093680"/>
            <a:ext cx="1285920" cy="5572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2"/>
          <p:cNvSpPr/>
          <p:nvPr/>
        </p:nvSpPr>
        <p:spPr>
          <a:xfrm>
            <a:off x="792000" y="2071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6"/>
          <a:stretch/>
        </p:blipFill>
        <p:spPr>
          <a:xfrm>
            <a:off x="3000240" y="2571840"/>
            <a:ext cx="1643040" cy="717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4"/>
          <p:cNvSpPr/>
          <p:nvPr/>
        </p:nvSpPr>
        <p:spPr>
          <a:xfrm>
            <a:off x="6934320" y="50007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Хаба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7"/>
          <a:stretch/>
        </p:blipFill>
        <p:spPr>
          <a:xfrm>
            <a:off x="7215120" y="3643200"/>
            <a:ext cx="1643040" cy="716040"/>
          </a:xfrm>
          <a:prstGeom prst="rect">
            <a:avLst/>
          </a:prstGeom>
          <a:ln w="0">
            <a:noFill/>
          </a:ln>
        </p:spPr>
      </p:pic>
      <p:cxnSp>
        <p:nvCxnSpPr>
          <p:cNvPr id="80" name="Прямая со стрелкой 17"/>
          <p:cNvCxnSpPr/>
          <p:nvPr/>
        </p:nvCxnSpPr>
        <p:spPr>
          <a:xfrm flipV="1">
            <a:off x="7786800" y="4358520"/>
            <a:ext cx="2160" cy="78660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 flipH="1">
            <a:off x="4371120" y="4928760"/>
            <a:ext cx="57960" cy="85788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2" name="Прямая со стрелкой 21"/>
          <p:cNvCxnSpPr/>
          <p:nvPr/>
        </p:nvCxnSpPr>
        <p:spPr>
          <a:xfrm>
            <a:off x="1499760" y="2286000"/>
            <a:ext cx="1500840" cy="64512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3" name="Прямая со стрелкой 24"/>
          <p:cNvCxnSpPr/>
          <p:nvPr/>
        </p:nvCxnSpPr>
        <p:spPr>
          <a:xfrm flipV="1">
            <a:off x="1425960" y="1213920"/>
            <a:ext cx="2520" cy="50112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4" name="Прямая со стрелкой 26"/>
          <p:cNvCxnSpPr/>
          <p:nvPr/>
        </p:nvCxnSpPr>
        <p:spPr>
          <a:xfrm flipH="1">
            <a:off x="928080" y="2714760"/>
            <a:ext cx="286200" cy="71496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5" name="Прямая со стрелкой 28"/>
          <p:cNvCxnSpPr/>
          <p:nvPr/>
        </p:nvCxnSpPr>
        <p:spPr>
          <a:xfrm flipV="1">
            <a:off x="2642760" y="1428120"/>
            <a:ext cx="1143720" cy="50076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6" name="Прямая со стрелкой 30"/>
          <p:cNvCxnSpPr/>
          <p:nvPr/>
        </p:nvCxnSpPr>
        <p:spPr>
          <a:xfrm flipV="1">
            <a:off x="1425960" y="1714320"/>
            <a:ext cx="25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30:39Z</dcterms:created>
  <dc:creator>зоя куриленко</dc:creator>
  <dc:description/>
  <dc:language>en-US</dc:language>
  <cp:lastModifiedBy>User</cp:lastModifiedBy>
  <dcterms:modified xsi:type="dcterms:W3CDTF">2015-04-02T10:54:30Z</dcterms:modified>
  <cp:revision>36</cp:revision>
  <dc:subject/>
  <dc:title>География  на современных банкнотах  России и Узбекистана</dc:title>
</cp:coreProperties>
</file>