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23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media/image2.jpeg" ContentType="image/jpeg"/>
  <Override PartName="/ppt/media/image15.jpeg" ContentType="image/jpeg"/>
  <Override PartName="/ppt/media/image25.wmf" ContentType="image/x-wmf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63DE-CB42-421E-A1E1-86ED0740A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30E-DE99-4C6D-8973-10DAC1CC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199E-6D56-4C27-83C0-1C001E538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F1D9-9E76-4430-8CFB-B2A8324B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E96-2163-415D-A314-A6D9765B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112-62B9-467E-8A84-358CE300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582C-5F70-413B-A99B-9C132039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2CD-1679-4072-ADD5-F5E82860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EA55-71B3-4191-A3ED-C97A3B28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7BB-D9FA-4119-8F48-28BD572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74D-11AD-42D9-AF76-6270EFB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2D40-3C84-4CFD-AF17-ECB50B88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2F8A-99D3-4C72-A82C-DA97B788AF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География </a:t>
            </a:r>
            <a:br>
              <a:rPr sz="4800"/>
            </a:b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на современных банкнотах </a:t>
            </a:r>
            <a:br>
              <a:rPr sz="4800"/>
            </a:br>
            <a:r>
              <a:rPr b="1" lang="ru-RU" sz="4800" spc="-1" strike="noStrike">
                <a:solidFill>
                  <a:srgbClr val="1f497d"/>
                </a:solidFill>
                <a:latin typeface="Calibri"/>
              </a:rPr>
              <a:t>России и Узбекиста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Рисунок1"/>
          <p:cNvPicPr/>
          <p:nvPr/>
        </p:nvPicPr>
        <p:blipFill>
          <a:blip r:embed="rId1"/>
          <a:stretch/>
        </p:blipFill>
        <p:spPr>
          <a:xfrm>
            <a:off x="1357200" y="4098960"/>
            <a:ext cx="3880080" cy="247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ttp://3.bp.blogspot.com/-Ta3nYhf0TSw/UxM1j9yUsHI/AAAAAAAAAR4/fveNeoYAkMA/s1600/P3021121.JPG"/>
          <p:cNvPicPr/>
          <p:nvPr/>
        </p:nvPicPr>
        <p:blipFill>
          <a:blip r:embed="rId2"/>
          <a:stretch/>
        </p:blipFill>
        <p:spPr>
          <a:xfrm>
            <a:off x="4643280" y="2857680"/>
            <a:ext cx="3357720" cy="251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Картинки по запросу физическая карта узбекистана на русском язы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6499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" descr="Узбекистан: 1 сум 1994 г."/>
          <p:cNvPicPr/>
          <p:nvPr/>
        </p:nvPicPr>
        <p:blipFill>
          <a:blip r:embed="rId2"/>
          <a:stretch/>
        </p:blipFill>
        <p:spPr>
          <a:xfrm>
            <a:off x="4714920" y="928800"/>
            <a:ext cx="1285920" cy="65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Узбекистан: 5 сумов 1994 г."/>
          <p:cNvPicPr/>
          <p:nvPr/>
        </p:nvPicPr>
        <p:blipFill>
          <a:blip r:embed="rId3"/>
          <a:stretch/>
        </p:blipFill>
        <p:spPr>
          <a:xfrm>
            <a:off x="5357880" y="1071720"/>
            <a:ext cx="1341360" cy="6429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37" descr="Узбекистан: 100 сумов 1994 г."/>
          <p:cNvPicPr/>
          <p:nvPr/>
        </p:nvPicPr>
        <p:blipFill>
          <a:blip r:embed="rId4"/>
          <a:stretch/>
        </p:blipFill>
        <p:spPr>
          <a:xfrm>
            <a:off x="7143840" y="1571760"/>
            <a:ext cx="1346040" cy="642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9" descr="Узбекистан: 500 сумов 1999 г."/>
          <p:cNvPicPr/>
          <p:nvPr/>
        </p:nvPicPr>
        <p:blipFill>
          <a:blip r:embed="rId5"/>
          <a:stretch/>
        </p:blipFill>
        <p:spPr>
          <a:xfrm>
            <a:off x="8143920" y="1395360"/>
            <a:ext cx="1000080" cy="5335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55" descr="Узбекистан: 1000 сумов 2001 г."/>
          <p:cNvPicPr/>
          <p:nvPr/>
        </p:nvPicPr>
        <p:blipFill>
          <a:blip r:embed="rId6"/>
          <a:stretch/>
        </p:blipFill>
        <p:spPr>
          <a:xfrm>
            <a:off x="6000840" y="1143000"/>
            <a:ext cx="1285920" cy="6699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61" descr="Узбекистан: 5000 сумов 2013 г."/>
          <p:cNvPicPr/>
          <p:nvPr/>
        </p:nvPicPr>
        <p:blipFill>
          <a:blip r:embed="rId7"/>
          <a:stretch/>
        </p:blipFill>
        <p:spPr>
          <a:xfrm>
            <a:off x="6643800" y="1285920"/>
            <a:ext cx="1209600" cy="642960"/>
          </a:xfrm>
          <a:prstGeom prst="rect">
            <a:avLst/>
          </a:prstGeom>
          <a:ln w="0">
            <a:noFill/>
          </a:ln>
        </p:spPr>
      </p:pic>
      <p:cxnSp>
        <p:nvCxnSpPr>
          <p:cNvPr id="94" name="Прямая со стрелкой 9"/>
          <p:cNvCxnSpPr/>
          <p:nvPr/>
        </p:nvCxnSpPr>
        <p:spPr>
          <a:xfrm flipH="1">
            <a:off x="6143040" y="1927800"/>
            <a:ext cx="935640" cy="5720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95" name="Рисунок 7" descr="Узбекистан: 3 сума 1994 г."/>
          <p:cNvPicPr/>
          <p:nvPr/>
        </p:nvPicPr>
        <p:blipFill>
          <a:blip r:embed="rId8"/>
          <a:stretch/>
        </p:blipFill>
        <p:spPr>
          <a:xfrm>
            <a:off x="1857240" y="2070000"/>
            <a:ext cx="1530360" cy="787680"/>
          </a:xfrm>
          <a:prstGeom prst="rect">
            <a:avLst/>
          </a:prstGeom>
          <a:ln w="0">
            <a:noFill/>
          </a:ln>
        </p:spPr>
      </p:pic>
      <p:cxnSp>
        <p:nvCxnSpPr>
          <p:cNvPr id="96" name="Прямая со стрелкой 15"/>
          <p:cNvCxnSpPr/>
          <p:nvPr/>
        </p:nvCxnSpPr>
        <p:spPr>
          <a:xfrm>
            <a:off x="3357720" y="2571840"/>
            <a:ext cx="1000800" cy="7149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  <p:pic>
        <p:nvPicPr>
          <p:cNvPr id="97" name="Рисунок 19" descr="Узбекистан: 10 сумов 1994 г."/>
          <p:cNvPicPr/>
          <p:nvPr/>
        </p:nvPicPr>
        <p:blipFill>
          <a:blip r:embed="rId9"/>
          <a:stretch/>
        </p:blipFill>
        <p:spPr>
          <a:xfrm>
            <a:off x="6500880" y="4214880"/>
            <a:ext cx="1500120" cy="72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5" descr="Узбекистан: 25 сумов 1994 г."/>
          <p:cNvPicPr/>
          <p:nvPr/>
        </p:nvPicPr>
        <p:blipFill>
          <a:blip r:embed="rId10"/>
          <a:stretch/>
        </p:blipFill>
        <p:spPr>
          <a:xfrm>
            <a:off x="5572080" y="4643280"/>
            <a:ext cx="1481040" cy="71460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1" descr="Узбекистан: 50 сумов 1994 г."/>
          <p:cNvPicPr/>
          <p:nvPr/>
        </p:nvPicPr>
        <p:blipFill>
          <a:blip r:embed="rId11"/>
          <a:stretch/>
        </p:blipFill>
        <p:spPr>
          <a:xfrm>
            <a:off x="4572000" y="5000760"/>
            <a:ext cx="1643040" cy="7794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43" descr="Узбекистан: 200 сумов 1997 г."/>
          <p:cNvPicPr/>
          <p:nvPr/>
        </p:nvPicPr>
        <p:blipFill>
          <a:blip r:embed="rId12"/>
          <a:stretch/>
        </p:blipFill>
        <p:spPr>
          <a:xfrm>
            <a:off x="3714840" y="5357880"/>
            <a:ext cx="1482480" cy="785880"/>
          </a:xfrm>
          <a:prstGeom prst="rect">
            <a:avLst/>
          </a:prstGeom>
          <a:ln w="0">
            <a:noFill/>
          </a:ln>
        </p:spPr>
      </p:pic>
      <p:cxnSp>
        <p:nvCxnSpPr>
          <p:cNvPr id="101" name="Прямая со стрелкой 22"/>
          <p:cNvCxnSpPr/>
          <p:nvPr/>
        </p:nvCxnSpPr>
        <p:spPr>
          <a:xfrm flipH="1" flipV="1">
            <a:off x="5214600" y="3928680"/>
            <a:ext cx="714960" cy="5724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2"/>
          <p:cNvSpPr/>
          <p:nvPr/>
        </p:nvSpPr>
        <p:spPr>
          <a:xfrm>
            <a:off x="1089720" y="357120"/>
            <a:ext cx="660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 анкетировании участвовал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9 человек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214200" y="4190040"/>
            <a:ext cx="87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6 опрошенных считаю, что моне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оявились раньше, чем бумажные купю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214200" y="2147400"/>
            <a:ext cx="850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Какие деньги появились впере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А) бумажные      Б) мон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1"/>
          <p:cNvGraphicFramePr/>
          <p:nvPr/>
        </p:nvGraphicFramePr>
        <p:xfrm>
          <a:off x="214200" y="2000160"/>
          <a:ext cx="8535960" cy="46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2000160"/>
                    <a:ext cx="8535960" cy="46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4"/>
          <p:cNvSpPr/>
          <p:nvPr/>
        </p:nvSpPr>
        <p:spPr>
          <a:xfrm>
            <a:off x="285840" y="7560"/>
            <a:ext cx="88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2. Что изображают на современных купюрах России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а. архитектурные строения  городов   б. портреты политических дея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Times New Roman"/>
              </a:rPr>
              <a:t>в. памятники знаменитым людям страны.  г. фантастические орнаменты         д. животные    е. реки         ж.гер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Object 1"/>
          <p:cNvGraphicFramePr/>
          <p:nvPr/>
        </p:nvGraphicFramePr>
        <p:xfrm>
          <a:off x="0" y="1500120"/>
          <a:ext cx="8989920" cy="38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00120"/>
                    <a:ext cx="8989920" cy="38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4"/>
          <p:cNvSpPr/>
          <p:nvPr/>
        </p:nvSpPr>
        <p:spPr>
          <a:xfrm>
            <a:off x="24120" y="501480"/>
            <a:ext cx="838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3. Какие города изображены на банкнотах Рос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2286000" y="1504440"/>
            <a:ext cx="46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Ярослав Мудрый- 9 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Князь Владимир – 4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. Невский – 3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14200" y="285840"/>
            <a:ext cx="8715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4. Какой киевский князь изображён на купюрах номиналов в 1000 рублей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13200" y="3430440"/>
            <a:ext cx="84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5. Как называется денежная единица Узбекист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0" y="4932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Calibri"/>
              </a:rPr>
              <a:t>6. Что изображено на лицевой стороне всех банкнот Узбекиста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1"/>
          <p:cNvSpPr/>
          <p:nvPr/>
        </p:nvSpPr>
        <p:spPr>
          <a:xfrm>
            <a:off x="571680" y="500040"/>
            <a:ext cx="757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ведено анкетирование среди учащих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7-х классов по следующим вопроса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428760" y="2442960"/>
            <a:ext cx="8501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Как вы думаете, каким номиналом будет следующая купю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Что бы вы предложили изобразить на денежной купюр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1f497d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Почему именно это изображ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"/>
          <p:cNvSpPr/>
          <p:nvPr/>
        </p:nvSpPr>
        <p:spPr>
          <a:xfrm>
            <a:off x="785880" y="735120"/>
            <a:ext cx="742932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79% опрошенных считают, что следующая по номиналу купюра будет достоинством в 10000 ру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1% считают, что это будет купюра достоинством в 7000 руб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143000" y="329400"/>
            <a:ext cx="7643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езультаты анкетировани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428760" y="1285920"/>
          <a:ext cx="851688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285920"/>
                    <a:ext cx="851688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D:\Users\User\Documents\нпк\купюра.jpeg"/>
          <p:cNvPicPr/>
          <p:nvPr/>
        </p:nvPicPr>
        <p:blipFill>
          <a:blip r:embed="rId1"/>
          <a:stretch/>
        </p:blipFill>
        <p:spPr>
          <a:xfrm>
            <a:off x="297000" y="1428840"/>
            <a:ext cx="848196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:\Users\User\Documents\нпк\купюра2.jpeg"/>
          <p:cNvPicPr/>
          <p:nvPr/>
        </p:nvPicPr>
        <p:blipFill>
          <a:blip r:embed="rId1"/>
          <a:stretch/>
        </p:blipFill>
        <p:spPr>
          <a:xfrm>
            <a:off x="290520" y="1214280"/>
            <a:ext cx="85629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Актуальность выбора темы: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люди часто обращаются к денежным знакам, но не всегда заостряют внимание на том, что изображено на купюрах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D:\Users\User\Documents\нпк\купюра3.jpeg"/>
          <p:cNvPicPr/>
          <p:nvPr/>
        </p:nvPicPr>
        <p:blipFill>
          <a:blip r:embed="rId1"/>
          <a:stretch/>
        </p:blipFill>
        <p:spPr>
          <a:xfrm>
            <a:off x="222120" y="1428840"/>
            <a:ext cx="86122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:\Users\User\Documents\нпк\купюра4.jpeg"/>
          <p:cNvPicPr/>
          <p:nvPr/>
        </p:nvPicPr>
        <p:blipFill>
          <a:blip r:embed="rId1"/>
          <a:stretch/>
        </p:blipFill>
        <p:spPr>
          <a:xfrm>
            <a:off x="339840" y="1357200"/>
            <a:ext cx="8712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D:\Users\User\Documents\нпк\купюра6.jpeg"/>
          <p:cNvPicPr/>
          <p:nvPr/>
        </p:nvPicPr>
        <p:blipFill>
          <a:blip r:embed="rId1"/>
          <a:stretch/>
        </p:blipFill>
        <p:spPr>
          <a:xfrm>
            <a:off x="176040" y="1357200"/>
            <a:ext cx="88934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D:\Users\User\Documents\нпк\купюра 6.jpeg"/>
          <p:cNvPicPr/>
          <p:nvPr/>
        </p:nvPicPr>
        <p:blipFill>
          <a:blip r:embed="rId1"/>
          <a:stretch/>
        </p:blipFill>
        <p:spPr>
          <a:xfrm>
            <a:off x="220680" y="1357200"/>
            <a:ext cx="863748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D:\Users\User\Documents\нпк\рис.8.jpeg"/>
          <p:cNvPicPr/>
          <p:nvPr/>
        </p:nvPicPr>
        <p:blipFill>
          <a:blip r:embed="rId1"/>
          <a:stretch/>
        </p:blipFill>
        <p:spPr>
          <a:xfrm>
            <a:off x="387360" y="785880"/>
            <a:ext cx="846936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2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Проблема – возможность изучения географии страны по географическим объектам, изображенным на современных банкнотах России и Узбекистана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Цель данной работы </a:t>
            </a:r>
            <a:r>
              <a:rPr b="0" lang="ru-RU" sz="3600" spc="-1" strike="noStrike">
                <a:solidFill>
                  <a:srgbClr val="1f497d"/>
                </a:solidFill>
                <a:latin typeface="Calibri"/>
              </a:rPr>
              <a:t>– расширить свои знания по географии за счет изучения историко-географических объектов на современных денежных знаках Российской Федерации и Узбекистана. 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Задачи: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. Изучить денежные купюры России и Узбекистана, выявить объекты, изображенные на них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2. Сравнить деньги России и Узбекистана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3. Познакомиться с географическим положения городов, изображенных на денежных знаках России и Узбекистана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5. Провести исследование знаний моих одноклассников по теме данной работы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6. Разработать эскиз денежной купюры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735560" y="500040"/>
            <a:ext cx="61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овременная денежная систе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 стрелкой 3"/>
          <p:cNvCxnSpPr/>
          <p:nvPr/>
        </p:nvCxnSpPr>
        <p:spPr>
          <a:xfrm>
            <a:off x="5214960" y="1071360"/>
            <a:ext cx="92952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0" name="Прямая со стрелкой 5"/>
          <p:cNvCxnSpPr/>
          <p:nvPr/>
        </p:nvCxnSpPr>
        <p:spPr>
          <a:xfrm flipH="1">
            <a:off x="2499840" y="1071360"/>
            <a:ext cx="85824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Прямоугольник 6"/>
          <p:cNvSpPr/>
          <p:nvPr/>
        </p:nvSpPr>
        <p:spPr>
          <a:xfrm>
            <a:off x="1650600" y="2357280"/>
            <a:ext cx="12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7"/>
          <p:cNvSpPr/>
          <p:nvPr/>
        </p:nvSpPr>
        <p:spPr>
          <a:xfrm>
            <a:off x="5567760" y="2500200"/>
            <a:ext cx="19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збекис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8"/>
          <p:cNvSpPr/>
          <p:nvPr/>
        </p:nvSpPr>
        <p:spPr>
          <a:xfrm>
            <a:off x="1344600" y="342900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99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9"/>
          <p:cNvSpPr/>
          <p:nvPr/>
        </p:nvSpPr>
        <p:spPr>
          <a:xfrm>
            <a:off x="6005520" y="33577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11"/>
          <p:cNvCxnSpPr/>
          <p:nvPr/>
        </p:nvCxnSpPr>
        <p:spPr>
          <a:xfrm>
            <a:off x="6500520" y="3143160"/>
            <a:ext cx="108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Прямая со стрелкой 13"/>
          <p:cNvCxnSpPr>
            <a:endCxn id="53" idx="0"/>
          </p:cNvCxnSpPr>
          <p:nvPr/>
        </p:nvCxnSpPr>
        <p:spPr>
          <a:xfrm flipH="1">
            <a:off x="1996560" y="3071880"/>
            <a:ext cx="75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Прямоугольник 14"/>
          <p:cNvSpPr/>
          <p:nvPr/>
        </p:nvSpPr>
        <p:spPr>
          <a:xfrm>
            <a:off x="858240" y="450072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ссийский руб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5"/>
          <p:cNvSpPr/>
          <p:nvPr/>
        </p:nvSpPr>
        <p:spPr>
          <a:xfrm>
            <a:off x="5739120" y="442908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узбекский с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Прямая со стрелкой 17"/>
          <p:cNvCxnSpPr/>
          <p:nvPr/>
        </p:nvCxnSpPr>
        <p:spPr>
          <a:xfrm>
            <a:off x="1856880" y="4000320"/>
            <a:ext cx="108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19"/>
          <p:cNvCxnSpPr/>
          <p:nvPr/>
        </p:nvCxnSpPr>
        <p:spPr>
          <a:xfrm>
            <a:off x="6786360" y="3928680"/>
            <a:ext cx="10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721800" y="-31680"/>
            <a:ext cx="77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ъекты, изображенные на банкнотах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642960" y="571680"/>
          <a:ext cx="7929720" cy="6135480"/>
        </p:xfrm>
        <a:graphic>
          <a:graphicData uri="http://schemas.openxmlformats.org/drawingml/2006/table">
            <a:tbl>
              <a:tblPr/>
              <a:tblGrid>
                <a:gridCol w="1000080"/>
                <a:gridCol w="1000080"/>
                <a:gridCol w="1357560"/>
                <a:gridCol w="2611080"/>
                <a:gridCol w="1960920"/>
              </a:tblGrid>
              <a:tr h="5490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ина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выпу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цев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ротная стор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116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овня Параскевы Пятниц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альный мост через Енис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ярская ГЭ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кт-Петербур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льптура в основании Ростральной колонны на фоне Петропавловской крепост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здание Биржи и Ростральную колон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ульптурная группа на портике здания Большого теа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здание Большого теа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ангель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ник Петр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а фоне парусного корабля и морского вокз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на Соловецкий монастыр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ослав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ник Ярославу Мудр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ам Иоана Предтечи (Крестителя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баровс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мятник Н. Н. Муравьеву-Амурском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т через реку Аму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329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равним объекты, изображенные на банкнотах России и Узбекистана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1"/>
          <p:cNvGraphicFramePr/>
          <p:nvPr/>
        </p:nvGraphicFramePr>
        <p:xfrm>
          <a:off x="-109440" y="1714680"/>
          <a:ext cx="9094680" cy="49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9440" y="1714680"/>
                    <a:ext cx="9094680" cy="49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Users\froggy\Desktop\krasnoyarsk-na-karte-rossii.jpg"/>
          <p:cNvPicPr/>
          <p:nvPr/>
        </p:nvPicPr>
        <p:blipFill>
          <a:blip r:embed="rId1"/>
          <a:stretch/>
        </p:blipFill>
        <p:spPr>
          <a:xfrm>
            <a:off x="0" y="0"/>
            <a:ext cx="910908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3643200" y="4643280"/>
            <a:ext cx="13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Красноя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3643200" y="5786280"/>
            <a:ext cx="1457280" cy="6350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222840" y="16430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Санкт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785880" y="549360"/>
            <a:ext cx="1500120" cy="6508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7"/>
          <p:cNvSpPr/>
          <p:nvPr/>
        </p:nvSpPr>
        <p:spPr>
          <a:xfrm>
            <a:off x="861840" y="2357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Моск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4"/>
          <a:stretch/>
        </p:blipFill>
        <p:spPr>
          <a:xfrm>
            <a:off x="357120" y="3429000"/>
            <a:ext cx="1643040" cy="7081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0"/>
          <p:cNvSpPr/>
          <p:nvPr/>
        </p:nvSpPr>
        <p:spPr>
          <a:xfrm>
            <a:off x="2002320" y="17859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Архангель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5"/>
          <a:stretch/>
        </p:blipFill>
        <p:spPr>
          <a:xfrm>
            <a:off x="3857760" y="1093680"/>
            <a:ext cx="1285920" cy="55728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12"/>
          <p:cNvSpPr/>
          <p:nvPr/>
        </p:nvSpPr>
        <p:spPr>
          <a:xfrm>
            <a:off x="792000" y="207180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Ярослав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6"/>
          <a:stretch/>
        </p:blipFill>
        <p:spPr>
          <a:xfrm>
            <a:off x="3000240" y="2571840"/>
            <a:ext cx="1643040" cy="71748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4"/>
          <p:cNvSpPr/>
          <p:nvPr/>
        </p:nvSpPr>
        <p:spPr>
          <a:xfrm>
            <a:off x="6934320" y="50007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7375e"/>
                </a:solidFill>
                <a:latin typeface="Calibri"/>
              </a:rPr>
              <a:t>Хабар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7"/>
          <a:stretch/>
        </p:blipFill>
        <p:spPr>
          <a:xfrm>
            <a:off x="7215120" y="3643200"/>
            <a:ext cx="1643040" cy="716040"/>
          </a:xfrm>
          <a:prstGeom prst="rect">
            <a:avLst/>
          </a:prstGeom>
          <a:ln w="0">
            <a:noFill/>
          </a:ln>
        </p:spPr>
      </p:pic>
      <p:cxnSp>
        <p:nvCxnSpPr>
          <p:cNvPr id="80" name="Прямая со стрелкой 17"/>
          <p:cNvCxnSpPr/>
          <p:nvPr/>
        </p:nvCxnSpPr>
        <p:spPr>
          <a:xfrm flipV="1">
            <a:off x="7786800" y="4358520"/>
            <a:ext cx="2160" cy="78660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 flipH="1">
            <a:off x="4371120" y="4928760"/>
            <a:ext cx="57960" cy="85788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2" name="Прямая со стрелкой 21"/>
          <p:cNvCxnSpPr/>
          <p:nvPr/>
        </p:nvCxnSpPr>
        <p:spPr>
          <a:xfrm>
            <a:off x="1499760" y="2286000"/>
            <a:ext cx="1500840" cy="64512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3" name="Прямая со стрелкой 24"/>
          <p:cNvCxnSpPr/>
          <p:nvPr/>
        </p:nvCxnSpPr>
        <p:spPr>
          <a:xfrm flipV="1">
            <a:off x="1425960" y="1213920"/>
            <a:ext cx="2520" cy="50112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4" name="Прямая со стрелкой 26"/>
          <p:cNvCxnSpPr/>
          <p:nvPr/>
        </p:nvCxnSpPr>
        <p:spPr>
          <a:xfrm flipH="1">
            <a:off x="928080" y="2714760"/>
            <a:ext cx="286200" cy="71496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5" name="Прямая со стрелкой 28"/>
          <p:cNvCxnSpPr/>
          <p:nvPr/>
        </p:nvCxnSpPr>
        <p:spPr>
          <a:xfrm flipV="1">
            <a:off x="2642760" y="1428120"/>
            <a:ext cx="1143720" cy="500760"/>
          </a:xfrm>
          <a:prstGeom prst="straightConnector1">
            <a:avLst/>
          </a:prstGeom>
          <a:ln w="38160">
            <a:solidFill>
              <a:srgbClr val="1f497d"/>
            </a:solidFill>
            <a:miter/>
            <a:tailEnd len="med" type="triangle" w="med"/>
          </a:ln>
        </p:spPr>
      </p:cxnSp>
      <p:cxnSp>
        <p:nvCxnSpPr>
          <p:cNvPr id="86" name="Прямая со стрелкой 30"/>
          <p:cNvCxnSpPr/>
          <p:nvPr/>
        </p:nvCxnSpPr>
        <p:spPr>
          <a:xfrm flipV="1">
            <a:off x="1425960" y="1714320"/>
            <a:ext cx="252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9T05:30:39Z</dcterms:created>
  <dc:creator>зоя куриленко</dc:creator>
  <dc:description/>
  <dc:language>en-US</dc:language>
  <cp:lastModifiedBy>User</cp:lastModifiedBy>
  <dcterms:modified xsi:type="dcterms:W3CDTF">2015-04-02T10:54:30Z</dcterms:modified>
  <cp:revision>36</cp:revision>
  <dc:subject/>
  <dc:title>География  на современных банкнотах  России и Узбекистана</dc:title>
</cp:coreProperties>
</file>