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C0FF-EEF2-4F83-A6EE-61C8F8AA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266B-1D59-4C22-83E5-D37FC25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58F-5DA0-497E-8AD4-A8326E290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38C-154A-4607-AE62-74C3ABC8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A66-5034-49D8-A9A3-26DA11EA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AF00-9EBE-4A76-AFEE-1EC8FEC2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D95-7BDA-4142-98A6-429A685E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AA7-8684-4B29-B800-096C368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08D6-8CA5-4D77-887C-3D4BB9E8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8CC-9073-45AE-8540-EC90F79A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AF41-4036-4DC4-90FE-BCD32D4A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EA91-9496-49F1-92C6-37AE5A7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D8E5-D2C2-4DAE-9B8A-95FD7FFF58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-2052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1828800" y="1371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Цветная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523880" y="38905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ирование чувства цвета и использование его в изобразительной деятельности  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2485800" y="547056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ок реализации проекта 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9"/>
          <p:cNvSpPr txBox="1"/>
          <p:nvPr/>
        </p:nvSpPr>
        <p:spPr>
          <a:xfrm>
            <a:off x="2743200" y="2895480"/>
            <a:ext cx="45720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каз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457200" y="457200"/>
          <a:ext cx="8153280" cy="5940360"/>
        </p:xfrm>
        <a:graphic>
          <a:graphicData uri="http://schemas.openxmlformats.org/drawingml/2006/table">
            <a:tbl>
              <a:tblPr/>
              <a:tblGrid>
                <a:gridCol w="2438280"/>
                <a:gridCol w="1905120"/>
                <a:gridCol w="2057400"/>
                <a:gridCol w="1752480"/>
              </a:tblGrid>
              <a:tr h="213516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 этап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одведение итог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педагога по изо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заимодействие с родителя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3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сходящая диагностика Подготовка к презентации. Презентация опыта работы в данной проблеме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одготовка и представление художественных выставок детских рабо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«Радуга дружбы», «Разноцветный мир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Анализ результатов  деятельности педагогов в рамках проект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Участие в совместном детско-родительском празднике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5" name="Picture 75" descr="82745c3dae38"/>
          <p:cNvPicPr/>
          <p:nvPr/>
        </p:nvPicPr>
        <p:blipFill>
          <a:blip r:embed="rId1"/>
          <a:stretch/>
        </p:blipFill>
        <p:spPr>
          <a:xfrm>
            <a:off x="6324480" y="914400"/>
            <a:ext cx="1944720" cy="1704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6" descr="82745c3dae38"/>
          <p:cNvPicPr/>
          <p:nvPr/>
        </p:nvPicPr>
        <p:blipFill>
          <a:blip r:embed="rId2"/>
          <a:stretch/>
        </p:blipFill>
        <p:spPr>
          <a:xfrm>
            <a:off x="914400" y="83808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28600" y="2251080"/>
            <a:ext cx="8763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овое решение будет соответствовать                              поставленной изобразительной зада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овые соотношения будут  близки к реальн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в цветовых соотношениях образа буд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присутствовать элементы фантаз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использовать в рисунках различные оттенк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овладеть правильной техникой работы с художественными материалами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дети должны будут уметь передавать насыщенность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Comic Sans MS"/>
              </a:rPr>
              <a:t>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2"/>
          <a:stretch/>
        </p:blipFill>
        <p:spPr>
          <a:xfrm>
            <a:off x="457200" y="3276720"/>
            <a:ext cx="380880" cy="317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380880" y="609480"/>
            <a:ext cx="1600200" cy="1333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457200" y="3657600"/>
            <a:ext cx="380880" cy="3175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380880" y="426708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380880" y="5029200"/>
            <a:ext cx="381240" cy="317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7"/>
          <a:stretch/>
        </p:blipFill>
        <p:spPr>
          <a:xfrm>
            <a:off x="380880" y="5791320"/>
            <a:ext cx="381240" cy="3175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1"/>
          <p:cNvSpPr/>
          <p:nvPr/>
        </p:nvSpPr>
        <p:spPr>
          <a:xfrm>
            <a:off x="1981080" y="304920"/>
            <a:ext cx="67820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жида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По окончанию проекта по цветовед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дети могут научиться выражать своё отношение к создаваемому образу через цвет, а имен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317520" y="13320"/>
            <a:ext cx="8826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Результаты взаимодействия с педагогами и родителями  в рамках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Углубление представлений педагог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о роли цвета в организации сре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         </a:t>
            </a: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Наработка  практического опыта и внедр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      </a:t>
            </a: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его в деятельность педагогов и специалис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ДОУ с целью  индивидуализ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педагогического процесс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Формирование детско-родитель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отношений  в процессе совмест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Comic Sans MS"/>
              </a:rPr>
              <a:t>твор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ebbb9c9d9a7e"/>
          <p:cNvPicPr/>
          <p:nvPr/>
        </p:nvPicPr>
        <p:blipFill>
          <a:blip r:embed="rId1"/>
          <a:stretch/>
        </p:blipFill>
        <p:spPr>
          <a:xfrm>
            <a:off x="609480" y="2209680"/>
            <a:ext cx="838440" cy="66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ebbb9c9d9a7e"/>
          <p:cNvPicPr/>
          <p:nvPr/>
        </p:nvPicPr>
        <p:blipFill>
          <a:blip r:embed="rId2"/>
          <a:stretch/>
        </p:blipFill>
        <p:spPr>
          <a:xfrm>
            <a:off x="533520" y="3276720"/>
            <a:ext cx="914400" cy="722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ebbb9c9d9a7e"/>
          <p:cNvPicPr/>
          <p:nvPr/>
        </p:nvPicPr>
        <p:blipFill>
          <a:blip r:embed="rId3"/>
          <a:stretch/>
        </p:blipFill>
        <p:spPr>
          <a:xfrm>
            <a:off x="685800" y="5105520"/>
            <a:ext cx="76212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533520" y="126360"/>
            <a:ext cx="8305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.    Аллаярова И. Е. Симфония красок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убровская Н. В. Игры с цветом. Знакомство дошкольников 5-7 лет с основами цветоведения. Санкт-Петербург «Детство-Пресс»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Давыдова Г. Н. Нетрадиционные техники рисования в детском саду. Часть 1. М.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Евдокимова М. М. Учимся рисовать красками. М. «Дрофа», 200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  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Комарова Т. ,С. Размыслова А. В. Цвет в детском изобразительном творчестве дошкольников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 Педагогическое общество России,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6"/>
              <a:tabLst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ищева Н. В. Разноцветные сказки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анкт-Петербург«Детство-Пресс»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7.   Проектный метод в деятельности дошкольного учреждения.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М.,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8.   Трофимова М. В. Тарабарина Т. И. И учёба, и игра изобразительное искусство. Ярославль «Академия развития»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-66600" y="-308160"/>
            <a:ext cx="8829720" cy="73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Для формирования чувства цвета у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необходимо соблюдение ряда усло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Создание системы работы по формированию чувства цвета у детей в процессе изобразительной деятель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включая все ее ви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Широкое использование в работе с детьми классических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80"/>
                </a:solidFill>
                <a:latin typeface="Comic Sans MS"/>
              </a:rPr>
              <a:t>народных произведений  изобразительного искусства.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Целенаправленный отбор и изготовление пособ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для работы с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Систематические наблюдения в природе, выделение ц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ее объектов и явлений, изменение цветов в прир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в зависимости от времени года, погоды, освещения и т. п.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спользование дидактических игр в работе с 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Comic Sans MS"/>
              </a:rPr>
              <a:t>Эстетическое оформление среды,  использование детских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Компетентность  педагога  в вопросах цвет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Просветительская  работа дошкольного учреждения с семьёй.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c121fd51d15"/>
          <p:cNvPicPr/>
          <p:nvPr/>
        </p:nvPicPr>
        <p:blipFill>
          <a:blip r:embed="rId2"/>
          <a:stretch/>
        </p:blipFill>
        <p:spPr>
          <a:xfrm>
            <a:off x="7162920" y="152280"/>
            <a:ext cx="1307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380880" y="1565280"/>
            <a:ext cx="876312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Задачи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с цветовыми эталон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ознакомление детей со свойствами и особенностями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детей со средствами художественной выразительности (контрастом, нюансом, формой, пропорциями, насыщенностью и т. 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знакомство с классификацией цветов и оттен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ние эстетического, эмоционально окрашен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риятия цве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00"/>
              </a:buClr>
              <a:buFont typeface="Comic Sans M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использование  эмоционального воздейств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цвета на развитие и гармонизацию лич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457200" y="44280"/>
            <a:ext cx="8458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Цель проекта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Формирование чувства цвета и использование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изобразительной деятельности   дошколь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2" descr="E:\фоны ИЗО\f69ef0c19570.jpg"/>
          <p:cNvPicPr/>
          <p:nvPr/>
        </p:nvPicPr>
        <p:blipFill>
          <a:blip r:embed="rId1"/>
          <a:stretch/>
        </p:blipFill>
        <p:spPr>
          <a:xfrm>
            <a:off x="-228600" y="-380880"/>
            <a:ext cx="9372600" cy="7086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1600200" y="484560"/>
            <a:ext cx="6629400" cy="62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дети дошкольных групп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тель по изодеятель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специалисты дошкольного учреждения:    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музыкальный 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воспитате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914400" y="23623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4"/>
          <a:stretch/>
        </p:blipFill>
        <p:spPr>
          <a:xfrm>
            <a:off x="838080" y="30481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"/>
          <p:cNvPicPr/>
          <p:nvPr/>
        </p:nvPicPr>
        <p:blipFill>
          <a:blip r:embed="rId5"/>
          <a:stretch/>
        </p:blipFill>
        <p:spPr>
          <a:xfrm>
            <a:off x="914400" y="39625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6"/>
          <a:stretch/>
        </p:blipFill>
        <p:spPr>
          <a:xfrm>
            <a:off x="914400" y="45720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"/>
          <p:cNvPicPr/>
          <p:nvPr/>
        </p:nvPicPr>
        <p:blipFill>
          <a:blip r:embed="rId7"/>
          <a:stretch/>
        </p:blipFill>
        <p:spPr>
          <a:xfrm>
            <a:off x="914400" y="5410080"/>
            <a:ext cx="685800" cy="571680"/>
          </a:xfrm>
          <a:prstGeom prst="rect">
            <a:avLst/>
          </a:prstGeom>
          <a:ln w="0">
            <a:noFill/>
          </a:ln>
        </p:spPr>
      </p:pic>
      <p:sp>
        <p:nvSpPr>
          <p:cNvPr id="62" name="WordArt 12"/>
          <p:cNvSpPr txBox="1"/>
          <p:nvPr/>
        </p:nvSpPr>
        <p:spPr>
          <a:xfrm>
            <a:off x="762120" y="609480"/>
            <a:ext cx="80010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Участники проекта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8"/>
          <a:stretch/>
        </p:blipFill>
        <p:spPr>
          <a:xfrm>
            <a:off x="6248520" y="3962520"/>
            <a:ext cx="22096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7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1715760"/>
            <a:ext cx="2496960" cy="4208760"/>
          </a:xfrm>
          <a:prstGeom prst="rect">
            <a:avLst/>
          </a:prstGeom>
          <a:solidFill>
            <a:srgbClr val="ffcc99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Comic Sans MS"/>
              </a:rPr>
              <a:t>Цель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: дать знания по цветоведению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создать услов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ля использ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их  в дет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творче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специа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организова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занятия; игр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эксперименталь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Comic Sans MS"/>
              </a:rPr>
              <a:t>деятель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экскурс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3048120" y="1378080"/>
            <a:ext cx="2868480" cy="5031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 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педагогами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Цель: 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овышение 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мпетентности  в данном направлении, поиск путей реализации за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организ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развивающей сред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нсультации, практик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оздание ба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иагностическ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и развив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инструментария (игр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литература, упражнения)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6172200" y="1241280"/>
            <a:ext cx="2509920" cy="5306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Взаимодействие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родителями</a:t>
            </a: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Цель:</a:t>
            </a: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  педаг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освещ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и приобщ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совмест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творческ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еятельности с деть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Comic Sans MS"/>
              </a:rPr>
              <a:t>Формы раб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консульта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практик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демонст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Comic Sans MS"/>
              </a:rPr>
              <a:t>занятий с детьми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семейная твор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Comic Sans MS"/>
              </a:rPr>
              <a:t>деятель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685800" y="380880"/>
            <a:ext cx="84582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Направления работы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9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914400" y="794880"/>
            <a:ext cx="73850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omic Sans MS"/>
              </a:rPr>
              <a:t>Методы проекта:</a:t>
            </a:r>
            <a:r>
              <a:rPr b="0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Нагляд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Практиче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Исследовательск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   </a:t>
            </a:r>
            <a:r>
              <a:rPr b="1" lang="ru-RU" sz="3600" spc="-1" strike="noStrike">
                <a:solidFill>
                  <a:srgbClr val="0033cc"/>
                </a:solidFill>
                <a:latin typeface="Comic Sans MS"/>
              </a:rPr>
              <a:t>Мониторинговые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85800" cy="571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762120" y="426708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762120" y="54864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5"/>
          <a:stretch/>
        </p:blipFill>
        <p:spPr>
          <a:xfrm>
            <a:off x="762120" y="3200400"/>
            <a:ext cx="685800" cy="571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9ffc5a4f64e7t"/>
          <p:cNvPicPr/>
          <p:nvPr/>
        </p:nvPicPr>
        <p:blipFill>
          <a:blip r:embed="rId6"/>
          <a:stretch/>
        </p:blipFill>
        <p:spPr>
          <a:xfrm>
            <a:off x="5715000" y="2590920"/>
            <a:ext cx="3429000" cy="361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ebbb9c9d9a7e"/>
          <p:cNvPicPr/>
          <p:nvPr/>
        </p:nvPicPr>
        <p:blipFill>
          <a:blip r:embed="rId7"/>
          <a:stretch/>
        </p:blipFill>
        <p:spPr>
          <a:xfrm>
            <a:off x="7086600" y="685800"/>
            <a:ext cx="1555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5800" y="1314360"/>
          <a:ext cx="8001000" cy="4926240"/>
        </p:xfrm>
        <a:graphic>
          <a:graphicData uri="http://schemas.openxmlformats.org/drawingml/2006/table">
            <a:tbl>
              <a:tblPr/>
              <a:tblGrid>
                <a:gridCol w="2286000"/>
                <a:gridCol w="1905120"/>
                <a:gridCol w="152280"/>
                <a:gridCol w="1828800"/>
                <a:gridCol w="152280"/>
                <a:gridCol w="1676520"/>
              </a:tblGrid>
              <a:tr h="45756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Этапы   реализации  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педагога по изодеятельност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де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заимо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ствие с р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672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1 этап.    Целеполагани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Входящая диагностика Моделирование проблемной ситу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Принятие детьми проблемы и предложение путей её реш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Семинар-практикум «Что необходимо знать о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цветоведен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Формирование проектной групп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Консультация «Цвет в детском рисунке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8" name="WordArt 70"/>
          <p:cNvSpPr txBox="1"/>
          <p:nvPr/>
        </p:nvSpPr>
        <p:spPr>
          <a:xfrm>
            <a:off x="1600200" y="609480"/>
            <a:ext cx="5943600" cy="70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Этапы проекта  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92" descr="82745c3dae38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3520" y="685800"/>
          <a:ext cx="8305560" cy="4968720"/>
        </p:xfrm>
        <a:graphic>
          <a:graphicData uri="http://schemas.openxmlformats.org/drawingml/2006/table">
            <a:tbl>
              <a:tblPr/>
              <a:tblGrid>
                <a:gridCol w="2286000"/>
                <a:gridCol w="1828800"/>
                <a:gridCol w="2057400"/>
                <a:gridCol w="2133360"/>
              </a:tblGrid>
              <a:tr h="534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 этап Деятельностны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едагога по изодеятельно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те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группы сопровождения ребенка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Взаимодействие с родителям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264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Планирование и организация деятельности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оздание методического и развивающего материала для практическ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Экспериментирование с цветом и выполнение творческих рабо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Разработка совместного плана движения к цел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Мини-педсовет «Осуществление проек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убъективная диагностика  (анкетирован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1" name="Picture 82" descr="82745c3dae38"/>
          <p:cNvPicPr/>
          <p:nvPr/>
        </p:nvPicPr>
        <p:blipFill>
          <a:blip r:embed="rId1"/>
          <a:stretch/>
        </p:blipFill>
        <p:spPr>
          <a:xfrm>
            <a:off x="6934320" y="403848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09480"/>
          <a:ext cx="7848720" cy="5222880"/>
        </p:xfrm>
        <a:graphic>
          <a:graphicData uri="http://schemas.openxmlformats.org/drawingml/2006/table">
            <a:tbl>
              <a:tblPr/>
              <a:tblGrid>
                <a:gridCol w="2514600"/>
                <a:gridCol w="1905120"/>
                <a:gridCol w="1877760"/>
                <a:gridCol w="15512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  <a:ea typeface="Arial Unicode MS"/>
                        </a:rPr>
                        <a:t>3 этап   Выполнение проекта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 Unicode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Деятельность в соответствии с тематическим планирование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Организация системы занятий с детьми через кружковую деятельность, организация и проведение тематических занятий, экскурсий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мастер — классов, пленэров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Формирование специфических знаний, умений и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 </a:t>
                      </a: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Реализация  потребностей и активности детей  в разных видах изобразительной  деятельности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Создание развивающей среды (цветовая диагности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спользование детских работ в оформлении групп, интеграция  цветоведения в деятельность других специалистов: музыкальный руководитель, психолог, хореограф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Выполнение творческих домашних заданий совместно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Изготовление игр пособ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Arial Unicode MS"/>
                        </a:rPr>
                        <a:t>Участие в выставках семейного творчества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96" descr="82745c3dae38"/>
          <p:cNvPicPr/>
          <p:nvPr/>
        </p:nvPicPr>
        <p:blipFill>
          <a:blip r:embed="rId1"/>
          <a:stretch/>
        </p:blipFill>
        <p:spPr>
          <a:xfrm>
            <a:off x="6858000" y="4191120"/>
            <a:ext cx="1944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ЕНА</dc:creator>
  <dc:description/>
  <dc:language>en-US</dc:language>
  <cp:lastModifiedBy>one</cp:lastModifiedBy>
  <dcterms:modified xsi:type="dcterms:W3CDTF">2017-10-10T11:15:06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