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568888-D4FE-4A0C-B517-22D654055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050E923-34B7-4205-AB52-CBDF424C189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09DF47-F843-4862-98B9-1DBCC4BA8B8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D83CD2D-4DD2-41F7-B4D8-DA05B48B2455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93EE2BA-7037-44EE-A4D9-33B6FD00C82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80FFDA-FB53-4457-AF2B-0C05E6B7BEE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86BF46-094A-4CF9-9520-AA18302D9F80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685DB23-C6A1-4C30-B4B5-ABC39DAC838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C4C1-1561-4225-BAC4-6DE248F3D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B951-D573-4A52-AF5E-B73D3261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42F4-F11F-42AF-9616-51E907613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949F-E9B6-4AA3-A701-B05A8514E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4E6E-B2F5-4771-9914-2DB8CE83E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D5FF0-9284-4484-97E7-F5430172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63A98-3DDD-45AE-90FB-D78B0346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5CBA-ED36-45D8-A69F-40CDFE15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CAE2C-6063-432B-A492-B16D02A8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4C7E-B4EA-4CE9-AD12-700C2DF9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9C687-3CB8-44D2-98D9-504118F9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CF48-BD43-4402-BA4D-2ED17C3C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43EA-6FC2-4CFB-A096-0210F130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83E6-ECB9-4F91-B70D-49A4482A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C95F-7320-4527-A796-7E5CB762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F39B-1975-481F-98F1-3DD069D10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F7607-AA54-47DB-A31F-CD4D2A4BD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603A-4734-4038-AA66-5C793675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631A-D60E-4DAB-BBC1-AE4C773E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E2CE-2F4A-4915-9B20-6407D527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D423-CC82-476F-B880-94BF74A0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A58F-D247-47A7-906F-5159C212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F0AE-F97F-4E04-A7F8-E59134E2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F7ED-CF15-4051-A777-1C073474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50e0ea"/>
                </a:solidFill>
                <a:latin typeface="Calibri"/>
              </a:rPr>
              <a:t>Образец заголовка</a:t>
            </a:r>
            <a:endParaRPr b="0" lang="ru-RU" sz="5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DFC9913-3AD8-4C8B-8CC0-BB41E78A54DB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разец заголовка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343C85-7B60-4CA7-BC3F-6B6284C20065}" type="slidenum">
              <a:rPr b="0" lang="ru-RU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04640"/>
            <a:ext cx="7851240" cy="16560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МБДОУ«Детский сад № 32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«Соловушка»</a:t>
            </a:r>
            <a:br>
              <a:rPr sz="2400"/>
            </a:b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33520" y="2133000"/>
            <a:ext cx="7854480" cy="43920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 fontScale="75000"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onstantia"/>
              </a:rPr>
              <a:t>Проектная деятельность с детьм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1" i="1" lang="ru-RU" sz="6000" spc="-1" strike="noStrike">
                <a:solidFill>
                  <a:srgbClr val="c00000"/>
                </a:solidFill>
                <a:latin typeface="Constantia"/>
              </a:rPr>
              <a:t>дошкольного возраста</a:t>
            </a:r>
            <a:r>
              <a:rPr b="1" i="1" lang="ru-RU" sz="4300" spc="-1" strike="noStrike">
                <a:solidFill>
                  <a:srgbClr val="c00000"/>
                </a:solidFill>
                <a:latin typeface="Constantia"/>
              </a:rPr>
              <a:t>  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3000" spc="-1" strike="noStrike">
                <a:solidFill>
                  <a:srgbClr val="002060"/>
                </a:solidFill>
                <a:latin typeface="Constantia"/>
              </a:rPr>
              <a:t>Составитель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3000" spc="-1" strike="noStrike">
                <a:solidFill>
                  <a:srgbClr val="002060"/>
                </a:solidFill>
                <a:latin typeface="Constantia"/>
              </a:rPr>
              <a:t>  </a:t>
            </a:r>
            <a:r>
              <a:rPr b="1" i="1" lang="ru-RU" sz="3000" spc="-1" strike="noStrike">
                <a:solidFill>
                  <a:srgbClr val="002060"/>
                </a:solidFill>
                <a:latin typeface="Constantia"/>
              </a:rPr>
              <a:t>Каурина О.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en-US" sz="3000" spc="-1" strike="noStrike">
                <a:solidFill>
                  <a:srgbClr val="002060"/>
                </a:solidFill>
                <a:latin typeface="Constantia"/>
              </a:rPr>
              <a:t>I </a:t>
            </a:r>
            <a:r>
              <a:rPr b="1" i="1" lang="ru-RU" sz="3000" spc="-1" strike="noStrike">
                <a:solidFill>
                  <a:srgbClr val="002060"/>
                </a:solidFill>
                <a:latin typeface="Constantia"/>
              </a:rPr>
              <a:t>квалификационная категор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едагогическое проектирование</a:t>
            </a:r>
            <a:endParaRPr b="0" lang="ru-RU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егодня метод проектов широко используется в работе ДОУ. Педагоги не только проектируют свою деятельность, но и разрабатывают интересные проекты на самые разные темы с воспитанниками и их родителями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 algn="just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сновной целью проектного метода в детском саду является </a:t>
            </a: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Constantia"/>
              </a:rPr>
              <a:t>развитие свободной творческой личности ребёнка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, которое определяется задачами развития и задачами исследовательской деятельности детей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Основные требования к использованию метода проектов в детском саду</a:t>
            </a:r>
            <a:endParaRPr b="0" lang="ru-RU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7000"/>
          </a:bodyPr>
          <a:p>
            <a:pPr marL="25776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*в основе любого проекта лежит проблема, для решения которой требуется исследовательский поиск;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5776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*проект – это «игра всерьёз»; результаты её значимы для детей и взрослых;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5776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*обязательные составляющие проекта: детская самостоятельность (при поддержке педагога), сотворчество ребят и взрослых, развитие коммуникативных способностей детей, познавательных и творческих навыков;  применение дошкольниками полученных знаний на практике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76640"/>
            <a:ext cx="82292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7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Этапы разработки и проведения проекта (последовательность работы воспитателей</a:t>
            </a:r>
            <a:r>
              <a:rPr b="0" lang="ru-RU" sz="5000" spc="-1" strike="noStrike">
                <a:solidFill>
                  <a:srgbClr val="c00000"/>
                </a:solidFill>
                <a:latin typeface="Calibri"/>
              </a:rPr>
              <a:t>)</a:t>
            </a:r>
            <a:endParaRPr b="0" lang="ru-RU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1.Ставим перед собой цель, исходя из интересов и потребностей детей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2.Вовлекаем дошкольников в решение проблемы (обозначение «детской» цели)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3.Намечаем план движения к цели (поддерживаем интерес детей и родителей)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4.Обсуждаем план с семьями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5.Обращаемся за рекомендациями к специалистам детского сада (творческий поиск)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332640"/>
            <a:ext cx="9143640" cy="575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69000"/>
          </a:bodyPr>
          <a:p>
            <a:pPr indent="0">
              <a:buNone/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240" cy="51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1000"/>
          </a:bodyPr>
          <a:p>
            <a:pPr marL="2692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6.Собираем информацию, материал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692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7.Проводим занятия, игры, наблюдения, – все мероприятия основной части проекта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692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8.Даём домашние задания родителям и детям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692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9.Переходим к самостоятельным  творческим работам (поиск материала, информации, поделки, рисунки, альбомы)родителей и детей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692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10.Организуем презентацию проекта (праздник, открытое занятие, акция, КВН), составляем альбом и т.п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6928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11.Подводим итоги:  выступаем на педагогическом совете, «круглом столе», проводим обобщение опыта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2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сновные этапы метода проектов, используемые педагогами детского сада: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72640"/>
            <a:ext cx="8229240" cy="47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1.Целеполагание: педагог помогает ребёнку выбрать наиболее актуальную и посильную для него задачу на определённый отрезок времени.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2.Разработка проекта – план деятельности по достижению цели.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3.Выполнение проекта – практическая часть.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4.Подведение итогов – определение задач для новых проектов.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2640"/>
            <a:ext cx="822924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Виды проектов в практике ДОУ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40640"/>
            <a:ext cx="82292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7000"/>
          </a:bodyPr>
          <a:p>
            <a:pPr marL="257760" indent="0" algn="just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 практике детского сада используются следующие виды проектов:  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57760" indent="0" algn="just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- исследовательское- творческие: дети экспериментируют, а затем результаты оформляют в виде плакатов, газет, детского дизайна, драматизации и др.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57760" indent="0" algn="just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-ролево-игровые  (с элементами творческих игр, когда дети входят в образ персонажей сказки и решают по-своему поставленные проблемы);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57760" indent="0" algn="just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-информационно-практико-ориентированные (дети собирают информацию и реализуют её, ориентируясь на социальные интересы);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marL="257760" indent="0" algn="just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-творческие (оформление результатов в виде детского праздника, детского дизайна и др.)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</TotalTime>
  <Application>LibreOffice/7.4.7.2$Linux_X86_64 LibreOffice_project/40$Build-2</Application>
  <AppVersion>15.0000</AppVersion>
  <Words>434</Words>
  <Paragraphs>4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1T06:30:50Z</dcterms:created>
  <dc:creator>Valued Acer Customer</dc:creator>
  <dc:description/>
  <dc:language>en-US</dc:language>
  <cp:lastModifiedBy>Оля</cp:lastModifiedBy>
  <dcterms:modified xsi:type="dcterms:W3CDTF">2017-10-14T17:30:45Z</dcterms:modified>
  <cp:revision>10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7</vt:r8>
  </property>
  <property fmtid="{D5CDD505-2E9C-101B-9397-08002B2CF9AE}" pid="3" name="PresentationFormat">
    <vt:lpwstr>Экран (4:3)</vt:lpwstr>
  </property>
  <property fmtid="{D5CDD505-2E9C-101B-9397-08002B2CF9AE}" pid="4" name="Slides">
    <vt:r8>7</vt:r8>
  </property>
</Properties>
</file>