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94F07C-37CD-45A5-B79A-9D7DAEB80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BF2514-3E8C-46FE-B405-8D36BB87BAF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031F1F-F5EF-46EF-95A6-CA47BE7006D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40E540-7861-49AF-81F6-CCF728E4104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FFFE2D-4FE9-4764-BA03-EC7A6FBB2AE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FC8308-21B7-4331-9EF2-4A14C1B4965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129411-892C-4F51-B782-55B91489230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E9C485-86FE-4BE8-8CA0-EAC9EB4728B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4F9-E6E4-4812-B37C-5CC8C681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CCE-E97C-4504-9C85-575EF989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159-2043-430E-831F-3DD664E6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E5E-5AA4-4BA5-A414-6D028826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65EC-CC7D-4962-A60D-7FF6E9D0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2D74-783A-46AD-85A1-99A15210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43A2-C178-46F3-8638-16B3FF19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3E12-7B88-4CD5-AA1F-B2770AB7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9BA7-C717-4C2E-A67B-59C9736F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EEF2-4F37-41AB-9160-D29F5645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D628-9D2B-4B9E-AB49-429EFB5A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078-4048-437B-8DAB-B037D576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26EB-179F-4992-8B8A-9A809BC8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751D-924B-4D5A-A0C8-B3676964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4598-5260-40B8-BCEC-12523AD7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C86F-5ED9-4C34-838E-4445A06C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988C-F8E8-4614-AEE5-2A998429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4A3-18EA-4529-95B0-6B6CED58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62C-94E8-4F11-9231-CE5CA956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231-EFC1-4C9F-8FDB-C89799A5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2C7-A983-4898-B19A-07F2B8CF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899-45EF-4F4B-9976-2465E342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44B-CBD2-4A30-8B0E-D026B42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BF5-6789-413C-95F9-CEB15C7F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668CBC-4AE9-4C19-8DD3-274FCB479DF0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570F05-8748-4C13-A08C-E4575BF52DD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7851240" cy="165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БДОУ«Детский сад № 32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Соловушка»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2133000"/>
            <a:ext cx="7854480" cy="4392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75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nstantia"/>
              </a:rPr>
              <a:t>Проектная деятельность с деть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nstantia"/>
              </a:rPr>
              <a:t>дошкольного возраста</a:t>
            </a:r>
            <a:r>
              <a:rPr b="1" i="1" lang="ru-RU" sz="4300" spc="-1" strike="noStrike">
                <a:solidFill>
                  <a:srgbClr val="c00000"/>
                </a:solidFill>
                <a:latin typeface="Constantia"/>
              </a:rPr>
              <a:t> 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onstantia"/>
              </a:rPr>
              <a:t>Составител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1" i="1" lang="ru-RU" sz="3000" spc="-1" strike="noStrike">
                <a:solidFill>
                  <a:srgbClr val="002060"/>
                </a:solidFill>
                <a:latin typeface="Constantia"/>
              </a:rPr>
              <a:t>Каурина О.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Constantia"/>
              </a:rPr>
              <a:t>I </a:t>
            </a:r>
            <a:r>
              <a:rPr b="1" i="1" lang="ru-RU" sz="3000" spc="-1" strike="noStrike">
                <a:solidFill>
                  <a:srgbClr val="002060"/>
                </a:solidFill>
                <a:latin typeface="Constantia"/>
              </a:rPr>
              <a:t>квалификационная катег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едагогическое проектирование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егодня метод проектов широко используется в работе ДОУ. Педагоги не только проектируют свою деятельность, но и разрабатывают интересные проекты на самые разные темы с воспитанниками и их родителям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just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й целью проектного метода в детском саду является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свободной творческой личности ребёнка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ое определяется задачами развития и задачами исследовательской деятельности дет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сновные требования к использованию метода проектов в детском саду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в основе любого проекта лежит проблема, для решения которой требуется исследовательский поиск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проект – это «игра всерьёз»; результаты её значимы для детей и взрослых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обязательные составляющие проекта: детская самостоятельность (при поддержке педагога), сотворчество ребят и взрослых, развитие коммуникативных способностей детей, познавательных и творческих навыков;  применение дошкольниками полученных знаний на практике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Этапы разработки и проведения проекта (последовательность работы воспитателей</a:t>
            </a: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.Ставим перед собой цель, исходя из интересов и потребностей дет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Вовлекаем дошкольников в решение проблемы (обозначение «детской» цели)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.Намечаем план движения к цели (поддерживаем интерес детей и родителей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.Обсуждаем план с семьям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5.Обращаемся за рекомендациями к специалистам детского сада (творческий поиск)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36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9000"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6.Собираем информацию, материал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7.Проводим занятия, игры, наблюдения, – все мероприятия основной части проекта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8.Даём домашние задания родителям и детя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9.Переходим к самостоятельным  творческим работам (поиск материала, информации, поделки, рисунки, альбомы)родителей и дет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0.Организуем презентацию проекта (праздник, открытое занятие, акция, КВН), составляем альбом и т.п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1.Подводим итоги:  выступаем на педагогическом совете, «круглом столе», проводим обобщение опыта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сновные этапы метода проектов, используемые педагогами детского сада: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7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.Целеполагание: педагог помогает ребёнку выбрать наиболее актуальную и посильную для него задачу на определённый отрезок времени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.Разработка проекта – план деятельности по достижению цели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.Выполнение проекта – практическая часть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4.Подведение итогов – определение задач для новых проектов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иды проектов в практике ДОУ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практике детского сада используются следующие виды проектов: 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исследовательское- творческие: дети экспериментируют, а затем результаты оформляют в виде плакатов, газет, детского дизайна, драматизации и др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ролево-игровые  (с элементами творческих игр, когда дети входят в образ персонажей сказки и решают по-своему поставленные проблемы)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информационно-практико-ориентированные (дети собирают информацию и реализуют её, ориентируясь на социальные интересы)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творческие (оформление результатов в виде детского праздника, детского дизайна и др.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  <Words>434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6:30:50Z</dcterms:created>
  <dc:creator>Valued Acer Customer</dc:creator>
  <dc:description/>
  <dc:language>en-US</dc:language>
  <cp:lastModifiedBy>Оля</cp:lastModifiedBy>
  <dcterms:modified xsi:type="dcterms:W3CDTF">2017-10-14T17:30:45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Экран (4:3)</vt:lpwstr>
  </property>
  <property fmtid="{D5CDD505-2E9C-101B-9397-08002B2CF9AE}" pid="4" name="Slides">
    <vt:r8>7</vt:r8>
  </property>
</Properties>
</file>