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9FBA-DE05-484A-ACE0-FF6D6C8120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D041-BE51-44EB-B150-E41B6E05BB2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7968-485E-4690-821F-27ECCA6C3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3CE68-A1C6-4CFC-817C-B3F97B41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E1184E-6544-4BB5-985F-F1AEDEDEC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2297E4-AE48-49C7-BEC4-CD35B5E3F9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5914FA-DA2E-4148-90CA-8B77D40DE2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4D1E0-6173-41C1-BE82-CF1089818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ADEE3-2D33-4B42-8670-3A7F2100E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41FC4-AAF2-411E-9B8E-98B66E5A4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C8A480-5112-4127-91A5-634B1A929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3DFA69-3397-461A-8A51-CBA29E12B1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130551-4773-40C0-909E-7F5BF42C8E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255C56-989C-416F-A288-274E3B33DE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BC4A6-C691-4ED1-9967-E72E3F59A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330ADD-F8E8-4ABE-9AB9-C6780426C7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1E1F2C-1EC6-4989-9D81-001B4069EE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2C90F9-6FB0-44AC-8801-CA7B8DA464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8564D9-F7FB-4263-99D2-46FCE8CB1E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3365C2-B1DD-44E5-9DDE-0916B07D6F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C73B23-93C6-42F0-8E1A-1E934FE2D6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D1AFAF-BCC7-44C2-9EF7-B7B8C68A8C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B02AC4-63AB-4760-9147-A61431182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68AB04-0E1A-4326-BEDC-C8D8F3A89C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570F06-6B8F-4555-8961-5539A2549F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206D8-CB66-4A47-BA2A-FF9294087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099AF5-ECD5-4354-9EE7-E184377341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BBE6E7-9544-4E23-8C79-B32527B360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BF89BB-3441-4D37-9313-F4FBCACB93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7EAD1C-629E-48B6-89E1-C3BAE13DF4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70193A-68C4-4ED1-B89B-7DEA49238F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BE2D41-FD13-4CC9-99B2-51E353EA51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9EB1E1-787E-42E6-AA9C-7D05687005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8F1802-47DD-48E1-9B4C-743FC10DCB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AC35F4-3A19-4A2A-85AA-AFB63990DD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0E29A3-32D0-4504-BF0A-D1A4C1A176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13574-4C23-403B-A5F2-9828F8D7F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DFDEB-B4B1-44A4-B43E-40D7386548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091B8D-AF32-4903-B2CF-2799DC95FF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C8E789-3B7F-42EC-8F56-637B602498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66AB18-5367-4CC0-928F-B9F078BFF0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B40BCE-7D87-432D-9B2C-FC03B77D6E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1CDC83-29BA-40F3-BF7B-65061CDA38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86F08C-0CE2-443D-840F-3E3FA22122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57F22A-7300-439A-818F-3074C26BBD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E12CE2-5F9E-4794-B82D-2868776454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2B37EC-8D1B-4B69-A611-C28107D4C2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44F26-BF22-44CC-AD83-765E66181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855F95-545F-44CA-AC01-54A96274EF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8A0AD4-F85C-4FC5-B9FF-34B174D615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573085-4C4D-42A8-AB5B-1E63562549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33F3BA-A2D2-4B06-8ACF-74E19741C1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95E597-25BF-423C-926E-625CA19B0D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3AF43-57E1-42BF-A6BD-AAD1A0ADA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A7D8B-952D-4DAD-8081-04A978AC7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4C344-8A54-437D-84A8-F2EB3E264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F196B-74DF-45D8-92A4-ACFE81B68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B450B-DECB-4F0C-8294-3E5BF2588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91B3-DC97-4E68-A473-8444421D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670EB-6E98-4C1D-9D4E-95FEA06D9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C5E1A-B25C-4978-8B0A-09A0A3F7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BA132-E678-498C-92B0-8F824A2E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4C296-CA59-40C6-91C4-11687BD42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285ED-0149-4C40-9D28-662245AC6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DD02C-EE49-4563-ADD6-3D4900BFC3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3A688-6CD4-41B1-9814-3B61D2BE9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49CA5-EC05-460C-9ADB-E6A67DC99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0E5D8-696A-4927-BC21-0269569330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E0C06-E2FA-4E5A-BAF3-9B37DDBEC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D9393-9230-487A-9BA7-3DAE82115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ED08E-C973-4473-8BC1-67F0ECF31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34D8B-2848-4A5C-A569-CD72C5D3A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44CBC-09EF-46CE-9A68-4DE7E17ED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E4124-0A50-429D-8DC0-124E2D7C1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B7E77-EDB3-4943-8923-39B41E17E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36FE0-EE07-4CF6-8EAB-5C27A421FA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59D1B2-0490-423D-8341-FA1113360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5DF683-3A51-42D9-BFFD-32974E784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AF3C7-D2BA-47C8-A7E5-A59272D24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52B7D-E835-403C-8EF4-8856D7601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CCAD1-BFAE-4A1E-8CBE-97159B8D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82EB8-7D13-4D0D-A2D1-2CC403EC7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FA97A2-748E-4CB7-B04D-BA6CCBF36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D31FC-3C6B-4791-8CA3-631F307A5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372E3-DDD7-41B4-841B-5931FF2C4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7B6BA-625D-4794-AA46-9EDF1800A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91039-49BA-4AC8-A4AE-138DBACB5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E2282-64BC-49E8-B1C6-FB1389ED3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372F97-1F3B-4837-9406-BC7F18844C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0DDF65-BDDD-4F9C-8D98-155E4C9CC9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93503-9B77-4EB9-ABEC-8B3F5D1052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6399A-9B78-4792-8B94-352BDACA9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16EE7-7B7B-4E44-AB7A-BD607DE94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26362-0BDD-4BF3-8743-03E207BA4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46B4C0-7888-4CD4-990D-FAD328025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E41FF-4DE7-45F7-8607-B21EE21BD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B61C1-6C1D-4CAB-9341-20DCF49CF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75771-B454-4B22-AE76-884A1964A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97F24-D32A-4978-878A-25F67A957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E5F5F-23DE-41D3-ADBA-6E7EB0CE6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AEE84-2B5C-4BB2-A17E-048ECEB1C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3CD724-700F-46AA-A717-4A90400755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CF15-7A7C-4A71-9234-F842AD681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528113-E0F7-4A14-858E-BB1A0D125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FEE636-7CA2-4099-9D8E-FAB9098473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F64E3-8EEA-4696-9CF2-8BC8AF136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9062F-54EC-492D-A284-EE6E457BF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E44A7-706E-484F-91C6-2F4C0CE9D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65109-7345-471F-B766-BAC4480BD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567A45-A2B8-4D95-9C97-2DCDEB3043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C34D93-B942-4CDF-8F4B-6D4353003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19F28-6A1A-4B13-A5D0-22598E8E3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85739-CDC0-4758-B8F9-9BEF53844A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6CC0-01FB-454C-93B9-E1067862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CCEE7-77A8-4AB7-A1D7-FAB3E91713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2CE6CB-6A94-4A1F-9C53-9AEDD0B0D3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ECFA4D-7FB8-4A15-B7A9-A5ACA5EADB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CE58B3-414D-4365-B3FB-80B3C23263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4B686-A6B2-4073-912A-27A7F205D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F2BD0-A676-4768-BA9A-863622B0B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9CD50-476B-4988-8A08-E98161A0C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6EE3E2-DA18-4746-A8F2-3B98E49EA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A3536-523A-49CC-B2E8-03124ACC4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B8AC4-CC0A-4C0E-BADC-BC0BFBA86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2737-245C-4297-B64D-D381F535F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8ADDB6-B218-4BF1-A02C-1FB6B9B71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819B6-9EAC-46E4-8A57-C95A1BC28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0B940-7ABC-4467-A42B-32E675B5F9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9C3187-3B40-414F-B730-CFD778095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58DA5D-804F-4B95-88BA-CFF6580080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E2FAEE-E6F9-4191-A3A1-491867CE9B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590C6-D359-401C-9B15-DA840D9A7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A6134-2458-4D2B-994D-9668D8A6A6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BD848-D36A-4C77-B2B6-E598495FD7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000B6-983D-4AD5-A340-5973EB1E7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9AFCA-F28D-4BB5-9733-3FBF1126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1A0328-946E-4C28-A496-E8C5EA9876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90789-E321-4883-98D8-32DBB84F3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BA1F1-11DC-430E-B043-E78FB5DEA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EB44A-B19C-4497-8743-783136F699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B6265B-1B5D-4C1E-9A19-88CA7CE808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066943-CD85-4A4A-AF55-3E43130C66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0E1C27-BE29-4F41-92F3-D0E658C1E5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34D4EB-9030-440C-AF20-5B874B7633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B7866F-83CE-4B03-9110-864213C5A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5617C0-D189-4E76-8682-798737529D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B001-852D-4F3C-8EEF-13C83099794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8"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886A-8DC1-4D7F-9145-26025FDCA7F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2"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13B2-1ACA-404E-98F5-07F1878D17D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6"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020A-5559-4F6D-B980-7D62B1F3C0D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Arc 4"/>
            <p:cNvSpPr/>
            <p:nvPr/>
          </p:nvSpPr>
          <p:spPr>
            <a:xfrm>
              <a:off x="-7758000" y="1463760"/>
              <a:ext cx="13452480" cy="107949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4F11-907E-4FAE-8A1B-FE201CF4C7C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F7BD-F2B3-4111-8CCD-49E11593E50E}"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AF83-2A31-40F1-B0CD-30CB561AE15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212E-FC8E-4AEE-A55B-3BC833CA0F0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369D-C78C-468D-8315-11DC2E6B376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D6F2-6E61-44E4-982B-D4BD38DFB2AB}"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F6A7-4317-4366-BB45-E6CA9616A67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D7F2-B36E-4884-B008-B881315105D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2560" y="609480"/>
            <a:ext cx="808056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                    </a:t>
            </a:r>
            <a:r>
              <a:rPr b="0" lang="ru-RU" sz="4000" spc="-1" strike="noStrike">
                <a:solidFill>
                  <a:srgbClr val="ffcc66"/>
                </a:solidFill>
                <a:latin typeface="Arial"/>
              </a:rPr>
              <a:t>План:</a:t>
            </a:r>
            <a:endParaRPr b="0" lang="en-US" sz="4000" spc="-1" strike="noStrike">
              <a:solidFill>
                <a:srgbClr val="ffcc66"/>
              </a:solidFill>
              <a:latin typeface="Arial"/>
            </a:endParaRPr>
          </a:p>
        </p:txBody>
      </p:sp>
      <p:sp>
        <p:nvSpPr>
          <p:cNvPr id="536" name="PlaceHolder 2"/>
          <p:cNvSpPr>
            <a:spLocks noGrp="1"/>
          </p:cNvSpPr>
          <p:nvPr>
            <p:ph/>
          </p:nvPr>
        </p:nvSpPr>
        <p:spPr>
          <a:xfrm>
            <a:off x="682560" y="1484280"/>
            <a:ext cx="8137440" cy="46116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1.Кижинин ады-кижинин салым-чолу.</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Бай-Тал» суурнун девискээринде чурттап турар чоннун хуу аттары, оларнын тывылган аргалары</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3. Шола аттар</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4.Соолгу уеде торуттунген уругларнын аттарынын онзагайлар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468360" y="404640"/>
            <a:ext cx="820908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Rectangle 10"/>
          <p:cNvSpPr/>
          <p:nvPr/>
        </p:nvSpPr>
        <p:spPr>
          <a:xfrm>
            <a:off x="324000" y="739800"/>
            <a:ext cx="85690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l </a:t>
            </a:r>
            <a:r>
              <a:rPr b="1" lang="ru-RU" sz="2400" spc="-1" strike="noStrike">
                <a:solidFill>
                  <a:srgbClr val="ffffff"/>
                </a:solidFill>
                <a:latin typeface="Times New Roman"/>
              </a:rPr>
              <a:t>Морфологтуг арга</a:t>
            </a:r>
            <a:r>
              <a:rPr b="0" lang="ru-RU"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уве адынга чогаадылга кожумаанын немешкенинден тургустунг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Шагаачы- шагаа+ -чы; Тараачын- тараа+ - чын; </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ичеледип, чассыдар кожумактарнын чуве аттарынга каттышканындан тургустунг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 Деспижек- деспи=-жек;  Балажык-Бала+-жык; </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 Бичиилек-бичии+-лек; Хеймерек- хеймер+-ек;</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ътчыгаш-аът+ чыгаш</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 Сан адынга чогаадылга кожумаанын каттышканындан тургустунг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озан-Харлыг, Он+сес-Харлы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4"/>
          <p:cNvSpPr/>
          <p:nvPr/>
        </p:nvSpPr>
        <p:spPr>
          <a:xfrm>
            <a:off x="428760" y="623160"/>
            <a:ext cx="84247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Кылыг созунге оскертилге кожумаанын каттышканындан тургустунган аттар: Озер-оол-ос+ ер, Ойнаар-оол- ойна+-ар       </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Чуве адынга –маа деп кожумактын каттышканындан тургустунган аттар.</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олгар+-маа, Сайлык+-маа, Айлан+-маа</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6.Демдек адынга чогаадылга кожумаанын каттышканындан тургустунган аттар.</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азараш-тас+-ар+-аш;</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 Чуве адынга кылыг созунун –ла+ар деп кожумактарынын немешкенинден тургустунган аттар: Кокпалаар- кокпа+-ла+-ар</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4"/>
          <p:cNvSpPr/>
          <p:nvPr/>
        </p:nvSpPr>
        <p:spPr>
          <a:xfrm>
            <a:off x="611280" y="831240"/>
            <a:ext cx="813744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ll </a:t>
            </a:r>
            <a:r>
              <a:rPr b="1" lang="ru-RU" sz="2400" spc="-1" strike="noStrike">
                <a:solidFill>
                  <a:srgbClr val="ffffff"/>
                </a:solidFill>
                <a:latin typeface="Times New Roman"/>
              </a:rPr>
              <a:t>Лексика-семантиктиг арга.</a:t>
            </a:r>
            <a:endParaRPr b="0" lang="en-US" sz="2400" spc="-1" strike="noStrike">
              <a:solidFill>
                <a:srgbClr val="ffffff"/>
              </a:solidFill>
              <a:latin typeface="Times New Roman"/>
            </a:endParaRPr>
          </a:p>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рлан ( демдек Ады) – мозу-шынарнын бир хевири; Семис( демдек ады)- дириг амытаннарнын шыдал талазы-биле даштыкы хевири; Сырбык,Сырбыкай ( чуве ады)- дииннин азы черлик бичии аннын диалектиде хевири; Чараш-оол- хевир-дурзунун даштыкы хевири; </a:t>
            </a:r>
            <a:endParaRPr b="0" lang="en-US" sz="2400" spc="-1" strike="noStrike">
              <a:solidFill>
                <a:srgbClr val="ffffff"/>
              </a:solidFill>
              <a:latin typeface="Times New Roman"/>
            </a:endParaRPr>
          </a:p>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Моол болгаш Тибет дылдардан улегерлээн аттар, оларнын уткалары.</a:t>
            </a:r>
            <a:endParaRPr b="0" lang="en-US" sz="2400" spc="-1" strike="noStrike">
              <a:solidFill>
                <a:srgbClr val="ffffff"/>
              </a:solidFill>
              <a:latin typeface="Times New Roman"/>
            </a:endParaRPr>
          </a:p>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Шагдан тура тыва дылда дыка хой аттар моол дылдан болгаш ону таварыштыр Тибет, санскрит, манчжур, дылдардан улегерлеттинип болу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4"/>
          <p:cNvSpPr/>
          <p:nvPr/>
        </p:nvSpPr>
        <p:spPr>
          <a:xfrm>
            <a:off x="324000" y="790560"/>
            <a:ext cx="856908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ай-Тал» сумузунда улегерлеттинген аттарлыг улус хойу-биле таваржып турар. Оларнын чамдыктарын коруп коойн. Бердинген аттарнын тайылбырларынын чамдыызын       « Башкы» сеткуулге унуп турган Лудуп Данзан Сундуй башкынын «Адын, шолан чажыттары» деп ажылындан алдынга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Агбаа ( Тибет)- чугаа, состун чагырыкчыз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акчаа ( санскрит)- камгалакч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азыр-Сат ( санскрит) – алмазтан буткен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ыдыктыг амытан дээ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Дандар ( Тибет) Будданын ооредиинин                                                        нептерээри</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4"/>
          <p:cNvSpPr/>
          <p:nvPr/>
        </p:nvSpPr>
        <p:spPr>
          <a:xfrm>
            <a:off x="-416520" y="671040"/>
            <a:ext cx="8805240" cy="5946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чук ( Тибет) – эртине</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Лопсан ( Тибет) – эки угаанныг, эртемде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ама-Суу ( Тибет)- лама сагыызынныг</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андан ( Тибет) ыдыктыг сандан ыяш; ханы бода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ржай (Тибет)- байлакшыл арбыдадыкчыз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Норжунмаа ( Тибет) – эгээртинмес байлактын агым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енди-Сурун ( Тибет) – сагыызыны Очурвани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урга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Хорлуу ( Тибет) – хурту, дугуй; амыдыралды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эргилдези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уурак ( моол) – оореникчи, шав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Чамбал-оол ( Тибет) – чаагай, чырыткылыг</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улдум (Тибет)- сагыл, мозулуг чорук</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анды (Тибет)- хунну ойзу адаан ат</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4"/>
          <p:cNvSpPr/>
          <p:nvPr/>
        </p:nvSpPr>
        <p:spPr>
          <a:xfrm>
            <a:off x="395280" y="613440"/>
            <a:ext cx="856944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умуда орус дылдан улегерлээн аттар база бар. Ук аттар болгаш фамилиялар амгы уеде  кайы-даа кожууннарда тыва чоннун аттарында ажыглаттынып турар. Ол ышкаш орус  болгаш оске нация чоннарнын фамилиялары безин бар. Оларга Жумабаева Айсулу, Валерий Валерьевич, Феодосия, Игорь,Чайка, Геннадий, Владимир, Татьяна, Борис, Алексей, Сергей,Вера, Галя. Светлана, Мария, Михаил, Антон, Андрей дээн чергелиг фамилиялар болгаш аттар киргилээн.</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уму чонунда адаттынган чингине тыва аттарнын утказынын аайы-биле болуктерин коорге, база онзагай.</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 Дириг амытаннар аттары-биле холбашк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най-оол – анай деп шээр малдын чаш толунун ниити ады; Сырбык, Сырбыкай- диин деп состун синоним азы  ан ады; Хенче-Кара  «хенче» кузун торуттунген анай, хураганнын ниити ад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4"/>
          <p:cNvSpPr/>
          <p:nvPr/>
        </p:nvSpPr>
        <p:spPr>
          <a:xfrm>
            <a:off x="214200" y="245520"/>
            <a:ext cx="820908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Куштар аттары-биле холбашк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нгыр-оол- ангыр куштун ниити Ады; Торлаакай- куштун бир хевиринин Ады; Эзир-Хаай- Эзир куштун думчуу-биле домейлээн ат. </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Унуштер , кат-чимис аттары-биле адаан аттар хой: Долаана, Анай-Хаак, Кара-Хаак, Чойган, Чодураа, Чыжыргана, Кара-Кат, Кызыл-Кат, Честек-Кат, Шенне;</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 Кижилернин даштыкы хевири-биле холба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орбак-оол, Тырыкы, Калбак, Калбак-Сарыг- арнынын хевирин коруп адаан аттар; Кош-Кулак- кулаанда бичии артык эъттиг кижи; Кертиш- думчуу кертиксимээр дээн уткалыг хире; Хылбан- шырайы ак, куу; Сарыг-оол хевир-дурзузу, бажы сарыг дээн болгаш оон-даа оске: 4.Кижинин мозузу, характери-биле холбашкан аттар: Маадыр-оол- шыдамык. Маадыр дээн; Орлан- эрестиг, орлан-шоваа; Оккур- аткан ок дег дурген, эрес-кашпагай.</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4"/>
          <p:cNvSpPr/>
          <p:nvPr/>
        </p:nvSpPr>
        <p:spPr>
          <a:xfrm>
            <a:off x="357120" y="315000"/>
            <a:ext cx="829152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Бичеледип, эргеледип, чассыткан аттар: Хеймерек- ог-буленин эн бичези; Кудурукпай- соолгу уруг азы оол; Кызылбай- арын-шырайы кызылзымаар боорга тывылган ат; Монгуней, Алдынай, Шолбанай – монгун, алдын, шолбан сылдыс ышкаш чырып, чайынналып турар дээн уткалыг.</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6.Торуттунген чери-биле холбаан аттар; Кошкендей-аал кошкенде торуттунген уругну ынчаар адаан.</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емчик-оол- Хемчик хем унунга торуттунген оол; Алаш, Алашмаа; 7. Торуттунген уезин барымдаалап адаан аттар: Март, Марта, Мая, Май-оол, Сентябрь, Октябрь, Октябрина.</a:t>
            </a:r>
            <a:r>
              <a:rPr b="0" lang="en-US" sz="2400" spc="-1" strike="noStrike">
                <a:solidFill>
                  <a:srgbClr val="ffffff"/>
                </a:solidFill>
                <a:latin typeface="Times New Roman"/>
              </a:rPr>
              <a:t> 8</a:t>
            </a:r>
            <a:r>
              <a:rPr b="0" lang="ru-RU" sz="2400" spc="-1" strike="noStrike">
                <a:solidFill>
                  <a:srgbClr val="ffffff"/>
                </a:solidFill>
                <a:latin typeface="Times New Roman"/>
              </a:rPr>
              <a:t>.Эт-херекселдер аттары-биле адаан аттар: Маска, Дожу, Балды, Лаа, Мургу,</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Ынчангаш торээн суурунун чурттакчыларынын хуу аттарын билип алыры хойну чугаалап, торээн черинин, чонунун эрткен оруун, тоогузун билип алырынга улуг ужур-дузалыг.</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0"/>
            <a:ext cx="8080560" cy="1125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Туннел сос</a:t>
            </a:r>
            <a:endParaRPr b="0" lang="en-US" sz="4400" spc="-1" strike="noStrike">
              <a:solidFill>
                <a:srgbClr val="ffcc66"/>
              </a:solidFill>
              <a:latin typeface="Arial"/>
            </a:endParaRPr>
          </a:p>
        </p:txBody>
      </p:sp>
      <p:sp>
        <p:nvSpPr>
          <p:cNvPr id="563" name="PlaceHolder 2"/>
          <p:cNvSpPr>
            <a:spLocks noGrp="1"/>
          </p:cNvSpPr>
          <p:nvPr>
            <p:ph/>
          </p:nvPr>
        </p:nvSpPr>
        <p:spPr>
          <a:xfrm>
            <a:off x="-142920" y="1213920"/>
            <a:ext cx="9468000" cy="532764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Торээн черинин чонунун эрги болгаш чаа уеде ат адаарынын чурамнарын шинчилеп, анализтеп коор ажыл солун-даа, берге-даа. Чугула ажыл - тоогуге чораан кижилеривиске чырык тураскаал. Школаларга, ооредилге черлеринге бо ажылды дарый чорудары чугула. Чыып алган материалдарны орус-даа, тыва-даа дыл кичээлдеринге калбаа-биле ажыглаар болза, школачыларнын угаан-медерели, дыл-домаа сайзырангай болуру чугаажок.  Этнонимнерни (торел аймак аттарын) ,антропонимнерни (кижилер аттарын) чоннун адап, ат берип чорааны ужур-уткалыг, тоогулуг. Ону Бай-Тал суузунун чурттакчыларынын антропонимнери бадыткап турар.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Ажыглаан литература</a:t>
            </a:r>
            <a:endParaRPr b="0" lang="en-US" sz="4400" spc="-1" strike="noStrike">
              <a:solidFill>
                <a:srgbClr val="ffcc66"/>
              </a:solidFill>
              <a:latin typeface="Arial"/>
            </a:endParaRPr>
          </a:p>
        </p:txBody>
      </p:sp>
      <p:sp>
        <p:nvSpPr>
          <p:cNvPr id="565"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Б. Чадамба. Способы образования тувинских личных имен, К., 1993</a:t>
            </a: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И. Вайнштейн. Личные имена, термины родства и прозвища у тувинцев. – В кн. Ономастика. М., « наука», 1969 стр. 125-131</a:t>
            </a: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Л.Сундуй. « Адын, шолан чажыттары».-Башкы 1996 №5,6., 1997 </a:t>
            </a: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равочник личных имен народов РСФСР.М., стр: 175-19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2560" y="609480"/>
            <a:ext cx="808056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                    </a:t>
            </a:r>
            <a:r>
              <a:rPr b="0" lang="ru-RU" sz="4000" spc="-1" strike="noStrike">
                <a:solidFill>
                  <a:srgbClr val="ffcc66"/>
                </a:solidFill>
                <a:latin typeface="Arial"/>
              </a:rPr>
              <a:t>План:</a:t>
            </a:r>
            <a:endParaRPr b="0" lang="en-US" sz="4000" spc="-1" strike="noStrike">
              <a:solidFill>
                <a:srgbClr val="ffcc66"/>
              </a:solidFill>
              <a:latin typeface="Arial"/>
            </a:endParaRPr>
          </a:p>
        </p:txBody>
      </p:sp>
      <p:sp>
        <p:nvSpPr>
          <p:cNvPr id="538" name="PlaceHolder 2"/>
          <p:cNvSpPr>
            <a:spLocks noGrp="1"/>
          </p:cNvSpPr>
          <p:nvPr>
            <p:ph/>
          </p:nvPr>
        </p:nvSpPr>
        <p:spPr>
          <a:xfrm>
            <a:off x="682560" y="1484280"/>
            <a:ext cx="8137440" cy="46116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1.Кижинин ады-кижинин салым-чолу.</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Бай-Тал» суурнун девискээринде чурттап турар чоннун хуу аттары, оларнын тывылган аргалары</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3. Шола аттар</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4.Соолгу уеде торуттунген уругларнын аттарынын онзагайлар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WordArt 5"/>
          <p:cNvSpPr txBox="1"/>
          <p:nvPr/>
        </p:nvSpPr>
        <p:spPr>
          <a:xfrm>
            <a:off x="324000" y="1916280"/>
            <a:ext cx="8820000" cy="21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ичээнгейинер дээш, четтирдим!</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Аннотация</a:t>
            </a:r>
            <a:endParaRPr b="0" lang="en-US" sz="4400" spc="-1" strike="noStrike">
              <a:solidFill>
                <a:srgbClr val="ffcc66"/>
              </a:solidFill>
              <a:latin typeface="Arial"/>
            </a:endParaRPr>
          </a:p>
        </p:txBody>
      </p:sp>
      <p:sp>
        <p:nvSpPr>
          <p:cNvPr id="540" name="PlaceHolder 2"/>
          <p:cNvSpPr>
            <a:spLocks noGrp="1"/>
          </p:cNvSpPr>
          <p:nvPr>
            <p:ph/>
          </p:nvPr>
        </p:nvSpPr>
        <p:spPr>
          <a:xfrm>
            <a:off x="682560" y="1980720"/>
            <a:ext cx="8066160" cy="4543560"/>
          </a:xfrm>
          <a:prstGeom prst="rect">
            <a:avLst/>
          </a:prstGeom>
          <a:noFill/>
          <a:ln w="0">
            <a:noFill/>
          </a:ln>
        </p:spPr>
        <p:txBody>
          <a:bodyPr lIns="182520" rIns="182520" tIns="46080" bIns="46080" anchor="t">
            <a:normAutofit/>
          </a:bodyPr>
          <a:p>
            <a:pPr marL="343080" indent="-343080" algn="ctr">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ижилернин хуу аттарынын кижинин салым-чолунга салдарлыын,  «Бай-Тал» суурнун девискээринде чурттап турар чоннун хуу аттары, оларнын тывылган аргаларынын, амгы уеде антропонимнернин байдалын шинчилеп коргускен ажыл.</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1412640"/>
            <a:ext cx="7772400" cy="26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Илеткелдин темазы:</a:t>
            </a:r>
            <a:br>
              <a:rPr sz="4000"/>
            </a:br>
            <a:br>
              <a:rPr sz="4000"/>
            </a:br>
            <a:r>
              <a:rPr b="0" lang="ru-RU" sz="4000" spc="-1" strike="noStrike">
                <a:solidFill>
                  <a:srgbClr val="ffcc66"/>
                </a:solidFill>
                <a:latin typeface="Arial"/>
              </a:rPr>
              <a:t>«Бай-Тал» сумузунун чурттакчыларынын хуу аттары.</a:t>
            </a:r>
            <a:endParaRPr b="0" lang="en-US" sz="4000" spc="-1" strike="noStrike">
              <a:solidFill>
                <a:srgbClr val="ffcc66"/>
              </a:solidFill>
              <a:latin typeface="Arial"/>
            </a:endParaRPr>
          </a:p>
        </p:txBody>
      </p:sp>
      <p:sp>
        <p:nvSpPr>
          <p:cNvPr id="542" name="PlaceHolder 2"/>
          <p:cNvSpPr>
            <a:spLocks noGrp="1"/>
          </p:cNvSpPr>
          <p:nvPr>
            <p:ph type="subTitle"/>
          </p:nvPr>
        </p:nvSpPr>
        <p:spPr>
          <a:xfrm>
            <a:off x="2555640" y="4797000"/>
            <a:ext cx="6048360" cy="1800360"/>
          </a:xfrm>
          <a:prstGeom prst="rect">
            <a:avLst/>
          </a:prstGeom>
          <a:noFill/>
          <a:ln w="0">
            <a:noFill/>
          </a:ln>
        </p:spPr>
        <p:txBody>
          <a:bodyPr lIns="92160" rIns="92160" tIns="46080" bIns="46080"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жылды кылган: Хертек Алашмаа А, 9класс</a:t>
            </a:r>
            <a:endParaRPr b="0" lang="en-US" sz="2400" spc="-1" strike="noStrike">
              <a:solidFill>
                <a:srgbClr val="ffffff"/>
              </a:solidFill>
              <a:latin typeface="Times New Roman"/>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дуртукчу башкызы: Доос Сайлыкмаа Малчын-ооловна- 1-ги  категориянын тыва дыл, чогаал башкыз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Сорулгазы:</a:t>
            </a:r>
            <a:endParaRPr b="0" lang="en-US" sz="4400" spc="-1" strike="noStrike">
              <a:solidFill>
                <a:srgbClr val="ffcc66"/>
              </a:solidFill>
              <a:latin typeface="Arial"/>
            </a:endParaRPr>
          </a:p>
        </p:txBody>
      </p:sp>
      <p:sp>
        <p:nvSpPr>
          <p:cNvPr id="544"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1.Хуу аттарнын тоогулуг ужур-утказын тодарады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2. «Бай-Тал» суурнун девискээринде чурттап турар чоннун хуу аттарын дилеп, тывылган аргаларын тыва дыл, тоогу, эртем-биле холбап шинчилээ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Эрги болгаш амгы уеде хуу аттарны деннеп шинчилээ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Шинчилел ажылынга сонуургалды сайзырадыр, чогаал, ном номчуурунче ук теманы дамчыштыр сонуургады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5.Шинчилел аргаларын ажылды кылып тура ооренип алы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6.Чогаал, дыл кичээлдеринге сос курлавырын байыдары-биле чамдык кичээлдерге ажыглап болу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Шинчилел ажылынын чугула         херектии:</a:t>
            </a:r>
            <a:endParaRPr b="0" lang="en-US" sz="4000" spc="-1" strike="noStrike">
              <a:solidFill>
                <a:srgbClr val="ffcc66"/>
              </a:solidFill>
              <a:latin typeface="Arial"/>
            </a:endParaRPr>
          </a:p>
        </p:txBody>
      </p:sp>
      <p:sp>
        <p:nvSpPr>
          <p:cNvPr id="546"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343080" indent="-343080" algn="ctr">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1.Амгы уеде кижилернин аттарынын оске дылдар-биле холушкаа, аттарынга хамаарылга чогу, дедир солудар аргалар хой таваржып турары дувуренчиг.</a:t>
            </a:r>
            <a:endParaRPr b="0" lang="en-US" sz="3200" spc="-1" strike="noStrike">
              <a:solidFill>
                <a:srgbClr val="ffffff"/>
              </a:solidFill>
              <a:latin typeface="Times New Roman"/>
            </a:endParaRPr>
          </a:p>
          <a:p>
            <a:pPr marL="343080" indent="-343080" algn="ctr">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 Чогаалдарда кижинин хуу аттарын коргузуп турар эртем ажылдар чогу, чогаалдарда хуу аттарнын дылынын онзагайын, аттарнын этимологиязын ( тывылган угун, ундезин дозун тодарадыр, анализтээр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Шинчилээр чуул ( проблема, карышкактар, объект):</a:t>
            </a:r>
            <a:endParaRPr b="0" lang="en-US" sz="4000" spc="-1" strike="noStrike">
              <a:solidFill>
                <a:srgbClr val="ffcc66"/>
              </a:solidFill>
              <a:latin typeface="Arial"/>
            </a:endParaRPr>
          </a:p>
        </p:txBody>
      </p:sp>
      <p:sp>
        <p:nvSpPr>
          <p:cNvPr id="548"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Бай-Тал » сумузунун чонунун</a:t>
            </a:r>
            <a:r>
              <a:rPr b="0" lang="en-US" sz="3200" spc="-1" strike="noStrike">
                <a:solidFill>
                  <a:srgbClr val="ffffff"/>
                </a:solidFill>
                <a:latin typeface="Times New Roman"/>
              </a:rPr>
              <a:t> </a:t>
            </a:r>
            <a:r>
              <a:rPr b="0" lang="ru-RU" sz="3200" spc="-1" strike="noStrike">
                <a:solidFill>
                  <a:srgbClr val="ffffff"/>
                </a:solidFill>
                <a:latin typeface="Times New Roman"/>
              </a:rPr>
              <a:t>хуу аттары, «Бай-Тал» сумузунун чурттакчыларынын чизе ному, аттарнын тывылган аргалары тыва дыл эртеминде.</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мгы уеде кижилернин хуу аттарынын янзы-буру дылдар-биле холушканын чижектер-биле тып, тодарады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4000" y="0"/>
            <a:ext cx="80802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2400" spc="-1" strike="noStrike">
                <a:solidFill>
                  <a:srgbClr val="ffcc66"/>
                </a:solidFill>
                <a:latin typeface="Arial"/>
              </a:rPr>
              <a:t>«Бай-Тал» сумузунун чурттакчы чонунун хуу аттары</a:t>
            </a:r>
            <a:endParaRPr b="0" lang="en-US" sz="2400" spc="-1" strike="noStrike">
              <a:solidFill>
                <a:srgbClr val="ffcc66"/>
              </a:solidFill>
              <a:latin typeface="Arial"/>
            </a:endParaRPr>
          </a:p>
        </p:txBody>
      </p:sp>
      <p:sp>
        <p:nvSpPr>
          <p:cNvPr id="550" name="PlaceHolder 2"/>
          <p:cNvSpPr>
            <a:spLocks noGrp="1"/>
          </p:cNvSpPr>
          <p:nvPr>
            <p:ph/>
          </p:nvPr>
        </p:nvSpPr>
        <p:spPr>
          <a:xfrm>
            <a:off x="785880" y="1143000"/>
            <a:ext cx="8066160" cy="5184720"/>
          </a:xfrm>
          <a:prstGeom prst="rect">
            <a:avLst/>
          </a:prstGeom>
          <a:noFill/>
          <a:ln w="0">
            <a:noFill/>
          </a:ln>
        </p:spPr>
        <p:txBody>
          <a:bodyPr lIns="182520" rIns="182520" tIns="46080" bIns="46080" anchor="t">
            <a:normAutofit fontScale="99000"/>
          </a:bodyPr>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Чингине тыва аттар ангы-ангы аргаларнын дузазы-биле тургустунган.</a:t>
            </a:r>
            <a:endParaRPr b="0" lang="en-US" sz="2000" spc="-1" strike="noStrike">
              <a:solidFill>
                <a:srgbClr val="ffffff"/>
              </a:solidFill>
              <a:latin typeface="Times New Roman"/>
            </a:endParaRPr>
          </a:p>
          <a:p>
            <a:pPr marL="8046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Синтаксистиг арга.</a:t>
            </a:r>
            <a:endParaRPr b="0" lang="en-US" sz="1800" spc="-1" strike="noStrike">
              <a:solidFill>
                <a:srgbClr val="ffffff"/>
              </a:solidFill>
              <a:latin typeface="Times New Roman"/>
            </a:endParaRPr>
          </a:p>
          <a:p>
            <a:pPr marL="8046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Чуве адынга чуве адынын каттышканындан тургустунган аттар.</a:t>
            </a:r>
            <a:endParaRPr b="0" lang="en-US" sz="18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а) чуве ады+ 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най-оол, Очур-оол, , Бадый-оол, Калга-оол, Хемчик-оол,Аян-оол, Багай-оол, Маадыр-оол,Озук-оол, Хурал-оол, Тудуг-оол, Оттук-оол, Чимис-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 чуве ады+ чуве ады</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Эзир-Хаай, Лама-Суу, Дажы-Серен, Кудай-Мерген, Бады-Монге, Торе-Монге, Далай-Хам</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емдек адынга чуве адынын каттышканындан тургустунган аттар.</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а) демдек ады+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лдын-оол, Борбак-оол, Сарыг-оол,Тас-оол, Дозур-оол, Калдар-оол, Алдай-оол, Онер-оол, Эрес-оол ,Байлак-оол, Хоптак-оол, Кызыл-оол, Монгун-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 демдек ады+ чуве ады</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ара-Сал, Аскак-Очур, Тенек-Очур, Узун-Очур, Чолдак-Очур, Улуг-Хаай, Ээр-Хаай, Хос-Хаай, Узун-Сайлык, , Хенче-Кара, , , Кызыл-Кат, Кара-Кат, Честек-кат, Сарыг-Тараа,Сарыг-Уруг</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57160" y="-194040"/>
            <a:ext cx="8080560" cy="4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cc66"/>
              </a:solidFill>
              <a:latin typeface="Arial"/>
            </a:endParaRPr>
          </a:p>
        </p:txBody>
      </p:sp>
      <p:sp>
        <p:nvSpPr>
          <p:cNvPr id="552" name="PlaceHolder 2"/>
          <p:cNvSpPr>
            <a:spLocks noGrp="1"/>
          </p:cNvSpPr>
          <p:nvPr>
            <p:ph/>
          </p:nvPr>
        </p:nvSpPr>
        <p:spPr>
          <a:xfrm>
            <a:off x="323640" y="476280"/>
            <a:ext cx="8569080" cy="6121440"/>
          </a:xfrm>
          <a:prstGeom prst="rect">
            <a:avLst/>
          </a:prstGeom>
          <a:noFill/>
          <a:ln w="0">
            <a:noFill/>
          </a:ln>
        </p:spPr>
        <p:txBody>
          <a:bodyPr lIns="182520" rIns="18252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Кылыг созунге  чуве адынын каттышканындан тургустунган аттар.</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а) кылыг созу + ООЛ</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зер-оол, Ойнаар-оол,  </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 кылыг созу+ чуве ады</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Чавыр-Хам (чавыр азы соксат деп кылыг созунге чуве адынын каттышканындан                                        тургустунган ат)</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Челер-Очур</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Демдек адынга демдек адынын каттышканындан тургустунган аттар.</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Дыртык-Кара, Бак-Кара, Борбак-Хурен, Семис-Кок</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5.Чуве адынга демдек адынын каттышканындан тургустунган аттар.</a:t>
            </a:r>
            <a:endParaRPr b="0" lang="en-US" sz="24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Анай-Кара, Хенче-Кара</a:t>
            </a:r>
            <a:r>
              <a:rPr b="0" lang="ru-RU"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31:44Z</dcterms:created>
  <dc:creator>1</dc:creator>
  <dc:description/>
  <dc:language>en-US</dc:language>
  <cp:lastModifiedBy>Пользователь</cp:lastModifiedBy>
  <dcterms:modified xsi:type="dcterms:W3CDTF">2011-02-27T18:59:53Z</dcterms:modified>
  <cp:revision>41</cp:revision>
  <dc:subject/>
  <dc:title>      Докладтын темазы:  С.А.Сарыг-оолдун « Ангыр-оолдун тоожузу» деп чогаалында кижилернин хуу аттары.</dc:title>
</cp:coreProperties>
</file>