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E78-68D7-436E-A97C-5A7BCAC0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10E7-51E9-490F-BB65-98A0F4A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48E-B9C7-4A3D-BF04-39680E3B3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5EB7-D53E-42C0-93DE-E0462D00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67A8-8E08-4484-A00E-831606C6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3262-9D62-485A-A9F1-39281BE9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ACD9-1384-413E-8D2A-FACD53DD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4820-5664-47DE-B710-AAB34FE9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6282D-D188-45A6-AA77-BDD2F6E4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18B0-BAE3-45BC-9BF8-6DAF05CC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B873-C51F-4D88-AFF6-852F0FA9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5AE3-0351-4CF9-8A1A-F9B7F8C6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5746-40A2-4AE2-932E-95F32A46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0EA44-785C-4000-B1BD-80DEBF03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00C5-36F3-4008-87E6-12C4D52B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71C4-CADA-40CF-AC46-3B2CD129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4166-E959-4C8B-A699-94B4F690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E2C3-3281-411F-986B-6E4877C4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238-C7C0-46F6-97F7-68025784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C34-E177-42FD-8726-2338B35F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D6A-FF57-4985-8593-0EC0C2AF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7DF0-23F9-4AA9-83B5-366D6F8C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6550-FD24-4433-971A-52202D2D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6139-6E99-4670-9503-2C636644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DA39-AC08-4EC8-AC51-25DA12E2B3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EAE6-775A-4B18-B999-5034F8E76B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589680" y="914400"/>
            <a:ext cx="786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Исследовательская работа по тем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457200" y="1905120"/>
            <a:ext cx="838188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"Стрекоза и Муравей 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в природе"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306240" y="4952880"/>
            <a:ext cx="522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5 класс МКОУ Тинская О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оровин Вит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уководитель работы: Зык Л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079440" y="6095880"/>
            <a:ext cx="37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Декабрь 2016 год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1" descr="i[5]"/>
          <p:cNvPicPr/>
          <p:nvPr/>
        </p:nvPicPr>
        <p:blipFill>
          <a:blip r:embed="rId1"/>
          <a:stretch/>
        </p:blipFill>
        <p:spPr>
          <a:xfrm>
            <a:off x="457200" y="1752480"/>
            <a:ext cx="2133720" cy="1554120"/>
          </a:xfrm>
          <a:prstGeom prst="rect">
            <a:avLst/>
          </a:prstGeom>
          <a:ln w="0">
            <a:noFill/>
          </a:ln>
        </p:spPr>
      </p:pic>
      <p:sp>
        <p:nvSpPr>
          <p:cNvPr id="103" name="WordArt 4"/>
          <p:cNvSpPr txBox="1"/>
          <p:nvPr/>
        </p:nvSpPr>
        <p:spPr>
          <a:xfrm>
            <a:off x="2057400" y="380880"/>
            <a:ext cx="56386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Выбор темы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читав на уроке басню «Стрекоза и Муравей» И.А. Крылова, я решил узнать на самом ли  деле бесполезна Стрекоза в природе, а также выразить своё отношение к Стрекозе и муравь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752480" y="237960"/>
            <a:ext cx="60199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Цели и задачи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838080" y="1600200"/>
            <a:ext cx="80154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положительные стороны влияния стрекозы и муравья на окружающую сре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 и проанализировать материал в печатных  источни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наблюдения за жизнью стрекозы и муравь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ление положительных сторон влияния  стрекозы  и муравья на окружающую среду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1600200" y="228600"/>
            <a:ext cx="6705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Методы исследования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66680" y="1828800"/>
            <a:ext cx="7010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нализ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Наблюдение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бор информации из различных источников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4"/>
          <p:cNvSpPr txBox="1"/>
          <p:nvPr/>
        </p:nvSpPr>
        <p:spPr>
          <a:xfrm>
            <a:off x="838080" y="380880"/>
            <a:ext cx="76201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Немного о стрекоз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pic>
        <p:nvPicPr>
          <p:cNvPr id="110" name="Picture 5" descr="3361_001"/>
          <p:cNvPicPr/>
          <p:nvPr/>
        </p:nvPicPr>
        <p:blipFill>
          <a:blip r:embed="rId1"/>
          <a:stretch/>
        </p:blipFill>
        <p:spPr>
          <a:xfrm>
            <a:off x="152280" y="1905120"/>
            <a:ext cx="4038840" cy="4695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728160" y="2057400"/>
            <a:ext cx="5421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том этого года я видел, как стрекоз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тала над прудом. Я тогда  еще не зна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то это она так охоти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ется, с мая до осени, лет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екозы над заросшими берегами рек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чушек, охотятся на комаров и моше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бычу они ловят ногами. Их ноги покры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ипами и щетинками, в полете согнуты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ближены так, что получаетс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ловчая корзина». Вот комар или мух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рзине. Комара стрекоза съедает прям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лету.  А муху – садясь на веточ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ant"/>
          <p:cNvPicPr/>
          <p:nvPr/>
        </p:nvPicPr>
        <p:blipFill>
          <a:blip r:embed="rId1"/>
          <a:stretch/>
        </p:blipFill>
        <p:spPr>
          <a:xfrm>
            <a:off x="228600" y="1600200"/>
            <a:ext cx="373392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WordArt 4"/>
          <p:cNvSpPr txBox="1"/>
          <p:nvPr/>
        </p:nvSpPr>
        <p:spPr>
          <a:xfrm>
            <a:off x="609480" y="304920"/>
            <a:ext cx="723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И о муравье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962520" y="1447920"/>
            <a:ext cx="46242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же я наблюдал и за муравьями. Всем известно, что муравьи жив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уравейниках семьями. Семьи муравьев могут содержать от несколь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сятков до нескольких миллионов особей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арицы живут внутри гнезда. Самцы же появляются раз в год. Вся пища, которую муравьи приносят в гнездо, распределяется между всеми особями. Муравьям для питания необходимы два компонента: белковый и углевод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лковой пищей служат различные насекомые. В качестве углеводной пищи муравьи используют падь и соки деревьев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28600" y="1600200"/>
            <a:ext cx="875664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басне И.А. Крылова, Муравей прогна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трекозу за то, что она не работала. Однако, на самом деле и стрекозы, и муравьи очень трудолюбивые. Просто муравьи трудятся не только для себя, но и для всей  семьи, а стрекозы добывают пищу только для себя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preview"/>
          <p:cNvPicPr/>
          <p:nvPr/>
        </p:nvPicPr>
        <p:blipFill>
          <a:blip r:embed="rId1"/>
          <a:stretch/>
        </p:blipFill>
        <p:spPr>
          <a:xfrm rot="20105400">
            <a:off x="4724280" y="4724280"/>
            <a:ext cx="2286000" cy="1636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dragonfly-9"/>
          <p:cNvPicPr/>
          <p:nvPr/>
        </p:nvPicPr>
        <p:blipFill>
          <a:blip r:embed="rId2"/>
          <a:stretch/>
        </p:blipFill>
        <p:spPr>
          <a:xfrm rot="20544600">
            <a:off x="1177920" y="4651200"/>
            <a:ext cx="2819520" cy="17622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2743200" y="304920"/>
            <a:ext cx="4191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Wooden Ship Decorated"/>
              </a:rPr>
              <a:t>Вывод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Wooden Ship Decorated"/>
              <a:ea typeface="Wooden Ship Decorate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200" y="1828800"/>
            <a:ext cx="9244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зучив материал о жизни стрекозы и муравья в теор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 пронаблюдав за ними в жизни, я пришел к вывод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что и стрекозы, и муравьи полезны в природе. Муравь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частвуют в образовании плодородной почв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ничтожают вредителей. Стрекозы также поеда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редных насекомых, тем самым избавляя среду о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редоносите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10-15T13:24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