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BFF-AF48-4C4C-B5AD-9A9D19ED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D6D-7A86-4508-8C5D-9C8D4895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FBD-2E5A-4CB5-A8C0-6CBF9A64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5FA-EC91-44CD-BD4C-9F79619A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089C-7B83-428E-8D68-6ABA09F6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421F-7D1F-4ABA-929A-DB36EA58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F99-D5CA-4870-BC25-551F30C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059-2BC2-4A8F-9EEA-C24BBC3A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D94-5D93-4544-8DE6-895EBE3A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439-7BF9-410C-9E73-6866EB74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A08-30CB-44C5-BBC9-B74153C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7EA-7C47-4D04-8545-9AE1586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E2CD-C8C9-461E-B31A-28893A0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579-9B85-4CD3-A381-552A87B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64D1-35D6-4821-A2B0-0CDAEF1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F43-3545-4489-9539-FA193FFF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EBD-DD1A-49A5-970D-68B068C0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6D5-E0CE-482E-B879-902A9AD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031-2D1B-46DB-8EA3-E02C4198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132-848C-43B3-9398-47D5F1E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3F0-EA50-4829-8058-782DCE5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1E7-8288-4DB2-A1FE-DF840B5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86-7F54-45B2-8598-3E18BEA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E8F-D8DF-4FD8-838D-E325BE9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BBC3-0ACE-4473-91BD-A8B7C494C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5584-654C-430A-9715-17F56E5BA7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89680" y="9144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следовательская работа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457200" y="1905120"/>
            <a:ext cx="83818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"Стрекоза и Муравей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 природе"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306240" y="4952880"/>
            <a:ext cx="522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класс МКОУ Тинская О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овин Вит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работы: Зык Л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79440" y="6095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кабрь 2016 год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i[5]"/>
          <p:cNvPicPr/>
          <p:nvPr/>
        </p:nvPicPr>
        <p:blipFill>
          <a:blip r:embed="rId1"/>
          <a:stretch/>
        </p:blipFill>
        <p:spPr>
          <a:xfrm>
            <a:off x="457200" y="1752480"/>
            <a:ext cx="213372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 txBox="1"/>
          <p:nvPr/>
        </p:nvSpPr>
        <p:spPr>
          <a:xfrm>
            <a:off x="2057400" y="380880"/>
            <a:ext cx="5638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ыбор тем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итав на уроке басню «Стрекоза и Муравей» И.А. Крылова, я решил узнать на самом ли  деле бесполезна Стрекоза в природе, а также выразить своё отношение к Стрекозе и муравь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752480" y="237960"/>
            <a:ext cx="60199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Цели и задачи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1600200"/>
            <a:ext cx="80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положительные стороны влияния стрекозы и муравья на окружающую сре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 и проанализировать материал в печатных  источн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наблюдения за жизнью стрекозы и муравь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оложительных сторон влияния  стрекозы  и муравья на окружающую среду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600200" y="22860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Методы исследования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66680" y="1828800"/>
            <a:ext cx="701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нализ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блюдение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бор информации из различных источ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838080" y="3808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Немного о стрекоз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pic>
        <p:nvPicPr>
          <p:cNvPr id="110" name="Picture 5" descr="3361_001"/>
          <p:cNvPicPr/>
          <p:nvPr/>
        </p:nvPicPr>
        <p:blipFill>
          <a:blip r:embed="rId1"/>
          <a:stretch/>
        </p:blipFill>
        <p:spPr>
          <a:xfrm>
            <a:off x="152280" y="1905120"/>
            <a:ext cx="4038840" cy="4695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728160" y="2057400"/>
            <a:ext cx="542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ом этого года я видел, как стрек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ала над прудом. Я тогда  еще не зна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это она так охот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ется, с мая до осени, лет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екозы над заросшими берегами рек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ушек, охотятся на комаров и мош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ычу они ловят ногами. Их ноги покры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пами и щетинками, в полете согнуты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лижены так, что получ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ловчая корзина». Вот комар или му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рзине. Комара стрекоза съедает прям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лету.  А муху – садясь на веточ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ant"/>
          <p:cNvPicPr/>
          <p:nvPr/>
        </p:nvPicPr>
        <p:blipFill>
          <a:blip r:embed="rId1"/>
          <a:stretch/>
        </p:blipFill>
        <p:spPr>
          <a:xfrm>
            <a:off x="228600" y="1600200"/>
            <a:ext cx="373392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609480" y="30492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И о муравь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962520" y="1447920"/>
            <a:ext cx="4624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я наблюдал и за муравьями. Всем известно, что муравьи жив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равейниках семьями. Семьи муравьев могут содержать от несколь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сятков до нескольких миллионов особей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ицы живут внутри гнезда. Самцы же появляются раз в год. Вся пища, которую муравьи приносят в гнездо, распределяется между всеми особями. Муравьям для питания необходимы два компонента: белковый и углевод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ковой пищей служат различные насекомые. В качестве углеводной пищи муравьи используют падь и соки деревье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28600" y="1600200"/>
            <a:ext cx="87566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басне И.А. Крылова, Муравей прогн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козу за то, что она не работала. Однако, на самом деле и стрекозы, и муравьи очень трудолюбивые. Просто муравьи трудятся не только для себя, но и для всей  семьи, а стрекозы добывают пищу только для себ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preview"/>
          <p:cNvPicPr/>
          <p:nvPr/>
        </p:nvPicPr>
        <p:blipFill>
          <a:blip r:embed="rId1"/>
          <a:stretch/>
        </p:blipFill>
        <p:spPr>
          <a:xfrm rot="20105400">
            <a:off x="4724280" y="4724280"/>
            <a:ext cx="2286000" cy="163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ragonfly-9"/>
          <p:cNvPicPr/>
          <p:nvPr/>
        </p:nvPicPr>
        <p:blipFill>
          <a:blip r:embed="rId2"/>
          <a:stretch/>
        </p:blipFill>
        <p:spPr>
          <a:xfrm rot="20544600">
            <a:off x="1177920" y="4651200"/>
            <a:ext cx="2819520" cy="17622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2743200" y="304920"/>
            <a:ext cx="4191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ывод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200" y="1828800"/>
            <a:ext cx="924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учив материал о жизни стрекозы и муравья в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ронаблюдав за ними в жизни, я пришел к вывод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и стрекозы, и муравьи полезны в природе. Мурав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ствуют в образовании плодородной почв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ничтожают вредителей. Стрекозы также поед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дных насекомых, тем самым избавляя среду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доноси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15T13:24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