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A4A-443C-431D-AAEE-526D25DA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DD3B-B3BD-4F5F-8AFB-E723DA3D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7B60-94C7-4810-9DA1-9C38E20A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D62-8F6B-48BD-8B48-8547B282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2C6-3621-4FB0-A568-C25C8C41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DA69-C436-4297-89CA-256F94AF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A34F-A303-4697-AB1F-49742458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C44-7286-4321-8198-60102D2E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914-F3E0-403E-8903-9C1A667C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12D-A9A2-4AEA-8799-15790F40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3872-3C4C-4F9A-8029-93FA8A2C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D25-C5E9-426D-AEC9-F32BEE1F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B347-CE05-4EC8-9463-E5CE65C04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628640"/>
            <a:ext cx="710100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апиши цифрам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 строчку данные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иже числа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3789360"/>
            <a:ext cx="482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cc"/>
                </a:solidFill>
                <a:latin typeface="Arial"/>
              </a:rPr>
              <a:t>Один, три, пять,        семь, девять,   шесть, четыре,   д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3708360" y="2637000"/>
            <a:ext cx="11365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5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11280" y="4941720"/>
            <a:ext cx="115236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050920" y="3933720"/>
            <a:ext cx="1008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508720" y="1557360"/>
            <a:ext cx="122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9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08720" y="333360"/>
            <a:ext cx="129564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6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9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0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8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9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0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611280" y="907920"/>
            <a:ext cx="4824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Расставь чис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т большег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 меньшему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Напиши 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в строчку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422100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00ff"/>
                </a:solidFill>
                <a:latin typeface="Arial"/>
              </a:rPr>
              <a:t>3   1   6   4   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684360" y="3716280"/>
            <a:ext cx="699840" cy="129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92360" y="3068640"/>
            <a:ext cx="6998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771640" y="2276640"/>
            <a:ext cx="619200" cy="11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780000" y="1413000"/>
            <a:ext cx="62388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3280" y="692280"/>
            <a:ext cx="590760" cy="114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755640" y="189000"/>
            <a:ext cx="575964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68360" y="5157720"/>
            <a:ext cx="79200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47640" y="4365720"/>
            <a:ext cx="792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84360" y="3645000"/>
            <a:ext cx="79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03640" y="2997360"/>
            <a:ext cx="792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140360" y="2133720"/>
            <a:ext cx="863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48360" y="1341360"/>
            <a:ext cx="8636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84720" y="765000"/>
            <a:ext cx="86364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093080" y="260280"/>
            <a:ext cx="792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692360" y="1773360"/>
            <a:ext cx="6913440" cy="24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47316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место точек встав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щенные числ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860640"/>
            <a:ext cx="568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.…  ….   ….   ….  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  ….    ….    ….   ….   ….    ….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11280" y="5589720"/>
            <a:ext cx="647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3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403280" y="479736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4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340000" y="5589720"/>
            <a:ext cx="576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03640" y="4797360"/>
            <a:ext cx="5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067280" y="5589720"/>
            <a:ext cx="6174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7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32360" y="4724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8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2276640"/>
            <a:ext cx="6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332000" y="2781360"/>
            <a:ext cx="6174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124000" y="2276640"/>
            <a:ext cx="617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843280" y="2708280"/>
            <a:ext cx="6602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51280" y="2276640"/>
            <a:ext cx="5461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3280" y="2565360"/>
            <a:ext cx="649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08720" y="2060640"/>
            <a:ext cx="5871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156360" y="2637000"/>
            <a:ext cx="5158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 rot="388800">
            <a:off x="395280" y="259920"/>
            <a:ext cx="60260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бведи кружочком число,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ое стоит перед 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числом 6.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19280" y="479736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66"/>
                </a:solidFill>
                <a:latin typeface="Arial"/>
              </a:rPr>
              <a:t>1    5   8   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 rot="388800">
            <a:off x="395280" y="259920"/>
            <a:ext cx="602604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Обведи кружочком число,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которое стоит перед 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9999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числом 6.</a:t>
            </a:r>
            <a:endParaRPr b="1" i="1" lang="en-US" sz="1800" spc="1" strike="noStrike">
              <a:ln w="9360">
                <a:solidFill>
                  <a:srgbClr val="009999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3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68360" y="3500280"/>
            <a:ext cx="10206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268360" y="2708280"/>
            <a:ext cx="1060560" cy="165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1908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284720" y="1341360"/>
            <a:ext cx="8953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156360" y="476280"/>
            <a:ext cx="75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979640" y="476280"/>
            <a:ext cx="6769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веди кружочком число,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оторое стоит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за числом 5. </a:t>
            </a:r>
            <a:endParaRPr b="1" i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3789360"/>
            <a:ext cx="45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Arial"/>
              </a:rPr>
              <a:t>7     6     1     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9642200">
            <a:off x="3435840" y="2909160"/>
            <a:ext cx="560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33cc"/>
                </a:solidFill>
                <a:latin typeface="Arial"/>
              </a:rPr>
              <a:t>7        1   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9941000">
            <a:off x="4859280" y="3428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2500" autoRev="1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8360" y="404640"/>
            <a:ext cx="563868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Обведи кружочком числа,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которые стоят между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числами 4 и 7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 rot="20476200">
            <a:off x="151200" y="4128840"/>
            <a:ext cx="619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00ff"/>
                </a:solidFill>
                <a:latin typeface="Arial"/>
              </a:rPr>
              <a:t>8    1    5    9  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8T15:47:37Z</dcterms:created>
  <dc:creator>User</dc:creator>
  <dc:description/>
  <dc:language>en-US</dc:language>
  <cp:lastModifiedBy>User</cp:lastModifiedBy>
  <dcterms:modified xsi:type="dcterms:W3CDTF">2011-10-18T17:54:51Z</dcterms:modified>
  <cp:revision>6</cp:revision>
  <dc:subject/>
  <dc:title>Слайд 1</dc:title>
</cp:coreProperties>
</file>