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22E-238D-4022-B5F5-B576A972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D51-F2FF-4E08-93F8-D57F556F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3EC-9DC7-434C-92A1-E45784EE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0DC-374F-4A23-B229-6633370E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3E9-BA90-4B30-AAAE-1F6EAEA3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6B8-A9B4-41C7-B8A9-896A797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D4B-3115-4A55-86B0-544931CE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5A0-1706-463D-AD06-E3B6C021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750-7E60-4323-9B82-9A54C759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3D4-0EE5-4D7F-83B3-C6DD5D0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3AB-4C62-47E8-8D60-2E7CD86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A43-5291-43C5-B07E-9599A71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9619-8A16-4504-B0FB-09FB531C6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628640"/>
            <a:ext cx="7101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иши цифрам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строчку дан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же числ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789360"/>
            <a:ext cx="48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Один, три, пять,        семь, девять,   шесть, четыре,   д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708360" y="2637000"/>
            <a:ext cx="1136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4941720"/>
            <a:ext cx="1152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050920" y="3933720"/>
            <a:ext cx="10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508720" y="1557360"/>
            <a:ext cx="122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08720" y="333360"/>
            <a:ext cx="1295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11280" y="907920"/>
            <a:ext cx="482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Расставь чис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т больше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 меньшему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апиши 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 строчку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422100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Arial"/>
              </a:rPr>
              <a:t>3   1   6   4 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3716280"/>
            <a:ext cx="6998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92360" y="3068640"/>
            <a:ext cx="699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71640" y="2276640"/>
            <a:ext cx="6192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80000" y="1413000"/>
            <a:ext cx="623880" cy="11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3280" y="692280"/>
            <a:ext cx="590760" cy="11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55640" y="189000"/>
            <a:ext cx="5759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5157720"/>
            <a:ext cx="792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4365720"/>
            <a:ext cx="792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3645000"/>
            <a:ext cx="7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3640" y="2997360"/>
            <a:ext cx="79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0360" y="2133720"/>
            <a:ext cx="86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48360" y="1341360"/>
            <a:ext cx="86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84720" y="765000"/>
            <a:ext cx="86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93080" y="260280"/>
            <a:ext cx="79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92360" y="1773360"/>
            <a:ext cx="6913440" cy="24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73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место точек встав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щенные чис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860640"/>
            <a:ext cx="56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…  ….   ….   ….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  ….    ….    ….   ….   ….    ….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11280" y="5589720"/>
            <a:ext cx="647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03280" y="47973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340000" y="5589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03640" y="479736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067280" y="5589720"/>
            <a:ext cx="617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32360" y="4724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2276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32000" y="2781360"/>
            <a:ext cx="617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24000" y="2276640"/>
            <a:ext cx="617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43280" y="2708280"/>
            <a:ext cx="6602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1280" y="2276640"/>
            <a:ext cx="546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3280" y="2565360"/>
            <a:ext cx="64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08720" y="2060640"/>
            <a:ext cx="587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56360" y="2637000"/>
            <a:ext cx="5158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388800">
            <a:off x="395280" y="259920"/>
            <a:ext cx="60260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бведи кружочком число,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торое стоит перед 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числом 6.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797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1    5   8   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388800">
            <a:off x="395280" y="259920"/>
            <a:ext cx="60260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бведи кружочком число,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торое стоит перед 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числом 6.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8360" y="3500280"/>
            <a:ext cx="10206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68360" y="2708280"/>
            <a:ext cx="106056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4720" y="1341360"/>
            <a:ext cx="8953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156360" y="476280"/>
            <a:ext cx="75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79640" y="476280"/>
            <a:ext cx="6769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веди кружочком число,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торое стоит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 числом 5.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3789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7     6     1   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9642200">
            <a:off x="3435840" y="2909160"/>
            <a:ext cx="560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Arial"/>
              </a:rPr>
              <a:t>7        1   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4859280" y="3428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8360" y="404640"/>
            <a:ext cx="56386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бведи кружочком числа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оторые стоят между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ми 4 и 7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 rot="20476200">
            <a:off x="151200" y="412884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ff"/>
                </a:solidFill>
                <a:latin typeface="Arial"/>
              </a:rPr>
              <a:t>8    1    5    9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47:37Z</dcterms:created>
  <dc:creator>User</dc:creator>
  <dc:description/>
  <dc:language>en-US</dc:language>
  <cp:lastModifiedBy>User</cp:lastModifiedBy>
  <dcterms:modified xsi:type="dcterms:W3CDTF">2011-10-18T17:54:51Z</dcterms:modified>
  <cp:revision>6</cp:revision>
  <dc:subject/>
  <dc:title>Слайд 1</dc:title>
</cp:coreProperties>
</file>