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834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1313-745E-487B-AFC0-3D629C27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E34D-B3FB-46B3-99C9-12C25621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F113-9604-4F5F-9354-C7B70356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28C5-0165-41F8-9672-B989BBE8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EED-B088-4152-9090-BE232CF5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14E-CC6C-45BD-B1CA-CEAE1726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0E2-1D60-4A8D-9066-3EFA122D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744-38B7-49BB-A441-90A3B4A3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48C-1675-4278-AEEC-C0F4977B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8F0-613F-4DB0-85A9-9BD54FF5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1A6-2889-4DC5-BEB8-84189FB3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6225-860D-4210-9F6C-B8F0CF8C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68C2-E299-452C-86A0-2553C6359A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12680" y="146160"/>
            <a:ext cx="4319640" cy="3292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4643280" y="155520"/>
            <a:ext cx="4321440" cy="3292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101520" y="3448080"/>
            <a:ext cx="4319640" cy="329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4"/>
          <a:stretch/>
        </p:blipFill>
        <p:spPr>
          <a:xfrm>
            <a:off x="4624560" y="3359160"/>
            <a:ext cx="4319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5913360" y="4533840"/>
            <a:ext cx="2860920" cy="2025720"/>
          </a:xfrm>
          <a:prstGeom prst="rect">
            <a:avLst/>
          </a:prstGeom>
          <a:ln w="9360">
            <a:solidFill>
              <a:srgbClr val="222268"/>
            </a:solidFill>
            <a:miter/>
          </a:ln>
        </p:spPr>
      </p:pic>
      <p:pic>
        <p:nvPicPr>
          <p:cNvPr id="46" name="Picture 3" descr=""/>
          <p:cNvPicPr/>
          <p:nvPr/>
        </p:nvPicPr>
        <p:blipFill>
          <a:blip r:embed="rId2"/>
          <a:srcRect l="16939" t="0" r="11545" b="0"/>
          <a:stretch/>
        </p:blipFill>
        <p:spPr>
          <a:xfrm>
            <a:off x="4429080" y="223920"/>
            <a:ext cx="1803600" cy="1784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8623" t="0" r="5435" b="0"/>
          <a:stretch/>
        </p:blipFill>
        <p:spPr>
          <a:xfrm>
            <a:off x="2195640" y="169920"/>
            <a:ext cx="2165400" cy="1784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18329" t="0" r="19943" b="0"/>
          <a:stretch/>
        </p:blipFill>
        <p:spPr>
          <a:xfrm>
            <a:off x="108000" y="246240"/>
            <a:ext cx="1878120" cy="6229080"/>
          </a:xfrm>
          <a:prstGeom prst="rect">
            <a:avLst/>
          </a:prstGeom>
          <a:ln w="9360">
            <a:solidFill>
              <a:srgbClr val="6b6bcf"/>
            </a:solidFill>
            <a:miter/>
          </a:ln>
        </p:spPr>
      </p:pic>
      <p:pic>
        <p:nvPicPr>
          <p:cNvPr id="49" name="Picture 6" descr=""/>
          <p:cNvPicPr/>
          <p:nvPr/>
        </p:nvPicPr>
        <p:blipFill>
          <a:blip r:embed="rId5"/>
          <a:srcRect l="4781" t="14907" r="5558" b="15933"/>
          <a:stretch/>
        </p:blipFill>
        <p:spPr>
          <a:xfrm>
            <a:off x="2722680" y="2155680"/>
            <a:ext cx="2519280" cy="1633680"/>
          </a:xfrm>
          <a:prstGeom prst="rect">
            <a:avLst/>
          </a:prstGeom>
          <a:ln w="9360">
            <a:solidFill>
              <a:srgbClr val="6b6bcf"/>
            </a:solidFill>
            <a:miter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2665440" y="3952800"/>
            <a:ext cx="2665440" cy="26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7"/>
          <a:stretch/>
        </p:blipFill>
        <p:spPr>
          <a:xfrm>
            <a:off x="5913360" y="2063880"/>
            <a:ext cx="2787840" cy="2108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8"/>
          <a:stretch/>
        </p:blipFill>
        <p:spPr>
          <a:xfrm>
            <a:off x="6372360" y="169920"/>
            <a:ext cx="251928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9:26:08Z</dcterms:created>
  <dc:creator>User</dc:creator>
  <dc:description/>
  <dc:language>en-US</dc:language>
  <cp:lastModifiedBy>Олеся</cp:lastModifiedBy>
  <dcterms:modified xsi:type="dcterms:W3CDTF">2017-10-15T04:57:16Z</dcterms:modified>
  <cp:revision>30</cp:revision>
  <dc:subject/>
  <dc:title>Слайд 1</dc:title>
</cp:coreProperties>
</file>