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834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075-5D63-48EE-A8AA-31F62C0C6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DC87-F449-4D62-96FF-3DEA97D64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2B4-EBE6-4EF6-9CE6-FDB083A0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7979-12CD-4DEA-90A6-0DF4B704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874-3465-43D3-8572-A036B57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3F7-2B63-4C74-88A6-6238DB49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B8C-A7EA-4FF6-B178-7B4C3FC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5F4-FAC5-41B5-9070-CE5036E7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1243-E523-42CA-9E8C-BD6C46C1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D1FE-C12D-42F9-956E-9EA2AB51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903-49C2-440B-9C54-4CBD75F5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55D-55AB-415E-B036-44B87107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2B76-3E9E-47EC-B64E-2F0653C93E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12680" y="146160"/>
            <a:ext cx="4319640" cy="32922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4643280" y="155520"/>
            <a:ext cx="4321440" cy="329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01520" y="3448080"/>
            <a:ext cx="4319640" cy="329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4624560" y="3359160"/>
            <a:ext cx="431928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5913360" y="4533840"/>
            <a:ext cx="2860920" cy="2025720"/>
          </a:xfrm>
          <a:prstGeom prst="rect">
            <a:avLst/>
          </a:prstGeom>
          <a:ln w="9360">
            <a:solidFill>
              <a:srgbClr val="222268"/>
            </a:solidFill>
            <a:miter/>
          </a:ln>
        </p:spPr>
      </p:pic>
      <p:pic>
        <p:nvPicPr>
          <p:cNvPr id="46" name="Picture 3" descr=""/>
          <p:cNvPicPr/>
          <p:nvPr/>
        </p:nvPicPr>
        <p:blipFill>
          <a:blip r:embed="rId2"/>
          <a:srcRect l="16939" t="0" r="11545" b="0"/>
          <a:stretch/>
        </p:blipFill>
        <p:spPr>
          <a:xfrm>
            <a:off x="4429080" y="223920"/>
            <a:ext cx="1803600" cy="1784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rcRect l="8623" t="0" r="5435" b="0"/>
          <a:stretch/>
        </p:blipFill>
        <p:spPr>
          <a:xfrm>
            <a:off x="2195640" y="169920"/>
            <a:ext cx="2165400" cy="1784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rcRect l="18329" t="0" r="19943" b="0"/>
          <a:stretch/>
        </p:blipFill>
        <p:spPr>
          <a:xfrm>
            <a:off x="108000" y="246240"/>
            <a:ext cx="1878120" cy="6229080"/>
          </a:xfrm>
          <a:prstGeom prst="rect">
            <a:avLst/>
          </a:prstGeom>
          <a:ln w="9360">
            <a:solidFill>
              <a:srgbClr val="6b6bcf"/>
            </a:solidFill>
            <a:miter/>
          </a:ln>
        </p:spPr>
      </p:pic>
      <p:pic>
        <p:nvPicPr>
          <p:cNvPr id="49" name="Picture 6" descr=""/>
          <p:cNvPicPr/>
          <p:nvPr/>
        </p:nvPicPr>
        <p:blipFill>
          <a:blip r:embed="rId5"/>
          <a:srcRect l="4781" t="14907" r="5558" b="15933"/>
          <a:stretch/>
        </p:blipFill>
        <p:spPr>
          <a:xfrm>
            <a:off x="2722680" y="2155680"/>
            <a:ext cx="2519280" cy="1633680"/>
          </a:xfrm>
          <a:prstGeom prst="rect">
            <a:avLst/>
          </a:prstGeom>
          <a:ln w="9360">
            <a:solidFill>
              <a:srgbClr val="6b6bcf"/>
            </a:solidFill>
            <a:miter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2665440" y="3952800"/>
            <a:ext cx="2665440" cy="26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5913360" y="2063880"/>
            <a:ext cx="2787840" cy="2108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"/>
          <p:cNvPicPr/>
          <p:nvPr/>
        </p:nvPicPr>
        <p:blipFill>
          <a:blip r:embed="rId8"/>
          <a:stretch/>
        </p:blipFill>
        <p:spPr>
          <a:xfrm>
            <a:off x="6372360" y="169920"/>
            <a:ext cx="251928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09:26:08Z</dcterms:created>
  <dc:creator>User</dc:creator>
  <dc:description/>
  <dc:language>en-US</dc:language>
  <cp:lastModifiedBy>Олеся</cp:lastModifiedBy>
  <dcterms:modified xsi:type="dcterms:W3CDTF">2017-10-15T04:57:16Z</dcterms:modified>
  <cp:revision>30</cp:revision>
  <dc:subject/>
  <dc:title>Слайд 1</dc:title>
</cp:coreProperties>
</file>