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61F0-3361-4833-A2A7-590C5ECA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E4BD-5CF5-4693-8894-964C09E5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3034-A744-4560-AD41-998DECBF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73AC-1836-4FDB-8721-BF1F3CF2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E27B-B7D0-4EC4-B61F-148B9A7E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3ACD-D815-47C5-BEF4-6E466B8A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56FD-CBBC-4DDF-AEA4-66DD29AB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8713-22AC-4ACF-AE7C-7B87DBB4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B4CA-D7B4-4C23-9C55-3530A31C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7EBC-DD1E-45FD-8216-D165CED8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002B-1882-42EF-AB3B-C8E079EF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5D04-A74D-4900-8C9D-2E1C900E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E3F3-5A5B-4258-A67B-C3F1FA1B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9E49-88B8-459F-A6B6-658655B9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3781-4FF1-4D24-B09A-28BD8FA5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C206-AB9D-458F-973F-7EC9A31C3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6195-8522-4BD2-AFC2-764AEDF1D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07D14-0E03-4ACD-B3AD-77618E63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B564D-43E3-49DE-BC46-FAF0F6C1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2E7DF-1210-4D9C-B765-DFCCB4BD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8CBC8-03B0-41E6-A47A-6786E23E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D62F7-EC5B-4BD4-B40C-F97B067F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7B71-6E6B-4021-B179-8DC41364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3C895-01E7-41EA-85E6-DD475935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526D6-F1AA-4210-9280-F34BB97C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EAED0-00EC-49AC-ADD9-A1A5498D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0EF5F-22AF-4EAC-A11E-CCBE94D1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E01AF-1036-459A-AB7F-6D1C26E4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BA521-4998-4D5C-8D97-BD4C92FEC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BB46D-4E2B-4419-A151-81807695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B1BB-C680-4C2B-8DF3-B7B42C4D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4043-E63E-446D-9168-5CE81673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AC27-D08A-4137-B372-5F994D45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DAB5-365B-4F8B-A139-DE46DC55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6301-DA35-40CF-A819-491EC2E7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C20E-7FAE-4311-9532-6CC3F3E0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8E2D-6AB9-4405-9FD9-DEEA91679142}" type="slidenum">
              <a:rPr b="1" lang="ru-RU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6B80-B527-43B2-B3A3-33CBB954E2CA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827B-B610-4831-813A-02D823B463DD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 Black"/>
              </a:rPr>
              <a:t>ИТОГОВОЕ ЗАНЯТИЕ ПО 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ЭЛЕКТИВНОМУ</a:t>
            </a:r>
            <a:r>
              <a:rPr b="0" lang="ru-RU" sz="3800" spc="-1" strike="noStrike">
                <a:solidFill>
                  <a:srgbClr val="000000"/>
                </a:solidFill>
                <a:latin typeface="Arial Black"/>
              </a:rPr>
              <a:t> КУРСУ «ПРОФОРИЕНТАЦИЯ»</a:t>
            </a:r>
            <a:endParaRPr b="0" lang="en-US" sz="3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1282e"/>
                </a:solidFill>
                <a:latin typeface="Arial Black"/>
              </a:rPr>
              <a:t>МИР ПРОФЕССИЙ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4643280" y="479736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технологии МКОУ Копанищенская СОШ Шерешева Александра Ильинич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228600"/>
            <a:ext cx="78152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ЧЕЛОВЕК – ЗНАКОВАЯ СИСТЕМА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10920" y="1844280"/>
            <a:ext cx="792468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ъединяет людей, объектом труда которых является устная и письменная речь, цифры, химические и физические знаки, символы, ноты, схемы, карты, графики и т.п. (программист, машинистка, чертежник, оператор ЭВМ, экономист, бухгалтер, печатник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4920" y="228600"/>
            <a:ext cx="78152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ЧЕЛОВЕК – ХУДОЖЕСТВЕННЫЙ ОБРАЗ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1988640"/>
            <a:ext cx="792504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ключает занятия, связанные с различными видами искусства – прикладного, изобразительного, музыкального, литературного, театрального (артист, писатель, гравер, архитектор, фотограф, музыкант, модельер, дизайнер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4920" y="228600"/>
            <a:ext cx="78152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КЛАССЫ ПРОФЕССИЙ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оответствии с целями труда внутри каждого типа профессий выделяют три класса профессий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 – гностические ( узнать, распознать, проконтролировать, классифицировать, проверить, оценить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 – преобразующие (любые воздействия на предмет труда с целью его измен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– изыскательские (изобрести, придумать, найти реш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7886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ОТДЕЛЫ ПРОФЕССИЙ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0560" y="1483920"/>
            <a:ext cx="84978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основе деления профессий на отделы лежа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няемые орудия труда и средства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зводства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60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профессии ручного труда, использующие ручные орудия труда, механизированные ручные инструменты, приспособ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60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профессии механического труда, использующие машины с ручным или ножным управлением (наличие рукояти управления, измерительного управления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60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профессии автоматизированного труда, использующие автоматизированное управл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60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профессии, в которых основными орудиями труда выступают функциональные свойства организма человека (певцы, актеры, учителя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4920" y="228600"/>
            <a:ext cx="78152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ГРУППЫ ПРОФЕССИЙ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9280" y="1628640"/>
            <a:ext cx="81392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выборе профессии немалую роль играют условия, в которых приходится работать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этому признаку различают четыре группы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60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 – труд в обычных бытовых услов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60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– труд на открытом воздух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60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 – труд в необычных условиях (под землей, на     высоте и т. п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60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 – труд с повышенной моральной ответственностью ( за здоровье, за воспитание и т. 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8706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ФОРМУЛА ПРОФЕССИИ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арактеристику любой профессии можно представить в виде формулы, составленной из обозначений типа, класса, отдела и группы, к которым она принадлежит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формул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зайнер: Х-И-Ф-б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дитель (шофер): Т-Пр-М-о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полняют формулу профессий указания на сферу труда, специальность и занимаемую должность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4920" y="228600"/>
            <a:ext cx="78152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УПРАЖНЕНИЕ </a:t>
            </a:r>
            <a:br>
              <a:rPr sz="3200"/>
            </a:b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«В МИРЕ ПРОФЕССИЙ</a:t>
            </a:r>
            <a:r>
              <a:rPr b="0" lang="ru-RU" sz="3400" spc="-1" strike="noStrike">
                <a:solidFill>
                  <a:srgbClr val="d1282e"/>
                </a:solidFill>
                <a:latin typeface="Arial Black"/>
              </a:rPr>
              <a:t>»</a:t>
            </a:r>
            <a:endParaRPr b="0" lang="en-US" sz="3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10920" y="1915920"/>
            <a:ext cx="79246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щимся предлагается составить список специалистов, которые участвуют в создании: книги, газеты, булки хлеба, ученического стола, электрической лампочки, телевизора, компьютера, космической ракеты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УПРАЖНЕНИЕ</a:t>
            </a:r>
            <a:br>
              <a:rPr sz="3200"/>
            </a:b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 «В МИРЕ ПРОФЕССИЙ»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азделите приведенный список на две части. В первую часть внесите названия профессий, во вторую – специальностей; составьте формулы профессий: столяр, шахтер, летчик-испытатель, шофер, хирург, учитель, парикмахер, швея, директор магазина, судья, пианист, фермер, машинист тепловоза, продавец книг, водитель троллейбуса, монтажник-высотник, инженер-конструктор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228600"/>
            <a:ext cx="78152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УПРАЖНЕНИЕ </a:t>
            </a:r>
            <a:br>
              <a:rPr sz="3200"/>
            </a:b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«В МИРЕ ПРОФЕССИЙ»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профессий относятся следующие специальности: оператор ЭВМ, контролер ОТК, хирург, повар, водитель такси, токарь, следователь, монтажник-высотник, нефтебурильщик, доярка, чертежник, столяр, пожарный, электромонтер, фельдшер, агроном, геолог, юрист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авьте формулы этих профессий и специальностей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797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УПРАЖНЕНИЕ </a:t>
            </a:r>
            <a:br>
              <a:rPr sz="3200"/>
            </a:b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«МОИ СКЛОННОСТИ»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170028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щимся предлагается поработать с опросником Е.А.Климова «Что вы предпочтете?», в котором из множества предлагаемых альтернативных пар суждений необходимо выбрать и отметить в каждой паре одно из двух наиболее привлекательно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ЭПИГРАФ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63280" y="1988640"/>
            <a:ext cx="651852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уд избавляет на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трех великих зол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уки, порока и нужды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ьте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УПРАЖНЕНИЕ</a:t>
            </a:r>
            <a:br>
              <a:rPr sz="3200"/>
            </a:b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 «Я – В МИРЕ ПРОФЕССИЙ»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780000" y="4221000"/>
          <a:ext cx="2520720" cy="1683000"/>
        </p:xfrm>
        <a:graphic>
          <a:graphicData uri="http://schemas.openxmlformats.org/drawingml/2006/table">
            <a:tbl>
              <a:tblPr/>
              <a:tblGrid>
                <a:gridCol w="2520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 – 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 – 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 - 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 - 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 - 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основе данных опросника составьте карту своих склонностей по отношению к различным типам профессий. Это будет характеристика вашего Я по отношению к типу професси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"/>
          <p:cNvSpPr/>
          <p:nvPr/>
        </p:nvSpPr>
        <p:spPr>
          <a:xfrm>
            <a:off x="1187280" y="4149720"/>
            <a:ext cx="1729080" cy="1727280"/>
          </a:xfrm>
          <a:prstGeom prst="ellipse">
            <a:avLst/>
          </a:prstGeom>
          <a:solidFill>
            <a:srgbClr val="7a7a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огра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0"/>
          <p:cNvSpPr/>
          <p:nvPr/>
        </p:nvSpPr>
        <p:spPr>
          <a:xfrm>
            <a:off x="3132000" y="479736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1"/>
          <p:cNvSpPr/>
          <p:nvPr/>
        </p:nvSpPr>
        <p:spPr>
          <a:xfrm>
            <a:off x="3132000" y="5157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ПРОФЕССИЯ -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род деятельности, связанный с определенной областью общественного производств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область приложения физических и духовных сил, профессия требует от человека подготовки, соответствующих знаний, умений, навыков (педагог, врач, …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СПЕЦИАЛЬНОСТЬ - 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09480" y="2204640"/>
            <a:ext cx="792504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д занятий в рамках одной профессии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граниченный и связанный со спецификой орудий труда, способов действий, получаемых результатов (учитель математики, врач –стоматолог, …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4920" y="228600"/>
            <a:ext cx="78152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ДОЛЖНОСТЬ -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09480" y="2204640"/>
            <a:ext cx="792504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название статуса в структуре конкретного учреждения, предприятия (директор школы, зав. отделением, …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7886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ТИПЫ ПРОФЕССИЙ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10920" y="1989000"/>
            <a:ext cx="79246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п профессии определяется предметом труда, с которым взаимодействует человек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деляют пять основных типов професси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– тех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–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– при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– знаков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– художественный обр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4920" y="228600"/>
            <a:ext cx="78152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ЧЕЛОВЕК - ТЕХНИКА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480" y="1699920"/>
            <a:ext cx="7925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ключает в себя обслуживание техники, ремонт, установку, наладку, управление, производство и обработку металлических и неметаллических изделий, механическую сборку, монтаж и т. д. (слесарь, токарь, шофер, инженер, водитель, электрик, радиотехник)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ЧЕЛОВЕК - ЧЕЛОВЕК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09480" y="1915920"/>
            <a:ext cx="79250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уд людей этих профессий направлен на воспитание и обучение, информирование, бытовое, трудовое и медицинское обслуживание людей (продавец, библиотекарь, журналист, врач, учитель, воспитатель, официант, администратор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4920" y="228600"/>
            <a:ext cx="78152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ЧЕЛОВЕК - ПРИРОДА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09480" y="2565360"/>
            <a:ext cx="792504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этому типу относятся профессии, связанные с объектами живой и неживой природы (фермер, лесник, биолог, садовник, зоотехник, агроном, геолог, пчеловод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8T09:33:05Z</dcterms:created>
  <dc:creator>Психолог</dc:creator>
  <dc:description/>
  <dc:language>en-US</dc:language>
  <cp:lastModifiedBy>Deafult User</cp:lastModifiedBy>
  <dcterms:modified xsi:type="dcterms:W3CDTF">2017-10-16T14:01:54Z</dcterms:modified>
  <cp:revision>55</cp:revision>
  <dc:subject/>
  <dc:title>Занятие 2</dc:title>
</cp:coreProperties>
</file>