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FE84-B003-487A-B27B-A8BC29AA1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A45-9976-4BE5-AB77-D42C4E8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BB6C-FAD1-44C9-8405-F7FB965EF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825-F655-4060-B78C-99116AFD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A111-A955-404B-B45C-2A55A2B1B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AA07-0F14-4DB6-A649-21360C77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B782-D0A6-4E83-BFAE-BA8E67A31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8A6F-0198-46A3-9ECD-E5CB11AB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CEE71-B601-40B7-90B0-389463AF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C427-C2C4-4BAF-B8D1-E0620836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FA09-C952-4D42-8A0D-A81C7362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334A-1E3E-4902-9013-5CE3785E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757A-F259-415A-AAE4-D28FD59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1DD39-DF4F-4833-ACF0-74A5553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BEF0E-3613-4799-A057-01A4DFE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2C51-A1D4-40E9-A4E0-0C6E0B0B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ECA0-7DA0-45DC-B530-A0963A36E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8159C-271D-43E9-938D-800BCE51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A984-C549-4703-87C3-1B56B945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382F7-35D0-49C4-949D-75B26860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B148-F393-4D2A-BB31-00647EDE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501C1-5762-4E62-9C5C-3418B427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AA0-1D8D-4518-A0CF-E5860DEF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F7E1-23E0-415A-BC64-A36773A9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CB95-7C20-447F-B0AF-1D4F3760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017B-57B9-47A6-8184-6642CEB2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F3601-0EEB-4407-A864-2FC4D245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DEDA-AD20-4681-B6F0-EDE0E73D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1E40-E159-49E8-840E-6CB372F3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45765-8293-454D-829B-A4D5F936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C790-9DEA-4E28-94E4-B2355243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E747-9DDD-451D-BD50-0186443B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5FE5-82C9-4175-B90C-5F3D3672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73D-7CF3-42B7-A565-B5097097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F6A-B602-4E29-9727-9E8F3FF4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8D02-BE18-4A23-8DD6-41FF60B8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F452-2356-432D-A81E-4972392C30A4}" type="slidenum">
              <a:rPr b="1" lang="ru-RU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D3D5-2DB4-4E03-BD9C-9A6C751A6DCA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C552-DC89-4D50-87F9-02653F03093F}" type="slidenum"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 Black"/>
              </a:rPr>
              <a:t>ИТОГОВОЕ ЗАНЯТИЕ ПО </a:t>
            </a: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ЭЛЕКТИВНОМУ</a:t>
            </a:r>
            <a:r>
              <a:rPr b="0" lang="ru-RU" sz="3800" spc="-1" strike="noStrike">
                <a:solidFill>
                  <a:srgbClr val="000000"/>
                </a:solidFill>
                <a:latin typeface="Arial Black"/>
              </a:rPr>
              <a:t> КУРСУ «ПРОФОРИЕНТАЦИЯ»</a:t>
            </a:r>
            <a:endParaRPr b="0" lang="en-US" sz="3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1282e"/>
                </a:solidFill>
                <a:latin typeface="Arial Black"/>
              </a:rPr>
              <a:t>МИР ПРОФЕССИ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643280" y="4797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технологии МКОУ Копанищенская СОШ Шерешева Александра Иль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ЧЕЛОВЕК – ЗНАКОВАЯ СИСТЕМА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10920" y="1844280"/>
            <a:ext cx="792468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ъединяет людей, объектом труда которых является устная и письменная речь, цифры, химические и физические знаки, символы, ноты, схемы, карты, графики и т.п. (программист, машинистка, чертежник, оператор ЭВМ, экономист, бухгалтер, печатник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ЧЕЛОВЕК – ХУДОЖЕСТВЕННЫЙ ОБРАЗ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1988640"/>
            <a:ext cx="792504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занятия, связанные с различными видами искусства – прикладного, изобразительного, музыкального, литературного, театрального (артист, писатель, гравер, архитектор, фотограф, музыкант, модельер, дизайнер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КЛАСС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ответствии с целями труда внутри каждого типа профессий выделяют три класса профессий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 – гностические ( узнать, распознать, проконтролировать, классифицировать, проверить, оцени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 – преобразующие (любые воздействия на предмет труда с целью его изменен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– изыскательские (изобрести, придумать, найти реш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7886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ОТДЕЛ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483920"/>
            <a:ext cx="84978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е деления профессий на отделы лежа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емые орудия труда и средства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изводства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 ручного труда, использующие ручные орудия труда, механизированные ручные инструменты, приспособ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 механического труда, использующие машины с ручным или ножным управлением (наличие рукояти управления, измерительного управления и 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 автоматизированного труда, использующие автоматизированное упр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профессии, в которых основными орудиями труда выступают функциональные свойства организма человека (певцы, актеры, учителя 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ГРУПП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9280" y="1628640"/>
            <a:ext cx="81392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выборе профессии немалую роль играют условия, в которых приходится работать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этому признаку различают четыре группы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 – труд в обычных бытовых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– труд на открытом воздух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 – труд в необычных условиях (под землей, на     высоте и т. п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 – труд с повышенной моральной ответственностью ( за здоровье, за воспитание и т.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8706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ФОРМУЛА ПРОФЕССИИ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Характеристику любой профессии можно представить в виде формулы, составленной из обозначений типа, класса, отдела и группы, к которым она принадлежи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 формул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зайнер: Х-И-Ф-б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дитель (шофер): Т-Пр-М-о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яют формулу профессий указания на сферу труда, специальность и занимаемую должность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В МИРЕ ПРОФЕССИЙ</a:t>
            </a:r>
            <a:r>
              <a:rPr b="0" lang="ru-RU" sz="3400" spc="-1" strike="noStrike">
                <a:solidFill>
                  <a:srgbClr val="d1282e"/>
                </a:solidFill>
                <a:latin typeface="Arial Black"/>
              </a:rPr>
              <a:t>»</a:t>
            </a:r>
            <a:endParaRPr b="0" lang="en-US" sz="3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10920" y="1915920"/>
            <a:ext cx="79246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мся предлагается составить список специалистов, которые участвуют в создании: книги, газеты, булки хлеба, ученического стола, электрической лампочки, телевизора, компьютера, космической ракет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 «В МИРЕ ПРОФЕССИЙ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зделите приведенный список на две части. В первую часть внесите названия профессий, во вторую – специальностей; составьте формулы профессий: столяр, шахтер, летчик-испытатель, шофер, хирург, учитель, парикмахер, швея, директор магазина, судья, пианист, фермер, машинист тепловоза, продавец книг, водитель троллейбуса, монтажник-высотник, инженер-конструктор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В МИРЕ ПРОФЕССИЙ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какому типу профессий относятся следующие специальности: оператор ЭВМ, контролер ОТК, хирург, повар, водитель такси, токарь, следователь, монтажник-высотник, нефтебурильщик, доярка, чертежник, столяр, пожарный, электромонтер, фельдшер, агроном, геолог, юрис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авьте формулы этих профессий и специальностей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97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 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«МОИ СКЛОННОСТИ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170028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ащимся предлагается поработать с опросником Е.А.Климова «Что вы предпочтете?», в котором из множества предлагаемых альтернативных пар суждений необходимо выбрать и отметить в каждой паре одно из двух наиболее привлекательное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ЭПИГРАФ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63280" y="1988640"/>
            <a:ext cx="651852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 избавляет нас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 трех великих зол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уки, порока и нужды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ьте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УПРАЖНЕНИЕ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 «Я – В МИРЕ ПРОФЕССИЙ»</a:t>
            </a:r>
            <a:endParaRPr b="0" lang="en-US" sz="3200" spc="-1" strike="noStrike">
              <a:solidFill>
                <a:srgbClr val="d1282e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780000" y="4221000"/>
          <a:ext cx="2520720" cy="1683000"/>
        </p:xfrm>
        <a:graphic>
          <a:graphicData uri="http://schemas.openxmlformats.org/drawingml/2006/table">
            <a:tbl>
              <a:tblPr/>
              <a:tblGrid>
                <a:gridCol w="2520720"/>
              </a:tblGrid>
              <a:tr h="16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– 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– 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- 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- 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- 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основе данных опросника составьте карту своих склонностей по отношению к различным типам профессий. Это будет характеристика вашего Я по отношению к типу профессии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"/>
          <p:cNvSpPr/>
          <p:nvPr/>
        </p:nvSpPr>
        <p:spPr>
          <a:xfrm>
            <a:off x="1187280" y="4149720"/>
            <a:ext cx="1729080" cy="1727280"/>
          </a:xfrm>
          <a:prstGeom prst="ellipse">
            <a:avLst/>
          </a:prstGeom>
          <a:solidFill>
            <a:srgbClr val="7a7a7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гра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0"/>
          <p:cNvSpPr/>
          <p:nvPr/>
        </p:nvSpPr>
        <p:spPr>
          <a:xfrm>
            <a:off x="3132000" y="4797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81"/>
          <p:cNvSpPr/>
          <p:nvPr/>
        </p:nvSpPr>
        <p:spPr>
          <a:xfrm>
            <a:off x="3132000" y="5157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ПРОФЕССИЯ -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род деятельности, связанный с определенной областью общественного производства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 область приложения физических и духовных сил, профессия требует от человека подготовки, соответствующих знаний, умений, навыков (педагог, врач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СПЕЦИАЛЬНОСТЬ - 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204640"/>
            <a:ext cx="79250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 занятий в рамках одной профессии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ный и связанный со спецификой орудий труда, способов действий, получаемых результатов (учитель математики, врач –стоматолог, …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ОЛЖНОСТЬ -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480" y="2204640"/>
            <a:ext cx="79250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название статуса в структуре конкретного учреждения, предприятия (директор школы, зав. отделением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7886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ТИПЫ ПРОФЕССИЙ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1989000"/>
            <a:ext cx="79246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профессии определяется предметом труда, с которым взаимодействует человек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деляют пять основных типов професси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тех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знаковая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499"/>
              </a:spcBef>
              <a:buClr>
                <a:srgbClr val="d128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ловек – художественный обр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ЧЕЛОВЕК - ТЕХНИК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699920"/>
            <a:ext cx="79250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ет в себя обслуживание техники, ремонт, установку, наладку, управление, производство и обработку металлических и неметаллических изделий, механическую сборку, монтаж и т. д. (слесарь, токарь, шофер, инженер, водитель, электрик, радиотехник)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ЧЕЛОВЕК - ЧЕЛОВЕК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09480" y="1915920"/>
            <a:ext cx="7925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уд людей этих профессий направлен на воспитание и обучение, информирование, бытовое, трудовое и медицинское обслуживание людей (продавец, библиотекарь, журналист, врач, учитель, воспитатель, официант, администратор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4920" y="228600"/>
            <a:ext cx="78152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ЧЕЛОВЕК - ПРИРОДА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09480" y="2565360"/>
            <a:ext cx="792504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 этому типу относятся профессии, связанные с объектами живой и неживой природы (фермер, лесник, биолог, садовник, зоотехник, агроном, геолог, пчеловод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9:33:05Z</dcterms:created>
  <dc:creator>Психолог</dc:creator>
  <dc:description/>
  <dc:language>en-US</dc:language>
  <cp:lastModifiedBy>Deafult User</cp:lastModifiedBy>
  <dcterms:modified xsi:type="dcterms:W3CDTF">2017-10-16T14:01:54Z</dcterms:modified>
  <cp:revision>55</cp:revision>
  <dc:subject/>
  <dc:title>Занятие 2</dc:title>
</cp:coreProperties>
</file>