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968-3AB5-4A4B-BFE0-BC398D7F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7E3-D7CC-40F4-951B-B02742F1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2B4-084C-447F-8089-DA98F3EE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D2DA-FACC-4ED1-873D-F87BEC91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BBD-8DAA-499E-AA7B-80B4998C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C829-4862-4A89-80BB-C6945765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0F0-C578-4D82-994F-3F2784EB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108-C2B9-431B-9F8E-133124BD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24C-7270-46AF-8DE0-9A1E5839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DD3-02BF-4182-8F21-279C2D76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E65-852E-444E-BDBD-9994B0FE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E91D-75D4-45AD-AB23-8B571215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2052-F1A2-4135-B9A3-DBF1D402DA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‘</a:t>
            </a:r>
            <a:r>
              <a:rPr b="1" i="1" lang="en-US" sz="6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Americans eat not only hot dogs, Don’t they?’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579640" y="5589360"/>
            <a:ext cx="31273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bri"/>
                <a:ea typeface="Arabic Typesetting"/>
              </a:rPr>
              <a:t>By Tikhomirova N. Yasakova 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C</a:t>
            </a: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ocktail hour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‘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happy hour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’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)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5…7 p.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3280" y="155736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! Vocabul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3200" spc="-1" strike="noStrike" u="sng">
                <a:solidFill>
                  <a:srgbClr val="430d25"/>
                </a:solidFill>
                <a:uFillTx/>
                <a:latin typeface="Calibri"/>
              </a:rPr>
              <a:t>Munchies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маленькие закуски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(чипсы,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решки,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бутерброды)</a:t>
            </a:r>
            <a:br>
              <a:rPr sz="3000"/>
            </a:br>
            <a:r>
              <a:rPr b="1" i="1" lang="en-US" sz="3000" spc="-1" strike="noStrike" u="sng">
                <a:solidFill>
                  <a:srgbClr val="430d25"/>
                </a:solidFill>
                <a:uFillTx/>
                <a:latin typeface="Calibri"/>
              </a:rPr>
              <a:t>Lemonade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ода со льдом и лимоном</a:t>
            </a:r>
            <a:br>
              <a:rPr sz="3000"/>
            </a:br>
            <a:r>
              <a:rPr b="1" i="1" lang="en-US" sz="3000" spc="-1" strike="noStrike" u="sng">
                <a:solidFill>
                  <a:srgbClr val="430d25"/>
                </a:solidFill>
                <a:uFillTx/>
                <a:latin typeface="Calibri"/>
              </a:rPr>
              <a:t>Sparkling/carbonated water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газировка</a:t>
            </a:r>
            <a:br>
              <a:rPr sz="3000"/>
            </a:br>
            <a:r>
              <a:rPr b="1" i="1" lang="en-US" sz="3000" spc="-1" strike="noStrike" u="sng">
                <a:solidFill>
                  <a:srgbClr val="430d25"/>
                </a:solidFill>
                <a:uFillTx/>
                <a:latin typeface="Calibri"/>
              </a:rPr>
              <a:t>To mingle-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общаться</a:t>
            </a:r>
            <a:br>
              <a:rPr sz="3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www.flourisheventdesign.com/wp-content/uploads/2011/03/Cocktail-Hour-Appetizers.jpg"/>
          <p:cNvPicPr/>
          <p:nvPr/>
        </p:nvPicPr>
        <p:blipFill>
          <a:blip r:embed="rId1"/>
          <a:stretch/>
        </p:blipFill>
        <p:spPr>
          <a:xfrm>
            <a:off x="0" y="1700280"/>
            <a:ext cx="456084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B</a:t>
            </a: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uffe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! Buffet is a great opportunity not to sit all night at the same table. This is a  good chance to talk with many gue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www.kraez.dk/wp-content/gallery/brunch-buffet/img_0344.jpg"/>
          <p:cNvPicPr/>
          <p:nvPr/>
        </p:nvPicPr>
        <p:blipFill>
          <a:blip r:embed="rId1"/>
          <a:stretch/>
        </p:blipFill>
        <p:spPr>
          <a:xfrm>
            <a:off x="0" y="1268280"/>
            <a:ext cx="3924360" cy="295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1.bp.blogspot.com/-7a8jnCs2O00/TcKXbsD979I/AAAAAAAAAZY/5moVKRSWBpY/s1600/Buffet-Breakfast.jpg"/>
          <p:cNvPicPr/>
          <p:nvPr/>
        </p:nvPicPr>
        <p:blipFill>
          <a:blip r:embed="rId2"/>
          <a:stretch/>
        </p:blipFill>
        <p:spPr>
          <a:xfrm>
            <a:off x="0" y="4118040"/>
            <a:ext cx="39704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D</a:t>
            </a: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inner </a:t>
            </a:r>
            <a:br>
              <a:rPr sz="54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6..9 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p.m.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C:\Users\natasha\Desktop\iwallfinder.com-gourmet-dinner-di-siji-31942.jpg"/>
          <p:cNvPicPr/>
          <p:nvPr/>
        </p:nvPicPr>
        <p:blipFill>
          <a:blip r:embed="rId1"/>
          <a:stretch/>
        </p:blipFill>
        <p:spPr>
          <a:xfrm>
            <a:off x="0" y="1525680"/>
            <a:ext cx="914400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2060"/>
                </a:solidFill>
                <a:uFillTx/>
                <a:latin typeface="Calibri"/>
              </a:rPr>
              <a:t>An average dinner menu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430d2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430d25"/>
                </a:solidFill>
                <a:uFillTx/>
                <a:latin typeface="Calibri"/>
              </a:rPr>
              <a:t>The main cours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ght (but thick!) soup or broth and various vegetables, fruit sala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en-US" sz="2500" spc="-1" strike="noStrike" u="sng">
                <a:solidFill>
                  <a:srgbClr val="430d25"/>
                </a:solidFill>
                <a:uFillTx/>
                <a:latin typeface="Calibri"/>
              </a:rPr>
              <a:t>The second course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t steaks, roast beef and burgers , all kinds of meat and poultry , sausages and seafood, a lot of sauces , herbs and spic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430d2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430d25"/>
                </a:solidFill>
                <a:uFillTx/>
                <a:latin typeface="Calibri"/>
              </a:rPr>
              <a:t>Garnis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kinds of vegetables , especially stewed beans , corn , asparagus, cauliflower and potatoes. Rice, cereal and pasta practically are not used as a garnish - they often play the role of independent dish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430d2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430d25"/>
                </a:solidFill>
                <a:uFillTx/>
                <a:latin typeface="Calibri"/>
              </a:rPr>
              <a:t>Desserts:</a:t>
            </a:r>
            <a:r>
              <a:rPr b="0" lang="en-US" sz="2400" spc="-1" strike="noStrike">
                <a:solidFill>
                  <a:srgbClr val="430d25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uit with whipped cream , cakes, cupcakes , cookies, candied fruits and nuts, donuts and pudd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Supper</a:t>
            </a: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4400"/>
            </a:b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10 p.m.…12 a.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navidoo.ru/500x500/uploads/images/2012/10/03/57/47/5747c887c593850bcba5f10f51fc5f15ed295956_640-480.jpg"/>
          <p:cNvPicPr/>
          <p:nvPr/>
        </p:nvPicPr>
        <p:blipFill>
          <a:blip r:embed="rId1"/>
          <a:stretch/>
        </p:blipFill>
        <p:spPr>
          <a:xfrm>
            <a:off x="1979640" y="1916280"/>
            <a:ext cx="53769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White cas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assets3.whitecastle.com/system/pages/photos/3/large/company.jpg?1254766774"/>
          <p:cNvPicPr/>
          <p:nvPr/>
        </p:nvPicPr>
        <p:blipFill>
          <a:blip r:embed="rId1"/>
          <a:stretch/>
        </p:blipFill>
        <p:spPr>
          <a:xfrm>
            <a:off x="684360" y="2205000"/>
            <a:ext cx="78325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2060"/>
                </a:solidFill>
                <a:uFillTx/>
                <a:latin typeface="Calibri"/>
              </a:rPr>
              <a:t>Fast f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pit.dirty.ru/dirty/1/2012/09/14/34717-134802-9b5d2adb619c6d28df2b7336c67bbe8a.jpg"/>
          <p:cNvPicPr/>
          <p:nvPr/>
        </p:nvPicPr>
        <p:blipFill>
          <a:blip r:embed="rId1"/>
          <a:stretch/>
        </p:blipFill>
        <p:spPr>
          <a:xfrm>
            <a:off x="755640" y="1601640"/>
            <a:ext cx="77533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002060"/>
                </a:solidFill>
                <a:uFillTx/>
                <a:latin typeface="Calibri"/>
              </a:rPr>
              <a:t>Top of the traditional Americans dish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http://image.tmdb.org/t/p/original/nWnO8dYRTCmZeL7JLmGVOIKgmp1.jpg"/>
          <p:cNvPicPr/>
          <p:nvPr/>
        </p:nvPicPr>
        <p:blipFill>
          <a:blip r:embed="rId1"/>
          <a:stretch/>
        </p:blipFill>
        <p:spPr>
          <a:xfrm>
            <a:off x="250920" y="189000"/>
            <a:ext cx="4290840" cy="6435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img4-1.myrecipes.timeinc.net/i/recipes/sl/03/07/green-tomatoes-sl-461220-l.jpg"/>
          <p:cNvPicPr/>
          <p:nvPr/>
        </p:nvPicPr>
        <p:blipFill>
          <a:blip r:embed="rId2"/>
          <a:stretch/>
        </p:blipFill>
        <p:spPr>
          <a:xfrm>
            <a:off x="4859280" y="155736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NEW ENGLAND CLAM CHOWD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www.bonappetit.com/wp-content/uploads/2012/12/new-england-clam-chowder-646.jpg"/>
          <p:cNvPicPr/>
          <p:nvPr/>
        </p:nvPicPr>
        <p:blipFill>
          <a:blip r:embed="rId1"/>
          <a:stretch/>
        </p:blipFill>
        <p:spPr>
          <a:xfrm>
            <a:off x="1547640" y="1844640"/>
            <a:ext cx="61534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alibri"/>
                <a:ea typeface="Arabic Typesetting"/>
              </a:rPr>
              <a:t>The topical issu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 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Food is an integral part of everyone's life. </a:t>
            </a:r>
            <a:r>
              <a:rPr b="0" i="1" lang="en-US" sz="4000" spc="-1" strike="noStrike">
                <a:solidFill>
                  <a:srgbClr val="21072b"/>
                </a:solidFill>
                <a:latin typeface="Calibri"/>
                <a:ea typeface="Arabic Typesetting"/>
              </a:rPr>
              <a:t>Every nation has its own eating habits, its national cuisine. If you find out information about them you’ll discover a lot about the history and culture of the countr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Chili Con Carn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fatlosshaven.com/wp-content/uploads/2011/09/chili_con_carne_z.jpg"/>
          <p:cNvPicPr/>
          <p:nvPr/>
        </p:nvPicPr>
        <p:blipFill>
          <a:blip r:embed="rId1"/>
          <a:stretch/>
        </p:blipFill>
        <p:spPr>
          <a:xfrm>
            <a:off x="2268360" y="1700280"/>
            <a:ext cx="46818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Buffalo Chicken Wings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www.grannys.ca/img/recipe/13-600x400.jpg"/>
          <p:cNvPicPr/>
          <p:nvPr/>
        </p:nvPicPr>
        <p:blipFill>
          <a:blip r:embed="rId1"/>
          <a:stretch/>
        </p:blipFill>
        <p:spPr>
          <a:xfrm>
            <a:off x="1835280" y="1916280"/>
            <a:ext cx="57150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Chimichang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mv-card.com/upload/iblock/84f/84f872a8f04c597e3c32d3ad7d462ce6.jpg"/>
          <p:cNvPicPr/>
          <p:nvPr/>
        </p:nvPicPr>
        <p:blipFill>
          <a:blip r:embed="rId1"/>
          <a:stretch/>
        </p:blipFill>
        <p:spPr>
          <a:xfrm>
            <a:off x="611280" y="2060640"/>
            <a:ext cx="76104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Calibri"/>
              </a:rPr>
              <a:t>Chicago-Style Hot Dog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jackstrawspizza.com/sitebuildercontent/sitebuilderpictures/webassets/vienna12.jpg"/>
          <p:cNvPicPr/>
          <p:nvPr/>
        </p:nvPicPr>
        <p:blipFill>
          <a:blip r:embed="rId1"/>
          <a:stretch/>
        </p:blipFill>
        <p:spPr>
          <a:xfrm>
            <a:off x="1258920" y="1413000"/>
            <a:ext cx="6637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Grilling Rib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ttp://receptam.net/wp-content/uploads/2012/12/%D1%80%D0%B5%D0%B1%D1%80%D1%8B%D1%88%D0%BA%D0%B8.jpg"/>
          <p:cNvPicPr/>
          <p:nvPr/>
        </p:nvPicPr>
        <p:blipFill>
          <a:blip r:embed="rId1"/>
          <a:stretch/>
        </p:blipFill>
        <p:spPr>
          <a:xfrm>
            <a:off x="1979640" y="1989000"/>
            <a:ext cx="57913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Stea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://sellberry.ru/uploads/file_13261733811957.png"/>
          <p:cNvPicPr/>
          <p:nvPr/>
        </p:nvPicPr>
        <p:blipFill>
          <a:blip r:embed="rId1"/>
          <a:stretch/>
        </p:blipFill>
        <p:spPr>
          <a:xfrm>
            <a:off x="684360" y="1916280"/>
            <a:ext cx="73310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Thanksgiving turke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thebreakfastklub.com/wp-content/uploads/2013/10/thanksgiving-turkey.jpg"/>
          <p:cNvPicPr/>
          <p:nvPr/>
        </p:nvPicPr>
        <p:blipFill>
          <a:blip r:embed="rId1"/>
          <a:stretch/>
        </p:blipFill>
        <p:spPr>
          <a:xfrm>
            <a:off x="1116000" y="1341360"/>
            <a:ext cx="6716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New-York-Style Cheesecak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http://www.cookingwithsugar.com/wp-content/uploads/2011/07/Homemade-Cheesecake-BEAUTY-e1309972389696.jpg"/>
          <p:cNvPicPr/>
          <p:nvPr/>
        </p:nvPicPr>
        <p:blipFill>
          <a:blip r:embed="rId1"/>
          <a:stretch/>
        </p:blipFill>
        <p:spPr>
          <a:xfrm>
            <a:off x="1692360" y="2060640"/>
            <a:ext cx="57150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http://www.amishfoods.com/media/catalog/product/cache/1/image/400x/9df78eab33525d08d6e5fb8d27136e95/s/h/shoofly-pie_2.jpg"/>
          <p:cNvPicPr/>
          <p:nvPr/>
        </p:nvPicPr>
        <p:blipFill>
          <a:blip r:embed="rId1"/>
          <a:stretch/>
        </p:blipFill>
        <p:spPr>
          <a:xfrm>
            <a:off x="2050920" y="1463760"/>
            <a:ext cx="5394600" cy="53942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Shoofly Pie</a:t>
            </a: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 </a:t>
            </a:r>
            <a:br>
              <a:rPr sz="5400"/>
            </a:b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(‘shoo flies’) 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Apple Pie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904000" y="233208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! Say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s American as apple pi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http://baking4smiles.files.wordpress.com/2013/05/pictures-4ever-eu-apple-pie-cake-american-flag-163195.jpg"/>
          <p:cNvPicPr/>
          <p:nvPr/>
        </p:nvPicPr>
        <p:blipFill>
          <a:blip r:embed="rId1"/>
          <a:stretch/>
        </p:blipFill>
        <p:spPr>
          <a:xfrm>
            <a:off x="0" y="1413000"/>
            <a:ext cx="6049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alibri"/>
                <a:ea typeface="Arabic Typesetting"/>
              </a:rPr>
              <a:t>The go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4000" spc="-1" strike="noStrike">
                <a:solidFill>
                  <a:srgbClr val="21072b"/>
                </a:solidFill>
                <a:latin typeface="Calibri"/>
                <a:ea typeface="Arabic Typesetting"/>
              </a:rPr>
              <a:t>The purpose of our work is to focus on the features of American food culture nowadays, as well as the history of American cuisi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Dona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C:\Users\natasha\Desktop\понч\DSCF1057.JPG"/>
          <p:cNvPicPr/>
          <p:nvPr/>
        </p:nvPicPr>
        <p:blipFill>
          <a:blip r:embed="rId1"/>
          <a:stretch/>
        </p:blipFill>
        <p:spPr>
          <a:xfrm>
            <a:off x="0" y="1386000"/>
            <a:ext cx="4103640" cy="547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Users\natasha\Desktop\понч\DSCF1060.JPG"/>
          <p:cNvPicPr/>
          <p:nvPr/>
        </p:nvPicPr>
        <p:blipFill>
          <a:blip r:embed="rId2"/>
          <a:stretch/>
        </p:blipFill>
        <p:spPr>
          <a:xfrm>
            <a:off x="2771640" y="1386000"/>
            <a:ext cx="4104000" cy="5472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Users\natasha\Desktop\понч\DSCF1026.JPG"/>
          <p:cNvPicPr/>
          <p:nvPr/>
        </p:nvPicPr>
        <p:blipFill>
          <a:blip r:embed="rId3"/>
          <a:stretch/>
        </p:blipFill>
        <p:spPr>
          <a:xfrm>
            <a:off x="5040360" y="1386000"/>
            <a:ext cx="4103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alibri"/>
                <a:ea typeface="Arabic Typesetting"/>
              </a:rPr>
              <a:t>The problem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What is American Cuisine, and how it has  devolve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How  do Americans eat nowadays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History of the development of fast food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Typical representatives of the American cuisi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Consequences of the ‘peculiar diet’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Овал 23"/>
          <p:cNvSpPr/>
          <p:nvPr/>
        </p:nvSpPr>
        <p:spPr>
          <a:xfrm>
            <a:off x="5219640" y="1268280"/>
            <a:ext cx="3745080" cy="115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2"/>
          <p:cNvSpPr/>
          <p:nvPr/>
        </p:nvSpPr>
        <p:spPr>
          <a:xfrm>
            <a:off x="5219640" y="4941720"/>
            <a:ext cx="3745080" cy="115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11"/>
          <p:cNvSpPr/>
          <p:nvPr/>
        </p:nvSpPr>
        <p:spPr>
          <a:xfrm>
            <a:off x="0" y="4941720"/>
            <a:ext cx="4211640" cy="1366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9"/>
          <p:cNvSpPr/>
          <p:nvPr/>
        </p:nvSpPr>
        <p:spPr>
          <a:xfrm>
            <a:off x="250920" y="1197000"/>
            <a:ext cx="388944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072b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21072b"/>
                </a:solidFill>
                <a:latin typeface="Arial"/>
              </a:rPr>
              <a:t>iet of Native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9d9d9"/>
                </a:solidFill>
                <a:latin typeface="Arial"/>
              </a:rPr>
              <a:t>Beans, corn and pumpk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8"/>
          <p:cNvSpPr/>
          <p:nvPr/>
        </p:nvSpPr>
        <p:spPr>
          <a:xfrm>
            <a:off x="3348000" y="3141720"/>
            <a:ext cx="2303640" cy="10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  <a:ea typeface="Arabic Typesetting"/>
              </a:rPr>
              <a:t>How was American cuisine form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47640" y="3429000"/>
            <a:ext cx="2089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32523"/>
                </a:solidFill>
                <a:latin typeface="Arial"/>
                <a:ea typeface="Arial"/>
              </a:rPr>
              <a:t>   </a:t>
            </a:r>
            <a:r>
              <a:rPr b="1" lang="en-US" sz="3100" spc="-1" strike="noStrike">
                <a:solidFill>
                  <a:srgbClr val="632523"/>
                </a:solidFill>
                <a:latin typeface="Arial"/>
                <a:ea typeface="Arial"/>
              </a:rPr>
              <a:t>Cousin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611280" y="141300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6013800" y="12682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072b"/>
                </a:solidFill>
                <a:latin typeface="Calibri"/>
                <a:ea typeface="Arabic Typesetting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0" y="50846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6227640" y="515772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072b"/>
                </a:solidFill>
                <a:latin typeface="Calibri"/>
              </a:rPr>
              <a:t>South Ame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d9d9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d9d9d9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d9d9d9"/>
                </a:solidFill>
                <a:latin typeface="Arial"/>
              </a:rPr>
              <a:t>Potat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24"/>
          <p:cNvSpPr/>
          <p:nvPr/>
        </p:nvSpPr>
        <p:spPr>
          <a:xfrm flipH="1" rot="18919200">
            <a:off x="2571120" y="2325600"/>
            <a:ext cx="204840" cy="115308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25"/>
          <p:cNvSpPr/>
          <p:nvPr/>
        </p:nvSpPr>
        <p:spPr>
          <a:xfrm rot="2680800">
            <a:off x="6171840" y="2254320"/>
            <a:ext cx="204840" cy="115236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26"/>
          <p:cNvSpPr/>
          <p:nvPr/>
        </p:nvSpPr>
        <p:spPr>
          <a:xfrm flipH="1" flipV="1" rot="2680800">
            <a:off x="2571120" y="3839040"/>
            <a:ext cx="204840" cy="115236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27"/>
          <p:cNvSpPr/>
          <p:nvPr/>
        </p:nvSpPr>
        <p:spPr>
          <a:xfrm flipV="1" rot="18919200">
            <a:off x="6099120" y="3908520"/>
            <a:ext cx="204840" cy="115308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6227640" y="1341360"/>
            <a:ext cx="2448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072b"/>
                </a:solidFill>
                <a:latin typeface="Arial"/>
                <a:ea typeface="Arabic Typesetting"/>
              </a:rPr>
              <a:t> </a:t>
            </a:r>
            <a:r>
              <a:rPr b="1" lang="en-US" sz="2000" spc="-1" strike="noStrike">
                <a:solidFill>
                  <a:srgbClr val="21072b"/>
                </a:solidFill>
                <a:latin typeface="Arial"/>
                <a:ea typeface="Arabic Typesetting"/>
              </a:rPr>
              <a:t>African rec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9d9d9"/>
                </a:solidFill>
                <a:latin typeface="Arial"/>
              </a:rPr>
              <a:t>Smok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9d9d9"/>
                </a:solidFill>
                <a:latin typeface="Arial"/>
              </a:rPr>
              <a:t>Sharp, spicy sauc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611280" y="5084640"/>
            <a:ext cx="36734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072b"/>
                </a:solidFill>
                <a:latin typeface="Arial"/>
              </a:rPr>
              <a:t>English and European Cuisine</a:t>
            </a:r>
            <a:br>
              <a:rPr sz="2000"/>
            </a:br>
            <a:r>
              <a:rPr b="1" lang="en-US" sz="1800" spc="-1" strike="noStrike">
                <a:solidFill>
                  <a:srgbClr val="d9d9d9"/>
                </a:solidFill>
                <a:latin typeface="Arial"/>
              </a:rPr>
              <a:t> V</a:t>
            </a:r>
            <a:r>
              <a:rPr b="1" lang="en-US" sz="1600" spc="-1" strike="noStrike">
                <a:solidFill>
                  <a:srgbClr val="d9d9d9"/>
                </a:solidFill>
                <a:latin typeface="Arial"/>
              </a:rPr>
              <a:t>egetables, turkey and lob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ritzcarlton.com/NR/rdonlyres/10D3364D-2C08-4569-971C-7FC9C17272F4/0/Ritz_Tokyo_00147_MainTall.jpg"/>
          <p:cNvPicPr/>
          <p:nvPr/>
        </p:nvPicPr>
        <p:blipFill>
          <a:blip r:embed="rId1"/>
          <a:stretch/>
        </p:blipFill>
        <p:spPr>
          <a:xfrm>
            <a:off x="0" y="1332000"/>
            <a:ext cx="3851280" cy="2528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2060"/>
                </a:solidFill>
                <a:uFillTx/>
                <a:latin typeface="Calibri"/>
                <a:ea typeface="Arabic Typesetting"/>
              </a:rPr>
              <a:t>Breakfast 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  <a:ea typeface="Arabic Typesetting"/>
              </a:rPr>
              <a:t>(‘to break the fast’) </a:t>
            </a:r>
            <a:br>
              <a:rPr sz="4000"/>
            </a:br>
            <a:r>
              <a:rPr b="1" i="1" lang="en-US" sz="4000" spc="-1" strike="noStrike">
                <a:solidFill>
                  <a:srgbClr val="002060"/>
                </a:solidFill>
                <a:latin typeface="Calibri"/>
                <a:ea typeface="Arabic Typesetting"/>
              </a:rPr>
              <a:t>7..8-30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Arabic Typesetting"/>
              </a:rPr>
              <a:t> 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  <a:ea typeface="Arabic Typesetting"/>
              </a:rPr>
              <a:t>a.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148000" y="2708280"/>
            <a:ext cx="35384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uice, egg, donut, bacon, American pancakes, toast and coffee with c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www.bk55.ru/fileadmin/bkinform/image/%D1%8B%D1%87%D0%B2%D1%81%D0%BC%D1%80%D0%BF%D0%B0.JPG"/>
          <p:cNvPicPr/>
          <p:nvPr/>
        </p:nvPicPr>
        <p:blipFill>
          <a:blip r:embed="rId2"/>
          <a:stretch/>
        </p:blipFill>
        <p:spPr>
          <a:xfrm>
            <a:off x="0" y="3689280"/>
            <a:ext cx="4768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2060"/>
                </a:solidFill>
                <a:uFillTx/>
                <a:latin typeface="Calibri"/>
                <a:ea typeface="Arabic Typesetting"/>
              </a:rPr>
              <a:t>Lunch</a:t>
            </a:r>
            <a:r>
              <a:rPr b="1" i="1" lang="en-US" sz="4400" spc="-1" strike="noStrike">
                <a:solidFill>
                  <a:srgbClr val="002060"/>
                </a:solidFill>
                <a:latin typeface="Calibri"/>
                <a:ea typeface="Arabic Typesetting"/>
              </a:rPr>
              <a:t> 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  <a:ea typeface="Arabic Typesetting"/>
              </a:rPr>
              <a:t>12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Arabic Typesetting"/>
              </a:rPr>
              <a:t>… 2 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  <a:ea typeface="Arabic Typesetting"/>
              </a:rPr>
              <a:t>p.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3280" y="4797000"/>
            <a:ext cx="3683160" cy="17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alad, sandwich, cake, fr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Школьный обед в США"/>
          <p:cNvPicPr/>
          <p:nvPr/>
        </p:nvPicPr>
        <p:blipFill>
          <a:blip r:embed="rId1"/>
          <a:stretch/>
        </p:blipFill>
        <p:spPr>
          <a:xfrm>
            <a:off x="0" y="1197000"/>
            <a:ext cx="457200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Обед в школе США"/>
          <p:cNvPicPr/>
          <p:nvPr/>
        </p:nvPicPr>
        <p:blipFill>
          <a:blip r:embed="rId2"/>
          <a:stretch/>
        </p:blipFill>
        <p:spPr>
          <a:xfrm>
            <a:off x="4390920" y="1197000"/>
            <a:ext cx="4753080" cy="3160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blogs.villagevoice.com/forkintheroad/15446_school_lunch.jpg"/>
          <p:cNvPicPr/>
          <p:nvPr/>
        </p:nvPicPr>
        <p:blipFill>
          <a:blip r:embed="rId3"/>
          <a:stretch/>
        </p:blipFill>
        <p:spPr>
          <a:xfrm>
            <a:off x="0" y="4149720"/>
            <a:ext cx="4572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B</a:t>
            </a: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runch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( 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’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breakfast + lunch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’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)</a:t>
            </a:r>
            <a:br>
              <a:rPr sz="4000"/>
            </a:b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Saturday or Sunday mo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64000" y="4652640"/>
            <a:ext cx="33228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mel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alad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pancakes ,hamburgers / cheesebur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thecrazyteacher.altervista.org/wp-content/uploads/2011/01/brunch.jpg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253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thecrazyteacher.altervista.org/wp-content/uploads/2011/01/Brunch2.jpg"/>
          <p:cNvPicPr/>
          <p:nvPr/>
        </p:nvPicPr>
        <p:blipFill>
          <a:blip r:embed="rId2"/>
          <a:stretch/>
        </p:blipFill>
        <p:spPr>
          <a:xfrm>
            <a:off x="4173480" y="1413000"/>
            <a:ext cx="4970520" cy="3384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http://www.redstonegrill.com/blog/wp-content/uploads/2013/07/Redstone_100803_0023a.jpg"/>
          <p:cNvPicPr/>
          <p:nvPr/>
        </p:nvPicPr>
        <p:blipFill>
          <a:blip r:embed="rId3"/>
          <a:stretch/>
        </p:blipFill>
        <p:spPr>
          <a:xfrm>
            <a:off x="0" y="3989520"/>
            <a:ext cx="457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A </a:t>
            </a: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сuр of coffee </a:t>
            </a: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or</a:t>
            </a:r>
            <a:br>
              <a:rPr sz="5400"/>
            </a:b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 а сuр of tea</a:t>
            </a:r>
            <a:br>
              <a:rPr sz="5400"/>
            </a:b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between lunch and dinn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infovending.ru/wp-content/uploads/2012/03/starbucks.jpg"/>
          <p:cNvPicPr/>
          <p:nvPr/>
        </p:nvPicPr>
        <p:blipFill>
          <a:blip r:embed="rId1"/>
          <a:stretch/>
        </p:blipFill>
        <p:spPr>
          <a:xfrm>
            <a:off x="0" y="2276640"/>
            <a:ext cx="4762440" cy="3171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www.menshealth.com.ua/i/620_320/publications/3/xRU72iC4.jpg"/>
          <p:cNvPicPr/>
          <p:nvPr/>
        </p:nvPicPr>
        <p:blipFill>
          <a:blip r:embed="rId2"/>
          <a:stretch/>
        </p:blipFill>
        <p:spPr>
          <a:xfrm>
            <a:off x="3238560" y="3809880"/>
            <a:ext cx="59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19:08:19Z</dcterms:created>
  <dc:creator>natasha</dc:creator>
  <dc:description/>
  <dc:language>en-US</dc:language>
  <cp:lastModifiedBy>Trot</cp:lastModifiedBy>
  <dcterms:modified xsi:type="dcterms:W3CDTF">2017-10-15T21:22:28Z</dcterms:modified>
  <cp:revision>180</cp:revision>
  <dc:subject/>
  <dc:title>Americans eat not only hot dogs, Don’t they?</dc:title>
</cp:coreProperties>
</file>