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2F8-FCF2-427E-8985-50095920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9D71-649F-47AA-BB15-585CDDC0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680-41F7-400D-98AB-EC5D06B4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C68-53E8-4334-A404-5E3B731E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A9A1-AEE4-488C-B94B-FB5AFA1E1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66B5-FA60-4797-BE85-01CE54DF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AE5B-E495-46F9-B4E4-20F206A0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0119-BDDB-477A-A386-6E40142D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0B6B-D76C-49D8-A539-0C79AFDD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71D9-C22A-46B8-A99D-1AEDE104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51B-5F3D-40F4-AAE4-41E75DD1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3667-B71F-4C01-B6C2-A26AD3BF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BCAD-16EB-4682-AA76-1F86D4E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F3F6-99B1-4137-90EC-9D05F487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3F05-1D81-4983-BB68-97447F3F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3846-3998-4222-91F7-CA60D859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CEC-0302-4E9E-8FA6-9CB9A2EA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25E-77B7-4DBC-B7BA-8C1FF0F0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A13-D2ED-43F5-878A-FA55AE9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2F3B-4BB6-40A6-8FA7-B61ABBEA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BD3-EB93-4954-9AE5-8B599E58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BB1A-4377-4AC8-A12A-5CAC9B76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B670-4BE1-45E9-94E0-3DA83FB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F5EE-D420-483E-B98C-9E53940C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0662-F150-4B21-BA55-D3E3C56EDD3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3E12-CCF5-47EE-A0CA-C67A52D5C5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828684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абота с информационными источникам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928800" y="52149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Скифова А.С., 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Златоруновской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2571840" y="642960"/>
            <a:ext cx="4190760" cy="19382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ипы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752120" y="28195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7242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6172200" y="29718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533520" y="3716280"/>
            <a:ext cx="2438280" cy="18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лух и про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3419640" y="3143160"/>
            <a:ext cx="2600280" cy="2373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еб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6372360" y="3962520"/>
            <a:ext cx="2390760" cy="14112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стоя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ёмы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 формированию смыслового  чт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14300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тиципация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дай  вопрос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таем и спрашивае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невник двойных записей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с пометкам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ссоциативный куст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машка Блум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ём тонких и толстых вопросов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с остановкам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блица ЗХУ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рево предсказаний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стер»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Синквейн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машка               Бл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3708360" y="2997360"/>
            <a:ext cx="1440000" cy="100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3851280" y="692280"/>
            <a:ext cx="1008000" cy="22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оч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 rot="19777800">
            <a:off x="5074920" y="2144520"/>
            <a:ext cx="2298600" cy="1068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 rot="1530000">
            <a:off x="1022040" y="2104560"/>
            <a:ext cx="2663640" cy="938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очняющ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 rot="19996200">
            <a:off x="1344600" y="3924360"/>
            <a:ext cx="2430360" cy="95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3933720" y="4079880"/>
            <a:ext cx="1133640" cy="230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ие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 rot="1039200">
            <a:off x="5013000" y="3800520"/>
            <a:ext cx="2643120" cy="947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сняющие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с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ссоциативный кус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Аоцаиативный ку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3"/>
          <p:cNvSpPr/>
          <p:nvPr/>
        </p:nvSpPr>
        <p:spPr>
          <a:xfrm>
            <a:off x="3276720" y="2708280"/>
            <a:ext cx="2374920" cy="1657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5"/>
          <p:cNvCxnSpPr/>
          <p:nvPr/>
        </p:nvCxnSpPr>
        <p:spPr>
          <a:xfrm flipV="1">
            <a:off x="5219280" y="2565000"/>
            <a:ext cx="86580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6" name="Овал 6"/>
          <p:cNvSpPr/>
          <p:nvPr/>
        </p:nvSpPr>
        <p:spPr>
          <a:xfrm>
            <a:off x="5867280" y="1700280"/>
            <a:ext cx="172908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8"/>
          <p:cNvCxnSpPr>
            <a:endCxn id="168" idx="4"/>
          </p:cNvCxnSpPr>
          <p:nvPr/>
        </p:nvCxnSpPr>
        <p:spPr>
          <a:xfrm flipH="1" flipV="1">
            <a:off x="4607640" y="2204640"/>
            <a:ext cx="356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9" name="Прямая со стрелкой 10"/>
          <p:cNvCxnSpPr>
            <a:stCxn id="164" idx="1"/>
          </p:cNvCxnSpPr>
          <p:nvPr/>
        </p:nvCxnSpPr>
        <p:spPr>
          <a:xfrm flipH="1" flipV="1">
            <a:off x="2771280" y="2565000"/>
            <a:ext cx="853200" cy="3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0" name="Прямая со стрелкой 12"/>
          <p:cNvCxnSpPr>
            <a:stCxn id="164" idx="2"/>
          </p:cNvCxnSpPr>
          <p:nvPr/>
        </p:nvCxnSpPr>
        <p:spPr>
          <a:xfrm flipH="1" flipV="1">
            <a:off x="2410920" y="3428640"/>
            <a:ext cx="866160" cy="1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1" name="Прямая со стрелкой 14"/>
          <p:cNvCxnSpPr/>
          <p:nvPr/>
        </p:nvCxnSpPr>
        <p:spPr>
          <a:xfrm>
            <a:off x="5003280" y="4365360"/>
            <a:ext cx="289440" cy="71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16"/>
          <p:cNvCxnSpPr/>
          <p:nvPr/>
        </p:nvCxnSpPr>
        <p:spPr>
          <a:xfrm>
            <a:off x="4427280" y="3212640"/>
            <a:ext cx="73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Прямая со стрелкой 24"/>
          <p:cNvCxnSpPr/>
          <p:nvPr/>
        </p:nvCxnSpPr>
        <p:spPr>
          <a:xfrm flipH="1">
            <a:off x="3924000" y="4437000"/>
            <a:ext cx="21672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Прямая со стрелкой 26"/>
          <p:cNvCxnSpPr>
            <a:endCxn id="175" idx="2"/>
          </p:cNvCxnSpPr>
          <p:nvPr/>
        </p:nvCxnSpPr>
        <p:spPr>
          <a:xfrm flipV="1">
            <a:off x="5580000" y="3536280"/>
            <a:ext cx="1008720" cy="3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Прямая со стрелкой 28"/>
          <p:cNvCxnSpPr/>
          <p:nvPr/>
        </p:nvCxnSpPr>
        <p:spPr>
          <a:xfrm>
            <a:off x="5580000" y="3860280"/>
            <a:ext cx="93744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Прямая со стрелкой 30"/>
          <p:cNvCxnSpPr/>
          <p:nvPr/>
        </p:nvCxnSpPr>
        <p:spPr>
          <a:xfrm flipH="1">
            <a:off x="2700000" y="4149360"/>
            <a:ext cx="72000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5" name="Овал 39"/>
          <p:cNvSpPr/>
          <p:nvPr/>
        </p:nvSpPr>
        <p:spPr>
          <a:xfrm>
            <a:off x="6588000" y="3141720"/>
            <a:ext cx="1944720" cy="79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40"/>
          <p:cNvSpPr/>
          <p:nvPr/>
        </p:nvSpPr>
        <p:spPr>
          <a:xfrm>
            <a:off x="6227640" y="4221000"/>
            <a:ext cx="2305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42"/>
          <p:cNvSpPr/>
          <p:nvPr/>
        </p:nvSpPr>
        <p:spPr>
          <a:xfrm>
            <a:off x="4643280" y="5157720"/>
            <a:ext cx="2592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о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43"/>
          <p:cNvSpPr/>
          <p:nvPr/>
        </p:nvSpPr>
        <p:spPr>
          <a:xfrm>
            <a:off x="2340000" y="5157720"/>
            <a:ext cx="2087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44"/>
          <p:cNvSpPr/>
          <p:nvPr/>
        </p:nvSpPr>
        <p:spPr>
          <a:xfrm>
            <a:off x="611280" y="4221000"/>
            <a:ext cx="2089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45"/>
          <p:cNvSpPr/>
          <p:nvPr/>
        </p:nvSpPr>
        <p:spPr>
          <a:xfrm>
            <a:off x="611280" y="2852640"/>
            <a:ext cx="1944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46"/>
          <p:cNvSpPr/>
          <p:nvPr/>
        </p:nvSpPr>
        <p:spPr>
          <a:xfrm>
            <a:off x="971640" y="1700280"/>
            <a:ext cx="22320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ень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49"/>
          <p:cNvSpPr/>
          <p:nvPr/>
        </p:nvSpPr>
        <p:spPr>
          <a:xfrm>
            <a:off x="3708360" y="1413000"/>
            <a:ext cx="1800360" cy="79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3"/>
          <p:cNvSpPr/>
          <p:nvPr/>
        </p:nvSpPr>
        <p:spPr>
          <a:xfrm>
            <a:off x="34560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</a:t>
            </a:r>
            <a:r>
              <a:rPr b="1" lang="ru-RU" sz="6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тиципац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ципация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о предвосхищение, предугадывание содерж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вляется эффективным средством отработки техники чтения: при систематических тренировках ребёнок учится по начальным буквам угадывать слово, по начальным словам - фразу, по начальным фразам - содержание текста. Это существенно ускоряет темп чт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) Прогнозирование содержания текста по названию, фамилии автора, эпиграф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) Восстановление текста с пропущенными элемент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             часть            обозна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предмета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и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редм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           глагол           измен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ам                                      по време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   имеет    отвечает на вопросы по родам        вид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что сделат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Овал 4"/>
          <p:cNvSpPr/>
          <p:nvPr/>
        </p:nvSpPr>
        <p:spPr>
          <a:xfrm>
            <a:off x="3000240" y="2071800"/>
            <a:ext cx="27147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 стрелкой 6"/>
          <p:cNvCxnSpPr/>
          <p:nvPr/>
        </p:nvCxnSpPr>
        <p:spPr>
          <a:xfrm flipH="1" flipV="1">
            <a:off x="1499400" y="1213920"/>
            <a:ext cx="214380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Прямая со стрелкой 8"/>
          <p:cNvCxnSpPr/>
          <p:nvPr/>
        </p:nvCxnSpPr>
        <p:spPr>
          <a:xfrm>
            <a:off x="5714640" y="2500200"/>
            <a:ext cx="500760" cy="21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Прямая со стрелкой 9"/>
          <p:cNvCxnSpPr/>
          <p:nvPr/>
        </p:nvCxnSpPr>
        <p:spPr>
          <a:xfrm flipH="1" flipV="1">
            <a:off x="2428200" y="2571480"/>
            <a:ext cx="57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Прямая со стрелкой 10"/>
          <p:cNvCxnSpPr/>
          <p:nvPr/>
        </p:nvCxnSpPr>
        <p:spPr>
          <a:xfrm>
            <a:off x="5214960" y="2857320"/>
            <a:ext cx="192960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Прямая со стрелкой 11"/>
          <p:cNvCxnSpPr/>
          <p:nvPr/>
        </p:nvCxnSpPr>
        <p:spPr>
          <a:xfrm flipH="1">
            <a:off x="3571560" y="2999880"/>
            <a:ext cx="71496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Прямая со стрелкой 12"/>
          <p:cNvCxnSpPr/>
          <p:nvPr/>
        </p:nvCxnSpPr>
        <p:spPr>
          <a:xfrm flipH="1">
            <a:off x="1785240" y="2927880"/>
            <a:ext cx="1857960" cy="142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5" name="Прямая со стрелкой 13"/>
          <p:cNvCxnSpPr/>
          <p:nvPr/>
        </p:nvCxnSpPr>
        <p:spPr>
          <a:xfrm flipV="1">
            <a:off x="5357520" y="1142280"/>
            <a:ext cx="1857960" cy="1072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6" name="Прямая со стрелкой 14"/>
          <p:cNvCxnSpPr/>
          <p:nvPr/>
        </p:nvCxnSpPr>
        <p:spPr>
          <a:xfrm flipV="1">
            <a:off x="4284720" y="1142640"/>
            <a:ext cx="216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 по  составлению  синквей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– 1 слово (имя существи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темы – 2 слова (имя прилага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действия – 3 слова (глаго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теме – фраза из 4 слов (предложение, цита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 темы – 1 слово (синони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726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– это система. Как говорили древние: «Овладеть системой – значит овладеть е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шесть структурных элементов, которые должны выделять обучающиеся в процессе текс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ы, описания я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деи, законы, закономер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ы и метафо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2666880" y="500040"/>
            <a:ext cx="4267440" cy="292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 flipH="1">
            <a:off x="198072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388620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5715000" y="3048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6705720" y="2743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85800" y="3276720"/>
            <a:ext cx="2438280" cy="121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знаком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1"/>
          <p:cNvSpPr/>
          <p:nvPr/>
        </p:nvSpPr>
        <p:spPr>
          <a:xfrm>
            <a:off x="2411280" y="4648320"/>
            <a:ext cx="2232000" cy="12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учаю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859280" y="4724280"/>
            <a:ext cx="2160720" cy="1219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думчи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6300720" y="3284640"/>
            <a:ext cx="2386080" cy="143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иск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росмотрово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3698280" y="3244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ципац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00040" y="1571760"/>
          <a:ext cx="8215200" cy="5300640"/>
        </p:xfrm>
        <a:graphic>
          <a:graphicData uri="http://schemas.openxmlformats.org/drawingml/2006/table">
            <a:tbl>
              <a:tblPr/>
              <a:tblGrid>
                <a:gridCol w="3251160"/>
                <a:gridCol w="496404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Тонки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Толсты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6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эту колонку записываются вопросы, требующие простого, односложного от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Кто? Куд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Что?……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…………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эту колонку записываются вопросы , требующие  подробного, развёрнутого ответа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айте несколько объяснений, почему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очему Вы считает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чем различи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положите, что будет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Что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Толстые вопросы требуют     неоднозначных отве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6" descr="C:\Users\Галина\Downloads\shutterstock_101211175.jpg"/>
          <p:cNvPicPr/>
          <p:nvPr/>
        </p:nvPicPr>
        <p:blipFill>
          <a:blip r:embed="rId2"/>
          <a:stretch/>
        </p:blipFill>
        <p:spPr>
          <a:xfrm>
            <a:off x="6724800" y="4492800"/>
            <a:ext cx="1968480" cy="21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авайте вспомни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1\Documents\Планы уроков\2011_2012\картинки\действия с информацией\f_4a9285718a0cc.jpg"/>
          <p:cNvPicPr/>
          <p:nvPr/>
        </p:nvPicPr>
        <p:blipFill>
          <a:blip r:embed="rId1"/>
          <a:stretch/>
        </p:blipFill>
        <p:spPr>
          <a:xfrm>
            <a:off x="1285920" y="1285920"/>
            <a:ext cx="66438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Diagram 1"/>
          <p:cNvGrpSpPr/>
          <p:nvPr/>
        </p:nvGrpSpPr>
        <p:grpSpPr>
          <a:xfrm>
            <a:off x="842760" y="1285200"/>
            <a:ext cx="7459560" cy="4765320"/>
            <a:chOff x="842760" y="1285200"/>
            <a:chExt cx="7459560" cy="4765320"/>
          </a:xfrm>
        </p:grpSpPr>
        <p:sp>
          <p:nvSpPr>
            <p:cNvPr id="219" name="_s2052"/>
            <p:cNvSpPr/>
            <p:nvPr/>
          </p:nvSpPr>
          <p:spPr>
            <a:xfrm>
              <a:off x="3048480" y="163404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053"/>
            <p:cNvSpPr/>
            <p:nvPr/>
          </p:nvSpPr>
          <p:spPr>
            <a:xfrm rot="3060000">
              <a:off x="5217840" y="1395360"/>
              <a:ext cx="1736640" cy="30463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054"/>
            <p:cNvSpPr/>
            <p:nvPr/>
          </p:nvSpPr>
          <p:spPr>
            <a:xfrm rot="6180000">
              <a:off x="5592240" y="2330280"/>
              <a:ext cx="1736640" cy="30463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055"/>
            <p:cNvSpPr/>
            <p:nvPr/>
          </p:nvSpPr>
          <p:spPr>
            <a:xfrm rot="9240000">
              <a:off x="3888000" y="373392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6"/>
            <p:cNvSpPr/>
            <p:nvPr/>
          </p:nvSpPr>
          <p:spPr>
            <a:xfrm rot="12360000">
              <a:off x="2207520" y="373392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57"/>
            <p:cNvSpPr/>
            <p:nvPr/>
          </p:nvSpPr>
          <p:spPr>
            <a:xfrm rot="15420000">
              <a:off x="1815120" y="2329560"/>
              <a:ext cx="1737000" cy="304632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2058"/>
            <p:cNvSpPr/>
            <p:nvPr/>
          </p:nvSpPr>
          <p:spPr>
            <a:xfrm rot="18540000">
              <a:off x="2189160" y="1395360"/>
              <a:ext cx="1737000" cy="304632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9"/>
            <p:cNvSpPr/>
            <p:nvPr/>
          </p:nvSpPr>
          <p:spPr>
            <a:xfrm>
              <a:off x="5369040" y="161568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рл Петр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2060"/>
            <p:cNvSpPr/>
            <p:nvPr/>
          </p:nvSpPr>
          <p:spPr>
            <a:xfrm>
              <a:off x="3976200" y="509904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ЗАЯ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61"/>
            <p:cNvSpPr/>
            <p:nvPr/>
          </p:nvSpPr>
          <p:spPr>
            <a:xfrm>
              <a:off x="842760" y="285984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а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2"/>
            <p:cNvSpPr/>
            <p:nvPr/>
          </p:nvSpPr>
          <p:spPr>
            <a:xfrm>
              <a:off x="7108200" y="285876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етерин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063"/>
            <p:cNvSpPr/>
            <p:nvPr/>
          </p:nvSpPr>
          <p:spPr>
            <a:xfrm>
              <a:off x="1464120" y="440928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2064"/>
            <p:cNvSpPr/>
            <p:nvPr/>
          </p:nvSpPr>
          <p:spPr>
            <a:xfrm>
              <a:off x="6488280" y="440892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нис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065"/>
            <p:cNvSpPr/>
            <p:nvPr/>
          </p:nvSpPr>
          <p:spPr>
            <a:xfrm>
              <a:off x="2580120" y="161676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вт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4" descr="Картинка 2 из 120730"/>
          <p:cNvPicPr/>
          <p:nvPr/>
        </p:nvPicPr>
        <p:blipFill>
          <a:blip r:embed="rId1"/>
          <a:stretch/>
        </p:blipFill>
        <p:spPr>
          <a:xfrm>
            <a:off x="785880" y="1500120"/>
            <a:ext cx="764388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Картинка 4 из 120730"/>
          <p:cNvPicPr/>
          <p:nvPr/>
        </p:nvPicPr>
        <p:blipFill>
          <a:blip r:embed="rId1"/>
          <a:stretch/>
        </p:blipFill>
        <p:spPr>
          <a:xfrm>
            <a:off x="857160" y="1428840"/>
            <a:ext cx="7500960" cy="5065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77151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Т. №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ная на носителе информация хранится до тех пор, пока существует носит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C:\Users\1\Documents\Планы уроков\2011_2012\картинки\действия с информацией\plakat5.jpg"/>
          <p:cNvPicPr/>
          <p:nvPr/>
        </p:nvPicPr>
        <p:blipFill>
          <a:blip r:embed="rId1"/>
          <a:stretch/>
        </p:blipFill>
        <p:spPr>
          <a:xfrm>
            <a:off x="785880" y="2571840"/>
            <a:ext cx="78199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C:\Users\1\Documents\Планы уроков\2011_2012\картинки\действия с информацией\plakat6.jpg"/>
          <p:cNvPicPr/>
          <p:nvPr/>
        </p:nvPicPr>
        <p:blipFill>
          <a:blip r:embed="rId1"/>
          <a:stretch/>
        </p:blipFill>
        <p:spPr>
          <a:xfrm>
            <a:off x="571680" y="1428840"/>
            <a:ext cx="803412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абота со смысл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85520" y="1071360"/>
            <a:ext cx="6643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батывать можно звуковую, числовую, текстовую или графическ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может обрабатывать информацию, представленную на носителе в виде текста, числа, рисунка или с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8" descr="Картинка 89 из 15391"/>
          <p:cNvPicPr/>
          <p:nvPr/>
        </p:nvPicPr>
        <p:blipFill>
          <a:blip r:embed="rId1"/>
          <a:stretch/>
        </p:blipFill>
        <p:spPr>
          <a:xfrm>
            <a:off x="3274920" y="2071800"/>
            <a:ext cx="2082960" cy="1571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http://images.six.betanews.com/screenshots/1145844924-1.gif"/>
          <p:cNvPicPr/>
          <p:nvPr/>
        </p:nvPicPr>
        <p:blipFill>
          <a:blip r:embed="rId2"/>
          <a:stretch/>
        </p:blipFill>
        <p:spPr>
          <a:xfrm>
            <a:off x="6000840" y="203832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Картинка 6 из 651"/>
          <p:cNvPicPr/>
          <p:nvPr/>
        </p:nvPicPr>
        <p:blipFill>
          <a:blip r:embed="rId3"/>
          <a:stretch/>
        </p:blipFill>
        <p:spPr>
          <a:xfrm>
            <a:off x="571680" y="2214720"/>
            <a:ext cx="2571480" cy="14284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2"/>
          <p:cNvSpPr/>
          <p:nvPr/>
        </p:nvSpPr>
        <p:spPr>
          <a:xfrm>
            <a:off x="807228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Т.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ение формы представления информации без изменения смысла сообще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образование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временное изменение формы представления информации и смысла сообще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о смыслом сооб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бразова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57120" y="2000160"/>
          <a:ext cx="8358120" cy="4479840"/>
        </p:xfrm>
        <a:graphic>
          <a:graphicData uri="http://schemas.openxmlformats.org/drawingml/2006/table">
            <a:tbl>
              <a:tblPr/>
              <a:tblGrid>
                <a:gridCol w="2735280"/>
                <a:gridCol w="5622840"/>
              </a:tblGrid>
              <a:tr h="27468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ысл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инять информацию, получить со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зить воспринятую информацию на носителе в удобной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еречь зафиксированную (представленную) на носителе информацию (дан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елиться, обменяться информацией с другими люд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бот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форму и смысл сообщения, получить новую инфор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образ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(подобрать) форму представления для хранения, использования, передачи, обрабо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ировать (декодиров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форму представления информации для более удобного хранения или пере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1"/>
          <p:cNvSpPr/>
          <p:nvPr/>
        </p:nvSpPr>
        <p:spPr>
          <a:xfrm>
            <a:off x="142920" y="114300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ждое действие с информацией имеет свой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1\Documents\Планы уроков\2011_2012\картинки\действия с информацией\p8_vidyiinformacii.jpg"/>
          <p:cNvPicPr/>
          <p:nvPr/>
        </p:nvPicPr>
        <p:blipFill>
          <a:blip r:embed="rId1"/>
          <a:stretch/>
        </p:blipFill>
        <p:spPr>
          <a:xfrm>
            <a:off x="357120" y="500040"/>
            <a:ext cx="84330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1\Documents\Планы уроков\2011_2012\картинки\действия с информацией\112.jpg"/>
          <p:cNvPicPr/>
          <p:nvPr/>
        </p:nvPicPr>
        <p:blipFill>
          <a:blip r:embed="rId1"/>
          <a:stretch/>
        </p:blipFill>
        <p:spPr>
          <a:xfrm>
            <a:off x="357120" y="571680"/>
            <a:ext cx="84549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лучени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ин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ать за чем-нибудь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т получать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целенаправлен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http://im5-tub.yandex.net/i?id=323366675-53-72"/>
          <p:cNvPicPr/>
          <p:nvPr/>
        </p:nvPicPr>
        <p:blipFill>
          <a:blip r:embed="rId1"/>
          <a:stretch/>
        </p:blipFill>
        <p:spPr>
          <a:xfrm>
            <a:off x="3786120" y="50720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Картинка 40 из 123950"/>
          <p:cNvPicPr/>
          <p:nvPr/>
        </p:nvPicPr>
        <p:blipFill>
          <a:blip r:embed="rId2"/>
          <a:stretch/>
        </p:blipFill>
        <p:spPr>
          <a:xfrm>
            <a:off x="6732720" y="3643200"/>
            <a:ext cx="2411280" cy="32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im3-tub.yandex.net/i?id=378432183-33-72"/>
          <p:cNvPicPr/>
          <p:nvPr/>
        </p:nvPicPr>
        <p:blipFill>
          <a:blip r:embed="rId3"/>
          <a:stretch/>
        </p:blipFill>
        <p:spPr>
          <a:xfrm>
            <a:off x="142920" y="128592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waterproofbinoculars.blog.com/files/2010/07/birdwatching_birdwatching1-300x293.jpg"/>
          <p:cNvPicPr/>
          <p:nvPr/>
        </p:nvPicPr>
        <p:blipFill>
          <a:blip r:embed="rId4"/>
          <a:stretch/>
        </p:blipFill>
        <p:spPr>
          <a:xfrm>
            <a:off x="7500960" y="1285920"/>
            <a:ext cx="1419120" cy="13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Картинка 46 из 18823"/>
          <p:cNvPicPr/>
          <p:nvPr/>
        </p:nvPicPr>
        <p:blipFill>
          <a:blip r:embed="rId5"/>
          <a:stretch/>
        </p:blipFill>
        <p:spPr>
          <a:xfrm>
            <a:off x="0" y="3714840"/>
            <a:ext cx="2346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дставл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представления информации на носителе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ё хранение или передач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1\Documents\Планы уроков\2011_2012\картинки\действия с информацией\mini_plakat_primerMatveeva.jpg"/>
          <p:cNvPicPr/>
          <p:nvPr/>
        </p:nvPicPr>
        <p:blipFill>
          <a:blip r:embed="rId1"/>
          <a:stretch/>
        </p:blipFill>
        <p:spPr>
          <a:xfrm>
            <a:off x="857160" y="2571840"/>
            <a:ext cx="74660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ассификация сказ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Organization Chart 18"/>
          <p:cNvGrpSpPr/>
          <p:nvPr/>
        </p:nvGrpSpPr>
        <p:grpSpPr>
          <a:xfrm>
            <a:off x="457200" y="1600200"/>
            <a:ext cx="8228880" cy="4886280"/>
            <a:chOff x="457200" y="1600200"/>
            <a:chExt cx="8228880" cy="488628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522760" y="2602440"/>
              <a:ext cx="977760" cy="2880720"/>
            </a:xfrm>
            <a:prstGeom prst="bentConnector3">
              <a:avLst>
                <a:gd name="adj1" fmla="val 116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1"/>
            </p:cNvCxnSpPr>
            <p:nvPr/>
          </p:nvCxnSpPr>
          <p:spPr>
            <a:xfrm flipV="1">
              <a:off x="4571280" y="3554280"/>
              <a:ext cx="3240" cy="977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_s1030"/>
            <p:cNvCxnSpPr>
              <a:stCxn id="108" idx="0"/>
              <a:endCxn id="104" idx="0"/>
            </p:cNvCxnSpPr>
            <p:nvPr/>
          </p:nvCxnSpPr>
          <p:spPr>
            <a:xfrm flipH="1" flipV="1" rot="5400000">
              <a:off x="2642400" y="2602800"/>
              <a:ext cx="977760" cy="2880720"/>
            </a:xfrm>
            <a:prstGeom prst="bentConnector3">
              <a:avLst>
                <a:gd name="adj1" fmla="val 116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" name="_s1031"/>
            <p:cNvSpPr/>
            <p:nvPr/>
          </p:nvSpPr>
          <p:spPr>
            <a:xfrm>
              <a:off x="3337200" y="160020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ffffff"/>
                </a:gs>
                <a:gs pos="100000">
                  <a:srgbClr val="4f81bd"/>
                </a:gs>
              </a:gsLst>
              <a:lin ang="81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2"/>
            <p:cNvSpPr/>
            <p:nvPr/>
          </p:nvSpPr>
          <p:spPr>
            <a:xfrm>
              <a:off x="45720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олшеб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33720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ыт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>
              <a:off x="621756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живот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31" descr="an02492_"/>
          <p:cNvPicPr/>
          <p:nvPr/>
        </p:nvPicPr>
        <p:blipFill>
          <a:blip r:embed="rId1"/>
          <a:stretch/>
        </p:blipFill>
        <p:spPr>
          <a:xfrm>
            <a:off x="676440" y="1940040"/>
            <a:ext cx="1622160" cy="2054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bd07360_"/>
          <p:cNvPicPr/>
          <p:nvPr/>
        </p:nvPicPr>
        <p:blipFill>
          <a:blip r:embed="rId2"/>
          <a:stretch/>
        </p:blipFill>
        <p:spPr>
          <a:xfrm>
            <a:off x="6381720" y="2340000"/>
            <a:ext cx="2139840" cy="14382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5">
            <a:hlinkClick r:id="rId3" action="ppaction://hlinksldjump"/>
          </p:cNvPr>
          <p:cNvSpPr/>
          <p:nvPr/>
        </p:nvSpPr>
        <p:spPr>
          <a:xfrm>
            <a:off x="54000" y="39600"/>
            <a:ext cx="622440" cy="468360"/>
          </a:xfrm>
          <a:custGeom>
            <a:avLst/>
            <a:gdLst>
              <a:gd name="textAreaLeft" fmla="*/ 30240 w 622440"/>
              <a:gd name="textAreaRight" fmla="*/ 592200 w 6224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8700" h="21600">
                <a:moveTo>
                  <a:pt x="0" y="0"/>
                </a:moveTo>
                <a:lnTo>
                  <a:pt x="28700" y="0"/>
                </a:lnTo>
                <a:lnTo>
                  <a:pt x="28700" y="21600"/>
                </a:lnTo>
                <a:lnTo>
                  <a:pt x="0" y="21600"/>
                </a:lnTo>
                <a:close/>
              </a:path>
              <a:path fill="lightenLess" w="28700" h="21600">
                <a:moveTo>
                  <a:pt x="0" y="0"/>
                </a:moveTo>
                <a:lnTo>
                  <a:pt x="28700" y="0"/>
                </a:lnTo>
                <a:lnTo>
                  <a:pt x="27300" y="1400"/>
                </a:lnTo>
                <a:lnTo>
                  <a:pt x="1400" y="1400"/>
                </a:lnTo>
                <a:close/>
              </a:path>
              <a:path fill="darken" w="28700" h="21600">
                <a:moveTo>
                  <a:pt x="28700" y="0"/>
                </a:moveTo>
                <a:lnTo>
                  <a:pt x="28700" y="21600"/>
                </a:lnTo>
                <a:lnTo>
                  <a:pt x="27300" y="20200"/>
                </a:lnTo>
                <a:lnTo>
                  <a:pt x="27300" y="1400"/>
                </a:lnTo>
                <a:close/>
              </a:path>
              <a:path fill="darkenLess" w="28700" h="21600">
                <a:moveTo>
                  <a:pt x="28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00" y="20200"/>
                </a:lnTo>
                <a:close/>
              </a:path>
              <a:path fill="lighten" w="28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00" h="21600">
                <a:moveTo>
                  <a:pt x="14350" y="3837"/>
                </a:moveTo>
                <a:lnTo>
                  <a:pt x="16927" y="6448"/>
                </a:lnTo>
                <a:lnTo>
                  <a:pt x="16927" y="4707"/>
                </a:lnTo>
                <a:lnTo>
                  <a:pt x="18702" y="4707"/>
                </a:lnTo>
                <a:lnTo>
                  <a:pt x="18702" y="8224"/>
                </a:lnTo>
                <a:lnTo>
                  <a:pt x="21313" y="10800"/>
                </a:lnTo>
                <a:lnTo>
                  <a:pt x="19659" y="10800"/>
                </a:lnTo>
                <a:lnTo>
                  <a:pt x="19659" y="17989"/>
                </a:lnTo>
                <a:lnTo>
                  <a:pt x="9041" y="17989"/>
                </a:lnTo>
                <a:lnTo>
                  <a:pt x="9041" y="10800"/>
                </a:lnTo>
                <a:lnTo>
                  <a:pt x="7387" y="10800"/>
                </a:lnTo>
                <a:close/>
              </a:path>
              <a:path fill="darkenLess" w="28700" h="21600">
                <a:moveTo>
                  <a:pt x="16927" y="6448"/>
                </a:moveTo>
                <a:lnTo>
                  <a:pt x="16927" y="4707"/>
                </a:lnTo>
                <a:lnTo>
                  <a:pt x="18702" y="4707"/>
                </a:lnTo>
                <a:lnTo>
                  <a:pt x="18702" y="8224"/>
                </a:lnTo>
                <a:close/>
              </a:path>
              <a:path fill="darkenLess" w="28700" h="21600">
                <a:moveTo>
                  <a:pt x="13428" y="14299"/>
                </a:moveTo>
                <a:lnTo>
                  <a:pt x="15273" y="14299"/>
                </a:lnTo>
                <a:lnTo>
                  <a:pt x="15273" y="17989"/>
                </a:lnTo>
                <a:lnTo>
                  <a:pt x="19659" y="17989"/>
                </a:lnTo>
                <a:lnTo>
                  <a:pt x="19659" y="10800"/>
                </a:lnTo>
                <a:lnTo>
                  <a:pt x="9041" y="10800"/>
                </a:lnTo>
                <a:lnTo>
                  <a:pt x="9041" y="17989"/>
                </a:lnTo>
                <a:lnTo>
                  <a:pt x="134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50480" y="274320"/>
            <a:ext cx="809316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обенности сказочн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26680" y="13971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нтите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коро сказка сказывается, а не скоро дело дел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039560" y="2573280"/>
            <a:ext cx="4684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Рифм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о написано на роду, то быть сужено т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щей сидит за столом, пиш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1520" y="2563920"/>
            <a:ext cx="25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остоянные эпит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8640" y="3160800"/>
            <a:ext cx="33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орец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локам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с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ёмный, ча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ч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ук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ол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уб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стень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ол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ст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хрус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рем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ниц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т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емля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ыра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ель 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х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3320" y="197640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Гиперб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тору лошадь по крестцу ударит, так и с ног долой упад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037040" y="3573360"/>
            <a:ext cx="330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инони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 бросай меня 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варищ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г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не поки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036320" y="473724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равн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л Иван на вол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лк побежал стрел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15105317"/>
          <p:cNvPicPr/>
          <p:nvPr/>
        </p:nvPicPr>
        <p:blipFill>
          <a:blip r:embed="rId7"/>
          <a:stretch/>
        </p:blipFill>
        <p:spPr>
          <a:xfrm>
            <a:off x="6651720" y="4224240"/>
            <a:ext cx="2076480" cy="19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3508200" y="1195560"/>
            <a:ext cx="210672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уществ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228680" y="2120760"/>
            <a:ext cx="1947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и наруш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012000" y="3429000"/>
            <a:ext cx="20318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и уходят из дома, чтобы всё испр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3508200" y="4836960"/>
            <a:ext cx="2106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ю приходят на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195560" y="3429000"/>
            <a:ext cx="198108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спасительной ма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228680" y="4632480"/>
            <a:ext cx="1947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ые гер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ются со зл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012000" y="4651200"/>
            <a:ext cx="20844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3176640" y="5888160"/>
            <a:ext cx="28353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й возвращается домой с наградой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1181880" y="222120"/>
            <a:ext cx="67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южет волшебных ск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3176640" y="2139840"/>
            <a:ext cx="158112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3176640" y="2682720"/>
            <a:ext cx="2835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3176640" y="3875040"/>
            <a:ext cx="28353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7045200" y="3154320"/>
            <a:ext cx="0" cy="274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135160" y="4373640"/>
            <a:ext cx="0" cy="27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>
            <a:off x="2325600" y="550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2492280" y="550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3176640" y="5114880"/>
            <a:ext cx="331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4"/>
          <p:cNvSpPr/>
          <p:nvPr/>
        </p:nvSpPr>
        <p:spPr>
          <a:xfrm>
            <a:off x="5648400" y="5114880"/>
            <a:ext cx="363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"/>
          <p:cNvSpPr/>
          <p:nvPr/>
        </p:nvSpPr>
        <p:spPr>
          <a:xfrm flipH="1">
            <a:off x="6012000" y="5595840"/>
            <a:ext cx="1033200" cy="652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6" descr="j0336888"/>
          <p:cNvPicPr/>
          <p:nvPr/>
        </p:nvPicPr>
        <p:blipFill>
          <a:blip r:embed="rId1"/>
          <a:stretch/>
        </p:blipFill>
        <p:spPr>
          <a:xfrm>
            <a:off x="3760920" y="2836800"/>
            <a:ext cx="1446120" cy="11844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7">
            <a:hlinkClick r:id="rId2" action="ppaction://hlinksldjump"/>
          </p:cNvPr>
          <p:cNvSpPr/>
          <p:nvPr/>
        </p:nvSpPr>
        <p:spPr>
          <a:xfrm>
            <a:off x="8515440" y="6475320"/>
            <a:ext cx="495360" cy="343080"/>
          </a:xfrm>
          <a:custGeom>
            <a:avLst/>
            <a:gdLst>
              <a:gd name="textAreaLeft" fmla="*/ 21960 w 495360"/>
              <a:gd name="textAreaRight" fmla="*/ 473400 w 49536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31177" h="21600">
                <a:moveTo>
                  <a:pt x="0" y="0"/>
                </a:moveTo>
                <a:lnTo>
                  <a:pt x="31177" y="0"/>
                </a:lnTo>
                <a:lnTo>
                  <a:pt x="31177" y="21600"/>
                </a:lnTo>
                <a:lnTo>
                  <a:pt x="0" y="21600"/>
                </a:lnTo>
                <a:close/>
              </a:path>
              <a:path fill="lightenLess" w="31177" h="21600">
                <a:moveTo>
                  <a:pt x="0" y="0"/>
                </a:moveTo>
                <a:lnTo>
                  <a:pt x="31177" y="0"/>
                </a:lnTo>
                <a:lnTo>
                  <a:pt x="29777" y="1400"/>
                </a:lnTo>
                <a:lnTo>
                  <a:pt x="1400" y="1400"/>
                </a:lnTo>
                <a:close/>
              </a:path>
              <a:path fill="darken" w="31177" h="21600">
                <a:moveTo>
                  <a:pt x="31177" y="0"/>
                </a:moveTo>
                <a:lnTo>
                  <a:pt x="31177" y="21600"/>
                </a:lnTo>
                <a:lnTo>
                  <a:pt x="29777" y="20200"/>
                </a:lnTo>
                <a:lnTo>
                  <a:pt x="29777" y="1400"/>
                </a:lnTo>
                <a:close/>
              </a:path>
              <a:path fill="darkenLess" w="31177" h="21600">
                <a:moveTo>
                  <a:pt x="31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7" y="20200"/>
                </a:lnTo>
                <a:close/>
              </a:path>
              <a:path fill="lighten" w="31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7" h="21600">
                <a:moveTo>
                  <a:pt x="15589" y="3837"/>
                </a:moveTo>
                <a:lnTo>
                  <a:pt x="18165" y="6448"/>
                </a:lnTo>
                <a:lnTo>
                  <a:pt x="18165" y="4707"/>
                </a:lnTo>
                <a:lnTo>
                  <a:pt x="19941" y="4707"/>
                </a:lnTo>
                <a:lnTo>
                  <a:pt x="19941" y="8224"/>
                </a:lnTo>
                <a:lnTo>
                  <a:pt x="22552" y="10800"/>
                </a:lnTo>
                <a:lnTo>
                  <a:pt x="20898" y="10800"/>
                </a:lnTo>
                <a:lnTo>
                  <a:pt x="20898" y="17989"/>
                </a:lnTo>
                <a:lnTo>
                  <a:pt x="10279" y="17989"/>
                </a:lnTo>
                <a:lnTo>
                  <a:pt x="10279" y="10800"/>
                </a:lnTo>
                <a:lnTo>
                  <a:pt x="8626" y="10800"/>
                </a:lnTo>
                <a:close/>
              </a:path>
              <a:path fill="darkenLess" w="31177" h="21600">
                <a:moveTo>
                  <a:pt x="18165" y="6448"/>
                </a:moveTo>
                <a:lnTo>
                  <a:pt x="18165" y="4707"/>
                </a:lnTo>
                <a:lnTo>
                  <a:pt x="19941" y="4707"/>
                </a:lnTo>
                <a:lnTo>
                  <a:pt x="19941" y="8224"/>
                </a:lnTo>
                <a:close/>
              </a:path>
              <a:path fill="darkenLess" w="31177" h="21600">
                <a:moveTo>
                  <a:pt x="14666" y="14299"/>
                </a:moveTo>
                <a:lnTo>
                  <a:pt x="16511" y="14299"/>
                </a:lnTo>
                <a:lnTo>
                  <a:pt x="16511" y="17989"/>
                </a:lnTo>
                <a:lnTo>
                  <a:pt x="20898" y="17989"/>
                </a:lnTo>
                <a:lnTo>
                  <a:pt x="20898" y="10800"/>
                </a:lnTo>
                <a:lnTo>
                  <a:pt x="10279" y="10800"/>
                </a:lnTo>
                <a:lnTo>
                  <a:pt x="10279" y="17989"/>
                </a:lnTo>
                <a:lnTo>
                  <a:pt x="14666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6012000" y="2209680"/>
            <a:ext cx="1947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нару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15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415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4:08:49Z</dcterms:created>
  <dc:creator>1</dc:creator>
  <dc:description/>
  <dc:language>en-US</dc:language>
  <cp:lastModifiedBy>User</cp:lastModifiedBy>
  <dcterms:modified xsi:type="dcterms:W3CDTF">2017-10-14T09:30:35Z</dcterms:modified>
  <cp:revision>38</cp:revision>
  <dc:subject/>
  <dc:title>Действия с информацией</dc:title>
</cp:coreProperties>
</file>