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wmf" ContentType="image/x-wmf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7.png" ContentType="image/png"/>
  <Override PartName="/ppt/media/image14.gif" ContentType="image/gif"/>
  <Override PartName="/ppt/media/image1.jpeg" ContentType="image/jpeg"/>
  <Override PartName="/ppt/media/image22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F10F-2EBD-417E-85C6-393D5DC1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438B-755B-40C3-9BF8-233D86D3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5CA8-C773-4340-9154-207165CA7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40A9-E9AA-4471-9927-926F60B1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A712-1D97-430B-BF60-620EF73F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7960-B341-4B1B-B567-9E6FC495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A8D5-C61B-47A4-B01F-A104F6FA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4DCE-F214-40F8-99D4-288410E1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11C5-E940-4E95-B529-5EEFD82A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72BC-399B-4542-9D9A-C1CE1573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242C-C217-4DE2-B594-B5718CDB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5450-4177-456B-AE45-DC82B24E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0448-0D85-425C-9F03-61299B08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A79C-A706-4E2D-8356-390C9CD7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E2CB-0BA7-488B-89B0-1DF450DE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CC7E-20DE-4088-8480-C5865BAA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322F-963B-497E-B0DC-157209A3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FD46-5F13-47ED-8A67-12905C56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FCD3-346E-4526-97CE-065F387D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74B0-5004-44E2-9F07-0F4369DC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DAA6-55A9-4D85-9603-8F2BD364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F6A6-EBEA-41AB-A720-D637088B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0E34-4FFC-475D-9565-8CFB3D16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2DC7-F227-481B-9326-06D396F9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D064-5E97-4012-A13F-D01FA9A6C66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A447-20C8-4155-A8B8-75F31DD72A0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9680" y="642960"/>
            <a:ext cx="8286840" cy="45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Работа с информационными источникам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928800" y="521496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кла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: Скифова А.С., учитель начальных класс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«Златоруновской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2571840" y="642960"/>
            <a:ext cx="4190760" cy="19382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ипы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 flipH="1">
            <a:off x="1752120" y="2819520"/>
            <a:ext cx="129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4724280" y="3200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6172200" y="2971800"/>
            <a:ext cx="1523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533520" y="3716280"/>
            <a:ext cx="2438280" cy="180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ммуникатив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лух и про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3"/>
          <p:cNvSpPr/>
          <p:nvPr/>
        </p:nvSpPr>
        <p:spPr>
          <a:xfrm>
            <a:off x="3419640" y="3143160"/>
            <a:ext cx="2600280" cy="23734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еб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4"/>
          <p:cNvSpPr/>
          <p:nvPr/>
        </p:nvSpPr>
        <p:spPr>
          <a:xfrm>
            <a:off x="6372360" y="3962520"/>
            <a:ext cx="2390760" cy="14112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амостоя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иёмы</a:t>
            </a: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1" lang="ru-RU" sz="2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 формированию смыслового  чтен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85520" y="1143000"/>
            <a:ext cx="8072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нтиципация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дай  вопрос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таем и спрашиваем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невник двойных записей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ение с пометкам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ссоциативный куст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машка Блума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ём тонких и толстых вопросов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ение с остановкам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аблица ЗХУ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рево предсказаний»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ластер»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Синквейн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машка               Блу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Овал 3"/>
          <p:cNvSpPr/>
          <p:nvPr/>
        </p:nvSpPr>
        <p:spPr>
          <a:xfrm>
            <a:off x="3708360" y="2997360"/>
            <a:ext cx="1440000" cy="1008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4"/>
          <p:cNvSpPr/>
          <p:nvPr/>
        </p:nvSpPr>
        <p:spPr>
          <a:xfrm>
            <a:off x="3851280" y="692280"/>
            <a:ext cx="1008000" cy="2232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ценоч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5"/>
          <p:cNvSpPr/>
          <p:nvPr/>
        </p:nvSpPr>
        <p:spPr>
          <a:xfrm rot="19777800">
            <a:off x="5074920" y="2144520"/>
            <a:ext cx="2298600" cy="1068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орчески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6"/>
          <p:cNvSpPr/>
          <p:nvPr/>
        </p:nvSpPr>
        <p:spPr>
          <a:xfrm rot="1530000">
            <a:off x="1022040" y="2104560"/>
            <a:ext cx="2663640" cy="938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точняющи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7"/>
          <p:cNvSpPr/>
          <p:nvPr/>
        </p:nvSpPr>
        <p:spPr>
          <a:xfrm rot="19996200">
            <a:off x="1344600" y="3924360"/>
            <a:ext cx="2430360" cy="95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8"/>
          <p:cNvSpPr/>
          <p:nvPr/>
        </p:nvSpPr>
        <p:spPr>
          <a:xfrm>
            <a:off x="3933720" y="4079880"/>
            <a:ext cx="1133640" cy="2301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ческие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9"/>
          <p:cNvSpPr/>
          <p:nvPr/>
        </p:nvSpPr>
        <p:spPr>
          <a:xfrm rot="1039200">
            <a:off x="5013000" y="3800520"/>
            <a:ext cx="2643120" cy="947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ясняющие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Ас</a:t>
            </a: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ссоциативный кус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Аоцаиативный ку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3"/>
          <p:cNvSpPr/>
          <p:nvPr/>
        </p:nvSpPr>
        <p:spPr>
          <a:xfrm>
            <a:off x="3276720" y="2708280"/>
            <a:ext cx="2374920" cy="1657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Прямая со стрелкой 5"/>
          <p:cNvCxnSpPr/>
          <p:nvPr/>
        </p:nvCxnSpPr>
        <p:spPr>
          <a:xfrm flipV="1">
            <a:off x="5219280" y="2565000"/>
            <a:ext cx="865800" cy="28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6" name="Овал 6"/>
          <p:cNvSpPr/>
          <p:nvPr/>
        </p:nvSpPr>
        <p:spPr>
          <a:xfrm>
            <a:off x="5867280" y="1700280"/>
            <a:ext cx="1729080" cy="1008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о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Прямая со стрелкой 8"/>
          <p:cNvCxnSpPr>
            <a:endCxn id="168" idx="4"/>
          </p:cNvCxnSpPr>
          <p:nvPr/>
        </p:nvCxnSpPr>
        <p:spPr>
          <a:xfrm flipH="1" flipV="1">
            <a:off x="4607640" y="2204640"/>
            <a:ext cx="3564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9" name="Прямая со стрелкой 10"/>
          <p:cNvCxnSpPr>
            <a:stCxn id="164" idx="1"/>
          </p:cNvCxnSpPr>
          <p:nvPr/>
        </p:nvCxnSpPr>
        <p:spPr>
          <a:xfrm flipH="1" flipV="1">
            <a:off x="2771280" y="2565000"/>
            <a:ext cx="853200" cy="386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0" name="Прямая со стрелкой 12"/>
          <p:cNvCxnSpPr>
            <a:stCxn id="164" idx="2"/>
          </p:cNvCxnSpPr>
          <p:nvPr/>
        </p:nvCxnSpPr>
        <p:spPr>
          <a:xfrm flipH="1" flipV="1">
            <a:off x="2410920" y="3428640"/>
            <a:ext cx="866160" cy="1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1" name="Прямая со стрелкой 14"/>
          <p:cNvCxnSpPr/>
          <p:nvPr/>
        </p:nvCxnSpPr>
        <p:spPr>
          <a:xfrm>
            <a:off x="5003280" y="4365360"/>
            <a:ext cx="289440" cy="71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2" name="Прямая со стрелкой 16"/>
          <p:cNvCxnSpPr/>
          <p:nvPr/>
        </p:nvCxnSpPr>
        <p:spPr>
          <a:xfrm>
            <a:off x="4427280" y="3212640"/>
            <a:ext cx="7380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3" name="Прямая со стрелкой 24"/>
          <p:cNvCxnSpPr/>
          <p:nvPr/>
        </p:nvCxnSpPr>
        <p:spPr>
          <a:xfrm flipH="1">
            <a:off x="3924000" y="4437000"/>
            <a:ext cx="216720" cy="72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4" name="Прямая со стрелкой 26"/>
          <p:cNvCxnSpPr>
            <a:endCxn id="175" idx="2"/>
          </p:cNvCxnSpPr>
          <p:nvPr/>
        </p:nvCxnSpPr>
        <p:spPr>
          <a:xfrm flipV="1">
            <a:off x="5580000" y="3536280"/>
            <a:ext cx="1008720" cy="3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6" name="Прямая со стрелкой 28"/>
          <p:cNvCxnSpPr/>
          <p:nvPr/>
        </p:nvCxnSpPr>
        <p:spPr>
          <a:xfrm>
            <a:off x="5580000" y="3860280"/>
            <a:ext cx="937440" cy="5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7" name="Прямая со стрелкой 30"/>
          <p:cNvCxnSpPr/>
          <p:nvPr/>
        </p:nvCxnSpPr>
        <p:spPr>
          <a:xfrm flipH="1">
            <a:off x="2700000" y="4149360"/>
            <a:ext cx="720000" cy="35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5" name="Овал 39"/>
          <p:cNvSpPr/>
          <p:nvPr/>
        </p:nvSpPr>
        <p:spPr>
          <a:xfrm>
            <a:off x="6588000" y="3141720"/>
            <a:ext cx="1944720" cy="792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вой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40"/>
          <p:cNvSpPr/>
          <p:nvPr/>
        </p:nvSpPr>
        <p:spPr>
          <a:xfrm>
            <a:off x="6227640" y="4221000"/>
            <a:ext cx="230508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 42"/>
          <p:cNvSpPr/>
          <p:nvPr/>
        </p:nvSpPr>
        <p:spPr>
          <a:xfrm>
            <a:off x="4643280" y="5157720"/>
            <a:ext cx="259272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кор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 43"/>
          <p:cNvSpPr/>
          <p:nvPr/>
        </p:nvSpPr>
        <p:spPr>
          <a:xfrm>
            <a:off x="2340000" y="5157720"/>
            <a:ext cx="208764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д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44"/>
          <p:cNvSpPr/>
          <p:nvPr/>
        </p:nvSpPr>
        <p:spPr>
          <a:xfrm>
            <a:off x="611280" y="4221000"/>
            <a:ext cx="208908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дови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Овал 45"/>
          <p:cNvSpPr/>
          <p:nvPr/>
        </p:nvSpPr>
        <p:spPr>
          <a:xfrm>
            <a:off x="611280" y="2852640"/>
            <a:ext cx="194472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ез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46"/>
          <p:cNvSpPr/>
          <p:nvPr/>
        </p:nvSpPr>
        <p:spPr>
          <a:xfrm>
            <a:off x="971640" y="1700280"/>
            <a:ext cx="22320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ень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49"/>
          <p:cNvSpPr/>
          <p:nvPr/>
        </p:nvSpPr>
        <p:spPr>
          <a:xfrm>
            <a:off x="3708360" y="1413000"/>
            <a:ext cx="1800360" cy="792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ш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23"/>
          <p:cNvSpPr/>
          <p:nvPr/>
        </p:nvSpPr>
        <p:spPr>
          <a:xfrm>
            <a:off x="345600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</a:t>
            </a:r>
            <a:r>
              <a:rPr b="1" lang="ru-RU" sz="6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нтиципация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ципация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134100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это предвосхищение, предугадывание содержа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Является эффективным средством отработки техники чтения: при систематических тренировках ребёнок учится по начальным буквам угадывать слово, по начальным словам - фразу, по начальным фразам - содержание текста. Это существенно ускоряет темп чт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) Прогнозирование содержания текста по названию, фамилии автора, эпиграф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б) Восстановление текста с пропущенными элемент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21384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ает             часть            обознач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 предмета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и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предме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ется            глагол           изменя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ам                                      по времен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ется    имеет    отвечает на вопросы по родам        вид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? что сделать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Овал 4"/>
          <p:cNvSpPr/>
          <p:nvPr/>
        </p:nvSpPr>
        <p:spPr>
          <a:xfrm>
            <a:off x="3000240" y="2071800"/>
            <a:ext cx="2714760" cy="914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Прямая со стрелкой 6"/>
          <p:cNvCxnSpPr/>
          <p:nvPr/>
        </p:nvCxnSpPr>
        <p:spPr>
          <a:xfrm flipH="1" flipV="1">
            <a:off x="1499400" y="1213920"/>
            <a:ext cx="2143800" cy="92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Прямая со стрелкой 8"/>
          <p:cNvCxnSpPr/>
          <p:nvPr/>
        </p:nvCxnSpPr>
        <p:spPr>
          <a:xfrm>
            <a:off x="5714640" y="2500200"/>
            <a:ext cx="500760" cy="215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Прямая со стрелкой 9"/>
          <p:cNvCxnSpPr/>
          <p:nvPr/>
        </p:nvCxnSpPr>
        <p:spPr>
          <a:xfrm flipH="1" flipV="1">
            <a:off x="2428200" y="2571480"/>
            <a:ext cx="5720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Прямая со стрелкой 10"/>
          <p:cNvCxnSpPr/>
          <p:nvPr/>
        </p:nvCxnSpPr>
        <p:spPr>
          <a:xfrm>
            <a:off x="5214960" y="2857320"/>
            <a:ext cx="1929600" cy="1500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Прямая со стрелкой 11"/>
          <p:cNvCxnSpPr/>
          <p:nvPr/>
        </p:nvCxnSpPr>
        <p:spPr>
          <a:xfrm flipH="1">
            <a:off x="3571560" y="2999880"/>
            <a:ext cx="714960" cy="1358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Прямая со стрелкой 12"/>
          <p:cNvCxnSpPr/>
          <p:nvPr/>
        </p:nvCxnSpPr>
        <p:spPr>
          <a:xfrm flipH="1">
            <a:off x="1785240" y="2927880"/>
            <a:ext cx="1857960" cy="1429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Прямая со стрелкой 13"/>
          <p:cNvCxnSpPr/>
          <p:nvPr/>
        </p:nvCxnSpPr>
        <p:spPr>
          <a:xfrm flipV="1">
            <a:off x="5357520" y="1142280"/>
            <a:ext cx="1857960" cy="1072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Прямая со стрелкой 14"/>
          <p:cNvCxnSpPr/>
          <p:nvPr/>
        </p:nvCxnSpPr>
        <p:spPr>
          <a:xfrm flipV="1">
            <a:off x="4284720" y="1142640"/>
            <a:ext cx="2160" cy="92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ка  по  составлению  синквей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– 1 слово (имя существительно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темы – 2 слова (имя прилагательно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действия – 3 слова (глаго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к теме – фраза из 4 слов (предложение, цита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 темы – 1 слово (синони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57268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– это система. Как говорили древние: «Овладеть системой – значит овладеть е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уктуро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еляют шесть структурных элементов, которые должны выделять обучающиеся в процессе текс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ючевые пон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акты, описания явл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деи, законы, закономер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ы и метафо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2666880" y="500040"/>
            <a:ext cx="4267440" cy="2928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иды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6"/>
          <p:cNvSpPr/>
          <p:nvPr/>
        </p:nvSpPr>
        <p:spPr>
          <a:xfrm flipH="1">
            <a:off x="1980720" y="26668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3886200" y="3048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5715000" y="30481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6705720" y="274320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85800" y="3276720"/>
            <a:ext cx="2438280" cy="1218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знаком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1"/>
          <p:cNvSpPr/>
          <p:nvPr/>
        </p:nvSpPr>
        <p:spPr>
          <a:xfrm>
            <a:off x="2411280" y="4648320"/>
            <a:ext cx="2232000" cy="1295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зучающ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3"/>
          <p:cNvSpPr/>
          <p:nvPr/>
        </p:nvSpPr>
        <p:spPr>
          <a:xfrm>
            <a:off x="4859280" y="4724280"/>
            <a:ext cx="2160720" cy="1219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думчи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5"/>
          <p:cNvSpPr/>
          <p:nvPr/>
        </p:nvSpPr>
        <p:spPr>
          <a:xfrm>
            <a:off x="6300720" y="3284640"/>
            <a:ext cx="2386080" cy="1439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исков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росмотровое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1"/>
          <p:cNvSpPr/>
          <p:nvPr/>
        </p:nvSpPr>
        <p:spPr>
          <a:xfrm>
            <a:off x="3698280" y="324468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ципаци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500040" y="1571760"/>
          <a:ext cx="8215200" cy="5300640"/>
        </p:xfrm>
        <a:graphic>
          <a:graphicData uri="http://schemas.openxmlformats.org/drawingml/2006/table">
            <a:tbl>
              <a:tblPr/>
              <a:tblGrid>
                <a:gridCol w="3251160"/>
                <a:gridCol w="4964040"/>
              </a:tblGrid>
              <a:tr h="68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Тонкие» вопро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Толстые» вопро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62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В эту колонку записываются вопросы, требующие простого, односложного отв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Кто? Куда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Что?…….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 …………</a:t>
                      </a: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..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В эту колонку записываются вопросы , требующие  подробного, развёрнутого ответа</a:t>
                      </a: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Дайте несколько объяснений, почему...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очему Вы считаете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В чем различие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редположите, что будет, если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Что, если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Толстые вопросы требуют     неоднозначных ответ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214" name="Picture 6" descr="C:\Users\Галина\Downloads\shutterstock_101211175.jpg"/>
          <p:cNvPicPr/>
          <p:nvPr/>
        </p:nvPicPr>
        <p:blipFill>
          <a:blip r:embed="rId2"/>
          <a:stretch/>
        </p:blipFill>
        <p:spPr>
          <a:xfrm>
            <a:off x="6724800" y="4492800"/>
            <a:ext cx="1968480" cy="21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Давайте вспомни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1\Documents\Планы уроков\2011_2012\картинки\действия с информацией\f_4a9285718a0cc.jpg"/>
          <p:cNvPicPr/>
          <p:nvPr/>
        </p:nvPicPr>
        <p:blipFill>
          <a:blip r:embed="rId1"/>
          <a:stretch/>
        </p:blipFill>
        <p:spPr>
          <a:xfrm>
            <a:off x="1285920" y="1285920"/>
            <a:ext cx="664380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Ключевые слов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Diagram 1"/>
          <p:cNvGrpSpPr/>
          <p:nvPr/>
        </p:nvGrpSpPr>
        <p:grpSpPr>
          <a:xfrm>
            <a:off x="842760" y="1285200"/>
            <a:ext cx="7459560" cy="4765320"/>
            <a:chOff x="842760" y="1285200"/>
            <a:chExt cx="7459560" cy="4765320"/>
          </a:xfrm>
        </p:grpSpPr>
        <p:sp>
          <p:nvSpPr>
            <p:cNvPr id="219" name="_s2052"/>
            <p:cNvSpPr/>
            <p:nvPr/>
          </p:nvSpPr>
          <p:spPr>
            <a:xfrm>
              <a:off x="3048480" y="1634040"/>
              <a:ext cx="3046320" cy="1736640"/>
            </a:xfrm>
            <a:custGeom>
              <a:avLst/>
              <a:gdLst>
                <a:gd name="textAreaLeft" fmla="*/ 0 w 3046320"/>
                <a:gd name="textAreaRight" fmla="*/ 3046680 w 304632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2053"/>
            <p:cNvSpPr/>
            <p:nvPr/>
          </p:nvSpPr>
          <p:spPr>
            <a:xfrm rot="3060000">
              <a:off x="5217840" y="1395360"/>
              <a:ext cx="1736640" cy="30463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3046320"/>
                <a:gd name="textAreaBottom" fmla="*/ 3046680 h 304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2054"/>
            <p:cNvSpPr/>
            <p:nvPr/>
          </p:nvSpPr>
          <p:spPr>
            <a:xfrm rot="6180000">
              <a:off x="5592240" y="2330280"/>
              <a:ext cx="1736640" cy="30463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3046320"/>
                <a:gd name="textAreaBottom" fmla="*/ 3046680 h 304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2055"/>
            <p:cNvSpPr/>
            <p:nvPr/>
          </p:nvSpPr>
          <p:spPr>
            <a:xfrm rot="9240000">
              <a:off x="3888000" y="3733920"/>
              <a:ext cx="3046320" cy="1736640"/>
            </a:xfrm>
            <a:custGeom>
              <a:avLst/>
              <a:gdLst>
                <a:gd name="textAreaLeft" fmla="*/ 0 w 3046320"/>
                <a:gd name="textAreaRight" fmla="*/ 3046680 w 304632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6"/>
            <p:cNvSpPr/>
            <p:nvPr/>
          </p:nvSpPr>
          <p:spPr>
            <a:xfrm rot="12360000">
              <a:off x="2207520" y="3733920"/>
              <a:ext cx="3046320" cy="1736640"/>
            </a:xfrm>
            <a:custGeom>
              <a:avLst/>
              <a:gdLst>
                <a:gd name="textAreaLeft" fmla="*/ 0 w 3046320"/>
                <a:gd name="textAreaRight" fmla="*/ 3046680 w 304632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2057"/>
            <p:cNvSpPr/>
            <p:nvPr/>
          </p:nvSpPr>
          <p:spPr>
            <a:xfrm rot="15420000">
              <a:off x="1815120" y="2329560"/>
              <a:ext cx="1737000" cy="3046320"/>
            </a:xfrm>
            <a:custGeom>
              <a:avLst/>
              <a:gdLst>
                <a:gd name="textAreaLeft" fmla="*/ 0 w 1737000"/>
                <a:gd name="textAreaRight" fmla="*/ 1737360 w 1737000"/>
                <a:gd name="textAreaTop" fmla="*/ 0 h 3046320"/>
                <a:gd name="textAreaBottom" fmla="*/ 3046680 h 304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2058"/>
            <p:cNvSpPr/>
            <p:nvPr/>
          </p:nvSpPr>
          <p:spPr>
            <a:xfrm rot="18540000">
              <a:off x="2189160" y="1395360"/>
              <a:ext cx="1737000" cy="3046320"/>
            </a:xfrm>
            <a:custGeom>
              <a:avLst/>
              <a:gdLst>
                <a:gd name="textAreaLeft" fmla="*/ 0 w 1737000"/>
                <a:gd name="textAreaRight" fmla="*/ 1737360 w 1737000"/>
                <a:gd name="textAreaTop" fmla="*/ 0 h 3046320"/>
                <a:gd name="textAreaBottom" fmla="*/ 3046680 h 304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9"/>
            <p:cNvSpPr/>
            <p:nvPr/>
          </p:nvSpPr>
          <p:spPr>
            <a:xfrm>
              <a:off x="5369040" y="1615680"/>
              <a:ext cx="11941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рл Петрович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2060"/>
            <p:cNvSpPr/>
            <p:nvPr/>
          </p:nvSpPr>
          <p:spPr>
            <a:xfrm>
              <a:off x="3976200" y="5099040"/>
              <a:ext cx="11941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ЗАЯ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61"/>
            <p:cNvSpPr/>
            <p:nvPr/>
          </p:nvSpPr>
          <p:spPr>
            <a:xfrm>
              <a:off x="842760" y="2859840"/>
              <a:ext cx="11941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а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2062"/>
            <p:cNvSpPr/>
            <p:nvPr/>
          </p:nvSpPr>
          <p:spPr>
            <a:xfrm>
              <a:off x="7108200" y="2858760"/>
              <a:ext cx="11941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етерина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2063"/>
            <p:cNvSpPr/>
            <p:nvPr/>
          </p:nvSpPr>
          <p:spPr>
            <a:xfrm>
              <a:off x="1464120" y="4409280"/>
              <a:ext cx="11941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е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2064"/>
            <p:cNvSpPr/>
            <p:nvPr/>
          </p:nvSpPr>
          <p:spPr>
            <a:xfrm>
              <a:off x="6488280" y="4408920"/>
              <a:ext cx="11941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нись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2065"/>
            <p:cNvSpPr/>
            <p:nvPr/>
          </p:nvSpPr>
          <p:spPr>
            <a:xfrm>
              <a:off x="2580120" y="1616760"/>
              <a:ext cx="11941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вто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4" descr="Картинка 2 из 120730"/>
          <p:cNvPicPr/>
          <p:nvPr/>
        </p:nvPicPr>
        <p:blipFill>
          <a:blip r:embed="rId1"/>
          <a:stretch/>
        </p:blipFill>
        <p:spPr>
          <a:xfrm>
            <a:off x="785880" y="1500120"/>
            <a:ext cx="764388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2" descr="Картинка 4 из 120730"/>
          <p:cNvPicPr/>
          <p:nvPr/>
        </p:nvPicPr>
        <p:blipFill>
          <a:blip r:embed="rId1"/>
          <a:stretch/>
        </p:blipFill>
        <p:spPr>
          <a:xfrm>
            <a:off x="857160" y="1428840"/>
            <a:ext cx="7500960" cy="5065560"/>
          </a:xfrm>
          <a:prstGeom prst="rect">
            <a:avLst/>
          </a:prstGeom>
          <a:ln w="0">
            <a:noFill/>
          </a:ln>
        </p:spPr>
      </p:pic>
      <p:sp>
        <p:nvSpPr>
          <p:cNvPr id="237" name="TextBox 5"/>
          <p:cNvSpPr/>
          <p:nvPr/>
        </p:nvSpPr>
        <p:spPr>
          <a:xfrm>
            <a:off x="7715160" y="28584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.Т. № 4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Хранение информ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ленная на носителе информация хранится до тех пор, пока существует носител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2" descr="C:\Users\1\Documents\Планы уроков\2011_2012\картинки\действия с информацией\plakat5.jpg"/>
          <p:cNvPicPr/>
          <p:nvPr/>
        </p:nvPicPr>
        <p:blipFill>
          <a:blip r:embed="rId1"/>
          <a:stretch/>
        </p:blipFill>
        <p:spPr>
          <a:xfrm>
            <a:off x="785880" y="2571840"/>
            <a:ext cx="78199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образование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2" descr="C:\Users\1\Documents\Планы уроков\2011_2012\картинки\действия с информацией\plakat6.jpg"/>
          <p:cNvPicPr/>
          <p:nvPr/>
        </p:nvPicPr>
        <p:blipFill>
          <a:blip r:embed="rId1"/>
          <a:stretch/>
        </p:blipFill>
        <p:spPr>
          <a:xfrm>
            <a:off x="571680" y="1428840"/>
            <a:ext cx="803412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Работа со смысло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85520" y="1071360"/>
            <a:ext cx="66438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батывать можно звуковую, числовую, текстовую или графическую информа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ловек может обрабатывать информацию, представленную на носителе в виде текста, числа, рисунка или сх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8" descr="Картинка 89 из 15391"/>
          <p:cNvPicPr/>
          <p:nvPr/>
        </p:nvPicPr>
        <p:blipFill>
          <a:blip r:embed="rId1"/>
          <a:stretch/>
        </p:blipFill>
        <p:spPr>
          <a:xfrm>
            <a:off x="3274920" y="2071800"/>
            <a:ext cx="2082960" cy="15714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http://images.six.betanews.com/screenshots/1145844924-1.gif"/>
          <p:cNvPicPr/>
          <p:nvPr/>
        </p:nvPicPr>
        <p:blipFill>
          <a:blip r:embed="rId2"/>
          <a:stretch/>
        </p:blipFill>
        <p:spPr>
          <a:xfrm>
            <a:off x="6000840" y="2038320"/>
            <a:ext cx="1357200" cy="1714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8" descr="Картинка 6 из 651"/>
          <p:cNvPicPr/>
          <p:nvPr/>
        </p:nvPicPr>
        <p:blipFill>
          <a:blip r:embed="rId3"/>
          <a:stretch/>
        </p:blipFill>
        <p:spPr>
          <a:xfrm>
            <a:off x="571680" y="2214720"/>
            <a:ext cx="2571480" cy="1428480"/>
          </a:xfrm>
          <a:prstGeom prst="rect">
            <a:avLst/>
          </a:prstGeom>
          <a:ln w="0">
            <a:noFill/>
          </a:ln>
        </p:spPr>
      </p:pic>
      <p:sp>
        <p:nvSpPr>
          <p:cNvPr id="248" name="TextBox 12"/>
          <p:cNvSpPr/>
          <p:nvPr/>
        </p:nvSpPr>
        <p:spPr>
          <a:xfrm>
            <a:off x="8072280" y="62866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.Т. №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бработка информ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1500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менение формы представления информации без изменения смысла сообщения –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еобразование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временное изменение формы представления информации и смысла сообщения –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абота со смыслом сообщ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образования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57120" y="2000160"/>
          <a:ext cx="8358120" cy="4479840"/>
        </p:xfrm>
        <a:graphic>
          <a:graphicData uri="http://schemas.openxmlformats.org/drawingml/2006/table">
            <a:tbl>
              <a:tblPr/>
              <a:tblGrid>
                <a:gridCol w="2735280"/>
                <a:gridCol w="5622840"/>
              </a:tblGrid>
              <a:tr h="27468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ысл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уч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ринять информацию, получить сооб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став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разить воспринятую информацию на носителе в удобной фор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ран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беречь зафиксированную (представленную) на носителе информацию (дан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д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елиться, обменяться информацией с другими людь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бот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ить форму и смысл сообщения, получить новую информац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образо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ить (подобрать) форму представления для хранения, использования, передачи, обрабо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ировать (декодирова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ить форму представления информации для более удобного хранения или пере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TextBox 11"/>
          <p:cNvSpPr/>
          <p:nvPr/>
        </p:nvSpPr>
        <p:spPr>
          <a:xfrm>
            <a:off x="142920" y="114300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аждое действие с информацией имеет свой смыс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Users\1\Documents\Планы уроков\2011_2012\картинки\действия с информацией\p8_vidyiinformacii.jpg"/>
          <p:cNvPicPr/>
          <p:nvPr/>
        </p:nvPicPr>
        <p:blipFill>
          <a:blip r:embed="rId1"/>
          <a:stretch/>
        </p:blipFill>
        <p:spPr>
          <a:xfrm>
            <a:off x="357120" y="500040"/>
            <a:ext cx="843300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1\Documents\Планы уроков\2011_2012\картинки\действия с информацией\112.jpg"/>
          <p:cNvPicPr/>
          <p:nvPr/>
        </p:nvPicPr>
        <p:blipFill>
          <a:blip r:embed="rId1"/>
          <a:stretch/>
        </p:blipFill>
        <p:spPr>
          <a:xfrm>
            <a:off x="357120" y="571680"/>
            <a:ext cx="845496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олучение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информац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блюдать за чем-нибудь -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чит получать информац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иск информации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целенаправленн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йств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http://im5-tub.yandex.net/i?id=323366675-53-72"/>
          <p:cNvPicPr/>
          <p:nvPr/>
        </p:nvPicPr>
        <p:blipFill>
          <a:blip r:embed="rId1"/>
          <a:stretch/>
        </p:blipFill>
        <p:spPr>
          <a:xfrm>
            <a:off x="3786120" y="507204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Картинка 40 из 123950"/>
          <p:cNvPicPr/>
          <p:nvPr/>
        </p:nvPicPr>
        <p:blipFill>
          <a:blip r:embed="rId2"/>
          <a:stretch/>
        </p:blipFill>
        <p:spPr>
          <a:xfrm>
            <a:off x="6732720" y="3643200"/>
            <a:ext cx="2411280" cy="3214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ttp://im3-tub.yandex.net/i?id=378432183-33-72"/>
          <p:cNvPicPr/>
          <p:nvPr/>
        </p:nvPicPr>
        <p:blipFill>
          <a:blip r:embed="rId3"/>
          <a:stretch/>
        </p:blipFill>
        <p:spPr>
          <a:xfrm>
            <a:off x="142920" y="1285920"/>
            <a:ext cx="1419120" cy="142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http://waterproofbinoculars.blog.com/files/2010/07/birdwatching_birdwatching1-300x293.jpg"/>
          <p:cNvPicPr/>
          <p:nvPr/>
        </p:nvPicPr>
        <p:blipFill>
          <a:blip r:embed="rId4"/>
          <a:stretch/>
        </p:blipFill>
        <p:spPr>
          <a:xfrm>
            <a:off x="7500960" y="1285920"/>
            <a:ext cx="1419120" cy="138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Картинка 46 из 18823"/>
          <p:cNvPicPr/>
          <p:nvPr/>
        </p:nvPicPr>
        <p:blipFill>
          <a:blip r:embed="rId5"/>
          <a:stretch/>
        </p:blipFill>
        <p:spPr>
          <a:xfrm>
            <a:off x="0" y="3714840"/>
            <a:ext cx="2346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редставление информ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ь представления информации на носителе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ё хранение или передач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Users\1\Documents\Планы уроков\2011_2012\картинки\действия с информацией\mini_plakat_primerMatveeva.jpg"/>
          <p:cNvPicPr/>
          <p:nvPr/>
        </p:nvPicPr>
        <p:blipFill>
          <a:blip r:embed="rId1"/>
          <a:stretch/>
        </p:blipFill>
        <p:spPr>
          <a:xfrm>
            <a:off x="857160" y="2571840"/>
            <a:ext cx="746604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лассификация сказ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Organization Chart 18"/>
          <p:cNvGrpSpPr/>
          <p:nvPr/>
        </p:nvGrpSpPr>
        <p:grpSpPr>
          <a:xfrm>
            <a:off x="457200" y="1600200"/>
            <a:ext cx="8228880" cy="4886280"/>
            <a:chOff x="457200" y="1600200"/>
            <a:chExt cx="8228880" cy="4886280"/>
          </a:xfrm>
        </p:grpSpPr>
        <p:cxnSp>
          <p:nvCxnSpPr>
            <p:cNvPr id="102" name="_s1028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522760" y="2602440"/>
              <a:ext cx="977760" cy="2880720"/>
            </a:xfrm>
            <a:prstGeom prst="bentConnector3">
              <a:avLst>
                <a:gd name="adj1" fmla="val 116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" name="_s1029"/>
            <p:cNvCxnSpPr>
              <a:stCxn id="106" idx="0"/>
              <a:endCxn id="104" idx="1"/>
            </p:cNvCxnSpPr>
            <p:nvPr/>
          </p:nvCxnSpPr>
          <p:spPr>
            <a:xfrm flipV="1">
              <a:off x="4571280" y="3554280"/>
              <a:ext cx="3240" cy="977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7" name="_s1030"/>
            <p:cNvCxnSpPr>
              <a:stCxn id="108" idx="0"/>
              <a:endCxn id="104" idx="0"/>
            </p:cNvCxnSpPr>
            <p:nvPr/>
          </p:nvCxnSpPr>
          <p:spPr>
            <a:xfrm flipH="1" flipV="1" rot="5400000">
              <a:off x="2642400" y="2602800"/>
              <a:ext cx="977760" cy="2880720"/>
            </a:xfrm>
            <a:prstGeom prst="bentConnector3">
              <a:avLst>
                <a:gd name="adj1" fmla="val 1167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4" name="_s1031"/>
            <p:cNvSpPr/>
            <p:nvPr/>
          </p:nvSpPr>
          <p:spPr>
            <a:xfrm>
              <a:off x="3337200" y="1600200"/>
              <a:ext cx="2468520" cy="195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4f81bd"/>
                </a:gs>
                <a:gs pos="50000">
                  <a:srgbClr val="ffffff"/>
                </a:gs>
                <a:gs pos="100000">
                  <a:srgbClr val="4f81bd"/>
                </a:gs>
              </a:gsLst>
              <a:lin ang="8100000"/>
            </a:gradFill>
            <a:ln w="3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каз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2"/>
            <p:cNvSpPr/>
            <p:nvPr/>
          </p:nvSpPr>
          <p:spPr>
            <a:xfrm>
              <a:off x="457200" y="4532040"/>
              <a:ext cx="2468520" cy="195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8100000"/>
            </a:gradFill>
            <a:ln w="3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олшеб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3"/>
            <p:cNvSpPr/>
            <p:nvPr/>
          </p:nvSpPr>
          <p:spPr>
            <a:xfrm>
              <a:off x="3337200" y="4532040"/>
              <a:ext cx="2468520" cy="195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8100000"/>
            </a:gradFill>
            <a:ln w="3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бытов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4"/>
            <p:cNvSpPr/>
            <p:nvPr/>
          </p:nvSpPr>
          <p:spPr>
            <a:xfrm>
              <a:off x="6217560" y="4532040"/>
              <a:ext cx="2468520" cy="195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8100000"/>
            </a:gradFill>
            <a:ln w="3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 живот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Picture 31" descr="an02492_"/>
          <p:cNvPicPr/>
          <p:nvPr/>
        </p:nvPicPr>
        <p:blipFill>
          <a:blip r:embed="rId1"/>
          <a:stretch/>
        </p:blipFill>
        <p:spPr>
          <a:xfrm>
            <a:off x="676440" y="1940040"/>
            <a:ext cx="1622160" cy="2054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4" descr="bd07360_"/>
          <p:cNvPicPr/>
          <p:nvPr/>
        </p:nvPicPr>
        <p:blipFill>
          <a:blip r:embed="rId2"/>
          <a:stretch/>
        </p:blipFill>
        <p:spPr>
          <a:xfrm>
            <a:off x="6381720" y="2340000"/>
            <a:ext cx="2139840" cy="143820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35">
            <a:hlinkClick r:id="rId3" action="ppaction://hlinksldjump"/>
          </p:cNvPr>
          <p:cNvSpPr/>
          <p:nvPr/>
        </p:nvSpPr>
        <p:spPr>
          <a:xfrm>
            <a:off x="54000" y="39600"/>
            <a:ext cx="622440" cy="468360"/>
          </a:xfrm>
          <a:custGeom>
            <a:avLst/>
            <a:gdLst>
              <a:gd name="textAreaLeft" fmla="*/ 30240 w 622440"/>
              <a:gd name="textAreaRight" fmla="*/ 592200 w 62244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8700" h="21600">
                <a:moveTo>
                  <a:pt x="0" y="0"/>
                </a:moveTo>
                <a:lnTo>
                  <a:pt x="28700" y="0"/>
                </a:lnTo>
                <a:lnTo>
                  <a:pt x="28700" y="21600"/>
                </a:lnTo>
                <a:lnTo>
                  <a:pt x="0" y="21600"/>
                </a:lnTo>
                <a:close/>
              </a:path>
              <a:path fill="lightenLess" w="28700" h="21600">
                <a:moveTo>
                  <a:pt x="0" y="0"/>
                </a:moveTo>
                <a:lnTo>
                  <a:pt x="28700" y="0"/>
                </a:lnTo>
                <a:lnTo>
                  <a:pt x="27300" y="1400"/>
                </a:lnTo>
                <a:lnTo>
                  <a:pt x="1400" y="1400"/>
                </a:lnTo>
                <a:close/>
              </a:path>
              <a:path fill="darken" w="28700" h="21600">
                <a:moveTo>
                  <a:pt x="28700" y="0"/>
                </a:moveTo>
                <a:lnTo>
                  <a:pt x="28700" y="21600"/>
                </a:lnTo>
                <a:lnTo>
                  <a:pt x="27300" y="20200"/>
                </a:lnTo>
                <a:lnTo>
                  <a:pt x="27300" y="1400"/>
                </a:lnTo>
                <a:close/>
              </a:path>
              <a:path fill="darkenLess" w="28700" h="21600">
                <a:moveTo>
                  <a:pt x="287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00" y="20200"/>
                </a:lnTo>
                <a:close/>
              </a:path>
              <a:path fill="lighten" w="287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00" h="21600">
                <a:moveTo>
                  <a:pt x="14350" y="3837"/>
                </a:moveTo>
                <a:lnTo>
                  <a:pt x="16927" y="6448"/>
                </a:lnTo>
                <a:lnTo>
                  <a:pt x="16927" y="4707"/>
                </a:lnTo>
                <a:lnTo>
                  <a:pt x="18702" y="4707"/>
                </a:lnTo>
                <a:lnTo>
                  <a:pt x="18702" y="8224"/>
                </a:lnTo>
                <a:lnTo>
                  <a:pt x="21313" y="10800"/>
                </a:lnTo>
                <a:lnTo>
                  <a:pt x="19659" y="10800"/>
                </a:lnTo>
                <a:lnTo>
                  <a:pt x="19659" y="17989"/>
                </a:lnTo>
                <a:lnTo>
                  <a:pt x="9041" y="17989"/>
                </a:lnTo>
                <a:lnTo>
                  <a:pt x="9041" y="10800"/>
                </a:lnTo>
                <a:lnTo>
                  <a:pt x="7387" y="10800"/>
                </a:lnTo>
                <a:close/>
              </a:path>
              <a:path fill="darkenLess" w="28700" h="21600">
                <a:moveTo>
                  <a:pt x="16927" y="6448"/>
                </a:moveTo>
                <a:lnTo>
                  <a:pt x="16927" y="4707"/>
                </a:lnTo>
                <a:lnTo>
                  <a:pt x="18702" y="4707"/>
                </a:lnTo>
                <a:lnTo>
                  <a:pt x="18702" y="8224"/>
                </a:lnTo>
                <a:close/>
              </a:path>
              <a:path fill="darkenLess" w="28700" h="21600">
                <a:moveTo>
                  <a:pt x="13428" y="14299"/>
                </a:moveTo>
                <a:lnTo>
                  <a:pt x="15273" y="14299"/>
                </a:lnTo>
                <a:lnTo>
                  <a:pt x="15273" y="17989"/>
                </a:lnTo>
                <a:lnTo>
                  <a:pt x="19659" y="17989"/>
                </a:lnTo>
                <a:lnTo>
                  <a:pt x="19659" y="10800"/>
                </a:lnTo>
                <a:lnTo>
                  <a:pt x="9041" y="10800"/>
                </a:lnTo>
                <a:lnTo>
                  <a:pt x="9041" y="17989"/>
                </a:lnTo>
                <a:lnTo>
                  <a:pt x="134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50480" y="274320"/>
            <a:ext cx="8093160" cy="7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собенности сказочного язы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26680" y="139716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Антите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коро сказка сказывается, а не скоро дело дел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039560" y="2573280"/>
            <a:ext cx="4684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Рифм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то написано на роду, то быть сужено то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щей сидит за столом, пиш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е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61520" y="2563920"/>
            <a:ext cx="258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Постоянные эпит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58640" y="3160800"/>
            <a:ext cx="331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ворец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елокам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ес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ёмный, час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еч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т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ук –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уг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тол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уб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стень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оло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ст –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хрус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рем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со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рница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етл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емля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ыра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тель -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ух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63320" y="1976400"/>
            <a:ext cx="77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Гиперб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тору лошадь по крестцу ударит, так и с ног долой упадё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4037040" y="3573360"/>
            <a:ext cx="330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Синоним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 бросай меня 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оварищ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руг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не поки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4036320" y="4737240"/>
            <a:ext cx="247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Сравн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ел Иван на вол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олк побежал стрел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2" descr="15105317"/>
          <p:cNvPicPr/>
          <p:nvPr/>
        </p:nvPicPr>
        <p:blipFill>
          <a:blip r:embed="rId7"/>
          <a:stretch/>
        </p:blipFill>
        <p:spPr>
          <a:xfrm>
            <a:off x="6651720" y="4224240"/>
            <a:ext cx="2076480" cy="199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5"/>
          <p:cNvSpPr/>
          <p:nvPr/>
        </p:nvSpPr>
        <p:spPr>
          <a:xfrm>
            <a:off x="3508200" y="1195560"/>
            <a:ext cx="210672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ходное существ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р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1228680" y="2120760"/>
            <a:ext cx="19479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ои наруш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6012000" y="3429000"/>
            <a:ext cx="203184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ои уходят из дома, чтобы всё исправ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3508200" y="4836960"/>
            <a:ext cx="21067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ою приходят на помощ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1195560" y="3429000"/>
            <a:ext cx="198108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иск спасительной ма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1228680" y="4632480"/>
            <a:ext cx="19479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брые гер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рются со зл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6012000" y="4651200"/>
            <a:ext cx="20844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ас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3176640" y="5888160"/>
            <a:ext cx="283536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ой возвращается домой с наградой</a:t>
            </a:r>
            <a:r>
              <a:rPr b="0" lang="ru-RU" sz="1800" spc="-1" strike="noStrike">
                <a:solidFill>
                  <a:srgbClr val="eeece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1181880" y="222120"/>
            <a:ext cx="67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южет волшебных сказ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 flipH="1">
            <a:off x="3176640" y="2139840"/>
            <a:ext cx="1581120" cy="52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4"/>
          <p:cNvSpPr/>
          <p:nvPr/>
        </p:nvSpPr>
        <p:spPr>
          <a:xfrm>
            <a:off x="3176640" y="2682720"/>
            <a:ext cx="2835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3176640" y="3875040"/>
            <a:ext cx="283536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7045200" y="3154320"/>
            <a:ext cx="0" cy="274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8"/>
          <p:cNvSpPr/>
          <p:nvPr/>
        </p:nvSpPr>
        <p:spPr>
          <a:xfrm>
            <a:off x="2135160" y="4373640"/>
            <a:ext cx="0" cy="27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1"/>
          <p:cNvSpPr/>
          <p:nvPr/>
        </p:nvSpPr>
        <p:spPr>
          <a:xfrm>
            <a:off x="2325600" y="5506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2"/>
          <p:cNvSpPr/>
          <p:nvPr/>
        </p:nvSpPr>
        <p:spPr>
          <a:xfrm>
            <a:off x="2492280" y="5506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3"/>
          <p:cNvSpPr/>
          <p:nvPr/>
        </p:nvSpPr>
        <p:spPr>
          <a:xfrm>
            <a:off x="3176640" y="5114880"/>
            <a:ext cx="3315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4"/>
          <p:cNvSpPr/>
          <p:nvPr/>
        </p:nvSpPr>
        <p:spPr>
          <a:xfrm>
            <a:off x="5648400" y="5114880"/>
            <a:ext cx="363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5"/>
          <p:cNvSpPr/>
          <p:nvPr/>
        </p:nvSpPr>
        <p:spPr>
          <a:xfrm flipH="1">
            <a:off x="6012000" y="5595840"/>
            <a:ext cx="1033200" cy="652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6" descr="j0336888"/>
          <p:cNvPicPr/>
          <p:nvPr/>
        </p:nvPicPr>
        <p:blipFill>
          <a:blip r:embed="rId1"/>
          <a:stretch/>
        </p:blipFill>
        <p:spPr>
          <a:xfrm>
            <a:off x="3760920" y="2836800"/>
            <a:ext cx="1446120" cy="11844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37">
            <a:hlinkClick r:id="rId2" action="ppaction://hlinksldjump"/>
          </p:cNvPr>
          <p:cNvSpPr/>
          <p:nvPr/>
        </p:nvSpPr>
        <p:spPr>
          <a:xfrm>
            <a:off x="8515440" y="6475320"/>
            <a:ext cx="495360" cy="343080"/>
          </a:xfrm>
          <a:custGeom>
            <a:avLst/>
            <a:gdLst>
              <a:gd name="textAreaLeft" fmla="*/ 21960 w 495360"/>
              <a:gd name="textAreaRight" fmla="*/ 473400 w 495360"/>
              <a:gd name="textAreaTop" fmla="*/ 21960 h 343080"/>
              <a:gd name="textAreaBottom" fmla="*/ 321120 h 343080"/>
            </a:gdLst>
            <a:ahLst/>
            <a:rect l="textAreaLeft" t="textAreaTop" r="textAreaRight" b="textAreaBottom"/>
            <a:pathLst>
              <a:path w="31177" h="21600">
                <a:moveTo>
                  <a:pt x="0" y="0"/>
                </a:moveTo>
                <a:lnTo>
                  <a:pt x="31177" y="0"/>
                </a:lnTo>
                <a:lnTo>
                  <a:pt x="31177" y="21600"/>
                </a:lnTo>
                <a:lnTo>
                  <a:pt x="0" y="21600"/>
                </a:lnTo>
                <a:close/>
              </a:path>
              <a:path fill="lightenLess" w="31177" h="21600">
                <a:moveTo>
                  <a:pt x="0" y="0"/>
                </a:moveTo>
                <a:lnTo>
                  <a:pt x="31177" y="0"/>
                </a:lnTo>
                <a:lnTo>
                  <a:pt x="29777" y="1400"/>
                </a:lnTo>
                <a:lnTo>
                  <a:pt x="1400" y="1400"/>
                </a:lnTo>
                <a:close/>
              </a:path>
              <a:path fill="darken" w="31177" h="21600">
                <a:moveTo>
                  <a:pt x="31177" y="0"/>
                </a:moveTo>
                <a:lnTo>
                  <a:pt x="31177" y="21600"/>
                </a:lnTo>
                <a:lnTo>
                  <a:pt x="29777" y="20200"/>
                </a:lnTo>
                <a:lnTo>
                  <a:pt x="29777" y="1400"/>
                </a:lnTo>
                <a:close/>
              </a:path>
              <a:path fill="darkenLess" w="31177" h="21600">
                <a:moveTo>
                  <a:pt x="311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7" y="20200"/>
                </a:lnTo>
                <a:close/>
              </a:path>
              <a:path fill="lighten" w="311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7" h="21600">
                <a:moveTo>
                  <a:pt x="15589" y="3837"/>
                </a:moveTo>
                <a:lnTo>
                  <a:pt x="18165" y="6448"/>
                </a:lnTo>
                <a:lnTo>
                  <a:pt x="18165" y="4707"/>
                </a:lnTo>
                <a:lnTo>
                  <a:pt x="19941" y="4707"/>
                </a:lnTo>
                <a:lnTo>
                  <a:pt x="19941" y="8224"/>
                </a:lnTo>
                <a:lnTo>
                  <a:pt x="22552" y="10800"/>
                </a:lnTo>
                <a:lnTo>
                  <a:pt x="20898" y="10800"/>
                </a:lnTo>
                <a:lnTo>
                  <a:pt x="20898" y="17989"/>
                </a:lnTo>
                <a:lnTo>
                  <a:pt x="10279" y="17989"/>
                </a:lnTo>
                <a:lnTo>
                  <a:pt x="10279" y="10800"/>
                </a:lnTo>
                <a:lnTo>
                  <a:pt x="8626" y="10800"/>
                </a:lnTo>
                <a:close/>
              </a:path>
              <a:path fill="darkenLess" w="31177" h="21600">
                <a:moveTo>
                  <a:pt x="18165" y="6448"/>
                </a:moveTo>
                <a:lnTo>
                  <a:pt x="18165" y="4707"/>
                </a:lnTo>
                <a:lnTo>
                  <a:pt x="19941" y="4707"/>
                </a:lnTo>
                <a:lnTo>
                  <a:pt x="19941" y="8224"/>
                </a:lnTo>
                <a:close/>
              </a:path>
              <a:path fill="darkenLess" w="31177" h="21600">
                <a:moveTo>
                  <a:pt x="14666" y="14299"/>
                </a:moveTo>
                <a:lnTo>
                  <a:pt x="16511" y="14299"/>
                </a:lnTo>
                <a:lnTo>
                  <a:pt x="16511" y="17989"/>
                </a:lnTo>
                <a:lnTo>
                  <a:pt x="20898" y="17989"/>
                </a:lnTo>
                <a:lnTo>
                  <a:pt x="20898" y="10800"/>
                </a:lnTo>
                <a:lnTo>
                  <a:pt x="10279" y="10800"/>
                </a:lnTo>
                <a:lnTo>
                  <a:pt x="10279" y="17989"/>
                </a:lnTo>
                <a:lnTo>
                  <a:pt x="14666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0"/>
          <p:cNvSpPr/>
          <p:nvPr/>
        </p:nvSpPr>
        <p:spPr>
          <a:xfrm>
            <a:off x="6012000" y="2209680"/>
            <a:ext cx="19476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дствия нару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1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195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1950"/>
                            </p:stCondLst>
                            <p:childTnLst>
                              <p:par>
                                <p:cTn id="1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415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4150"/>
                            </p:stCondLst>
                            <p:childTnLst>
                              <p:par>
                                <p:cTn id="1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6149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6149"/>
                            </p:stCondLst>
                            <p:childTnLst>
                              <p:par>
                                <p:cTn id="1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4:08:49Z</dcterms:created>
  <dc:creator>1</dc:creator>
  <dc:description/>
  <dc:language>en-US</dc:language>
  <cp:lastModifiedBy>User</cp:lastModifiedBy>
  <dcterms:modified xsi:type="dcterms:W3CDTF">2017-10-14T09:30:35Z</dcterms:modified>
  <cp:revision>38</cp:revision>
  <dc:subject/>
  <dc:title>Действия с информацией</dc:title>
</cp:coreProperties>
</file>