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59C1-6999-48F8-913A-1A9874A8B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838-461A-46A8-BE9F-7D5B55F3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CBCC-3104-4CB7-9EBF-0013F5DEF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2E31-09E3-499D-8C29-16ED6A07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D6C7-2A9B-44AE-A18A-6D7298F7B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B8271-0A95-439B-860A-A963C1AD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1A9F-8979-42DA-B527-2BCE404C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D1F8-4C15-4631-AC5F-683CCED8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C7F5-EB2D-4419-9091-BB2034A7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9A4A-4C4D-4419-B236-9E4B5614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50DA-0D3A-4FD3-9D06-3B4EBCD3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8AC-9F72-4A06-963E-6325ACB0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E2F3-B6D4-4D0E-B1DD-F811C7D4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483C-76EB-4AB5-A611-8CBAE9CE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A5725-0AFE-4E4C-9279-EF3F727D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905F-7637-4FE0-B5CE-BD3D38A7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62CF-021D-4FE0-9716-D3081D98F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480-9683-4E67-BCC7-915BBDDB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996-6A06-49BD-A79D-B2DBD954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32D-15C6-499A-BE2B-FB3BAD27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C4E-E545-42FB-8796-FA267B58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BDD-96C4-447B-927F-7DF2C217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8D93-BC0E-4165-87E3-0EF5AAC7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321D-69A9-4B5F-8133-1B23263C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0f0f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caf27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D42F-D9A3-44E9-934D-64CEAC7C3F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caf27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e3d2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68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74FE-34E5-4585-9F28-1833F5E49C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ГТО </a:t>
            </a:r>
            <a:br>
              <a:rPr sz="5400"/>
            </a:b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вчера, </a:t>
            </a:r>
            <a:br>
              <a:rPr sz="5400"/>
            </a:b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сегодня,</a:t>
            </a:r>
            <a:br>
              <a:rPr sz="5400"/>
            </a:br>
            <a:r>
              <a:rPr b="0" lang="ru-RU" sz="5400" spc="-1" strike="noStrike">
                <a:solidFill>
                  <a:srgbClr val="3e3d2d"/>
                </a:solidFill>
                <a:latin typeface="Arial Black"/>
              </a:rPr>
              <a:t> завтра</a:t>
            </a:r>
            <a:endParaRPr b="0" lang="en-US" sz="54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7" name="Picture 4" descr="teach26_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9" name="Picture 4" descr="teach26_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e3d2d"/>
                </a:solidFill>
                <a:latin typeface="Arial Black"/>
              </a:rPr>
              <a:t>Значки ГТО (2014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znachok-gto-01"/>
          <p:cNvPicPr/>
          <p:nvPr/>
        </p:nvPicPr>
        <p:blipFill>
          <a:blip r:embed="rId1"/>
          <a:stretch/>
        </p:blipFill>
        <p:spPr>
          <a:xfrm>
            <a:off x="395280" y="1268280"/>
            <a:ext cx="2592360" cy="2562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znachok-gto-02"/>
          <p:cNvPicPr/>
          <p:nvPr/>
        </p:nvPicPr>
        <p:blipFill>
          <a:blip r:embed="rId2"/>
          <a:stretch/>
        </p:blipFill>
        <p:spPr>
          <a:xfrm>
            <a:off x="3276720" y="2492280"/>
            <a:ext cx="2665440" cy="2637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znachok-gto-03"/>
          <p:cNvPicPr/>
          <p:nvPr/>
        </p:nvPicPr>
        <p:blipFill>
          <a:blip r:embed="rId3"/>
          <a:stretch/>
        </p:blipFill>
        <p:spPr>
          <a:xfrm>
            <a:off x="6227640" y="3860640"/>
            <a:ext cx="2700360" cy="26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Arial Black"/>
              </a:rPr>
              <a:t>"Готов к труду и обороне СССР" (ГТО) — всесоюзный физкультурный комплекс</a:t>
            </a:r>
            <a:r>
              <a:rPr b="0" lang="ru-RU" sz="4800" spc="-1" strike="noStrike">
                <a:solidFill>
                  <a:srgbClr val="3e3d2d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ГТО был направлен на физическое развитие и укрепления здоровья граждан, являлся основой системы физвоспитания и был призван способствовать развитию массового физкультурного движения в Советском Сою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70-е годы значки ГТО имели более 220 миллионов челов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Arial Black"/>
              </a:rPr>
              <a:t>В комплекс входили гимнастические упражнения, бег (на короткие и средние дистанции), прыжки (в длину или высоту), метание (диска, копья, толкание ядра и др.), плавание, лыжные гонки (для бесснежных районов — марш-бросок или велогонки), стрельба (только для юношей).</a:t>
            </a:r>
            <a:endParaRPr b="0" lang="en-US" sz="2000" spc="-1" strike="noStrike">
              <a:solidFill>
                <a:srgbClr val="3e3d2d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лекс ГТ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л 5 возрастных ступеней и золотые и серебряные зна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мелые и ловкие» — 10–11 и 12–13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портивная смена» — 14–1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Сила и мужество» — 16–18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Физическое совершенство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ужчины 19–28 и 29–39 ле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енщины 19–28 и 29–34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682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Бодрость и здоровь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ужчины 40–60 лет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женщины 35–55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Arial Black"/>
              </a:rPr>
              <a:t>Система физической подготовки ГТО появилась в Советском Союзе в 1931 году и существовала до 1993.</a:t>
            </a:r>
            <a:r>
              <a:rPr b="0" lang="ru-RU" sz="4000" spc="-1" strike="noStrike">
                <a:solidFill>
                  <a:srgbClr val="3e3d2d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95" name="Picture 4" descr="gto-003"/>
          <p:cNvPicPr/>
          <p:nvPr/>
        </p:nvPicPr>
        <p:blipFill>
          <a:blip r:embed="rId1"/>
          <a:stretch/>
        </p:blipFill>
        <p:spPr>
          <a:xfrm>
            <a:off x="1116000" y="1628640"/>
            <a:ext cx="6912000" cy="45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96000" y="2349000"/>
            <a:ext cx="296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e3d2d"/>
                </a:solidFill>
                <a:latin typeface="Arial Black"/>
              </a:rPr>
              <a:t>Значки ГТО (1931-1993)</a:t>
            </a:r>
            <a:endParaRPr b="0" lang="en-US" sz="40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97" name="Picture 4" descr="gto-znak-00"/>
          <p:cNvPicPr/>
          <p:nvPr/>
        </p:nvPicPr>
        <p:blipFill>
          <a:blip r:embed="rId1"/>
          <a:stretch/>
        </p:blipFill>
        <p:spPr>
          <a:xfrm>
            <a:off x="468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e3d2d"/>
                </a:solidFill>
                <a:latin typeface="Arial Black"/>
              </a:rPr>
              <a:t>Марки ГТО</a:t>
            </a:r>
            <a:endParaRPr b="0" lang="en-US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99" name="Picture 4" descr="Марки БГТО и ГТО"/>
          <p:cNvPicPr/>
          <p:nvPr/>
        </p:nvPicPr>
        <p:blipFill>
          <a:blip r:embed="rId1"/>
          <a:stretch/>
        </p:blipFill>
        <p:spPr>
          <a:xfrm>
            <a:off x="762120" y="2031840"/>
            <a:ext cx="76183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e3d2d"/>
                </a:solidFill>
                <a:latin typeface="Arial Black"/>
              </a:rPr>
              <a:t>24 марта 2014 года президент России подписал указ </a:t>
            </a:r>
            <a:br>
              <a:rPr sz="2800"/>
            </a:br>
            <a:r>
              <a:rPr b="1" i="1" lang="ru-RU" sz="2800" spc="-1" strike="noStrike">
                <a:solidFill>
                  <a:srgbClr val="3e3d2d"/>
                </a:solidFill>
                <a:latin typeface="Arial Black"/>
              </a:rPr>
              <a:t>о возрождении программы ГТО</a:t>
            </a:r>
            <a:br>
              <a:rPr sz="2800"/>
            </a:br>
            <a:endParaRPr b="0" lang="en-US" sz="28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1" name="Picture 4" descr="gto-002"/>
          <p:cNvPicPr/>
          <p:nvPr/>
        </p:nvPicPr>
        <p:blipFill>
          <a:blip r:embed="rId1"/>
          <a:stretch/>
        </p:blipFill>
        <p:spPr>
          <a:xfrm>
            <a:off x="2124000" y="1487520"/>
            <a:ext cx="48243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3" name="Picture 4" descr="teach26_1"/>
          <p:cNvPicPr/>
          <p:nvPr/>
        </p:nvPicPr>
        <p:blipFill>
          <a:blip r:embed="rId1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e3d2d"/>
              </a:solidFill>
              <a:latin typeface="Arial Black"/>
            </a:endParaRPr>
          </a:p>
        </p:txBody>
      </p:sp>
      <p:pic>
        <p:nvPicPr>
          <p:cNvPr id="105" name="Picture 4" descr="teach26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14:52:37Z</dcterms:created>
  <dc:creator>Александр</dc:creator>
  <dc:description/>
  <dc:language>en-US</dc:language>
  <cp:lastModifiedBy>Наталья</cp:lastModifiedBy>
  <dcterms:modified xsi:type="dcterms:W3CDTF">2015-10-19T13:42:21Z</dcterms:modified>
  <cp:revision>3</cp:revision>
  <dc:subject/>
  <dc:title>"Готов к труду и обороне СССР" (ГТО) — всесоюзный физкультурный комплекс </dc:title>
</cp:coreProperties>
</file>