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520-03A0-47E7-8212-91F0B7CD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572-0F34-49C2-A78B-71E72B8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924-EA58-4D4C-830B-0F35B2DA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554-6FFD-4AE5-A4D7-8C472F2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7F75-2473-42D6-856F-1053880E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E688-2D7F-40F6-9E23-D209A51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A3E-15CE-4A51-B96E-3F7F12FD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9D12-D18D-4A86-9DE1-CCA013C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1F0-E987-402F-A2A0-74F8031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15A6-E21E-4190-824A-838E78B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A6A1-1C88-4605-9540-6628E41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77D-CC79-4814-8169-B98977D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627F-1F27-41D5-9AEF-A45AF0B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62FA-0B9F-4C92-AB7A-A14A7EB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8DA-55F3-4E62-9DBB-C46CE47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ACBA-B690-4194-BC95-4321FFE6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D783-D507-4008-A5D7-68712A6D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2AF-19AC-4640-A5E1-971311F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0CF-F1C5-4F24-87E6-AF601E9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BF2-F671-455D-91AE-376BA8E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0E1-7F14-42B5-A5B7-6BA55BB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EDF-F029-4410-AB21-2E6EC47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609-7FE9-4D0D-A256-40B1BE8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1D2-C72C-49A4-B218-752E948D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af27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509-F2CD-4FE0-80E3-31BEDD3705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af27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314-CD85-4A8F-AC6D-3542DA549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ГТО 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вчера, 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сегодня,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 завтра</a:t>
            </a:r>
            <a:endParaRPr b="0" lang="en-US" sz="5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7" name="Picture 4" descr="teach26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9" name="Picture 4" descr="teach26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Arial Black"/>
              </a:rPr>
              <a:t>Значки ГТО (2014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znachok-gto-01"/>
          <p:cNvPicPr/>
          <p:nvPr/>
        </p:nvPicPr>
        <p:blipFill>
          <a:blip r:embed="rId1"/>
          <a:stretch/>
        </p:blipFill>
        <p:spPr>
          <a:xfrm>
            <a:off x="395280" y="1268280"/>
            <a:ext cx="2592360" cy="256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znachok-gto-02"/>
          <p:cNvPicPr/>
          <p:nvPr/>
        </p:nvPicPr>
        <p:blipFill>
          <a:blip r:embed="rId2"/>
          <a:stretch/>
        </p:blipFill>
        <p:spPr>
          <a:xfrm>
            <a:off x="3276720" y="2492280"/>
            <a:ext cx="2665440" cy="263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znachok-gto-03"/>
          <p:cNvPicPr/>
          <p:nvPr/>
        </p:nvPicPr>
        <p:blipFill>
          <a:blip r:embed="rId3"/>
          <a:stretch/>
        </p:blipFill>
        <p:spPr>
          <a:xfrm>
            <a:off x="6227640" y="3860640"/>
            <a:ext cx="2700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Arial Black"/>
              </a:rPr>
              <a:t>"Готов к труду и обороне СССР" (ГТО) — всесоюзный физкультурный комплекс</a:t>
            </a:r>
            <a:r>
              <a:rPr b="0" lang="ru-RU" sz="4800" spc="-1" strike="noStrike">
                <a:solidFill>
                  <a:srgbClr val="3e3d2d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ГТО был направлен на физическое развитие и укрепления здоровья граждан, являлся основой системы физвоспитания и был призван способствовать развитию массового физкультурного движения в Советском Сою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0-е годы значки ГТО имели более 220 миллионов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В комплекс входили гимнастические упражнения, бег (на короткие и средние дистанции), прыжки (в длину или высоту), метание (диска, копья, толкание ядра и др.), плавание, лыжные гонки (для бесснежных районов — марш-бросок или велогонки), стрельба (только для юношей).</a:t>
            </a:r>
            <a:endParaRPr b="0" lang="en-US" sz="20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ГТ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л 5 возрастных ступеней и золотые и серебряные зна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мелые и ловкие» — 10–11 и 12–1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портивная смена» — 14–1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ла и мужество» — 16–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зическое совершенство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ужчины 19–28 и 29–39 ле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енщины 19–28 и 29–3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дрость и здоровь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ужчины 40–60 ле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енщины 35–5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Arial Black"/>
              </a:rPr>
              <a:t>Система физической подготовки ГТО появилась в Советском Союзе в 1931 году и существовала до 1993.</a:t>
            </a:r>
            <a:r>
              <a:rPr b="0" lang="ru-RU" sz="4000" spc="-1" strike="noStrike">
                <a:solidFill>
                  <a:srgbClr val="3e3d2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5" name="Picture 4" descr="gto-003"/>
          <p:cNvPicPr/>
          <p:nvPr/>
        </p:nvPicPr>
        <p:blipFill>
          <a:blip r:embed="rId1"/>
          <a:stretch/>
        </p:blipFill>
        <p:spPr>
          <a:xfrm>
            <a:off x="1116000" y="1628640"/>
            <a:ext cx="691200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96000" y="2349000"/>
            <a:ext cx="296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d2d"/>
                </a:solidFill>
                <a:latin typeface="Arial Black"/>
              </a:rPr>
              <a:t>Значки ГТО (1931-1993)</a:t>
            </a:r>
            <a:endParaRPr b="0" lang="en-US" sz="40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7" name="Picture 4" descr="gto-znak-00"/>
          <p:cNvPicPr/>
          <p:nvPr/>
        </p:nvPicPr>
        <p:blipFill>
          <a:blip r:embed="rId1"/>
          <a:stretch/>
        </p:blipFill>
        <p:spPr>
          <a:xfrm>
            <a:off x="468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3d2d"/>
                </a:solidFill>
                <a:latin typeface="Arial Black"/>
              </a:rPr>
              <a:t>Марки ГТО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9" name="Picture 4" descr="Марки БГТО и ГТО"/>
          <p:cNvPicPr/>
          <p:nvPr/>
        </p:nvPicPr>
        <p:blipFill>
          <a:blip r:embed="rId1"/>
          <a:stretch/>
        </p:blipFill>
        <p:spPr>
          <a:xfrm>
            <a:off x="762120" y="2031840"/>
            <a:ext cx="76183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d2d"/>
                </a:solidFill>
                <a:latin typeface="Arial Black"/>
              </a:rPr>
              <a:t>24 марта 2014 года президент России подписал указ </a:t>
            </a:r>
            <a:br>
              <a:rPr sz="2800"/>
            </a:br>
            <a:r>
              <a:rPr b="1" i="1" lang="ru-RU" sz="2800" spc="-1" strike="noStrike">
                <a:solidFill>
                  <a:srgbClr val="3e3d2d"/>
                </a:solidFill>
                <a:latin typeface="Arial Black"/>
              </a:rPr>
              <a:t>о возрождении программы ГТО</a:t>
            </a:r>
            <a:br>
              <a:rPr sz="2800"/>
            </a:br>
            <a:endParaRPr b="0" lang="en-US" sz="28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1" name="Picture 4" descr="gto-002"/>
          <p:cNvPicPr/>
          <p:nvPr/>
        </p:nvPicPr>
        <p:blipFill>
          <a:blip r:embed="rId1"/>
          <a:stretch/>
        </p:blipFill>
        <p:spPr>
          <a:xfrm>
            <a:off x="2124000" y="1487520"/>
            <a:ext cx="48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3" name="Picture 4" descr="teach26_1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5" name="Picture 4" descr="teach2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4:52:37Z</dcterms:created>
  <dc:creator>Александр</dc:creator>
  <dc:description/>
  <dc:language>en-US</dc:language>
  <cp:lastModifiedBy>Наталья</cp:lastModifiedBy>
  <dcterms:modified xsi:type="dcterms:W3CDTF">2015-10-19T13:42:21Z</dcterms:modified>
  <cp:revision>3</cp:revision>
  <dc:subject/>
  <dc:title>"Готов к труду и обороне СССР" (ГТО) — всесоюзный физкультурный комплекс </dc:title>
</cp:coreProperties>
</file>