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6498-3186-499D-B490-CD54A998A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160F-F6E2-4C33-A036-C9747C93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CE9-3599-48C1-ABA6-FB7B9D50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628-26E8-4AB9-B2E6-B63F568E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A4DE-56DE-4A3E-8EA3-5B49CB0B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DEE5-864D-4EBB-B1CB-1980AD0A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038F-2B19-4ACF-84D6-9FFF253A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5A2A-4E7A-419C-8BA8-ACA3400C7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5F32-6887-4E90-BB60-AE038AB4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DBAF-E4E3-441E-A503-C27F8082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0A37-EE82-4073-8C46-F3BFC883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29C-8D48-4DB1-B374-150547F2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131D-BE80-485E-ADF7-3DB25762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EBE7-601D-4098-92C2-412640BA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5089E-4FF1-4044-A779-79E82B33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AB54-E3DC-4E24-B09A-D3BFBBC9D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FAF7-E7FE-4AB1-A05C-7E3BAC32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D204-0BFC-4408-ACDE-8028DC73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2DCC-11B7-4AA3-A952-8C686C04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BCF3-3B1F-454D-B066-702608E4E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91A-15EA-4018-915A-4205E57B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B7C-806D-491B-8EDA-8957D211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35C-431B-4D7B-8109-4267F8C5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6B2-F23E-4DB8-8C54-25FDA97C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866A-0BAE-4175-827A-EB99BE4A80D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8651-AD8B-4877-8A78-F3AF4398D69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WordArt 7"/>
          <p:cNvSpPr txBox="1"/>
          <p:nvPr/>
        </p:nvSpPr>
        <p:spPr>
          <a:xfrm>
            <a:off x="971640" y="549360"/>
            <a:ext cx="669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ХУДОЖЕСТВЕННЫЕ СРЕДСТВА ЯЗЫКА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152" name="Picture 8" descr="BD00146_"/>
          <p:cNvPicPr/>
          <p:nvPr/>
        </p:nvPicPr>
        <p:blipFill>
          <a:blip r:embed="rId1"/>
          <a:stretch/>
        </p:blipFill>
        <p:spPr>
          <a:xfrm>
            <a:off x="2411280" y="1720800"/>
            <a:ext cx="4608720" cy="412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етафор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оп, перенос названия одного предмета на другой на основании их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ходств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чевала тучка </a:t>
            </a: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золота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груд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утёса-</a:t>
            </a: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великана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тром в путь она </a:t>
            </a: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умчалас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рано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лазури весело </a:t>
            </a: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игра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остался влажный след в </a:t>
            </a: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морщин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тарого утеса. </a:t>
            </a: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Одиноко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</a:t>
            </a: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стоит, задумался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глубоко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тихонько </a:t>
            </a: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плачет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в пустыне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3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9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" dur="2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инекдох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оп, замещение слова другим, находящимся с ним в отношении «меньше или больше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елеет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парус одинок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тумане моря голубом!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ищет он в стране далёкой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кинул он в краю родном?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редства язык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WordArt 6"/>
          <p:cNvSpPr txBox="1"/>
          <p:nvPr/>
        </p:nvSpPr>
        <p:spPr>
          <a:xfrm>
            <a:off x="395280" y="2421000"/>
            <a:ext cx="2017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WordArt 8"/>
          <p:cNvSpPr txBox="1"/>
          <p:nvPr/>
        </p:nvSpPr>
        <p:spPr>
          <a:xfrm>
            <a:off x="684360" y="3068640"/>
            <a:ext cx="1368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ро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6300720" y="2205000"/>
            <a:ext cx="165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тафор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7" name="WordArt 12"/>
          <p:cNvSpPr txBox="1"/>
          <p:nvPr/>
        </p:nvSpPr>
        <p:spPr>
          <a:xfrm>
            <a:off x="3059280" y="5300640"/>
            <a:ext cx="2087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равн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8" name="WordArt 14"/>
          <p:cNvSpPr txBox="1"/>
          <p:nvPr/>
        </p:nvSpPr>
        <p:spPr>
          <a:xfrm>
            <a:off x="3564000" y="3357720"/>
            <a:ext cx="1297080" cy="45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пите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9" name="WordArt 16"/>
          <p:cNvSpPr txBox="1"/>
          <p:nvPr/>
        </p:nvSpPr>
        <p:spPr>
          <a:xfrm>
            <a:off x="3564000" y="4724280"/>
            <a:ext cx="115236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ит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0" name="WordArt 18"/>
          <p:cNvSpPr txBox="1"/>
          <p:nvPr/>
        </p:nvSpPr>
        <p:spPr>
          <a:xfrm>
            <a:off x="3276720" y="4076640"/>
            <a:ext cx="187164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етоним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WordArt 20"/>
          <p:cNvSpPr txBox="1"/>
          <p:nvPr/>
        </p:nvSpPr>
        <p:spPr>
          <a:xfrm>
            <a:off x="611280" y="1700280"/>
            <a:ext cx="1692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ерифра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2" name="WordArt 22"/>
          <p:cNvSpPr txBox="1"/>
          <p:nvPr/>
        </p:nvSpPr>
        <p:spPr>
          <a:xfrm>
            <a:off x="6227640" y="2924280"/>
            <a:ext cx="172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некдох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3" name="WordArt 24"/>
          <p:cNvSpPr txBox="1"/>
          <p:nvPr/>
        </p:nvSpPr>
        <p:spPr>
          <a:xfrm>
            <a:off x="6588000" y="1484280"/>
            <a:ext cx="93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роп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64" name="Picture 25" descr="J0195320"/>
          <p:cNvPicPr/>
          <p:nvPr/>
        </p:nvPicPr>
        <p:blipFill>
          <a:blip r:embed="rId1"/>
          <a:stretch/>
        </p:blipFill>
        <p:spPr>
          <a:xfrm>
            <a:off x="5435640" y="4062240"/>
            <a:ext cx="2881440" cy="246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ерифра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мена названия предмета описанием его признаков; в этом же значении употребляется и термин 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перифраз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ы спал,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постлав постель на сплетне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ал и, оттрепетав, был тих,-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расивый, двадцатидвухлетний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ак предсказал твой тетраптих.</a:t>
            </a: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ипербо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еувеличение свойств, особенностей предметов, явлений с целью усиления выразительности и образности художественной реч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 полусонным стрелкам л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орочаться на циферблате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И дольше века длится ден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И не кончается объять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Иро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потребление слова в противоположном смысле с целью насмешк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«Ты всё пела? Это дел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Так поди же, попляши!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Эпите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лово или словосочетание, называющие какой-то признак предмета или явления и тем самым выделяющее, подчёркивающее этот признак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сидел у окна в переполненном зал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де-то пели смычки о любв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 послал тебе </a:t>
            </a:r>
            <a:r>
              <a:rPr b="0" i="1" lang="ru-RU" sz="2800" spc="-1" strike="noStrike">
                <a:solidFill>
                  <a:srgbClr val="ff0000"/>
                </a:solidFill>
                <a:latin typeface="Comic Sans MS"/>
              </a:rPr>
              <a:t>чёрную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озу в бокал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олотого, как небо, а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2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Метоним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оп, перенос названия с одного предмета на другой, смежный с ним, т.е. близкий ему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дай мне Бог сойти с ум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т, легче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посо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i="1" lang="ru-RU" sz="3200" spc="-1" strike="noStrike">
                <a:solidFill>
                  <a:srgbClr val="ff0000"/>
                </a:solidFill>
                <a:latin typeface="Comic Sans MS"/>
              </a:rPr>
              <a:t>сума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т, легче труд и глад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8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ит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рочитое преуменьшение или смягчение свойств, признаков, значений каких-либо предметов, явлений с целью усиления эмоционального воздействия, в частности выражения авторской оценки 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Только в мире и ес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что тенист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ремлющих кленов шате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Только в мире и ес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что лучист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ски задумчивый взор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Только в мире и ес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, что душистый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илой головки убор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omic Sans MS"/>
              </a:rPr>
              <a:t>Только в мире и есть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этот чисты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лево бегущий пробор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Сравн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ущность этого вида иносказания хорошо передаёт этимологическое значение термина: сравнение как бы делает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равными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Comic Sans MS"/>
              </a:rPr>
              <a:t>приравнивает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руг другу различные предметы и явления на основании общего, сходного признака или нескольких признаков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Вижу вот облако, похожее на рояль. Думаю: надо будет упомянуть где-нибудь в рассказе, что </a:t>
            </a:r>
            <a:r>
              <a:rPr b="0" i="1" lang="ru-RU" sz="2400" spc="-1" strike="noStrike">
                <a:solidFill>
                  <a:srgbClr val="ff0000"/>
                </a:solidFill>
                <a:latin typeface="Comic Sans MS"/>
              </a:rPr>
              <a:t>плыло облако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охожее на роял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8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31T15:35:16Z</dcterms:created>
  <dc:creator>STATE_5</dc:creator>
  <dc:description/>
  <dc:language>en-US</dc:language>
  <cp:lastModifiedBy>Елена Федирко</cp:lastModifiedBy>
  <dcterms:modified xsi:type="dcterms:W3CDTF">2017-10-16T08:45:05Z</dcterms:modified>
  <cp:revision>6</cp:revision>
  <dc:subject/>
  <dc:title>Слайд 1</dc:title>
</cp:coreProperties>
</file>