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800-6BA7-4835-A8C7-F75B00FF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06A-0C4C-4F63-AA15-D79A63EB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DAC-5910-44CA-80B1-70CE0FA1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B04-57A9-4EC9-B9F0-D282FE6A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5EF4-E34D-43A7-8CAA-2F1D5316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3768-9833-4CDB-AFC5-D90F132C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EAE7-CA65-4F54-A39F-065E0395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46A8-0438-4761-A978-EDDD1B3B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C633-B1F2-434A-BC47-1879578D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0661-3C9C-437C-BC5B-5368204B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D417-8B57-4411-9681-D056368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E09-7AA0-4E25-8F8F-73E17424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34CD-980B-4831-8DFF-793112E8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7D98-58A3-43CA-9C79-F301736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DDC0-D530-4AC9-892D-89C593C2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C79D-23F7-4CA2-AFEA-92EF0CBB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616C-C4EA-4BCA-90DA-171A9614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69B-29A8-436D-81DB-3A84F0E8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760-9F74-4934-9182-6CBEC5C8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C1F-5DC1-419D-A3F9-83402EB6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3DF-70F5-4B5A-A1C4-03253D84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FA3-9740-48E5-A56E-8BD2E247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7DC-CDE6-47B4-B54A-6660192E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D01-971F-44AD-805F-52FC1F6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BD00-3983-411D-B9D8-3D89D07C11A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6FB2-0AA8-4F69-BAA6-CAF0A541220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7"/>
          <p:cNvSpPr txBox="1"/>
          <p:nvPr/>
        </p:nvSpPr>
        <p:spPr>
          <a:xfrm>
            <a:off x="971640" y="549360"/>
            <a:ext cx="66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УДОЖЕСТВЕННЫЕ СРЕДСТВА ЯЗЫК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52" name="Picture 8" descr="BD00146_"/>
          <p:cNvPicPr/>
          <p:nvPr/>
        </p:nvPicPr>
        <p:blipFill>
          <a:blip r:embed="rId1"/>
          <a:stretch/>
        </p:blipFill>
        <p:spPr>
          <a:xfrm>
            <a:off x="2411280" y="1720800"/>
            <a:ext cx="4608720" cy="412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оп, перенос названия одного предмета на другой на основании их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ход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чевала тучка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золот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груд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утёса-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велика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тром в путь она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умчалас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но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лазури весело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игра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остался влажный след в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морщи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рого утеса.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Одинок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стоит, задумалс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глубоко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тихонько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плачет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в пустын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инекдох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оп, замещение слова другим, находящимся с ним в отношении «меньше или больше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леет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парус одино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умане моря голубом!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ищет он в стране далёко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кинул он в краю родном?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едства язы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395280" y="2421000"/>
            <a:ext cx="201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WordArt 8"/>
          <p:cNvSpPr txBox="1"/>
          <p:nvPr/>
        </p:nvSpPr>
        <p:spPr>
          <a:xfrm>
            <a:off x="684360" y="3068640"/>
            <a:ext cx="136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6300720" y="2205000"/>
            <a:ext cx="165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таф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3059280" y="5300640"/>
            <a:ext cx="208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WordArt 14"/>
          <p:cNvSpPr txBox="1"/>
          <p:nvPr/>
        </p:nvSpPr>
        <p:spPr>
          <a:xfrm>
            <a:off x="3564000" y="3357720"/>
            <a:ext cx="129708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пит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WordArt 16"/>
          <p:cNvSpPr txBox="1"/>
          <p:nvPr/>
        </p:nvSpPr>
        <p:spPr>
          <a:xfrm>
            <a:off x="3564000" y="4724280"/>
            <a:ext cx="115236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ит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0" name="WordArt 18"/>
          <p:cNvSpPr txBox="1"/>
          <p:nvPr/>
        </p:nvSpPr>
        <p:spPr>
          <a:xfrm>
            <a:off x="3276720" y="4076640"/>
            <a:ext cx="18716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тон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20"/>
          <p:cNvSpPr txBox="1"/>
          <p:nvPr/>
        </p:nvSpPr>
        <p:spPr>
          <a:xfrm>
            <a:off x="611280" y="1700280"/>
            <a:ext cx="169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ифр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22"/>
          <p:cNvSpPr txBox="1"/>
          <p:nvPr/>
        </p:nvSpPr>
        <p:spPr>
          <a:xfrm>
            <a:off x="6227640" y="2924280"/>
            <a:ext cx="172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екдо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6588000" y="1484280"/>
            <a:ext cx="93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4" name="Picture 25" descr="J0195320"/>
          <p:cNvPicPr/>
          <p:nvPr/>
        </p:nvPicPr>
        <p:blipFill>
          <a:blip r:embed="rId1"/>
          <a:stretch/>
        </p:blipFill>
        <p:spPr>
          <a:xfrm>
            <a:off x="5435640" y="4062240"/>
            <a:ext cx="2881440" cy="24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ерифр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мена названия предмета описанием его признаков; в этом же значении употребляется и термин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ерифра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 спал,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постлав постель на сплетне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л и, оттрепетав, был тих,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сивый, двадцатидвухлетни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предсказал твой тетраптих.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ипербо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увеличение свойств, особенностей предметов, явлений с целью усиления выразительности и образности художественной реч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полусонным стрелкам л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рочаться на циферблат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И дольше века длится д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И не кончается объять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ро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потребление слова в противоположном смысле с целью насмеш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Ты всё пела? Это дел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ак поди же, попляши!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пит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ово или словосочетание, называющие какой-то признак предмета или явления и тем самым выделяющее, подчёркивающее этот призна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сидел у окна в переполненном зал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де-то пели смычки о любв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послал тебе </a:t>
            </a: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чёрную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зу в бокал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олотого, как небо, а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етоним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оп, перенос названия с одного предмета на другой, смежный с ним, т.е. близкий е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дай мне Бог сойти с у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т, легче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посо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сум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т, легче труд и гла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т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очитое преуменьшение или смягчение свойств, признаков, значений каких-либо предметов, явлений с целью усиления эмоционального воздействия, в частности выражения авторской оценки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Только в мире и ес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тенист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ремлющих кленов шате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Только в мире и ес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лучист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ски задумчивый взор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Только в мире и ес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душисты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илой головки убор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Только в мире и ес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этот чист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лево бегущий пробо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Срав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ущность этого вида иносказания хорошо передаёт этимологическое значение термина: сравнение как бы делает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вными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иравнивает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 другу различные предметы и явления на основании общего, сходного признака или нескольких призна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Вижу вот облако, похожее на рояль. Думаю: надо будет упомянуть где-нибудь в рассказе, что </a:t>
            </a: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плыло облако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хожее на роял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5:35:16Z</dcterms:created>
  <dc:creator>STATE_5</dc:creator>
  <dc:description/>
  <dc:language>en-US</dc:language>
  <cp:lastModifiedBy>Елена Федирко</cp:lastModifiedBy>
  <dcterms:modified xsi:type="dcterms:W3CDTF">2017-10-16T08:45:05Z</dcterms:modified>
  <cp:revision>6</cp:revision>
  <dc:subject/>
  <dc:title>Слайд 1</dc:title>
</cp:coreProperties>
</file>