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move the slide</a:t>
            </a:r>
            <a:endParaRPr b="0" lang="en-US" sz="4000" spc="-1" strike="noStrike">
              <a:solidFill>
                <a:srgbClr val="c1eeff"/>
              </a:solidFill>
              <a:latin typeface="Arial"/>
            </a:endParaRPr>
          </a:p>
        </p:txBody>
      </p:sp>
      <p:sp>
        <p:nvSpPr>
          <p:cNvPr id="3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7CA3-5C85-4809-A16E-26A80EFC69C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B628-F00A-4940-9E80-8B60BF5060B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DFC8-BD8A-438C-8CDD-AC5FF9B4793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CB6D0-724D-4996-93CB-D0EA266C7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0DA57-0C2B-4C70-870F-574A0F9BE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9D0F0-88BE-4A55-81F0-124622B81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5BDB5-2121-4107-995A-60DE8DA47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34872-B650-4CA4-B88D-855CAF73B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5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54246-E0C4-4404-BE9D-C5F868AE2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5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0A980-50A1-4201-A0A8-743C6D588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408BC-1695-4EBE-8961-40E94B468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2DA57-B25B-432C-A65D-6B5789957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DA797-0A38-4AF7-80D7-15A3CB5B2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908DB-B967-4B68-8A3E-3D3EFEDE8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6240E-DA71-4373-8B2E-8C61CC8CB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ECF8A-6B8C-468A-AFA8-55C4D4226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7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7F901-E303-4326-8030-4846411DB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7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D977C-42B7-4979-9D03-756FD668A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9D412-AE9C-47E3-B367-B198A481A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7CA44-09A9-4F96-BC70-BDF8EE90E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F5DDD8-05C2-4E36-8337-EDD9F54677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BA34B-3D47-4F2E-A133-30D3B0141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C9D0A-1C89-4EC3-80B5-9800506AD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C23B1-30D7-484B-A518-EC2CFFAD9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3CDA3C-1CE2-4CB9-A2C5-FA4EB88B1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82D7C-9C55-4332-96DC-139281B8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E6610-42EF-46EB-B005-2724BA62F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22114-F0FF-45FC-A69C-9A29DAD94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5DEA3-FCF6-4896-B816-EAFAA3D9A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B9E9D-5DDD-43E2-98F6-30145ECF1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E9F9C-6019-4207-923A-E2C3CA4968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81FABF-10C6-4044-90BF-54CAAE23DA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C7E1E7-E7B4-4314-85B5-B29CFCDF18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50D784-A624-4581-8E1E-BCAB6763F3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6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8DF73-54A2-45AA-BDA7-5247A2110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F9AF3C-4219-45FB-9EF3-C5DF1491C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C6C7A-72B0-4A95-AE60-792985FDD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9E09C6-84A0-44FA-ACC3-4F2CF18140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AB6A2-8CB8-4F79-B900-8F9BD77E2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D4227-3AD4-44B8-B149-3122AB06A9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60B6D-F2C8-4B0E-B29C-F90609440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457A0-F85D-4F77-8048-7727C2CE8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71E27C-F7DC-4CD8-9E7B-D752A9C84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C9C45-541A-4CCF-AD75-F11DD0BB4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C0117F-4ED8-45EE-AEE8-37BC6A26E1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5F9985-3156-4D7B-85E6-0CD898248B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799DE9-5B93-4926-ACEF-162169DD2B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63D68-6D4D-4545-A3F9-471A03E3B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4F14E-976D-4AD3-8DEF-B3B3C758E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2F7B3-000C-4AB9-ACC6-0BA10DB1F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F23B28-0BBF-4FB4-955E-E4A9CAA99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B0C76F-01D2-43B4-8B48-D224D1F83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15F4CE-7E4B-443B-AD80-BA3219E79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14F5A-AEEB-46AE-AAEB-4D49F24E2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D8F06-EB79-4C2A-9161-17C6D1E5D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69E70-35BB-46A4-88D2-6D89D74DC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6DFD2-FA5F-446D-8E77-0B0A35DB18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7D8C05-D00F-418E-9752-6025395ECD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233C-C3BF-45B8-9608-B78065562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F29077-06E6-4207-9A77-68F59C8FF7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100CE3-82BD-41C1-91A2-38ED999C50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6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AC3C30-47FF-490D-90BD-8F20034CF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6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00A0F-0EDC-4BF4-AEDA-8EE90125DA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6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157176-A9F7-495A-9C93-9DF3D2E07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8B73C1-6952-4D12-8CBA-24F838479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863B2-6074-42A5-A17E-6AAEFD0CD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6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FCD5FF-6599-49CA-B3C6-7904C58BAA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06ABE-BD8B-48AC-AAB8-1162609BE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025C0-ACA5-464E-87D3-A3F857B2D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F3D4-4FE6-44CA-8086-B021D0BB1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665526-ACC3-41D0-8081-E6C570C7FA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8AECF4-6E10-46CF-AA4C-2D84F6EDA0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D91691-46CA-4045-8117-268E46CCAD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EC3A0D-6091-4441-A8C9-3254CE106D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24"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5F922E-3AD4-4122-9BF3-6D2B61BA4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26"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005B71-8DC7-4C31-AB67-CA47EBFBD0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83E02-B43D-4E04-A5CF-A810CE761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CC771-82D8-49C8-810E-CF3A88BF1F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1E431E-4D16-4205-BDCA-C682F7755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9CF00-5947-4EED-B6A9-6DC313C73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F3AA-ABE3-4632-B8DF-A223BB43E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9E90F-028F-4035-860C-72E34717B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4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4D18F-7110-43D7-9531-22BB5DABF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45"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6"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BA156C-48D9-40EA-89B5-0BEEB84D3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4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B4A070-3535-4C5B-9452-59A6E77C46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53"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4"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7"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0B55CB-9AFC-40EF-AC9C-19FAFD1A01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376C-F707-4D32-874E-F0AD7F414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68BE-95CC-47C5-93C5-F51C7F89132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Прямоугольник 7"/>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Прямоугольник 8"/>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рямоугольник 9"/>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оугольник 10"/>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Прямоугольник 11"/>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Прямоугольник 12"/>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Прямоугольник 13"/>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Прямоугольник 14"/>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5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0147-4092-46B2-B489-BCEA642AA52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1"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Прямоугольник 12"/>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Прямоугольник 13"/>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Прямоугольник 14"/>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Полилиния 15"/>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Полилиния 16"/>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Полилиния 17"/>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Полилиния 18"/>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Полилиния 19"/>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Полилиния 20"/>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Полилиния 22"/>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Полилиния 23"/>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Полилиния 24"/>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Полилиния 25"/>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Полилиния 26"/>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Полилиния 27"/>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Полилиния 28"/>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Полилиния 29"/>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Полилиния 30"/>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Прямоугольник 31"/>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Прямоугольник 32"/>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4DB4-1B54-40BD-AC05-C00232FA7E0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6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6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FF73-39FF-4CB3-A685-13592B6AF91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03" name="Прямоугольник 6"/>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Прямоугольник 7"/>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Прямоугольник 8"/>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Прямоугольник 9"/>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Прямоугольник 10"/>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Прямоугольник 11"/>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Прямоугольник 12"/>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Прямоугольник 13"/>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Прямоугольник 14"/>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Прямоугольник 15"/>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7ECE-0C4D-4280-8E2C-13B2EA46725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25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6"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3AD3-D164-43F0-B316-B42219F1957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95"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Прямоугольник 12"/>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Прямоугольник 13"/>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Прямоугольник 14"/>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Прямоугольник 15"/>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Прямая соединительная линия 16"/>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6" name="Группа 19"/>
          <p:cNvGrpSpPr/>
          <p:nvPr/>
        </p:nvGrpSpPr>
        <p:grpSpPr>
          <a:xfrm>
            <a:off x="8516520" y="1217520"/>
            <a:ext cx="128520" cy="131400"/>
            <a:chOff x="8516520" y="1217520"/>
            <a:chExt cx="128520" cy="131400"/>
          </a:xfrm>
        </p:grpSpPr>
        <p:sp>
          <p:nvSpPr>
            <p:cNvPr id="307" name="Прямая соединительная линия 18"/>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8" name="Прямая соединительная линия 19"/>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Прямая соединительная линия 20"/>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0" name="Группа 25"/>
          <p:cNvGrpSpPr/>
          <p:nvPr/>
        </p:nvGrpSpPr>
        <p:grpSpPr>
          <a:xfrm>
            <a:off x="8669520" y="1370160"/>
            <a:ext cx="128520" cy="131400"/>
            <a:chOff x="8669520" y="1370160"/>
            <a:chExt cx="128520" cy="131400"/>
          </a:xfrm>
        </p:grpSpPr>
        <p:sp>
          <p:nvSpPr>
            <p:cNvPr id="311" name="Прямая соединительная линия 23"/>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2" name="Прямая соединительная линия 24"/>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Прямая соединительная линия 25"/>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4" name="Группа 29"/>
          <p:cNvGrpSpPr/>
          <p:nvPr/>
        </p:nvGrpSpPr>
        <p:grpSpPr>
          <a:xfrm>
            <a:off x="8321400" y="1473120"/>
            <a:ext cx="128520" cy="131400"/>
            <a:chOff x="8321400" y="1473120"/>
            <a:chExt cx="128520" cy="131400"/>
          </a:xfrm>
        </p:grpSpPr>
        <p:sp>
          <p:nvSpPr>
            <p:cNvPr id="315" name="Прямая соединительная линия 27"/>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6" name="Прямая соединительная линия 28"/>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Прямая соединительная линия 29"/>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31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0"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50BF-131D-4ACF-A831-DBD2666F92D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xm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7" name="PlaceHolder 2"/>
          <p:cNvSpPr>
            <a:spLocks noGrp="1"/>
          </p:cNvSpPr>
          <p:nvPr>
            <p:ph/>
          </p:nvPr>
        </p:nvSpPr>
        <p:spPr>
          <a:xfrm>
            <a:off x="684000" y="2924280"/>
            <a:ext cx="8002440" cy="3432240"/>
          </a:xfrm>
          <a:prstGeom prst="rect">
            <a:avLst/>
          </a:prstGeom>
          <a:noFill/>
          <a:ln w="0">
            <a:noFill/>
          </a:ln>
        </p:spPr>
        <p:txBody>
          <a:bodyPr anchor="t">
            <a:normAutofit/>
          </a:bodyPr>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fd13b"/>
                </a:solidFill>
                <a:latin typeface="Corbel"/>
              </a:rPr>
              <a:t>On the book of the English writer </a:t>
            </a:r>
            <a:r>
              <a:rPr b="0" lang="en-US" sz="4000" spc="-1" strike="noStrike" u="sng">
                <a:solidFill>
                  <a:srgbClr val="eb8803"/>
                </a:solidFill>
                <a:uFillTx/>
                <a:latin typeface="Corbel"/>
                <a:hlinkClick r:id="rId1" action="ppaction://hlinksldjump"/>
              </a:rPr>
              <a:t>David Maule</a:t>
            </a:r>
            <a:r>
              <a:rPr b="1" i="1" lang="ru-RU" sz="4000" spc="-1" strike="noStrike">
                <a:solidFill>
                  <a:srgbClr val="7fd13b"/>
                </a:solidFill>
                <a:latin typeface="Corbel"/>
              </a:rPr>
              <a:t>:</a:t>
            </a:r>
            <a:r>
              <a:rPr b="1" i="1" lang="en-US" sz="4000" spc="-1" strike="noStrike">
                <a:solidFill>
                  <a:srgbClr val="7fd13b"/>
                </a:solidFill>
                <a:latin typeface="Corbel"/>
              </a:rPr>
              <a:t> ”Inventions , that changed the world”.</a:t>
            </a:r>
            <a:endParaRPr b="0" lang="en-US" sz="4000" spc="-1" strike="noStrike">
              <a:solidFill>
                <a:srgbClr val="ffffff"/>
              </a:solidFill>
              <a:latin typeface="Arial"/>
            </a:endParaRPr>
          </a:p>
        </p:txBody>
      </p:sp>
      <p:sp>
        <p:nvSpPr>
          <p:cNvPr id="368" name="Text Box 7"/>
          <p:cNvSpPr/>
          <p:nvPr/>
        </p:nvSpPr>
        <p:spPr>
          <a:xfrm>
            <a:off x="6443640" y="5950080"/>
            <a:ext cx="24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by:Peter Kokorev</a:t>
            </a:r>
            <a:endParaRPr b="0" lang="en-US" sz="1800" spc="-1" strike="noStrike">
              <a:solidFill>
                <a:srgbClr val="ffffff"/>
              </a:solidFill>
              <a:latin typeface="Arial"/>
            </a:endParaRPr>
          </a:p>
        </p:txBody>
      </p:sp>
      <p:sp>
        <p:nvSpPr>
          <p:cNvPr id="369" name="Rectangle 11">
            <a:hlinkClick r:id="rId2" action="ppaction://hlinksldjump"/>
          </p:cNvPr>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txBox="1"/>
          <p:nvPr/>
        </p:nvSpPr>
        <p:spPr>
          <a:xfrm>
            <a:off x="1187280" y="620640"/>
            <a:ext cx="7201080" cy="140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RESENT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1eeff"/>
                </a:solidFill>
                <a:latin typeface="Consolas"/>
              </a:rPr>
              <a:t>         </a:t>
            </a:r>
            <a:r>
              <a:rPr b="1" i="1" lang="en-US" sz="4000" spc="-1" strike="noStrike">
                <a:solidFill>
                  <a:srgbClr val="c1eeff"/>
                </a:solidFill>
                <a:latin typeface="Consolas"/>
              </a:rPr>
              <a:t>CONTENTS</a:t>
            </a:r>
            <a:endParaRPr b="0" lang="en-US" sz="4000" spc="-1" strike="noStrike">
              <a:solidFill>
                <a:srgbClr val="c1eeff"/>
              </a:solidFill>
              <a:latin typeface="Arial"/>
            </a:endParaRPr>
          </a:p>
        </p:txBody>
      </p:sp>
      <p:sp>
        <p:nvSpPr>
          <p:cNvPr id="372" name="PlaceHolder 2"/>
          <p:cNvSpPr>
            <a:spLocks noGrp="1"/>
          </p:cNvSpPr>
          <p:nvPr>
            <p:ph/>
          </p:nvPr>
        </p:nvSpPr>
        <p:spPr>
          <a:xfrm>
            <a:off x="900000" y="1700280"/>
            <a:ext cx="7772400" cy="4572000"/>
          </a:xfrm>
          <a:prstGeom prst="rect">
            <a:avLst/>
          </a:prstGeom>
          <a:noFill/>
          <a:ln w="0">
            <a:noFill/>
          </a:ln>
        </p:spPr>
        <p:txBody>
          <a:bodyPr anchor="t">
            <a:normAutofit/>
          </a:bodyPr>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rbel"/>
              </a:rPr>
              <a:t>1) Introduction</a:t>
            </a:r>
            <a:endParaRPr b="0" lang="en-US" sz="36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rbel"/>
              </a:rPr>
              <a:t>2) David Maule-the author of this text</a:t>
            </a:r>
            <a:endParaRPr b="0" lang="en-US" sz="36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rbel"/>
              </a:rPr>
              <a:t>3) My opinion about this text</a:t>
            </a:r>
            <a:endParaRPr b="0" lang="en-US" sz="36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nsolas"/>
              </a:rPr>
              <a:t>4)</a:t>
            </a:r>
            <a:r>
              <a:rPr b="1" i="1" lang="en-US" sz="3600" spc="-1" strike="noStrike">
                <a:solidFill>
                  <a:srgbClr val="ffffff"/>
                </a:solidFill>
                <a:latin typeface="Corbel"/>
              </a:rPr>
              <a:t>Conclus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Introduction</a:t>
            </a:r>
            <a:endParaRPr b="0" lang="en-US" sz="4000" spc="-1" strike="noStrike">
              <a:solidFill>
                <a:srgbClr val="c1eeff"/>
              </a:solidFill>
              <a:latin typeface="Arial"/>
            </a:endParaRPr>
          </a:p>
        </p:txBody>
      </p:sp>
      <p:pic>
        <p:nvPicPr>
          <p:cNvPr id="374" name="Содержимое 5" descr="DSC00726.JPG"/>
          <p:cNvPicPr/>
          <p:nvPr/>
        </p:nvPicPr>
        <p:blipFill>
          <a:blip r:embed="rId1"/>
          <a:stretch/>
        </p:blipFill>
        <p:spPr>
          <a:xfrm>
            <a:off x="493560" y="1279440"/>
            <a:ext cx="2799000" cy="3726000"/>
          </a:xfrm>
          <a:prstGeom prst="rect">
            <a:avLst/>
          </a:prstGeom>
          <a:ln w="0">
            <a:noFill/>
          </a:ln>
        </p:spPr>
      </p:pic>
      <p:sp>
        <p:nvSpPr>
          <p:cNvPr id="375" name=""/>
          <p:cNvSpPr txBox="1"/>
          <p:nvPr/>
        </p:nvSpPr>
        <p:spPr>
          <a:xfrm>
            <a:off x="3285720" y="1357200"/>
            <a:ext cx="5383080" cy="498816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This presentation is made to the book of a successful  English journalist D.Maule:</a:t>
            </a:r>
            <a:r>
              <a:rPr b="1" i="1" lang="en-US" sz="2000" spc="-1" strike="noStrike">
                <a:solidFill>
                  <a:srgbClr val="7fd13b"/>
                </a:solidFill>
                <a:latin typeface="Corbel"/>
              </a:rPr>
              <a:t> </a:t>
            </a:r>
            <a:r>
              <a:rPr b="1" i="1" lang="en-US" sz="2000" spc="-1" strike="noStrike">
                <a:solidFill>
                  <a:srgbClr val="ea157a"/>
                </a:solidFill>
                <a:latin typeface="Corbel"/>
              </a:rPr>
              <a:t>“Inventions that changed the world”</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It  tells us about Inventors, inventions, their history  etc.</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 </a:t>
            </a:r>
            <a:r>
              <a:rPr b="1" i="1" lang="en-US" sz="2000" spc="-1" strike="noStrike">
                <a:solidFill>
                  <a:srgbClr val="ffffff"/>
                </a:solidFill>
                <a:latin typeface="Corbel"/>
              </a:rPr>
              <a:t>This book tells us about engines, maps, how, why  and  by whom they were made?</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It’s intriguing to know for everybody.</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Every kind of information given here is really  exiting ,unique and was written   in a very simple  way, so it’s quite easy to read.</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Rectangle 5">
            <a:hlinkClick r:id="rId2" action="ppaction://hlinksldjump"/>
          </p:cNvPr>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0"/>
            <a:ext cx="7772400" cy="1052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      </a:t>
            </a:r>
            <a:r>
              <a:rPr b="0" lang="en-US" sz="3200" spc="-1" strike="noStrike">
                <a:solidFill>
                  <a:srgbClr val="c1eeff"/>
                </a:solidFill>
                <a:latin typeface="Consolas"/>
              </a:rPr>
              <a:t>About David Maule…</a:t>
            </a:r>
            <a:endParaRPr b="0" lang="en-US" sz="3200" spc="-1" strike="noStrike">
              <a:solidFill>
                <a:srgbClr val="c1eeff"/>
              </a:solidFill>
              <a:latin typeface="Arial"/>
            </a:endParaRPr>
          </a:p>
        </p:txBody>
      </p:sp>
      <p:sp>
        <p:nvSpPr>
          <p:cNvPr id="378" name="PlaceHolder 2"/>
          <p:cNvSpPr>
            <a:spLocks noGrp="1"/>
          </p:cNvSpPr>
          <p:nvPr>
            <p:ph/>
          </p:nvPr>
        </p:nvSpPr>
        <p:spPr>
          <a:xfrm>
            <a:off x="914400" y="1125000"/>
            <a:ext cx="7772400" cy="5231160"/>
          </a:xfrm>
          <a:prstGeom prst="rect">
            <a:avLst/>
          </a:prstGeom>
          <a:noFill/>
          <a:ln w="0">
            <a:noFill/>
          </a:ln>
        </p:spPr>
        <p:txBody>
          <a:bodyPr anchor="t">
            <a:normAutofit fontScale="99000"/>
          </a:bodyPr>
          <a:p>
            <a:pPr marL="40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David Maule is a modern British journalist and publicist, the author of a number of articles on science and scientific innovations. When he was a little child, he was curious and liked to play with toy-cars, toy-trains, toy-ships. And he was always interested in how they operated. To find it out he used to disassemble his toys. He used to dream to become an engineer or a famous inventor.</a:t>
            </a:r>
            <a:endParaRPr b="0" lang="en-US" sz="2300" spc="-1" strike="noStrike">
              <a:solidFill>
                <a:srgbClr val="ffffff"/>
              </a:solidFill>
              <a:latin typeface="Arial"/>
            </a:endParaRPr>
          </a:p>
          <a:p>
            <a:pPr marL="40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Years passed… His life goals changed a lot. He became interested in literature and journalism. But he never forgot about his childhood dream, which became his hobby. He continued to collect information about inventions and scientific innovations. And one day  he realized that it was high time to share his knowledge with other people. That is how this book appeared.</a:t>
            </a:r>
            <a:endParaRPr b="0" lang="en-US" sz="2300" spc="-1" strike="noStrike">
              <a:solidFill>
                <a:srgbClr val="ffffff"/>
              </a:solidFill>
              <a:latin typeface="Arial"/>
            </a:endParaRPr>
          </a:p>
        </p:txBody>
      </p:sp>
      <p:sp>
        <p:nvSpPr>
          <p:cNvPr id="379" name="Rectangle 4">
            <a:hlinkClick r:id="rId1" action="ppaction://hlinksldjump"/>
          </p:cNvPr>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5"/>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71640" y="620640"/>
            <a:ext cx="7772400" cy="504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My opinion</a:t>
            </a:r>
            <a:endParaRPr b="0" lang="en-US" sz="4000" spc="-1" strike="noStrike">
              <a:solidFill>
                <a:srgbClr val="c1eeff"/>
              </a:solidFill>
              <a:latin typeface="Arial"/>
            </a:endParaRPr>
          </a:p>
        </p:txBody>
      </p:sp>
      <p:sp>
        <p:nvSpPr>
          <p:cNvPr id="382" name="PlaceHolder 2"/>
          <p:cNvSpPr>
            <a:spLocks noGrp="1"/>
          </p:cNvSpPr>
          <p:nvPr>
            <p:ph/>
          </p:nvPr>
        </p:nvSpPr>
        <p:spPr>
          <a:xfrm>
            <a:off x="914400" y="1341000"/>
            <a:ext cx="7772400" cy="5015160"/>
          </a:xfrm>
          <a:prstGeom prst="rect">
            <a:avLst/>
          </a:prstGeom>
          <a:noFill/>
          <a:ln w="0">
            <a:noFill/>
          </a:ln>
        </p:spPr>
        <p:txBody>
          <a:bodyPr anchor="t">
            <a:normAutofit/>
          </a:bodyPr>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I’ve read the book by D.Maule:</a:t>
            </a:r>
            <a:r>
              <a:rPr b="0" lang="en-US" sz="2000" spc="-1" strike="noStrike">
                <a:solidFill>
                  <a:srgbClr val="ffffff"/>
                </a:solidFill>
                <a:latin typeface="Corbel"/>
              </a:rPr>
              <a:t> </a:t>
            </a:r>
            <a:r>
              <a:rPr b="1" i="1" lang="en-US" sz="2000" spc="-1" strike="noStrike">
                <a:solidFill>
                  <a:srgbClr val="ffffff"/>
                </a:solidFill>
                <a:latin typeface="Corbel"/>
              </a:rPr>
              <a:t>”Inventions , that changed the world” and I  found it really fabulous because of a great  variety  of information about outstanding inventors and a lot of absorbing facts such as: </a:t>
            </a:r>
            <a:endParaRPr b="0" lang="en-US" sz="20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1)What did the first Printing machine look like? (picture 1)</a:t>
            </a:r>
            <a:endParaRPr b="0" lang="en-US" sz="20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2)How can we use the sun for navigation? (picture 2) etc.</a:t>
            </a:r>
            <a:endParaRPr b="0" lang="en-US" sz="20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Every piece of information given there is very  exiting ,unique and was written   in a very simple  way , so it’s quite easy to read. Besides, the book has got  a lot of  wonderful pictures to illustrate the  text. Moreover, all the pictures are black-and-white to create the atmosphere of the past. </a:t>
            </a:r>
            <a:endParaRPr b="0" lang="en-US" sz="20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Rectangle 4"/>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4" name="Рисунок 4" descr="DSC00729.JPG"/>
          <p:cNvPicPr/>
          <p:nvPr/>
        </p:nvPicPr>
        <p:blipFill>
          <a:blip r:embed="rId1"/>
          <a:stretch/>
        </p:blipFill>
        <p:spPr>
          <a:xfrm>
            <a:off x="7451640" y="5013360"/>
            <a:ext cx="1392480" cy="1557360"/>
          </a:xfrm>
          <a:prstGeom prst="rect">
            <a:avLst/>
          </a:prstGeom>
          <a:ln w="0">
            <a:noFill/>
          </a:ln>
        </p:spPr>
      </p:pic>
      <p:pic>
        <p:nvPicPr>
          <p:cNvPr id="385" name="Рисунок 5" descr="DSC00727.JPG"/>
          <p:cNvPicPr/>
          <p:nvPr/>
        </p:nvPicPr>
        <p:blipFill>
          <a:blip r:embed="rId2"/>
          <a:stretch/>
        </p:blipFill>
        <p:spPr>
          <a:xfrm>
            <a:off x="4211640" y="5300640"/>
            <a:ext cx="2355840" cy="122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        </a:t>
            </a:r>
            <a:r>
              <a:rPr b="0" lang="en-US" sz="3600" spc="-1" strike="noStrike">
                <a:solidFill>
                  <a:srgbClr val="c1eeff"/>
                </a:solidFill>
                <a:latin typeface="Consolas"/>
              </a:rPr>
              <a:t>CONCLUSION</a:t>
            </a:r>
            <a:endParaRPr b="0" lang="en-US" sz="3600" spc="-1" strike="noStrike">
              <a:solidFill>
                <a:srgbClr val="c1eeff"/>
              </a:solidFill>
              <a:latin typeface="Arial"/>
            </a:endParaRPr>
          </a:p>
        </p:txBody>
      </p:sp>
      <p:sp>
        <p:nvSpPr>
          <p:cNvPr id="387" name="PlaceHolder 2"/>
          <p:cNvSpPr>
            <a:spLocks noGrp="1"/>
          </p:cNvSpPr>
          <p:nvPr>
            <p:ph/>
          </p:nvPr>
        </p:nvSpPr>
        <p:spPr>
          <a:xfrm>
            <a:off x="1000080" y="1785960"/>
            <a:ext cx="7772400" cy="4572000"/>
          </a:xfrm>
          <a:prstGeom prst="rect">
            <a:avLst/>
          </a:prstGeom>
          <a:noFill/>
          <a:ln w="0">
            <a:noFill/>
          </a:ln>
        </p:spPr>
        <p:txBody>
          <a:bodyPr anchor="t">
            <a:normAutofit/>
          </a:bodyPr>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rbel"/>
              </a:rPr>
              <a:t>I’ve read a book</a:t>
            </a:r>
            <a:r>
              <a:rPr b="1" i="1" lang="en-US" sz="2800" spc="-1" strike="noStrike">
                <a:solidFill>
                  <a:srgbClr val="ea157a"/>
                </a:solidFill>
                <a:latin typeface="Corbel"/>
              </a:rPr>
              <a:t> </a:t>
            </a:r>
            <a:r>
              <a:rPr b="1" i="1" lang="en-US" sz="2800" spc="-1" strike="noStrike">
                <a:solidFill>
                  <a:srgbClr val="ffffff"/>
                </a:solidFill>
                <a:latin typeface="Corbel"/>
              </a:rPr>
              <a:t>“Inventions that changed the world” and I found it well worth reading. It is really thrilling. I would strongly recommend it not only for schoolchildren but for adults as well.</a:t>
            </a:r>
            <a:endParaRPr b="0" lang="en-US" sz="28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rbel"/>
              </a:rPr>
              <a:t> </a:t>
            </a:r>
            <a:r>
              <a:rPr b="1" i="1" lang="en-US" sz="2800" spc="-1" strike="noStrike">
                <a:solidFill>
                  <a:srgbClr val="ffffff"/>
                </a:solidFill>
                <a:latin typeface="Corbel"/>
              </a:rPr>
              <a:t>Do not miss this book, it will change the way you see simple familiar things which we use in our everyday life and hardly think the world used to live without them. </a:t>
            </a:r>
            <a:r>
              <a:rPr b="1" i="1" lang="en-US" sz="2400" spc="-1" strike="noStrike">
                <a:solidFill>
                  <a:srgbClr val="ffffff"/>
                </a:solidFill>
                <a:latin typeface="Corbel"/>
              </a:rPr>
              <a:t> </a:t>
            </a:r>
            <a:endParaRPr b="0" lang="en-US" sz="24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Rectangle 4"/>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17:46:53Z</dcterms:created>
  <dc:creator>Customer</dc:creator>
  <dc:description/>
  <dc:language>en-US</dc:language>
  <cp:lastModifiedBy>User</cp:lastModifiedBy>
  <dcterms:modified xsi:type="dcterms:W3CDTF">2010-01-30T09:06:20Z</dcterms:modified>
  <cp:revision>98</cp:revision>
  <dc:subject/>
  <dc:title>Слайд 1</dc:title>
</cp:coreProperties>
</file>