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15736-9B96-4DE4-99CB-1B9BF2DF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A7AD7-E4A1-40E7-A5BE-0336B387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EB349-6E70-4CF7-BC6D-BB6A37D3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A43C1-3056-47F5-B0A8-C3BD3E31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8BF6-0224-4ED2-9C8C-644C56F5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5AC8-A4D1-4CFB-9DF6-8008AC3F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F481-D46B-48BA-8A3A-9D9903D2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CC2B-0534-459B-A821-21C7CF83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A2B7-85C8-4607-8264-BCC231F9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BFF0-0C87-4A07-977D-D86ED765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BDBE-E168-42B1-8EC4-4C28B4CF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37355-A2E4-4202-BFA5-6C8FFACE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63BF-6CFB-4EE2-9C8A-E840ECE3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23D4-36A7-4E17-B444-4CAB81EC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BAD5-840B-4069-A1C5-ADCD7A48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6EAD-1EA6-4E3A-A391-C430F1D3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27D3-8F18-4349-BEF4-32027863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8A0B60-F2A7-4EB7-96E7-44A8B02E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7997C8-0184-4ECE-BAE1-67FEF4CB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31617C-8501-42D7-9B8E-4B363D5E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6A621F-B89C-4E1A-84AC-87A6EC06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943930-25D4-4658-9A2B-81ADEC3C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A1349-71C5-4713-97CD-FF60C4A7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3795DD-A28B-4B8F-86DA-18B83D4B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B364CB-AF3A-4FA3-BB9B-67DC1365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07F34F-3508-4E2A-B7A2-ECF9580C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4073B5-F2DE-4458-9156-7766C44A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4FEFD2-AD3F-49A2-9D57-D49B8F21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50A7E5-EC0F-4233-A082-77B43743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7D1EAC-60EC-48EF-A1EB-D2B7E520D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BB931-E057-4E7A-A06A-9F3701CF7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C9E07-FF8E-45B1-8478-D456EAA5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FE68F-6A57-4517-8228-DCBB5F59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36066-5A0D-40D1-BA60-5215536C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D40BE-A6C2-4337-B73D-3C04D6ED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63E90-E6D8-4168-9BC0-A6AE1B26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B18B4-EE37-4174-AD7F-9B1A3107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784D1-CF70-428B-8F92-4C1E1122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9DD41-1070-4482-A9AF-EFA5B47E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A0313-F73C-479C-AE23-CBC84D4C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A2A28-1B25-4C6A-A5FD-415CDFC2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F8338-309D-4D15-AAC5-9324FC65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ECFE7-8477-465B-8CB4-1D933B7C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21C04D-F8CD-4265-BD81-9714E9DA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30E37-6CD4-4BF8-B4F8-3C47A4007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4D6880-6305-47D6-A204-D9F80EDB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C7B53F-8019-4B57-81B9-E799F732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D09F3A-7162-45B0-9A11-112CB2BF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4D0CCE-9D93-427D-AA83-B57E1806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AFB7D1-19A7-42E1-819F-53D4ADBE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E495BF-052C-4561-A9D5-571C17CA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775272-EE31-44DE-80F5-C6DFC720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2F6037-A2D6-41D2-B32B-BD7225B1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6BDFA6-3892-44AE-A1EE-0103457F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348A7B-4D7F-46CD-A231-D2265080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95F53-7873-4779-AF33-D62402835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56632D-412D-4F3D-98C7-580E4DE4C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2B4570-6FED-46D7-9DF9-0371C8E50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5C9EC4-FF4A-46F8-89A6-8E340D3B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61023F-E655-4B19-BD31-32C503F1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04F1B9-08CF-4DC3-8B76-DBE452DF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BD720C-A51E-41E4-8278-7C8986DC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6ECAB4-8A11-4252-A719-F1A6360C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23EC24-2D6E-4AF1-8531-28CF7E18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972189-2EDE-4D2F-A9E7-9B16EBD7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CCB48F-0553-4A6A-B30F-A4588D4F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3107C-A01B-4140-AC62-8DCD836D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101BEC-1A2C-40EF-8E51-497D8DA9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82970F-02B9-40DE-8AD5-8B1060A2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F2812C-5BC3-4F06-BB88-3A5AAD98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DFA078-704B-4A5F-AE17-5549C6D2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241BBA-6564-4813-A550-A6F4D653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E182C2-87C9-46FD-84A1-6DAA5C3C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B26F25-7547-43C1-B06D-DC683614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673691-014B-4820-AAD4-CE771CB8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C4012B-DF35-491F-9701-D3FB1979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0896A7-B167-47C8-AB64-1209209D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91933-C8DE-4606-8E28-A1A8A1C1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8FA0C5-EB3E-450C-B794-F956000A9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265D7B-4E1F-495D-A32E-37104A95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CD4970-AA10-4438-89CB-64EF138E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C7A281-9BB9-4D97-B822-2862491A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42EF65-7C41-4550-8623-24605092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E6CF7-D171-45A1-AE41-0C91ADD9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B6A1-06FD-4D9D-93D6-78CE4A560F9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7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11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12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1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1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1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1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2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2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4779-4D6E-4F7E-B700-27B42CC74B9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ая соединительная линия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40DF-4494-47F1-ABFD-F797D011C0D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6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7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8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9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1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ая соединительная линия 11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12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1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1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1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1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2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C55D-6309-4C25-AD98-8DC2B4F12E4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ая соединительная линия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ая соединительная линия 7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2BA5-6B0B-407D-94AA-036C04C7752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Прямая соединительная линия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7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8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9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10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11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Овал 1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FF40-9010-4967-B745-5AF9371F4AE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рямая соединительная линия 6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Овал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ая соединительная линия 11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Прямая соединительная линия 12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F03D-E783-476C-8FAD-7D8C99804C4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Arial"/>
              </a:rPr>
              <a:t>КОЖА. </a:t>
            </a:r>
            <a:br>
              <a:rPr sz="3000"/>
            </a:br>
            <a:r>
              <a:rPr b="1" lang="ru-RU" sz="3000" spc="-1" strike="noStrike">
                <a:solidFill>
                  <a:srgbClr val="575f6d"/>
                </a:solidFill>
                <a:latin typeface="Arial"/>
              </a:rPr>
              <a:t>ЗНАЧЕНИЕ В ЖИЗНИ ЧЕЛОВЕКА.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575f6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Arial"/>
              </a:rPr>
              <a:t>Смешанная кожа лица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600200"/>
            <a:ext cx="3657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598d9"/>
                </a:solidFill>
                <a:latin typeface="Arial"/>
              </a:rPr>
              <a:t>смешанный или комбинированный тип кожи характеризуется тем, что жировой слой распределяется на поверхности кожи неравномерно. Такие части лица, как нос, подбородок и лоб обладают характерным для жирной кожи блеском, а остальные части лица проявляют признаки, присущие другим типам ко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5" descr=""/>
          <p:cNvPicPr/>
          <p:nvPr/>
        </p:nvPicPr>
        <p:blipFill>
          <a:blip r:embed="rId1"/>
          <a:stretch/>
        </p:blipFill>
        <p:spPr>
          <a:xfrm>
            <a:off x="4267080" y="1071720"/>
            <a:ext cx="3657600" cy="41432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286160" y="5214960"/>
            <a:ext cx="414504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2611c"/>
                </a:solidFill>
                <a:latin typeface="Arial"/>
              </a:rPr>
              <a:t>С возрастом, когда гормоны перестают вырабатываться столь активно, смешанный тип кожи становится норма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575f6d"/>
                </a:solidFill>
                <a:latin typeface="Arial"/>
              </a:rPr>
              <a:t>Угревая сыпь</a:t>
            </a: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1"/>
          <a:srcRect l="0" t="0" r="2346" b="0"/>
          <a:stretch/>
        </p:blipFill>
        <p:spPr>
          <a:xfrm>
            <a:off x="285840" y="1928880"/>
            <a:ext cx="3571920" cy="35719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8" descr=""/>
          <p:cNvPicPr/>
          <p:nvPr/>
        </p:nvPicPr>
        <p:blipFill>
          <a:blip r:embed="rId2"/>
          <a:srcRect l="0" t="0" r="2349" b="0"/>
          <a:stretch/>
        </p:blipFill>
        <p:spPr>
          <a:xfrm>
            <a:off x="4714920" y="1785960"/>
            <a:ext cx="35719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1" descr=""/>
          <p:cNvPicPr/>
          <p:nvPr/>
        </p:nvPicPr>
        <p:blipFill>
          <a:blip r:embed="rId1"/>
          <a:stretch/>
        </p:blipFill>
        <p:spPr>
          <a:xfrm>
            <a:off x="128520" y="268200"/>
            <a:ext cx="7802640" cy="11588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28760" y="15717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истота - умываться водой комнатной температуры (горячая вода снижает эластичность; холодная вода - закупорка выводных прото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ыть потеющие части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ушить обу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"/>
          <p:cNvPicPr/>
          <p:nvPr/>
        </p:nvPicPr>
        <p:blipFill>
          <a:blip r:embed="rId5"/>
          <a:stretch/>
        </p:blipFill>
        <p:spPr>
          <a:xfrm>
            <a:off x="5931000" y="4327560"/>
            <a:ext cx="3041640" cy="45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4" descr=""/>
          <p:cNvPicPr/>
          <p:nvPr/>
        </p:nvPicPr>
        <p:blipFill>
          <a:blip r:embed="rId1"/>
          <a:stretch/>
        </p:blipFill>
        <p:spPr>
          <a:xfrm>
            <a:off x="5479920" y="1420920"/>
            <a:ext cx="3670560" cy="4583160"/>
          </a:xfrm>
          <a:prstGeom prst="rect">
            <a:avLst/>
          </a:prstGeom>
          <a:ln w="0">
            <a:noFill/>
          </a:ln>
        </p:spPr>
      </p:pic>
      <p:pic>
        <p:nvPicPr>
          <p:cNvPr id="383" name="Заголовок 1" descr=""/>
          <p:cNvPicPr/>
          <p:nvPr/>
        </p:nvPicPr>
        <p:blipFill>
          <a:blip r:embed="rId2"/>
          <a:stretch/>
        </p:blipFill>
        <p:spPr>
          <a:xfrm>
            <a:off x="6480" y="-262080"/>
            <a:ext cx="8856360" cy="16941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285840" y="1856880"/>
            <a:ext cx="528624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огревать в хол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е препятствовать теплоотдач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расивая и удоб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легкая и практи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риятная человеку и окружающ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6"/>
          <p:cNvSpPr/>
          <p:nvPr/>
        </p:nvSpPr>
        <p:spPr>
          <a:xfrm>
            <a:off x="611280" y="888840"/>
            <a:ext cx="70452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ход за кожей заключается в выполнении некоторых прав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ойтесь каждый день теплой водой с использованием специальных средств (мыло, гель и т.п.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меняйте белье, чулки, носки, колготки, гольф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 выдавливайте прыщи, это может привести к воспалению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тарайтесь употреблять в достаточном количестве свежие фрукты и овощи, молоко, это обеспечит организм достаточным количеством минеральных веществ и витаминов, что будет способствовать гладкой и чистой кож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 холодное время года необходимо защищать кожу от обморожени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е носите одежду, которая вызывает у вас раздражение кож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4"/>
          <p:cNvSpPr/>
          <p:nvPr/>
        </p:nvSpPr>
        <p:spPr>
          <a:xfrm>
            <a:off x="900000" y="1140120"/>
            <a:ext cx="734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предметы гигиены можно разделить на 2 груп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, которыми можешь пользоваться только ты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сческа, зубная щетка, полотенце, мочал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, которыми могут пользоваться все члены семьи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убная паста, шампунь, мы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9" descr="Картинка 12 из 2270"/>
          <p:cNvPicPr/>
          <p:nvPr/>
        </p:nvPicPr>
        <p:blipFill>
          <a:blip r:embed="rId1"/>
          <a:stretch/>
        </p:blipFill>
        <p:spPr>
          <a:xfrm>
            <a:off x="1332000" y="3284640"/>
            <a:ext cx="3240000" cy="331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1" descr="i?id=99310417&amp;tov=0"/>
          <p:cNvPicPr/>
          <p:nvPr/>
        </p:nvPicPr>
        <p:blipFill>
          <a:blip r:embed="rId2"/>
          <a:stretch/>
        </p:blipFill>
        <p:spPr>
          <a:xfrm>
            <a:off x="4932360" y="4581360"/>
            <a:ext cx="1428840" cy="9241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3" descr="i?id=33841860&amp;tov=6"/>
          <p:cNvPicPr/>
          <p:nvPr/>
        </p:nvPicPr>
        <p:blipFill>
          <a:blip r:embed="rId3"/>
          <a:stretch/>
        </p:blipFill>
        <p:spPr>
          <a:xfrm>
            <a:off x="6588000" y="4076640"/>
            <a:ext cx="148428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Arial"/>
              </a:rPr>
              <a:t>Источник: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люстрации http://belava.ru/kartinki-kozha-lica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moi-roditeli.ru/pupil/bahaviour-development/skin-care-acn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tepliysviter.net/mesyatsa-rebenku-poyavilis-prishchiki-na-lits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www.picknbuy.ru/cat/list.php?section=219&amp;PAGEN_1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Arial"/>
              </a:rPr>
              <a:t>КОЖА 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аружный защитный покров тела человека, в котором находятся корни волос, потовые и сальные железы и нервные окончания. Она богато снабжена кровеносными сосуд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pic>
        <p:nvPicPr>
          <p:cNvPr id="350" name="Picture 2" descr="&amp;Ocy; &amp;kcy;&amp;ocy;&amp;zhcy;&amp;iecy;"/>
          <p:cNvPicPr/>
          <p:nvPr/>
        </p:nvPicPr>
        <p:blipFill>
          <a:blip r:embed="rId1"/>
          <a:srcRect l="0" t="0" r="2359" b="5804"/>
          <a:stretch/>
        </p:blipFill>
        <p:spPr>
          <a:xfrm>
            <a:off x="142920" y="142920"/>
            <a:ext cx="4929120" cy="37861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&amp;Kcy;&amp;ocy;&amp;zhcy;&amp;acy; &amp;chcy;&amp;iecy;&amp;lcy;&amp;ocy;&amp;vcy;&amp;iecy;&amp;kcy;&amp;acy; &amp;fcy;&amp;ocy;&amp;tcy;&amp;ocy; - &amp;Fcy;&amp;ocy;&amp;tcy;&amp;ocy; &amp;tscy;&amp;vcy;&amp;iecy;&amp;tcy;&amp;ocy;&amp;vcy;"/>
          <p:cNvPicPr/>
          <p:nvPr/>
        </p:nvPicPr>
        <p:blipFill>
          <a:blip r:embed="rId2"/>
          <a:stretch/>
        </p:blipFill>
        <p:spPr>
          <a:xfrm>
            <a:off x="5072040" y="292896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Arial"/>
              </a:rPr>
              <a:t>НАЗВАНИЯ СЛОЕВ КОЖИ 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2356920"/>
            <a:ext cx="7467480" cy="41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Эпидерм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е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Жировая тк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4" descr="&amp;scy;&amp;tcy;&amp;rcy;&amp;acy;&amp;scy;&amp;tcy;&amp;icy;-&amp;Mcy;&amp;Ocy;&amp;Rcy;&amp;Dcy;&amp;Acy;-&amp;scy;&amp;tcy;&amp;icy; (&amp;lcy;&amp;icy;&amp;tscy;&amp;iecy;&amp;vcy;&amp;acy;&amp;yacy; &amp;gcy;&amp;icy;&amp;mcy;&amp;ncy;&amp;acy;&amp;scy;&amp;tcy;&amp;icy;&amp;kcy;&amp;acy;)-&amp;tcy;&amp;ocy;&amp;mcy; XII &amp;Fcy;&amp;ocy;&amp;rcy;&amp;ucy;&amp;mcy; eDiet.r…"/>
          <p:cNvPicPr/>
          <p:nvPr/>
        </p:nvPicPr>
        <p:blipFill>
          <a:blip r:embed="rId1"/>
          <a:stretch/>
        </p:blipFill>
        <p:spPr>
          <a:xfrm>
            <a:off x="3857760" y="1500120"/>
            <a:ext cx="46162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03080" y="3139920"/>
            <a:ext cx="630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42960" y="213840"/>
            <a:ext cx="3409920" cy="61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ее состояние влияют климатические воздействия, условия труда. Кожа тесно связана с жизнедеятельностью всего орган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гигиенических правил является одним из условий, которые определяют культуру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, которые всегда следят за своей чистотой, никогда не болеют, а если и болеют, то очень редк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214680" y="213840"/>
            <a:ext cx="2552760" cy="63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&amp;Scy;&amp;tcy;&amp;rcy;&amp;ocy;&amp;iecy;&amp;ncy;&amp;icy;&amp;iecy; &amp;icy; &amp;fcy;&amp;ucy;&amp;ncy;&amp;kcy;&amp;tscy;&amp;icy;&amp;icy; &amp;kcy;&amp;ocy;&amp;zhcy;&amp;icy; &amp;chcy;&amp;iecy;&amp;lcy;&amp;ocy;&amp;vcy;&amp;iecy;&amp;kcy;&amp;acy;."/>
          <p:cNvPicPr/>
          <p:nvPr/>
        </p:nvPicPr>
        <p:blipFill>
          <a:blip r:embed="rId1"/>
          <a:stretch/>
        </p:blipFill>
        <p:spPr>
          <a:xfrm>
            <a:off x="6572160" y="1071720"/>
            <a:ext cx="1928880" cy="47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75f6d"/>
                </a:solidFill>
                <a:latin typeface="Arial"/>
              </a:rPr>
              <a:t>КОЖА ПОКРЫВАЕТ ВСЁ ТЕЛО ЧЕЛОВЕКА, ЗАЩИЩАЕТ ЕГО ОТ ВОЗДЕЙСТВИЯ ВНЕШНЕЙ СРЕДЫ. ЧЕРЕЗ ПОРЫ (ОТВЕРСТИЯ) КОЖИ ВЫДЕЛЯЮТСЯ ПОТ, ЖИР. ПО  СТЕПЕНИ ВЫДЕЛЕНИЯ ЖИРА РАЗЛИЧАЮТ ТИП КОЖИ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900"/>
            </a:br>
            <a:endParaRPr b="0" lang="en-US" sz="18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2786040"/>
            <a:ext cx="74674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6" descr="&amp;Zcy;&amp;acy;&amp;mcy;&amp;iecy;&amp;tcy;&amp;kcy;&amp;icy; &amp;ocy; &amp;pcy;&amp;ocy;&amp;dcy;&amp;dcy;&amp;iecy;&amp;rcy;&amp;zhcy;&amp;acy;&amp;ncy;&amp;icy;&amp;icy; &amp;zcy;&amp;dcy;&amp;ocy;&amp;rcy;&amp;ocy;&amp;vcy;&amp;softcy;&amp;yacy;, &amp;mcy;&amp;iecy;&amp;dcy;&amp;icy;&amp;tscy;&amp;icy;&amp;ncy;&amp;iecy;, &amp;pcy;&amp;iecy;&amp;rcy;&amp;vcy;&amp;ocy;&amp;jcy; &amp;pcy;&amp;ocy;&amp;mcy;&amp;ocy;&amp;shchcy;&amp;icy; &amp;pcy;&amp;rcy;&amp;icy; …"/>
          <p:cNvPicPr/>
          <p:nvPr/>
        </p:nvPicPr>
        <p:blipFill>
          <a:blip r:embed="rId1"/>
          <a:stretch/>
        </p:blipFill>
        <p:spPr>
          <a:xfrm>
            <a:off x="1643040" y="2857680"/>
            <a:ext cx="571500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pic>
        <p:nvPicPr>
          <p:cNvPr id="363" name="Picture 4" descr="&amp;Fcy;&amp;ucy;&amp;ncy;&amp;kcy;&amp;tscy;&amp;icy;&amp;icy; &amp;kcy;&amp;ocy;&amp;zhcy;&amp;icy; - &amp;Kcy;&amp;acy;&amp;rcy;&amp;tcy;&amp;icy;&amp;ncy;&amp;kcy;&amp;acy; 5765/38"/>
          <p:cNvPicPr/>
          <p:nvPr/>
        </p:nvPicPr>
        <p:blipFill>
          <a:blip r:embed="rId1"/>
          <a:stretch/>
        </p:blipFill>
        <p:spPr>
          <a:xfrm>
            <a:off x="428760" y="285840"/>
            <a:ext cx="842940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Arial"/>
              </a:rPr>
              <a:t>Жирная кожа лица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pic>
        <p:nvPicPr>
          <p:cNvPr id="365" name="Picture 4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657600" cy="487368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267080" y="1599840"/>
            <a:ext cx="3657600" cy="236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рная кожа лица отличается жирным блеском, расширенными порами. Жирная кожа лица считается проблемной, так как она склонная к появлению прыщей и угревой сыпи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6" descr=""/>
          <p:cNvPicPr/>
          <p:nvPr/>
        </p:nvPicPr>
        <p:blipFill>
          <a:blip r:embed="rId2"/>
          <a:stretch/>
        </p:blipFill>
        <p:spPr>
          <a:xfrm>
            <a:off x="4267080" y="4365720"/>
            <a:ext cx="36576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ru-RU" sz="3000" spc="-1" strike="noStrike">
                <a:solidFill>
                  <a:srgbClr val="575f6d"/>
                </a:solidFill>
                <a:latin typeface="Arial"/>
              </a:rPr>
              <a:t>Сухая кожа лица</a:t>
            </a:r>
            <a:endParaRPr b="0" lang="en-US" sz="3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598d9"/>
                </a:solidFill>
                <a:latin typeface="Arial"/>
              </a:rPr>
              <a:t>Сухая кожа лица может в зависимости от возраста  быть разной. В молодости сухая кожа кажется более естественной, так как она еще не успевает потерять былой упругости, в более зрелом возрасте, когда влаги в коже становится меньше, она выглядит старой, морщинистой, шелушащейся.</a:t>
            </a:r>
            <a:r>
              <a:rPr b="0" lang="ru-RU" sz="2000" spc="-1" strike="noStrike">
                <a:solidFill>
                  <a:srgbClr val="7598d9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267080" y="1600200"/>
            <a:ext cx="36576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1" name="Picture 11" descr=""/>
          <p:cNvPicPr/>
          <p:nvPr/>
        </p:nvPicPr>
        <p:blipFill>
          <a:blip r:embed="rId1"/>
          <a:stretch/>
        </p:blipFill>
        <p:spPr>
          <a:xfrm>
            <a:off x="4427640" y="1628640"/>
            <a:ext cx="34876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0T09:32:13Z</dcterms:created>
  <dc:creator>Светлана</dc:creator>
  <dc:description/>
  <dc:language>en-US</dc:language>
  <cp:lastModifiedBy>User</cp:lastModifiedBy>
  <dcterms:modified xsi:type="dcterms:W3CDTF">2015-04-27T18:26:32Z</dcterms:modified>
  <cp:revision>103</cp:revision>
  <dc:subject/>
  <dc:title>Правила личной гигиены человека.</dc:title>
</cp:coreProperties>
</file>