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E7CC-584D-4F23-9ED3-B9ADF167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B606-24B6-4236-8F39-787051F0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AEFC-3535-4987-AED8-19485D6F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CE41-4464-4F06-855C-89ED0D87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2FDE-93A3-459F-AA3C-5CB05F80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2963-A2D8-4849-A732-45C701AE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32F0-F946-4E31-98D1-A926AA1D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A4BC-512A-4041-AFC1-3E54DB76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8E6A-543C-44EB-AB43-DF22D5F9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3A08-E851-4A9B-8712-DFCDAC4B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18AB-6A5B-47E8-AE43-7AC196F3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FEBC-AEDC-4002-841F-1B3A8627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00E0-FDF3-4879-AC57-9C0E5B2B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7E82-17A1-48BE-BEE0-32BCA02D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82B0-6D5A-423C-AE69-FE51AC54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FF0D-99A8-492F-BCA0-91CE72F6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5916-D646-4A2B-9713-0CCEF63F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8F970-D6A9-4AEA-B89A-04533250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D21AE-2CA3-4EC3-A249-2E42C7AB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BFEC3-6D9D-475E-8FFB-854B704C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10BCA-5E85-49B5-B50F-145DD7CD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84781-2633-4E95-A373-F203DB91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F9B2-BF07-434B-BC9D-B037602B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FA1D7-79E7-4FB6-8E20-4A7C9F0B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4AF8D-A9EA-4B5E-8671-53E424DB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AD955-76B1-459B-9B19-353FC4A3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CE587-4B01-4932-BA97-61C716A6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A3C62-0A88-40F3-8094-272C25F0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17B44-1FEE-4697-B267-BE330CDC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54DB0-CB52-48A2-8E1F-096A63C4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F7DE9-1562-48AD-A3A4-0E0ED3E6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D18D-44EC-4D36-879B-7FB8DB59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E280-A8CE-49FF-9CDD-BB13AD02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57600-7505-4BC5-85F8-22908005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CF1A-9392-44D4-833B-25D22539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92CC-94F1-4097-A0F9-97C6CB7F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64B16-6E8C-436F-B79D-EC7F5E7A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48CCA-7DDB-4C6D-A072-2D90DA1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510B-82AF-4318-8AE2-DFB5EEB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B188-F10C-4860-9415-5C4F8DE7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5B17-9E3B-4B4E-BE98-4090A334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3348-4DF1-42CB-B929-778C8A93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8E6C5-55B8-47F1-86D5-B6551A54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70930-9EC4-4B81-8016-D52DA8A3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6519-8B4F-4AA6-BBD7-C0E74149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7AAD5-4D61-47F4-95E5-07B95F17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53725-906B-434B-89D4-C9FEF7ED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9F9A7-A738-4E10-A8EC-B1C8BC48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51865-90C6-4645-B674-3872955E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985A4-F9D9-433C-9633-99236B1B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C2981-97FF-4664-8AD5-942C9F09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18FAC-302B-45AF-B648-3B739F8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31B5A-CB33-4661-93C5-538654DD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B10BA-4739-4BEB-BA77-DD828379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49018A-0BC8-4CD8-B275-40D84D3B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FDC2-B819-458E-9A07-6DFC98A4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D7D28-9B78-43EA-8D0E-5D63C835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DE2F2-8F2B-45E4-A83E-21956178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E76B7-3705-4A90-AF40-AF211A9F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21445-FEC1-4073-82D1-5A890F64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C130E-F66E-49D2-86E6-5216B7CD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D5A40-798D-431E-895B-342CD6D1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10D10-ACD1-4D09-A902-508BE3AA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79DB9-9DAF-490A-88FD-A3D2DDE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A1D4A-7513-4A45-9EA1-E061F25B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D412D-B09E-4B0A-9D53-361EC977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22F5-5884-42E9-A837-9AEF775F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F1F74-8D41-4D1E-9B5E-D1BB525F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1282E-E140-4971-844D-91806B08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5D641-9E80-4DE0-BD77-ED235CD6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7DD17-3A4E-4160-A81B-706A1765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FA950-26B8-4DC7-8F28-F947771A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01F8A-2AC6-4CCC-AD5C-A9E90A6E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E3A02-FE63-4B87-AC2C-63E9D9D6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4E83E-5FD8-4375-828B-6D0D7752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806DFB-9F18-44DE-8737-BB835599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E4CA2-7DCF-4A4E-95AC-D24BD687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C94F-E35A-4BBD-8ED9-D425CF9F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200A00-F33B-4E8D-8800-EC4694C3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0C83E9-E0FB-49F3-B801-C3BF13C5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66A30-7FBC-4D30-926F-E857E1B6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32CD2-A984-441B-8E04-EA488B65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8A0E7-D5C9-4875-839A-2865B545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A733-AF24-4EFF-BA71-2251339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478A-1F7C-4B75-9963-07AE2B6F8C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2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2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A3E3-0530-4CB3-AF45-3FB12B916A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A203-ED39-4AF7-A2F5-2944A847B3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8921-87A8-4851-A1A1-86EB2CFC9A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55EE-DDE8-476C-904D-47DB4D0F22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DC44-1AD7-4A83-B439-F21BCB410E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1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2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254E-8FC3-4F40-8179-EA66A5AF5F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Arial"/>
              </a:rPr>
              <a:t>КОЖА. 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"/>
              </a:rPr>
              <a:t>ЗНАЧЕНИЕ В ЖИЗНИ ЧЕЛОВЕКА.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Смешанная кожа лица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98d9"/>
                </a:solidFill>
                <a:latin typeface="Arial"/>
              </a:rPr>
              <a:t>смешанный или комбинированный тип кожи характеризуется тем, что жировой слой распределяется на поверхности кожи неравномерно. Такие части лица, как нос, подбородок и лоб обладают характерным для жирной кожи блеском, а остальные части лица проявляют признаки, присущие другим типам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4267080" y="1071720"/>
            <a:ext cx="3657600" cy="41432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286160" y="5214960"/>
            <a:ext cx="414504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Arial"/>
              </a:rPr>
              <a:t>С возрастом, когда гормоны перестают вырабатываться столь активно, смешанный тип кожи становится норма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Угревая сыпь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rcRect l="0" t="0" r="2346" b="0"/>
          <a:stretch/>
        </p:blipFill>
        <p:spPr>
          <a:xfrm>
            <a:off x="285840" y="1928880"/>
            <a:ext cx="3571920" cy="3571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2"/>
          <a:srcRect l="0" t="0" r="2349" b="0"/>
          <a:stretch/>
        </p:blipFill>
        <p:spPr>
          <a:xfrm>
            <a:off x="4714920" y="1785960"/>
            <a:ext cx="35719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128520" y="268200"/>
            <a:ext cx="780264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28760" y="15717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истота - умываться водой комнатной температуры (горячая вода снижает эластичность; холодная вода - закупорка выводных прото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ыть потеющие части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ушить обу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5"/>
          <a:stretch/>
        </p:blipFill>
        <p:spPr>
          <a:xfrm>
            <a:off x="5931000" y="4327560"/>
            <a:ext cx="304164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5479920" y="1420920"/>
            <a:ext cx="3670560" cy="458316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1" descr=""/>
          <p:cNvPicPr/>
          <p:nvPr/>
        </p:nvPicPr>
        <p:blipFill>
          <a:blip r:embed="rId2"/>
          <a:stretch/>
        </p:blipFill>
        <p:spPr>
          <a:xfrm>
            <a:off x="6480" y="-262080"/>
            <a:ext cx="8856360" cy="16941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285840" y="1856880"/>
            <a:ext cx="52862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гревать в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 препятствовать теплоотд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расивая и уд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егкая и практи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ятная человеку и окружаю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6"/>
          <p:cNvSpPr/>
          <p:nvPr/>
        </p:nvSpPr>
        <p:spPr>
          <a:xfrm>
            <a:off x="611280" y="888840"/>
            <a:ext cx="70452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ход за кожей заключается в выполнении некоторых прав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ойтесь каждый день теплой водой с использованием специальных средств (мыло, гель и т.п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няйте белье, чулки, носки, колготки, гольф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 выдавливайте прыщи, это может привести к воспален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райтесь употреблять в достаточном количестве свежие фрукты и овощи, молоко, это обеспечит организм достаточным количеством минеральных веществ и витаминов, что будет способствовать гладкой и чистой кож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холодное время года необходимо защищать кожу от обмороже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 носите одежду, которая вызывает у вас раздражение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900000" y="114012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редметы гигиены можно разделить на 2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, которыми можешь пользоваться только ты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ческа, зубная щетка, полотенце, мочал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, которыми могут пользоваться все члены семьи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убная паста, шампунь, мы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9" descr="Картинка 12 из 2270"/>
          <p:cNvPicPr/>
          <p:nvPr/>
        </p:nvPicPr>
        <p:blipFill>
          <a:blip r:embed="rId1"/>
          <a:stretch/>
        </p:blipFill>
        <p:spPr>
          <a:xfrm>
            <a:off x="1332000" y="3284640"/>
            <a:ext cx="3240000" cy="331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i?id=99310417&amp;tov=0"/>
          <p:cNvPicPr/>
          <p:nvPr/>
        </p:nvPicPr>
        <p:blipFill>
          <a:blip r:embed="rId2"/>
          <a:stretch/>
        </p:blipFill>
        <p:spPr>
          <a:xfrm>
            <a:off x="4932360" y="458136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3" descr="i?id=33841860&amp;tov=6"/>
          <p:cNvPicPr/>
          <p:nvPr/>
        </p:nvPicPr>
        <p:blipFill>
          <a:blip r:embed="rId3"/>
          <a:stretch/>
        </p:blipFill>
        <p:spPr>
          <a:xfrm>
            <a:off x="6588000" y="4076640"/>
            <a:ext cx="1484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Источник: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люстрации http://belava.ru/kartinki-kozha-lic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moi-roditeli.ru/pupil/bahaviour-development/skin-care-acn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tepliysviter.net/mesyatsa-rebenku-poyavilis-prishchiki-na-lits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picknbuy.ru/cat/list.php?section=219&amp;PAGEN_1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КОЖА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ружный защитный покров тела человека, в котором находятся корни волос, потовые и сальные железы и нервные окончания. Она богато снабжена кровеносными сосу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350" name="Picture 2" descr="&amp;Ocy; &amp;kcy;&amp;ocy;&amp;zhcy;&amp;iecy;"/>
          <p:cNvPicPr/>
          <p:nvPr/>
        </p:nvPicPr>
        <p:blipFill>
          <a:blip r:embed="rId1"/>
          <a:srcRect l="0" t="0" r="2359" b="5804"/>
          <a:stretch/>
        </p:blipFill>
        <p:spPr>
          <a:xfrm>
            <a:off x="142920" y="142920"/>
            <a:ext cx="4929120" cy="3786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&amp;Kcy;&amp;ocy;&amp;zhcy;&amp;acy; &amp;chcy;&amp;iecy;&amp;lcy;&amp;ocy;&amp;vcy;&amp;iecy;&amp;kcy;&amp;acy; &amp;fcy;&amp;ocy;&amp;tcy;&amp;ocy; - &amp;Fcy;&amp;ocy;&amp;tcy;&amp;ocy; &amp;tscy;&amp;vcy;&amp;iecy;&amp;tcy;&amp;ocy;&amp;vcy;"/>
          <p:cNvPicPr/>
          <p:nvPr/>
        </p:nvPicPr>
        <p:blipFill>
          <a:blip r:embed="rId2"/>
          <a:stretch/>
        </p:blipFill>
        <p:spPr>
          <a:xfrm>
            <a:off x="5072040" y="29289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НАЗВАНИЯ СЛОЕВ КОЖИ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2356920"/>
            <a:ext cx="746748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пидерм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Жировая тк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&amp;scy;&amp;tcy;&amp;rcy;&amp;acy;&amp;scy;&amp;tcy;&amp;icy;-&amp;Mcy;&amp;Ocy;&amp;Rcy;&amp;Dcy;&amp;Acy;-&amp;scy;&amp;tcy;&amp;icy; (&amp;lcy;&amp;icy;&amp;tscy;&amp;iecy;&amp;vcy;&amp;acy;&amp;yacy; &amp;gcy;&amp;icy;&amp;mcy;&amp;ncy;&amp;acy;&amp;scy;&amp;tcy;&amp;icy;&amp;kcy;&amp;acy;)-&amp;tcy;&amp;ocy;&amp;mcy; XII &amp;Fcy;&amp;ocy;&amp;rcy;&amp;ucy;&amp;mcy; eDiet.r…"/>
          <p:cNvPicPr/>
          <p:nvPr/>
        </p:nvPicPr>
        <p:blipFill>
          <a:blip r:embed="rId1"/>
          <a:stretch/>
        </p:blipFill>
        <p:spPr>
          <a:xfrm>
            <a:off x="3857760" y="1500120"/>
            <a:ext cx="4616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3080" y="3139920"/>
            <a:ext cx="630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42960" y="213840"/>
            <a:ext cx="3409920" cy="61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ее состояние влияют климатические воздействия, условия труда. Кожа тесно связана с жизнедеятельностью всего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гигиенических правил является одним из условий, которые определяют культуру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, которые всегда следят за своей чистотой, никогда не болеют, а если и болеют, то очень ред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214680" y="213840"/>
            <a:ext cx="255276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&amp;Scy;&amp;tcy;&amp;rcy;&amp;ocy;&amp;iecy;&amp;ncy;&amp;icy;&amp;iecy; &amp;icy; &amp;fcy;&amp;ucy;&amp;ncy;&amp;kcy;&amp;tscy;&amp;icy;&amp;icy; &amp;kcy;&amp;ocy;&amp;zhcy;&amp;icy; &amp;chcy;&amp;iecy;&amp;lcy;&amp;ocy;&amp;vcy;&amp;iecy;&amp;kcy;&amp;acy;."/>
          <p:cNvPicPr/>
          <p:nvPr/>
        </p:nvPicPr>
        <p:blipFill>
          <a:blip r:embed="rId1"/>
          <a:stretch/>
        </p:blipFill>
        <p:spPr>
          <a:xfrm>
            <a:off x="6572160" y="1071720"/>
            <a:ext cx="19288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75f6d"/>
                </a:solidFill>
                <a:latin typeface="Arial"/>
              </a:rPr>
              <a:t>КОЖА ПОКРЫВАЕТ ВСЁ ТЕЛО ЧЕЛОВЕКА, ЗАЩИЩАЕТ ЕГО ОТ ВОЗДЕЙСТВИЯ ВНЕШНЕЙ СРЕДЫ. ЧЕРЕЗ ПОРЫ (ОТВЕРСТИЯ) КОЖИ ВЫДЕЛЯЮТСЯ ПОТ, ЖИР. ПО  СТЕПЕНИ ВЫДЕЛЕНИЯ ЖИРА РАЗЛИЧАЮТ ТИП КОЖИ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278604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&amp;Zcy;&amp;acy;&amp;mcy;&amp;iecy;&amp;tcy;&amp;kcy;&amp;icy; &amp;ocy; &amp;pcy;&amp;ocy;&amp;dcy;&amp;dcy;&amp;iecy;&amp;rcy;&amp;zhcy;&amp;acy;&amp;ncy;&amp;icy;&amp;icy; &amp;zcy;&amp;dcy;&amp;ocy;&amp;rcy;&amp;ocy;&amp;vcy;&amp;softcy;&amp;yacy;, &amp;mcy;&amp;iecy;&amp;dcy;&amp;icy;&amp;tscy;&amp;icy;&amp;ncy;&amp;iecy;, &amp;pcy;&amp;iecy;&amp;rcy;&amp;vcy;&amp;ocy;&amp;jcy; &amp;pcy;&amp;ocy;&amp;mcy;&amp;ocy;&amp;shchcy;&amp;icy; &amp;pcy;&amp;rcy;&amp;icy; …"/>
          <p:cNvPicPr/>
          <p:nvPr/>
        </p:nvPicPr>
        <p:blipFill>
          <a:blip r:embed="rId1"/>
          <a:stretch/>
        </p:blipFill>
        <p:spPr>
          <a:xfrm>
            <a:off x="1643040" y="2857680"/>
            <a:ext cx="57150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363" name="Picture 4" descr="&amp;Fcy;&amp;ucy;&amp;ncy;&amp;kcy;&amp;tscy;&amp;icy;&amp;icy; &amp;kcy;&amp;ocy;&amp;zhcy;&amp;icy; - &amp;Kcy;&amp;acy;&amp;rcy;&amp;tcy;&amp;icy;&amp;ncy;&amp;kcy;&amp;acy; 5765/38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Жирная кожа лица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8736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267080" y="1599840"/>
            <a:ext cx="3657600" cy="23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ная кожа лица отличается жирным блеском, расширенными порами. Жирная кожа лица считается проблемной, так как она склонная к появлению прыщей и угревой сыпи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"/>
          <p:cNvPicPr/>
          <p:nvPr/>
        </p:nvPicPr>
        <p:blipFill>
          <a:blip r:embed="rId2"/>
          <a:stretch/>
        </p:blipFill>
        <p:spPr>
          <a:xfrm>
            <a:off x="4267080" y="4365720"/>
            <a:ext cx="36576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Сухая кожа лица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98d9"/>
                </a:solidFill>
                <a:latin typeface="Arial"/>
              </a:rPr>
              <a:t>Сухая кожа лица может в зависимости от возраста  быть разной. В молодости сухая кожа кажется более естественной, так как она еще не успевает потерять былой упругости, в более зрелом возрасте, когда влаги в коже становится меньше, она выглядит старой, морщинистой, шелушащейся.</a:t>
            </a:r>
            <a:r>
              <a:rPr b="0" lang="ru-RU" sz="2000" spc="-1" strike="noStrike">
                <a:solidFill>
                  <a:srgbClr val="7598d9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26708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11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34876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9:32:13Z</dcterms:created>
  <dc:creator>Светлана</dc:creator>
  <dc:description/>
  <dc:language>en-US</dc:language>
  <cp:lastModifiedBy>User</cp:lastModifiedBy>
  <dcterms:modified xsi:type="dcterms:W3CDTF">2015-04-27T18:26:32Z</dcterms:modified>
  <cp:revision>103</cp:revision>
  <dc:subject/>
  <dc:title>Правила личной гигиены человека.</dc:title>
</cp:coreProperties>
</file>