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5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AC7-2118-4374-8C7A-6FAEB09F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265C-0F8B-4069-84DA-FCE9BC7A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3EF5-E3E2-4605-8C0D-4006B556D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5F3-31C6-436E-AF74-E50CB3F0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989-14BC-4875-8697-0ECC9CB4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8D5-7169-4824-900F-19065B7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8852-9D07-456A-A5DA-62CD2FF9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7CA-D859-421D-A8D1-A27D2EA1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93B-93EB-49B1-82A1-39A81490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628-7A1F-41B3-990B-278CB8B0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63BE-2D7E-4664-8665-F572578B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53AE-71FD-4CEC-BE4F-AA25C338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F293-61C6-45CB-A879-06663A64F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6.gif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6.gif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6.gif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6.gif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nachalo4ka.ru/wp-content/uploads/2014/08/obrazets-slayda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Муниципальное автономное дошкольное образовательное учреждение  «Детский сад №21» «Золотая рыбка» с приоритетным осуществлением деятельности по физическому  развитию дете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463680" y="1768320"/>
            <a:ext cx="83516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-139680" y="1139760"/>
            <a:ext cx="1060560" cy="426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021520" y="5396040"/>
            <a:ext cx="1068480" cy="1487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"/>
          <p:cNvPicPr/>
          <p:nvPr/>
        </p:nvPicPr>
        <p:blipFill>
          <a:blip r:embed="rId4"/>
          <a:stretch/>
        </p:blipFill>
        <p:spPr>
          <a:xfrm>
            <a:off x="2411280" y="2421000"/>
            <a:ext cx="4130640" cy="27493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5636520" y="5394240"/>
            <a:ext cx="23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Квест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Морские да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9" descr=""/>
          <p:cNvPicPr/>
          <p:nvPr/>
        </p:nvPicPr>
        <p:blipFill>
          <a:blip r:embed="rId5"/>
          <a:stretch/>
        </p:blipFill>
        <p:spPr>
          <a:xfrm>
            <a:off x="1200240" y="-201600"/>
            <a:ext cx="67309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" descr=""/>
          <p:cNvPicPr/>
          <p:nvPr/>
        </p:nvPicPr>
        <p:blipFill>
          <a:blip r:embed="rId2"/>
          <a:stretch/>
        </p:blipFill>
        <p:spPr>
          <a:xfrm>
            <a:off x="-109440" y="1090440"/>
            <a:ext cx="4059000" cy="512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211960" y="5559480"/>
            <a:ext cx="932040" cy="1298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4"/>
          <a:stretch/>
        </p:blipFill>
        <p:spPr>
          <a:xfrm>
            <a:off x="3348000" y="1989000"/>
            <a:ext cx="3301920" cy="2463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9"/>
          <p:cNvSpPr/>
          <p:nvPr/>
        </p:nvSpPr>
        <p:spPr>
          <a:xfrm>
            <a:off x="3059280" y="4941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Собери ко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1" descr=""/>
          <p:cNvPicPr/>
          <p:nvPr/>
        </p:nvPicPr>
        <p:blipFill>
          <a:blip r:embed="rId5"/>
          <a:stretch/>
        </p:blipFill>
        <p:spPr>
          <a:xfrm>
            <a:off x="2133720" y="-231840"/>
            <a:ext cx="4913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317520" y="841320"/>
            <a:ext cx="1084320" cy="526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4"/>
          <a:stretch/>
        </p:blipFill>
        <p:spPr>
          <a:xfrm>
            <a:off x="3292560" y="4327560"/>
            <a:ext cx="3209760" cy="24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Атася\Desktop\ФОТО\морские дали\морское путешествие\P7080132.JPG"/>
          <p:cNvPicPr/>
          <p:nvPr/>
        </p:nvPicPr>
        <p:blipFill>
          <a:blip r:embed="rId5"/>
          <a:stretch/>
        </p:blipFill>
        <p:spPr>
          <a:xfrm>
            <a:off x="2962440" y="1189080"/>
            <a:ext cx="3566880" cy="5315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2077920" y="3887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мандные сорев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9" descr=""/>
          <p:cNvPicPr/>
          <p:nvPr/>
        </p:nvPicPr>
        <p:blipFill>
          <a:blip r:embed="rId6"/>
          <a:stretch/>
        </p:blipFill>
        <p:spPr>
          <a:xfrm>
            <a:off x="969840" y="-231840"/>
            <a:ext cx="7766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82080" y="5516640"/>
            <a:ext cx="961920" cy="1341360"/>
          </a:xfrm>
          <a:prstGeom prst="rect">
            <a:avLst/>
          </a:prstGeom>
          <a:ln w="0">
            <a:noFill/>
          </a:ln>
        </p:spPr>
      </p:pic>
      <p:pic>
        <p:nvPicPr>
          <p:cNvPr id="105" name="Схема 4" descr=""/>
          <p:cNvPicPr/>
          <p:nvPr/>
        </p:nvPicPr>
        <p:blipFill>
          <a:blip r:embed="rId3"/>
          <a:stretch/>
        </p:blipFill>
        <p:spPr>
          <a:xfrm>
            <a:off x="1859040" y="201600"/>
            <a:ext cx="7169040" cy="2906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4"/>
          <a:stretch/>
        </p:blipFill>
        <p:spPr>
          <a:xfrm>
            <a:off x="2700360" y="3367080"/>
            <a:ext cx="5079960" cy="31748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5"/>
          <a:stretch/>
        </p:blipFill>
        <p:spPr>
          <a:xfrm>
            <a:off x="-244440" y="-341280"/>
            <a:ext cx="4780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  <p:pic>
        <p:nvPicPr>
          <p:cNvPr id="110" name="Схема 4" descr=""/>
          <p:cNvPicPr/>
          <p:nvPr/>
        </p:nvPicPr>
        <p:blipFill>
          <a:blip r:embed="rId3"/>
          <a:stretch/>
        </p:blipFill>
        <p:spPr>
          <a:xfrm>
            <a:off x="1743120" y="371520"/>
            <a:ext cx="7047000" cy="27684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"/>
          <p:cNvPicPr/>
          <p:nvPr/>
        </p:nvPicPr>
        <p:blipFill>
          <a:blip r:embed="rId4"/>
          <a:stretch/>
        </p:blipFill>
        <p:spPr>
          <a:xfrm>
            <a:off x="3608280" y="3203640"/>
            <a:ext cx="3319560" cy="33195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9" descr=""/>
          <p:cNvPicPr/>
          <p:nvPr/>
        </p:nvPicPr>
        <p:blipFill>
          <a:blip r:embed="rId5"/>
          <a:stretch/>
        </p:blipFill>
        <p:spPr>
          <a:xfrm>
            <a:off x="-328680" y="-378000"/>
            <a:ext cx="44928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едераль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осударствен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тель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тандарт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ошкольного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инистерство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ук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оссийско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едераци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ка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т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17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ктябр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2013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г.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.1155 об утверждени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i077.radikal.ru/1502/63/707c88cdcf2b.gif"/>
          <p:cNvPicPr/>
          <p:nvPr/>
        </p:nvPicPr>
        <p:blipFill>
          <a:blip r:embed="rId2"/>
          <a:stretch/>
        </p:blipFill>
        <p:spPr>
          <a:xfrm>
            <a:off x="1403280" y="312840"/>
            <a:ext cx="900360" cy="10764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2133720" y="695160"/>
            <a:ext cx="483372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Анимация Дети"/>
          <p:cNvPicPr/>
          <p:nvPr/>
        </p:nvPicPr>
        <p:blipFill>
          <a:blip r:embed="rId4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53280" y="558000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3"/>
          <a:stretch/>
        </p:blipFill>
        <p:spPr>
          <a:xfrm>
            <a:off x="2444760" y="-55440"/>
            <a:ext cx="3760920" cy="17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24000" y="1052640"/>
          <a:ext cx="8496000" cy="5087880"/>
        </p:xfrm>
        <a:graphic>
          <a:graphicData uri="http://schemas.openxmlformats.org/drawingml/2006/table">
            <a:tbl>
              <a:tblPr/>
              <a:tblGrid>
                <a:gridCol w="6027480"/>
                <a:gridCol w="1324080"/>
                <a:gridCol w="1144440"/>
              </a:tblGrid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4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Напр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педагогических работников прошедших курсовую подготов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Доля роста физических качеств воспитанни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родителей участвующих в мероприятиях ДО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. Недостаточное оснащение игровых площадок нетрадиционным оборудование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вышение профессиональной компетенции педагогических работников по вопросам развития физических кач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в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спитанников, уровня физической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готовленности (быстрота, ловкость, меткость) воспитанников, и педагогическое просвещение родителей по вопросам развития физических качеств детей в летний период в условиях федерального образовательного стандарта и приоритетного направления образовательной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0000" y="5459400"/>
            <a:ext cx="98100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3"/>
          <a:stretch/>
        </p:blipFill>
        <p:spPr>
          <a:xfrm>
            <a:off x="2262240" y="122400"/>
            <a:ext cx="4973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064720" cy="524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. Пройти курсовую подготовку педагогическим работникам (не менее 20%)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Повысить уровень физической подготовленности (быстрота, ловкость, меткость) воспитанников на 10 %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.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Привлечь не менее 15% родителей в процесс развития физических качеств воспитанников в летний перио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4. Пополнить игровые участки нетрадиционным оборудованием для развития физических качеств в летний период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4680" y="5445000"/>
            <a:ext cx="936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3"/>
          <a:stretch/>
        </p:blipFill>
        <p:spPr>
          <a:xfrm>
            <a:off x="1828800" y="231840"/>
            <a:ext cx="54370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8000" y="30780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40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088480" y="5038560"/>
            <a:ext cx="1223640" cy="17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279360" y="546120"/>
          <a:ext cx="7977240" cy="6084720"/>
        </p:xfrm>
        <a:graphic>
          <a:graphicData uri="http://schemas.openxmlformats.org/drawingml/2006/table">
            <a:tbl>
              <a:tblPr/>
              <a:tblGrid>
                <a:gridCol w="5392800"/>
                <a:gridCol w="789120"/>
                <a:gridCol w="919080"/>
                <a:gridCol w="87624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5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7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педагогических работников, имеющих грамоты, поощрения на уровне ДОУ в летний пери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 Доля педагогических работников, представивших опыт через мастер-классы, для родителей и сотруд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педагогических работников прошедших курсовую подготов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роста физических качеств воспитан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Доля воспитанников, получивших призовые места на уровне ДОУ в летний пери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воспитанников посещавших спортивные кружки, секции в учебном г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. Победа в городских спортивных соревнованиях, посвященных Дню физкуль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Доля родителей участвующих в мероприятиях Д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Прямоугольник 2" descr=""/>
          <p:cNvPicPr/>
          <p:nvPr/>
        </p:nvPicPr>
        <p:blipFill>
          <a:blip r:embed="rId3"/>
          <a:stretch/>
        </p:blipFill>
        <p:spPr>
          <a:xfrm>
            <a:off x="1054080" y="-122400"/>
            <a:ext cx="7827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5904000" y="264168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2" descr=""/>
          <p:cNvPicPr/>
          <p:nvPr/>
        </p:nvPicPr>
        <p:blipFill>
          <a:blip r:embed="rId2"/>
          <a:stretch/>
        </p:blipFill>
        <p:spPr>
          <a:xfrm>
            <a:off x="-6480" y="426960"/>
            <a:ext cx="9047160" cy="600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Анимация Дети"/>
          <p:cNvPicPr/>
          <p:nvPr/>
        </p:nvPicPr>
        <p:blipFill>
          <a:blip r:embed="rId3"/>
          <a:stretch/>
        </p:blipFill>
        <p:spPr>
          <a:xfrm>
            <a:off x="7885080" y="5103720"/>
            <a:ext cx="12589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3240" y="-87480"/>
            <a:ext cx="9144000" cy="6944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066160" y="5334120"/>
            <a:ext cx="1081080" cy="15224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" descr=""/>
          <p:cNvPicPr/>
          <p:nvPr/>
        </p:nvPicPr>
        <p:blipFill>
          <a:blip r:embed="rId3"/>
          <a:stretch/>
        </p:blipFill>
        <p:spPr>
          <a:xfrm>
            <a:off x="-182520" y="768240"/>
            <a:ext cx="1219320" cy="6516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3419640" y="5229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ионер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9" descr=""/>
          <p:cNvPicPr/>
          <p:nvPr/>
        </p:nvPicPr>
        <p:blipFill>
          <a:blip r:embed="rId4"/>
          <a:stretch/>
        </p:blipFill>
        <p:spPr>
          <a:xfrm>
            <a:off x="1189080" y="-109440"/>
            <a:ext cx="6778440" cy="1474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"/>
          <p:cNvPicPr/>
          <p:nvPr/>
        </p:nvPicPr>
        <p:blipFill>
          <a:blip r:embed="rId5"/>
          <a:stretch/>
        </p:blipFill>
        <p:spPr>
          <a:xfrm>
            <a:off x="2556000" y="2133720"/>
            <a:ext cx="42606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1073160"/>
            <a:ext cx="2279880" cy="483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Анимация Дети"/>
          <p:cNvPicPr/>
          <p:nvPr/>
        </p:nvPicPr>
        <p:blipFill>
          <a:blip r:embed="rId3"/>
          <a:stretch/>
        </p:blipFill>
        <p:spPr>
          <a:xfrm>
            <a:off x="7991640" y="5373720"/>
            <a:ext cx="1066680" cy="1484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4"/>
          <a:stretch/>
        </p:blipFill>
        <p:spPr>
          <a:xfrm>
            <a:off x="3059280" y="1773360"/>
            <a:ext cx="3647880" cy="2739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 flipV="1" rot="10800000">
            <a:off x="3419640" y="4604760"/>
            <a:ext cx="35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вероаэроб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9" descr=""/>
          <p:cNvPicPr/>
          <p:nvPr/>
        </p:nvPicPr>
        <p:blipFill>
          <a:blip r:embed="rId5"/>
          <a:stretch/>
        </p:blipFill>
        <p:spPr>
          <a:xfrm>
            <a:off x="1390680" y="-60480"/>
            <a:ext cx="6619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7T04:35:01Z</dcterms:created>
  <dc:creator>D!akov RePack</dc:creator>
  <dc:description/>
  <dc:language>en-US</dc:language>
  <cp:lastModifiedBy>МБДОУДС21</cp:lastModifiedBy>
  <dcterms:modified xsi:type="dcterms:W3CDTF">2016-10-19T03:47:10Z</dcterms:modified>
  <cp:revision>122</cp:revision>
  <dc:subject/>
  <dc:title>Презентация PowerPoint</dc:title>
</cp:coreProperties>
</file>