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471-6121-4F6E-A93C-EF225DC2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441-0B65-46F9-9471-19CFD841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2CF8-C520-4A17-8219-2B98E188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DC18-AD8D-450F-86A7-E8A1007A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46C-2898-4D77-855E-1A88E2CC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F55-0720-4C01-A459-6CD2CFA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DE1C-5C5A-4AC4-AAF4-7E620192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E3D-04E0-44D1-9C8D-8DB996DA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794-6DB7-4178-BF7A-940131BC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5D3-88AD-48A9-A638-A012C664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56C-6DA2-43FC-BC59-3193FB5C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3802-64C9-4705-8C66-E30B32BD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E3B1-5CF5-4F39-A755-F19EF57BC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2000" y="1523880"/>
            <a:ext cx="408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ЗЕНТАЦИЯ К УРОКУ ПО Т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ЛИНЕЙНАЯ ФУНК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81080" y="2819520"/>
            <a:ext cx="56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ла учитель математики ГБОУ СОШ №18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качёва В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24400" y="493560"/>
            <a:ext cx="65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Линейная функция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это функция, в которую переменная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11430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ходит в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1-й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75248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Линейна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адается урав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909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 = к х +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х, у – переменные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k, b -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58128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я переменной Х – эт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3581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зависим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64832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я переменной У – эт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4572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исимой перем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4864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и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инейной ф-ции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54100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пря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6248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Расположени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ямой зависит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62485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ов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83560" y="228600"/>
            <a:ext cx="85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писать общий вид уравнения функции, соответствующей данным графи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и являются коэффициенты    К  и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43828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81080" y="6091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38280" y="2017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57400" y="5335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143000" y="990360"/>
            <a:ext cx="1981080" cy="25146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493560"/>
            <a:ext cx="8763120" cy="6364080"/>
            <a:chOff x="380880" y="493560"/>
            <a:chExt cx="8763120" cy="6364080"/>
          </a:xfrm>
        </p:grpSpPr>
        <p:sp>
          <p:nvSpPr>
            <p:cNvPr id="62" name=""/>
            <p:cNvSpPr/>
            <p:nvPr/>
          </p:nvSpPr>
          <p:spPr>
            <a:xfrm>
              <a:off x="4481280" y="5065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62320" y="3236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80880" y="493560"/>
              <a:ext cx="8763120" cy="6364080"/>
              <a:chOff x="380880" y="493560"/>
              <a:chExt cx="8763120" cy="6364080"/>
            </a:xfrm>
          </p:grpSpPr>
          <p:sp>
            <p:nvSpPr>
              <p:cNvPr id="65" name=""/>
              <p:cNvSpPr/>
              <p:nvPr/>
            </p:nvSpPr>
            <p:spPr>
              <a:xfrm>
                <a:off x="8062920" y="316080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24680" y="5065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380880" y="493560"/>
                <a:ext cx="8763120" cy="6364080"/>
                <a:chOff x="380880" y="493560"/>
                <a:chExt cx="8763120" cy="636408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8596080" y="194148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224480" y="49356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380880" y="609120"/>
                  <a:ext cx="8763120" cy="6248520"/>
                  <a:chOff x="380880" y="609120"/>
                  <a:chExt cx="8763120" cy="624852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914400" y="3352320"/>
                    <a:ext cx="3733920" cy="3505320"/>
                    <a:chOff x="914400" y="3352320"/>
                    <a:chExt cx="3733920" cy="350532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1523880" y="5562720"/>
                      <a:ext cx="31244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 flipV="1">
                      <a:off x="3124080" y="3352320"/>
                      <a:ext cx="0" cy="3505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914400" y="4800600"/>
                      <a:ext cx="3733920" cy="1295280"/>
                    </a:xfrm>
                    <a:prstGeom prst="line">
                      <a:avLst/>
                    </a:prstGeom>
                    <a:ln w="381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6095880" y="3352680"/>
                    <a:ext cx="3048120" cy="3353040"/>
                    <a:chOff x="6095880" y="3352680"/>
                    <a:chExt cx="3048120" cy="335304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>
                      <a:off x="6095880" y="5562720"/>
                      <a:ext cx="3048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7848720" y="3352680"/>
                      <a:ext cx="0" cy="3276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6781680" y="4724280"/>
                      <a:ext cx="2362320" cy="1981440"/>
                    </a:xfrm>
                    <a:prstGeom prst="line">
                      <a:avLst/>
                    </a:prstGeom>
                    <a:ln w="38160">
                      <a:solidFill>
                        <a:srgbClr val="8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9" name=""/>
                  <p:cNvGrpSpPr/>
                  <p:nvPr/>
                </p:nvGrpSpPr>
                <p:grpSpPr>
                  <a:xfrm>
                    <a:off x="380880" y="609120"/>
                    <a:ext cx="8534520" cy="3429000"/>
                    <a:chOff x="380880" y="609120"/>
                    <a:chExt cx="8534520" cy="3429000"/>
                  </a:xfrm>
                </p:grpSpPr>
                <p:grpSp>
                  <p:nvGrpSpPr>
                    <p:cNvPr id="80" name=""/>
                    <p:cNvGrpSpPr/>
                    <p:nvPr/>
                  </p:nvGrpSpPr>
                  <p:grpSpPr>
                    <a:xfrm>
                      <a:off x="5105520" y="609480"/>
                      <a:ext cx="3809880" cy="3353040"/>
                      <a:chOff x="5105520" y="609480"/>
                      <a:chExt cx="3809880" cy="3353040"/>
                    </a:xfrm>
                  </p:grpSpPr>
                  <p:sp>
                    <p:nvSpPr>
                      <p:cNvPr id="81" name=""/>
                      <p:cNvSpPr/>
                      <p:nvPr/>
                    </p:nvSpPr>
                    <p:spPr>
                      <a:xfrm flipV="1">
                        <a:off x="7086600" y="609480"/>
                        <a:ext cx="0" cy="3353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5105520" y="2438280"/>
                        <a:ext cx="38098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6095880" y="914400"/>
                        <a:ext cx="2514600" cy="2209680"/>
                      </a:xfrm>
                      <a:prstGeom prst="line">
                        <a:avLst/>
                      </a:prstGeom>
                      <a:ln w="38160">
                        <a:solidFill>
                          <a:srgbClr val="008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380880" y="609120"/>
                      <a:ext cx="3124440" cy="3429000"/>
                      <a:chOff x="380880" y="609120"/>
                      <a:chExt cx="3124440" cy="342900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380880" y="2438280"/>
                        <a:ext cx="31244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 flipV="1">
                        <a:off x="1981080" y="609120"/>
                        <a:ext cx="0" cy="34290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87" name=""/>
                      <p:cNvSpPr/>
                      <p:nvPr/>
                    </p:nvSpPr>
                    <p:spPr>
                      <a:xfrm flipV="1">
                        <a:off x="1143000" y="990360"/>
                        <a:ext cx="1981080" cy="2514600"/>
                      </a:xfrm>
                      <a:prstGeom prst="line">
                        <a:avLst/>
                      </a:prstGeom>
                      <a:ln w="38160">
                        <a:solidFill>
                          <a:srgbClr val="0000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88" name=""/>
          <p:cNvSpPr/>
          <p:nvPr/>
        </p:nvSpPr>
        <p:spPr>
          <a:xfrm>
            <a:off x="3352680" y="1143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9144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lt;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&gt;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4114800"/>
            <a:ext cx="2133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2670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=кх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&gt;o;b&lt;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95400" y="380880"/>
            <a:ext cx="9239040" cy="6181920"/>
            <a:chOff x="-95400" y="380880"/>
            <a:chExt cx="9239040" cy="618192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-95400" y="380880"/>
              <a:ext cx="9239040" cy="618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V="1">
              <a:off x="714240" y="2252520"/>
              <a:ext cx="8153280" cy="228600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038720" y="278568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24120" y="2709720"/>
              <a:ext cx="25146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72400" y="3508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221360" y="2557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441720" y="264960"/>
            <a:ext cx="35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тавить уравнение фун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дающей данный граф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029200" y="4114800"/>
            <a:ext cx="3825720" cy="1191240"/>
            <a:chOff x="5029200" y="4114800"/>
            <a:chExt cx="3825720" cy="1191240"/>
          </a:xfrm>
        </p:grpSpPr>
        <p:sp>
          <p:nvSpPr>
            <p:cNvPr id="101" name=""/>
            <p:cNvSpPr/>
            <p:nvPr/>
          </p:nvSpPr>
          <p:spPr>
            <a:xfrm>
              <a:off x="5029200" y="4114800"/>
              <a:ext cx="382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.к. график прох. через т. (7; 2 )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то при х=7 у=2         2 = 7 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 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620120" y="4764240"/>
                  <a:ext cx="2062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"/>
          <p:cNvGrpSpPr/>
          <p:nvPr/>
        </p:nvGrpSpPr>
        <p:grpSpPr>
          <a:xfrm>
            <a:off x="4876920" y="5410080"/>
            <a:ext cx="4054320" cy="622440"/>
            <a:chOff x="4876920" y="5410080"/>
            <a:chExt cx="4054320" cy="622440"/>
          </a:xfrm>
        </p:grpSpPr>
        <p:grpSp>
          <p:nvGrpSpPr>
            <p:cNvPr id="104" name=""/>
            <p:cNvGrpSpPr/>
            <p:nvPr/>
          </p:nvGrpSpPr>
          <p:grpSpPr>
            <a:xfrm>
              <a:off x="4876920" y="5410080"/>
              <a:ext cx="4054320" cy="622440"/>
              <a:chOff x="4876920" y="5410080"/>
              <a:chExt cx="4054320" cy="622440"/>
            </a:xfrm>
          </p:grpSpPr>
          <p:sp>
            <p:nvSpPr>
              <p:cNvPr id="105" name=""/>
              <p:cNvSpPr/>
              <p:nvPr/>
            </p:nvSpPr>
            <p:spPr>
              <a:xfrm>
                <a:off x="4876920" y="5599080"/>
                <a:ext cx="4054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У =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6" name=""/>
                  <p:cNvSpPr txBox="1"/>
                  <p:nvPr/>
                </p:nvSpPr>
                <p:spPr>
                  <a:xfrm>
                    <a:off x="5502240" y="5410080"/>
                    <a:ext cx="241200" cy="62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07" name=""/>
            <p:cNvSpPr/>
            <p:nvPr/>
          </p:nvSpPr>
          <p:spPr>
            <a:xfrm>
              <a:off x="5716800" y="55990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127480" y="906480"/>
            <a:ext cx="34070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ик прох. через т( 0; 0 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, уравнение ф-ции имеет вид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 = к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239400" cy="6181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28600" y="2286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3х –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0,2 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х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46483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У = - х -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5029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У = - 4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У = 0,2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10666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= 3х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676160" y="1219320"/>
            <a:ext cx="5562360" cy="4800600"/>
            <a:chOff x="1676160" y="1219320"/>
            <a:chExt cx="5562360" cy="4800600"/>
          </a:xfrm>
        </p:grpSpPr>
        <p:sp>
          <p:nvSpPr>
            <p:cNvPr id="116" name=""/>
            <p:cNvSpPr/>
            <p:nvPr/>
          </p:nvSpPr>
          <p:spPr>
            <a:xfrm flipV="1">
              <a:off x="4343400" y="1523520"/>
              <a:ext cx="1371600" cy="3962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1219320"/>
              <a:ext cx="1219320" cy="4800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676160" y="2514600"/>
              <a:ext cx="5562360" cy="11430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1828440" y="2819520"/>
              <a:ext cx="3048120" cy="312408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239400" cy="618156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4191120" y="2666880"/>
            <a:ext cx="761760" cy="1524240"/>
            <a:chOff x="4191120" y="2666880"/>
            <a:chExt cx="761760" cy="1524240"/>
          </a:xfrm>
        </p:grpSpPr>
        <p:sp>
          <p:nvSpPr>
            <p:cNvPr id="122" name=""/>
            <p:cNvSpPr/>
            <p:nvPr/>
          </p:nvSpPr>
          <p:spPr>
            <a:xfrm>
              <a:off x="4572000" y="33526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2666880"/>
              <a:ext cx="75960" cy="76320"/>
            </a:xfrm>
            <a:custGeom>
              <a:avLst/>
              <a:gdLst>
                <a:gd name="textAreaLeft" fmla="*/ 3600 w 75960"/>
                <a:gd name="textAreaRight" fmla="*/ 72360 w 75960"/>
                <a:gd name="textAreaTop" fmla="*/ 3600 h 76320"/>
                <a:gd name="textAreaBottom" fmla="*/ 72720 h 76320"/>
              </a:gdLst>
              <a:ahLst/>
              <a:rect l="textAreaLeft" t="textAreaTop" r="textAreaRight" b="textAreaBottom"/>
              <a:pathLst>
                <a:path w="21600" h="21702">
                  <a:moveTo>
                    <a:pt x="3600" y="0"/>
                  </a:moveTo>
                  <a:arcTo wR="3600" hR="3600" stAng="16200000" swAng="-5400000"/>
                  <a:lnTo>
                    <a:pt x="0" y="18102"/>
                  </a:lnTo>
                  <a:arcTo wR="3600" hR="3600" stAng="10800000" swAng="-5400000"/>
                  <a:lnTo>
                    <a:pt x="18000" y="217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6920" y="4114800"/>
              <a:ext cx="7596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270480" y="418320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. У = - 2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523880"/>
            <a:ext cx="2286000" cy="4419720"/>
          </a:xfrm>
          <a:prstGeom prst="line">
            <a:avLst/>
          </a:prstGeom>
          <a:ln w="5724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86040" y="476100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. У = - 2х 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1600200"/>
            <a:ext cx="2286000" cy="4419720"/>
          </a:xfrm>
          <a:prstGeom prst="line">
            <a:avLst/>
          </a:prstGeom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100400" y="4608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-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385680" y="537048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3. У = - 2х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657600" y="1523880"/>
            <a:ext cx="2286000" cy="4419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62880" y="1407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555 L -0.01667 0.15537 E">
                                      <p:cBhvr>
                                        <p:cTn id="19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555 L -0.01667 -0.31076 E">
                                      <p:cBhvr>
                                        <p:cTn id="21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47520" y="338040"/>
            <a:ext cx="9239040" cy="6181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79320" y="41760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У=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|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65840" y="399888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 = 2 х -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572000" y="2286000"/>
            <a:ext cx="1143000" cy="2462040"/>
            <a:chOff x="4572000" y="2286000"/>
            <a:chExt cx="1143000" cy="2462040"/>
          </a:xfrm>
        </p:grpSpPr>
        <p:sp>
          <p:nvSpPr>
            <p:cNvPr id="137" name=""/>
            <p:cNvSpPr/>
            <p:nvPr/>
          </p:nvSpPr>
          <p:spPr>
            <a:xfrm>
              <a:off x="4572000" y="44956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3352680"/>
              <a:ext cx="7596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4710240" y="2286000"/>
              <a:ext cx="1004760" cy="2462040"/>
              <a:chOff x="4710240" y="2286000"/>
              <a:chExt cx="1004760" cy="246204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710240" y="3465360"/>
                <a:ext cx="802800" cy="1282680"/>
                <a:chOff x="4710240" y="3465360"/>
                <a:chExt cx="802800" cy="12826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710240" y="4379760"/>
                  <a:ext cx="383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15160" y="3465360"/>
                  <a:ext cx="497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,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>
                <a:off x="5638680" y="22860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"/>
          <p:cNvSpPr/>
          <p:nvPr/>
        </p:nvSpPr>
        <p:spPr>
          <a:xfrm flipV="1">
            <a:off x="5181480" y="762120"/>
            <a:ext cx="1371600" cy="26668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809880" y="3429000"/>
            <a:ext cx="1371600" cy="266688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71800" y="788400"/>
            <a:ext cx="1324080" cy="2690640"/>
          </a:xfrm>
          <a:prstGeom prst="line">
            <a:avLst/>
          </a:prstGeom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34120" y="445608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Все, что «ниже» оси О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носим симметрич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вер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1219320"/>
            <a:ext cx="7010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на ф-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- 3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их коорд. четвертях лежит график данной ф-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ходит ли данный график через точ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( -4; 12 ) ; В ( 7,35 ; 21, 45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пользовать график ф-ции  у = - 3х для построения графика ф-ции у = - 3х +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3х +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066680"/>
            <a:ext cx="76201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ить графики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5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4х –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- 2х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43434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|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х 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- 2 |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ktoria</cp:lastModifiedBy>
  <dcterms:modified xsi:type="dcterms:W3CDTF">2012-10-04T10:33:5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