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F636-B637-4320-9BFB-4FDADFE4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D0D-0937-46FB-8760-150F1D00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E4E-C677-4F67-BFB0-26B5D569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8B0D-DB96-45CF-A64A-6C37E75C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C641-1F88-46E8-B8B1-A1D45056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5176-FF62-4195-A7F1-FF850528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D83-F576-4C6D-8254-C57CFF54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8CF-3BFA-4585-825C-D2A6397D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DF31-10B3-49DA-A0AF-81FC1B10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03E2-7D20-4707-BC3C-77135B92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9A7A-6596-4100-8636-BA702CAE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715B-7250-412B-926D-4884EEA3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6C2B-0DEE-4E99-A421-E1C3BACE3E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gto"/>
          <p:cNvPicPr/>
          <p:nvPr/>
        </p:nvPicPr>
        <p:blipFill>
          <a:blip r:embed="rId1"/>
          <a:srcRect l="0" t="0" r="0" b="21816"/>
          <a:stretch/>
        </p:blipFill>
        <p:spPr>
          <a:xfrm>
            <a:off x="324000" y="1628640"/>
            <a:ext cx="8353440" cy="3816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зентация на тем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ё про ГТ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427640" y="5516640"/>
            <a:ext cx="4495680" cy="11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ыков Е.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№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бедева Е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ГТ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тов к труду и обороне (ГТО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 разрабатываемая программная и нормативная основа физического воспитания населения России. Регулируется "Положением о Всероссийском физкультурно-спортивном комплексе «Готов к труду и обор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ГТ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 апреля 2013 года президент России поручил правительству России разработать Всероссийский физкультурно-спортивный комплекс. Государственный музей спорта с 10 сентября по 15 ноября 2013 года провёл всероссийский конкурс на разработку названия, эскизов знака и талисмана для комплекса. В результате конкурса было определено название «Горжусь тобой, Отечество» и около 20 эскизов знаков представлены для голосования среди населения. В 2013 году велись разработки проекта комплекса «Горжусь тобой, Отечество». Для принявших участие в тестировании, но не выполнивших нормативы, предполагался знак «Участник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ссовая сдача норм ГТО в 2014 году. г. Салават, Республика Башкорто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4 марта 2014 года президент России подписал указ, которым постановил до 15 июня 2014 года утвердить «Положение о Всероссийском физкультурно-спортивном комплексе „Готов к труду и обороне“ (ГТО)», до 1 августа разработать сопутствующие нормативно-правовые акты и ввести комплекс в действие с 1 сентябр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едение комплекса разделено на четыре этап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изационно-экспериментальный этап с 24 марта до сентября 2014 года. Исследования возрастных групп для уточнения нормативов и создание правовой базы. Исследования проводятся в 12 субъектах Р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пробационный этап с сентября 2014 года по август 2015 года. Введение на федеральном, региональном и муниципальном уровн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дренческий этап с сентября 2015 года по декабрь 2016 года. Введение во все организации, апробация среди работающих и пожил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изационный этап с января 2017 года. Введение во все возрастные категор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 отличия Всероссийского физкультурно-спортивного комплекс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Готов к труду и обороне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нзовый, серебряный и золотой знаки отличия ГТО соответствуют трём видам сложности. Золотой знак может получить выполнивший нормативы, соответствующие серебряному знаку отличия, и имеющий спортивные звания и разряды не ниже второго юношеског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tn_179705_b773dcae9d95"/>
          <p:cNvPicPr/>
          <p:nvPr/>
        </p:nvPicPr>
        <p:blipFill>
          <a:blip r:embed="rId1"/>
          <a:stretch/>
        </p:blipFill>
        <p:spPr>
          <a:xfrm>
            <a:off x="826920" y="1844640"/>
            <a:ext cx="73072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ытания Г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ночный бег 3×10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 30, 60, 100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 1000; 1500; 2000; 2500; 3000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ыжок в длину с места, тройной прыжок в длину с места и прыжок в длину с разб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тягивания на низкой (из виса лежа) и высокой (из виса) переклади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гибание и разгибание рук в упоре ле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нимание туловища из положения лежа на спине за 1 мину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 вперёд из положения стоя на полу или гимнастической ска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ание спортивного снаряда в цель и на д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вок гири 16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вание 10, 15, 25, 50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 на лыжах или кросс по пересеченной местности 1, 2, 3, 5, 1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льба из пневматической винтовки или электронного оружия из положения сидя и положения ст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истский поход с проверкой туристских нав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рмативы ГТ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42472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 будет содержать 11 ступеней. Для каждой ступени предлагаются собственные наз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ступень: 1—2 классы (6—8 ле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I ступень: 3—4 классы (9—10 ле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II ступень: 5—6 классы (11—12 ле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V ступень: 7—9 классы (13—15 ле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 ступень: 10—11 классы, среднее профессиональное образование (16—17 ле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I ступень: 18—29 л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II ступень: 30—39 л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III ступень: 40—49 л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X ступень: 50—59 л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 ступень: 60—69 л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I ступень: 70 лет и стар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2868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28800" y="285480"/>
            <a:ext cx="77580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язательные испытания состоят из тестов на силу, быстроту, гибкость и выносливость. Испытания по выбору состоят из тестов на координационные способности и прикладные навыки. Для подготовки к испытаниям даются рекомендации к недельному двигательному режиму. Комплекс может также содержать оценку знания о гигиене занятий физической культурой, основы истории развития физической культуры и основы методики самостоятельных занят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 испытаний на VI ступень для мужчин 18—29 лет из комплекса «Горжусь тобой, Отечество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0" y="1628640"/>
          <a:ext cx="914400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14400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5T17:32:51Z</dcterms:created>
  <dc:creator>Customer</dc:creator>
  <dc:description/>
  <dc:language>en-US</dc:language>
  <cp:lastModifiedBy>Мой</cp:lastModifiedBy>
  <dcterms:modified xsi:type="dcterms:W3CDTF">2017-10-16T15:22:12Z</dcterms:modified>
  <cp:revision>3</cp:revision>
  <dc:subject/>
  <dc:title>Презентация на тему:”Всё про ГТО”</dc:title>
</cp:coreProperties>
</file>