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094-BCB4-4E43-ABEC-C002700F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B2E-6FF0-4A1A-8C90-BB9DDDA7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29F-77D8-4B05-8D10-D2F315B1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31D-CFF4-4E80-9383-0D98E14F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7F05-26AF-417F-83B6-E9D97A9A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CF42-8E00-420F-85B9-CEC444EA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8874-E55F-4A44-80F8-D3425D945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D50C-CE94-4306-B2E6-33901DAE3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91911-EA0A-4882-88CC-4F024BE0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976E-E48D-4BB8-8614-E3B90A2B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1DEA-5708-4FEB-8A6D-B52503BB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94F4-B581-4F78-877D-B8F707E1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8B83-813E-4A97-B62D-18F90DE3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0491-02F3-48AD-9AF1-579139E7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A561-A22A-4ED0-B7C1-5B111F51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AD9D-EFAB-4260-B42A-13B391FB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AB26-7CF4-4F41-AEF0-7F6F3F23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DEB9-7EC2-49E4-904C-593FE508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E8C2-A42C-4BD6-AF71-FA77CDAE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98C7-C13F-4408-880E-301BBE36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7E41-A94E-4D94-8493-DA54EC3A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ADEC-6CFB-4DCF-93CC-7BBCF34B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2C34-3424-4F8E-88BA-28BB6732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BA0-8553-4CEC-9EF2-8FDF12C0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7858-355D-4C79-BCE8-C16EF62B594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22D26-5B57-4976-B1BD-78ED9564A22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6912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db69"/>
                </a:solidFill>
                <a:latin typeface="Arial"/>
              </a:rPr>
              <a:t>7 класс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dbdb69"/>
                </a:solidFill>
                <a:latin typeface="Arial"/>
              </a:rPr>
              <a:t>Тема:</a:t>
            </a:r>
            <a:br>
              <a:rPr sz="4800"/>
            </a:br>
            <a:r>
              <a:rPr b="0" lang="en-US" sz="4800" spc="-1" strike="noStrike">
                <a:solidFill>
                  <a:srgbClr val="dbdb69"/>
                </a:solidFill>
                <a:latin typeface="Arial"/>
              </a:rPr>
              <a:t>«Математика повсюду»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4365720"/>
            <a:ext cx="564048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Учитель математи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Хоменкова З.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ОГКОУ «Юрьевецкая школа-интернат»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8920" y="189000"/>
            <a:ext cx="73868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925"/>
              </a:spcBef>
              <a:buSzPct val="1028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4be74f"/>
                </a:solidFill>
                <a:latin typeface="Arial"/>
              </a:rPr>
              <a:t>Банкиры</a:t>
            </a:r>
            <a:endParaRPr b="0" lang="en-US" sz="117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116000" y="2060640"/>
            <a:ext cx="568800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be74f"/>
                </a:solidFill>
                <a:latin typeface="Arial"/>
              </a:rPr>
              <a:t>Раскройщики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979640" y="3429000"/>
            <a:ext cx="47037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63520" y="188640"/>
            <a:ext cx="73864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51"/>
              </a:spcBef>
              <a:buSzPct val="10287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200" spc="-1" strike="noStrike">
                <a:solidFill>
                  <a:srgbClr val="4be74f"/>
                </a:solidFill>
                <a:latin typeface="Arial"/>
              </a:rPr>
              <a:t>Повара</a:t>
            </a:r>
            <a:endParaRPr b="0" lang="en-US" sz="10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3311640" cy="34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3059280" y="2276640"/>
            <a:ext cx="2717640" cy="3457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5724360" y="2276640"/>
            <a:ext cx="25927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be74f"/>
                </a:solidFill>
                <a:latin typeface="Arial"/>
              </a:rPr>
              <a:t>Конструкторы</a:t>
            </a:r>
            <a:endParaRPr b="0" lang="en-US" sz="8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3357720"/>
            <a:ext cx="4067280" cy="27176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4067280" y="3357720"/>
            <a:ext cx="367164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Что вам понравилось сегодня на уроке?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          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умею…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онимаю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Знаю…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6T15:48:08Z</dcterms:created>
  <dc:creator>марина</dc:creator>
  <dc:description/>
  <dc:language>en-US</dc:language>
  <cp:lastModifiedBy>марина</cp:lastModifiedBy>
  <dcterms:modified xsi:type="dcterms:W3CDTF">2017-10-16T18:05:36Z</dcterms:modified>
  <cp:revision>2</cp:revision>
  <dc:subject/>
  <dc:title> Тема: «Математика повсюду»</dc:title>
</cp:coreProperties>
</file>