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ABD-7358-4CB4-8025-E66AD231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608-9225-400C-8885-8A0CDB1F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76B-151F-4117-B9B5-541C313E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18A-7164-404A-99CF-B227EA72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FEB4-1F2B-422B-A53D-5784BF23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2E5F-31CB-4BED-912B-B992D85B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91CA-16EE-4916-A44E-CC567AD8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7526-1279-4E81-816A-5031CF98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A317-E5AE-453A-8B5E-A6F64453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88CF-FDCA-46E4-AF9B-947AA50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0EA-6010-4917-ADC3-BB8A29D7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D6E-0100-4BEC-AE71-5E41D5F0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A833-FFCD-42A4-89F0-278DA639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70AC-C565-42D0-A09C-20320A8B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2DF-1729-4E7E-8560-B09BF9FA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D2FE-256C-4A31-A0E6-C3FA1BCE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1817-5B51-456B-B269-B59C91F6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7BB-187E-4767-AD63-62C6D0AA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C26-1870-4BBE-881C-A4D50F19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720-ED52-430A-B7A7-F0FF50E6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C86-F200-4B83-8EF7-26ABFADF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F73-45FC-4280-BE9A-524AE98D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7A8-A6CB-4463-AF7E-75AE98A8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F2B-F402-4EF8-ABD9-B2DCE26B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0923-1F00-46EE-87A0-596A321B280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53D4-7D52-4DCF-AE76-95392229204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912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db69"/>
                </a:solidFill>
                <a:latin typeface="Arial"/>
              </a:rPr>
              <a:t>7 класс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dbdb69"/>
                </a:solidFill>
                <a:latin typeface="Arial"/>
              </a:rPr>
              <a:t>Тема:</a:t>
            </a:r>
            <a:br>
              <a:rPr sz="4800"/>
            </a:br>
            <a:r>
              <a:rPr b="0" lang="en-US" sz="4800" spc="-1" strike="noStrike">
                <a:solidFill>
                  <a:srgbClr val="dbdb69"/>
                </a:solidFill>
                <a:latin typeface="Arial"/>
              </a:rPr>
              <a:t>«Математика повсюду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365720"/>
            <a:ext cx="56404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итель математи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Хоменкова З.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ГКОУ «Юрьевецкая школа-интернат»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73868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25"/>
              </a:spcBef>
              <a:buSzPct val="1028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4be74f"/>
                </a:solidFill>
                <a:latin typeface="Arial"/>
              </a:rPr>
              <a:t>Банкиры</a:t>
            </a:r>
            <a:endParaRPr b="0" lang="en-US" sz="1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5688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be74f"/>
                </a:solidFill>
                <a:latin typeface="Arial"/>
              </a:rPr>
              <a:t>Раскройщики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979640" y="3429000"/>
            <a:ext cx="4703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8864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51"/>
              </a:spcBef>
              <a:buSzPct val="1028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200" spc="-1" strike="noStrike">
                <a:solidFill>
                  <a:srgbClr val="4be74f"/>
                </a:solidFill>
                <a:latin typeface="Arial"/>
              </a:rPr>
              <a:t>Повара</a:t>
            </a:r>
            <a:endParaRPr b="0" lang="en-US" sz="10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311640" cy="34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059280" y="2276640"/>
            <a:ext cx="2717640" cy="3457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724360" y="2276640"/>
            <a:ext cx="2592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be74f"/>
                </a:solidFill>
                <a:latin typeface="Arial"/>
              </a:rPr>
              <a:t>Конструкторы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067280" cy="2717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067280" y="3357720"/>
            <a:ext cx="367164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 вам понравилось сегодня на уро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мею…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нимаю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наю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15:48:08Z</dcterms:created>
  <dc:creator>марина</dc:creator>
  <dc:description/>
  <dc:language>en-US</dc:language>
  <cp:lastModifiedBy>марина</cp:lastModifiedBy>
  <dcterms:modified xsi:type="dcterms:W3CDTF">2017-10-16T18:05:36Z</dcterms:modified>
  <cp:revision>2</cp:revision>
  <dc:subject/>
  <dc:title> Тема: «Математика повсюду»</dc:title>
</cp:coreProperties>
</file>