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197D-4C46-4869-A43C-A43BEF85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CF2A-2020-4B32-875F-486518C8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C04-CD4C-4299-A60B-AA37D906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A4A-6D74-4748-950D-9A4B42AE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220E5-CF82-4E99-A6CA-F696EBBF9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1860-B555-4C35-810B-DB55E045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77D7C-ECAE-43B5-BD7E-B55B8D11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56E3-C652-465C-88CC-3E5B4287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C631-7E27-46EC-B0C5-8880C26B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CC06-F307-41AB-908B-C26038A1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FF35-ACB7-44C3-A6A5-54B4F62B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52E-909F-4566-9321-3B430BB6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C762-14F4-4C3D-B03C-146AD263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0B41-1477-482F-94AF-77C68B38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F398-9BBE-407A-B9F5-7E9B5A5E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3250-CAD1-4D2F-951C-8CD940B87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7E2B-65B8-4147-80C2-1EDB9FAF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364-6E9B-48AC-88A5-5EC3384F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EB1-826A-4CDD-8DD2-5E2EF347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AB2-37EA-4A3F-A624-40F34FFB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C04C-16EF-497B-A733-49F2B74F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057F-9985-4E63-AC54-945AB146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9A9B-2E94-4F60-9C42-DB11D1B0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DE48-4C84-43E1-9F6F-DE3669F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E0E0-91FC-46F8-8D0F-1B50E383A1F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E992-1F3A-48E4-8A65-71C3AF35FDA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Управление народного образования администрации городского округа г.Бор Нижегородской области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БДОУ детский сад №19 «Земляничка»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1" name="Rectangle 3"/>
          <p:cNvGrpSpPr/>
          <p:nvPr/>
        </p:nvGrpSpPr>
        <p:grpSpPr>
          <a:xfrm>
            <a:off x="828720" y="1847880"/>
            <a:ext cx="8138880" cy="4765680"/>
            <a:chOff x="828720" y="1847880"/>
            <a:chExt cx="8138880" cy="4765680"/>
          </a:xfrm>
        </p:grpSpPr>
        <p:pic>
          <p:nvPicPr>
            <p:cNvPr id="92" name="Rectangle 3" descr=""/>
            <p:cNvPicPr/>
            <p:nvPr/>
          </p:nvPicPr>
          <p:blipFill>
            <a:blip r:embed="rId1"/>
            <a:stretch/>
          </p:blipFill>
          <p:spPr>
            <a:xfrm>
              <a:off x="830160" y="1850760"/>
              <a:ext cx="813744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28720" y="1847880"/>
              <a:ext cx="8136000" cy="47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imes New Roman"/>
                </a:rPr>
                <a:t>Семинар-практикум  на тему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800" spc="-1" strike="noStrike">
                  <a:solidFill>
                    <a:srgbClr val="ff3300"/>
                  </a:solidFill>
                  <a:latin typeface="Times New Roman"/>
                </a:rPr>
                <a:t>«Организация коррекционно-развивающей работы с детьми с синдромом Дауна»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Выполнила: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Учитель -логопед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ТУЛУПОВА М.И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4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4" name="Picture 6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316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Программы ранней помощи детям с ОВЗ</a:t>
            </a:r>
            <a:br>
              <a:rPr sz="2800"/>
            </a:br>
            <a:r>
              <a:rPr b="1" i="1" lang="ru-RU" sz="2800" spc="-1" strike="noStrike">
                <a:solidFill>
                  <a:srgbClr val="006666"/>
                </a:solidFill>
                <a:latin typeface="Times New Roman"/>
              </a:rPr>
              <a:t>(с синдромом Дауна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0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М.Питерси, Р.Трилор.  Маленькие ступеньки. Программа ранней педагогической помощи детям с отклонениями в развитии.  М.: 2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Н.М.Джонсон-Мартин, С.М.Аттермиер, Кннет Г. Дженс, Брони Дж. Хакер. Программа «КАРОЛИНА» для младенцев и детей младшего возраста с особыми потребностями. Под ред. Н.Ю.Барановой. Спб, 2005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imes New Roman"/>
              </a:rPr>
              <a:t>О.Ю.Кравец, И.А.Рыбкина, А.Е.Иванова и др. Ступеньки: комплексная коррекционно-развивающая программа для детей раннего и младшего возраста. под ред. Н.В.Серебрякова.Спб, 200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2484360" y="5084640"/>
            <a:ext cx="1128960" cy="1629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5076720" y="4797360"/>
            <a:ext cx="1328760" cy="191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250920" y="4797360"/>
            <a:ext cx="1315800" cy="1916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4"/>
          <a:stretch/>
        </p:blipFill>
        <p:spPr>
          <a:xfrm>
            <a:off x="7451640" y="4869000"/>
            <a:ext cx="1162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6666"/>
                </a:solidFill>
                <a:latin typeface="Times New Roman"/>
              </a:rPr>
              <a:t>Программа ранней педагогической помощи детям с отклонениями в развитии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«Маленькие ступеньки»</a:t>
            </a:r>
            <a:br>
              <a:rPr sz="2200"/>
            </a:br>
            <a:r>
              <a:rPr b="1" lang="ru-RU" sz="2200" spc="-1" strike="noStrike">
                <a:solidFill>
                  <a:srgbClr val="006666"/>
                </a:solidFill>
                <a:latin typeface="Times New Roman"/>
              </a:rPr>
              <a:t>(основные положения)</a:t>
            </a:r>
            <a:endParaRPr b="0" lang="en-US" sz="2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42" name="Diagram 3"/>
          <p:cNvGrpSpPr/>
          <p:nvPr/>
        </p:nvGrpSpPr>
        <p:grpSpPr>
          <a:xfrm>
            <a:off x="1091160" y="1802880"/>
            <a:ext cx="7402680" cy="4480560"/>
            <a:chOff x="1091160" y="1802880"/>
            <a:chExt cx="7402680" cy="4480560"/>
          </a:xfrm>
        </p:grpSpPr>
        <p:sp>
          <p:nvSpPr>
            <p:cNvPr id="143" name="_s3076"/>
            <p:cNvSpPr/>
            <p:nvPr/>
          </p:nvSpPr>
          <p:spPr>
            <a:xfrm>
              <a:off x="3755880" y="2492280"/>
              <a:ext cx="1860480" cy="197136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_s3077"/>
            <p:cNvSpPr/>
            <p:nvPr/>
          </p:nvSpPr>
          <p:spPr>
            <a:xfrm>
              <a:off x="3755880" y="180288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ff"/>
                  </a:solidFill>
                  <a:latin typeface="Times New Roman"/>
                </a:rPr>
                <a:t>Учиться могут все де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_s3078"/>
            <p:cNvSpPr/>
            <p:nvPr/>
          </p:nvSpPr>
          <p:spPr>
            <a:xfrm>
              <a:off x="4427640" y="3009960"/>
              <a:ext cx="1860480" cy="197136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_s3079"/>
            <p:cNvSpPr/>
            <p:nvPr/>
          </p:nvSpPr>
          <p:spPr>
            <a:xfrm>
              <a:off x="6420240" y="3137400"/>
              <a:ext cx="18608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imes New Roman"/>
                </a:rPr>
                <a:t>Родители как педагоги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imes New Roman"/>
                </a:rPr>
                <a:t>играют самую важную рол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_s3080"/>
            <p:cNvSpPr/>
            <p:nvPr/>
          </p:nvSpPr>
          <p:spPr>
            <a:xfrm>
              <a:off x="4171320" y="3847680"/>
              <a:ext cx="1860480" cy="19713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_s3081"/>
            <p:cNvSpPr/>
            <p:nvPr/>
          </p:nvSpPr>
          <p:spPr>
            <a:xfrm>
              <a:off x="5758200" y="5790600"/>
              <a:ext cx="1860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По-настоящему эффективная программ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должна удовлетворять потреб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ff"/>
                  </a:solidFill>
                  <a:latin typeface="Times New Roman"/>
                </a:rPr>
                <a:t>ребенка и семь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_s3082"/>
            <p:cNvSpPr/>
            <p:nvPr/>
          </p:nvSpPr>
          <p:spPr>
            <a:xfrm>
              <a:off x="3340440" y="3847680"/>
              <a:ext cx="1860480" cy="197136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_s3083"/>
            <p:cNvSpPr/>
            <p:nvPr/>
          </p:nvSpPr>
          <p:spPr>
            <a:xfrm>
              <a:off x="1753560" y="5790600"/>
              <a:ext cx="1860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Times New Roman"/>
                </a:rPr>
                <a:t>Необходимость ранней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Times New Roman"/>
                </a:rPr>
                <a:t>педагогическо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ff"/>
                  </a:solidFill>
                  <a:latin typeface="Times New Roman"/>
                </a:rPr>
                <a:t>помощ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_s3084"/>
            <p:cNvSpPr/>
            <p:nvPr/>
          </p:nvSpPr>
          <p:spPr>
            <a:xfrm>
              <a:off x="3083760" y="3009960"/>
              <a:ext cx="1860840" cy="197136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_s3085"/>
            <p:cNvSpPr/>
            <p:nvPr/>
          </p:nvSpPr>
          <p:spPr>
            <a:xfrm>
              <a:off x="1091160" y="3137400"/>
              <a:ext cx="1860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imes New Roman"/>
                </a:rPr>
                <a:t>Главное направление-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99"/>
                  </a:solidFill>
                  <a:latin typeface="Times New Roman"/>
                </a:rPr>
                <a:t>СОЦИАЛИЗАЦИ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153" name="Picture 28" descr=""/>
            <p:cNvPicPr/>
            <p:nvPr/>
          </p:nvPicPr>
          <p:blipFill>
            <a:blip r:embed="rId1"/>
            <a:stretch/>
          </p:blipFill>
          <p:spPr>
            <a:xfrm>
              <a:off x="7163280" y="3859560"/>
              <a:ext cx="1330560" cy="15109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Современные развивающие технологии в работе с детьми с синдромом Даун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4992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Физическое развит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дагогика оздоровле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.Д.Кудрявце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Пальчиковые шаги. Е.И.Чернова, Е.Ю.Тимофее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098680" y="1827360"/>
            <a:ext cx="358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Социально-личностное развит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предупредить отклонения в поведении ребенка. А.И.Захар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атрализация как средство социализации детей А.А.Морозов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468360" y="4149720"/>
            <a:ext cx="1295280" cy="1812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2"/>
          <a:stretch/>
        </p:blipFill>
        <p:spPr>
          <a:xfrm>
            <a:off x="2411280" y="4076640"/>
            <a:ext cx="1368720" cy="1992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3"/>
          <a:stretch/>
        </p:blipFill>
        <p:spPr>
          <a:xfrm>
            <a:off x="7093080" y="4508640"/>
            <a:ext cx="1446120" cy="19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Современные развивающие технологии в работе с детьми с синдромом Даун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240" y="1267920"/>
            <a:ext cx="56386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Познавательно-речевое развит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Развиваем! Формируем! Совершенствуем! А.В.Захаров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Ступеньки развития. Диагностика и коррекция ЗПР. Н.Ю.Боряков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Формирование познавательной активности у старших дошкольников с ЗПР средствами ознакомления с природой. Е.В. Клюшенков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Комбинированные игры в работе по познавательному развитию детей с нарушением познавательной сферы. Н.Ю.Боряков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Учим говорить особого ребенка. Т.Н.Тищенко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Система коррекционного воздействия при моторной алалии. Т.В.Пятница, Т.В.Башинская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- Формирование речи у дошкольников. Н.С.Жукова, Е.М.Мастюкова, Т.Б.Филичева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Технология активной музыкотерапии в логопедической работе  с по развитию фонематического восприятия А.В.Белицкая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920920" y="1196640"/>
            <a:ext cx="27622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Художетсевнно-эстетическое развит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актикум по сказкотерапии. Т.Д.Зинкевич-Евстигне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образительная деятельность в детском саду. М.Л.Лыко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7885080" y="5084640"/>
            <a:ext cx="863640" cy="1303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6659640" y="4292640"/>
            <a:ext cx="992160" cy="1360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1332000" y="5229360"/>
            <a:ext cx="888840" cy="1355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4"/>
          <a:stretch/>
        </p:blipFill>
        <p:spPr>
          <a:xfrm>
            <a:off x="250920" y="5157720"/>
            <a:ext cx="923760" cy="1432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5"/>
          <a:stretch/>
        </p:blipFill>
        <p:spPr>
          <a:xfrm>
            <a:off x="2484360" y="5157720"/>
            <a:ext cx="838440" cy="152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"/>
          <p:cNvPicPr/>
          <p:nvPr/>
        </p:nvPicPr>
        <p:blipFill>
          <a:blip r:embed="rId6"/>
          <a:stretch/>
        </p:blipFill>
        <p:spPr>
          <a:xfrm>
            <a:off x="4716360" y="5084640"/>
            <a:ext cx="928800" cy="1195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"/>
          <p:cNvPicPr/>
          <p:nvPr/>
        </p:nvPicPr>
        <p:blipFill>
          <a:blip r:embed="rId7"/>
          <a:stretch/>
        </p:blipFill>
        <p:spPr>
          <a:xfrm>
            <a:off x="6012000" y="5373720"/>
            <a:ext cx="874440" cy="1284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8"/>
          <a:stretch/>
        </p:blipFill>
        <p:spPr>
          <a:xfrm>
            <a:off x="3492360" y="5229360"/>
            <a:ext cx="897120" cy="120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69800" y="2565000"/>
            <a:ext cx="75229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Использование многофункциональных пособ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Использование интерактивных пан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Times New Roman"/>
              </a:rPr>
              <a:t>Использование современных ИКТ (КИС) в работе с дошкольниками с ОВ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Инновационные здоровьезберегающие технологии «БОС-здоровье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Сенсорная комната в условиях современного ДО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WordArt 3"/>
          <p:cNvSpPr txBox="1"/>
          <p:nvPr/>
        </p:nvSpPr>
        <p:spPr>
          <a:xfrm>
            <a:off x="1835280" y="549360"/>
            <a:ext cx="6481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нновационные средств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аботе с детьми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Тренажеры дыхания «БОС- здоровье»</a:t>
            </a:r>
            <a:br>
              <a:rPr sz="3200"/>
            </a:b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(«Играем и оздоравливаемся»)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986200" cy="2394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"/>
          <p:cNvPicPr/>
          <p:nvPr/>
        </p:nvPicPr>
        <p:blipFill>
          <a:blip r:embed="rId2"/>
          <a:stretch/>
        </p:blipFill>
        <p:spPr>
          <a:xfrm>
            <a:off x="4500720" y="2565360"/>
            <a:ext cx="4392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Основная ц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ррекционно-развивающей работы с детьми с синдромом Дауна 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альная адапт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приспособление к жизни и возможна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нтеграц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 обществ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витие психических функций и как можно более ранняя коррекция их недостатк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ние детей с синдромом Дауна, формирование у них правильного поведения. Основное внимание в этом разделе работы направлено на воспитание привыче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рудовое обучение, выработка навыков самообслуживания и подготовка к посильным видам хозяйственно - бытового труда. Необходимо выработать навыки самообслужива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циальная адаптация, бытовая ориентировка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WordArt 3"/>
          <p:cNvSpPr txBox="1"/>
          <p:nvPr/>
        </p:nvSpPr>
        <p:spPr>
          <a:xfrm>
            <a:off x="971640" y="33336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обенности организации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ррекционно-развивающего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цесса с детьми с синдромом Дауна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Diagram 7"/>
          <p:cNvGrpSpPr/>
          <p:nvPr/>
        </p:nvGrpSpPr>
        <p:grpSpPr>
          <a:xfrm>
            <a:off x="686880" y="7920"/>
            <a:ext cx="7765920" cy="5555160"/>
            <a:chOff x="686880" y="7920"/>
            <a:chExt cx="7765920" cy="5555160"/>
          </a:xfrm>
        </p:grpSpPr>
        <p:sp>
          <p:nvSpPr>
            <p:cNvPr id="179" name="_s4100"/>
            <p:cNvSpPr/>
            <p:nvPr/>
          </p:nvSpPr>
          <p:spPr>
            <a:xfrm flipH="1">
              <a:off x="2698560" y="3850920"/>
              <a:ext cx="935280" cy="42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_s4101"/>
            <p:cNvSpPr/>
            <p:nvPr/>
          </p:nvSpPr>
          <p:spPr>
            <a:xfrm>
              <a:off x="686880" y="3853440"/>
              <a:ext cx="2158920" cy="1709640"/>
            </a:xfrm>
            <a:prstGeom prst="ellipse">
              <a:avLst/>
            </a:prstGeom>
            <a:gradFill rotWithShape="0">
              <a:gsLst>
                <a:gs pos="0">
                  <a:srgbClr val="01bd0a">
                    <a:alpha val="49019"/>
                  </a:srgbClr>
                </a:gs>
                <a:gs pos="100000">
                  <a:srgbClr val="49cf4f">
                    <a:alpha val="24313"/>
                  </a:srgbClr>
                </a:gs>
              </a:gsLst>
              <a:lin ang="5400000"/>
            </a:gra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300" spc="-1" strike="noStrike">
                  <a:solidFill>
                    <a:srgbClr val="003399"/>
                  </a:solidFill>
                  <a:latin typeface="Times New Roman"/>
                </a:rPr>
                <a:t>3. «Совместное » внимание</a:t>
              </a: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_s4102"/>
            <p:cNvSpPr/>
            <p:nvPr/>
          </p:nvSpPr>
          <p:spPr>
            <a:xfrm>
              <a:off x="5501880" y="3853440"/>
              <a:ext cx="935280" cy="42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_s4103"/>
            <p:cNvSpPr/>
            <p:nvPr/>
          </p:nvSpPr>
          <p:spPr>
            <a:xfrm>
              <a:off x="6293160" y="3853440"/>
              <a:ext cx="2159640" cy="1709640"/>
            </a:xfrm>
            <a:prstGeom prst="ellipse">
              <a:avLst/>
            </a:prstGeom>
            <a:gradFill rotWithShape="0">
              <a:gsLst>
                <a:gs pos="0">
                  <a:srgbClr val="0399ff">
                    <a:alpha val="65098"/>
                  </a:srgbClr>
                </a:gs>
                <a:gs pos="100000">
                  <a:srgbClr val="62bffe">
                    <a:alpha val="28235"/>
                  </a:srgbClr>
                </a:gs>
              </a:gsLst>
              <a:lin ang="5400000"/>
            </a:gra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3399"/>
                  </a:solidFill>
                  <a:latin typeface="Times New Roman"/>
                </a:rPr>
                <a:t>2.Концентрация внимания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3399"/>
                  </a:solidFill>
                  <a:latin typeface="Times New Roman"/>
                </a:rPr>
                <a:t>на предмете или звуке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_s4104"/>
            <p:cNvSpPr/>
            <p:nvPr/>
          </p:nvSpPr>
          <p:spPr>
            <a:xfrm flipV="1">
              <a:off x="4569480" y="1717920"/>
              <a:ext cx="0" cy="85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_s4105"/>
            <p:cNvSpPr/>
            <p:nvPr/>
          </p:nvSpPr>
          <p:spPr>
            <a:xfrm>
              <a:off x="3489840" y="7920"/>
              <a:ext cx="2159640" cy="1709640"/>
            </a:xfrm>
            <a:prstGeom prst="ellipse">
              <a:avLst/>
            </a:prstGeom>
            <a:gradFill rotWithShape="0">
              <a:gsLst>
                <a:gs pos="0">
                  <a:srgbClr val="ff8c01">
                    <a:alpha val="56078"/>
                  </a:srgbClr>
                </a:gs>
                <a:gs pos="100000">
                  <a:srgbClr val="fec47e">
                    <a:alpha val="55294"/>
                  </a:srgbClr>
                </a:gs>
              </a:gsLst>
              <a:lin ang="5400000"/>
            </a:gra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3399"/>
                  </a:solidFill>
                  <a:latin typeface="Times New Roman"/>
                </a:rPr>
                <a:t>1.Концентрация внимания на человеке- 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3399"/>
                  </a:solidFill>
                  <a:latin typeface="Times New Roman"/>
                </a:rPr>
                <a:t>поддержание зрительного контакта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5" name="_s4106"/>
            <p:cNvSpPr/>
            <p:nvPr/>
          </p:nvSpPr>
          <p:spPr>
            <a:xfrm>
              <a:off x="3489840" y="2572920"/>
              <a:ext cx="2159640" cy="17089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Times New Roman"/>
                </a:rPr>
                <a:t>ПРИЕМЫ РАБОТЫ: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Times New Roman"/>
                </a:rPr>
                <a:t>Концентрирование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Times New Roman"/>
                </a:rPr>
                <a:t>внимания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РИЕМЫ РАБОТЫ: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формирование элементарных математических представлений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7" name="Diagram 6"/>
          <p:cNvGrpSpPr/>
          <p:nvPr/>
        </p:nvGrpSpPr>
        <p:grpSpPr>
          <a:xfrm>
            <a:off x="749520" y="1691280"/>
            <a:ext cx="7641720" cy="4959000"/>
            <a:chOff x="749520" y="1691280"/>
            <a:chExt cx="7641720" cy="4959000"/>
          </a:xfrm>
        </p:grpSpPr>
        <p:sp>
          <p:nvSpPr>
            <p:cNvPr id="188" name="_s5124"/>
            <p:cNvSpPr/>
            <p:nvPr/>
          </p:nvSpPr>
          <p:spPr>
            <a:xfrm>
              <a:off x="3606120" y="2396160"/>
              <a:ext cx="1928880" cy="201528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_s5125"/>
            <p:cNvSpPr/>
            <p:nvPr/>
          </p:nvSpPr>
          <p:spPr>
            <a:xfrm>
              <a:off x="3606120" y="1691280"/>
              <a:ext cx="192888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1.Представлять число как можно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большим количеством способов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_s5126"/>
            <p:cNvSpPr/>
            <p:nvPr/>
          </p:nvSpPr>
          <p:spPr>
            <a:xfrm>
              <a:off x="4340520" y="3163320"/>
              <a:ext cx="1928880" cy="201492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_s5127"/>
            <p:cNvSpPr/>
            <p:nvPr/>
          </p:nvSpPr>
          <p:spPr>
            <a:xfrm>
              <a:off x="6462360" y="3919680"/>
              <a:ext cx="192888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2.Необходимо задействовать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разные анализаторные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системы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2" name="_s5128"/>
            <p:cNvSpPr/>
            <p:nvPr/>
          </p:nvSpPr>
          <p:spPr>
            <a:xfrm>
              <a:off x="3606120" y="3930840"/>
              <a:ext cx="1928880" cy="201492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_s5129"/>
            <p:cNvSpPr/>
            <p:nvPr/>
          </p:nvSpPr>
          <p:spPr>
            <a:xfrm>
              <a:off x="3606120" y="6147000"/>
              <a:ext cx="19288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3.Разбивать задание на несколько шагов (частей)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_s5130"/>
            <p:cNvSpPr/>
            <p:nvPr/>
          </p:nvSpPr>
          <p:spPr>
            <a:xfrm>
              <a:off x="2871360" y="3163320"/>
              <a:ext cx="1929600" cy="2014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_s5131"/>
            <p:cNvSpPr/>
            <p:nvPr/>
          </p:nvSpPr>
          <p:spPr>
            <a:xfrm>
              <a:off x="749520" y="3919680"/>
              <a:ext cx="1929600" cy="5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4.Создание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поддерживающей 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среды</a:t>
              </a:r>
              <a:endParaRPr b="0" lang="en-US" sz="25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РИЕМЫ РАБОТЫ: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формирование коммуникативных способностей личност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7" name="Rectangle 3"/>
          <p:cNvGrpSpPr/>
          <p:nvPr/>
        </p:nvGrpSpPr>
        <p:grpSpPr>
          <a:xfrm>
            <a:off x="249120" y="1987560"/>
            <a:ext cx="8894880" cy="4608000"/>
            <a:chOff x="249120" y="1987560"/>
            <a:chExt cx="8894880" cy="4608000"/>
          </a:xfrm>
        </p:grpSpPr>
        <p:pic>
          <p:nvPicPr>
            <p:cNvPr id="198" name="Rectangle 3" descr=""/>
            <p:cNvPicPr/>
            <p:nvPr/>
          </p:nvPicPr>
          <p:blipFill>
            <a:blip r:embed="rId1"/>
            <a:stretch/>
          </p:blipFill>
          <p:spPr>
            <a:xfrm>
              <a:off x="249120" y="1987560"/>
              <a:ext cx="8894880" cy="46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250920" y="1988640"/>
              <a:ext cx="8893080" cy="46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8000"/>
                  </a:solidFill>
                  <a:latin typeface="Times New Roman"/>
                </a:rPr>
                <a:t>Коммуникативные способности,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8000"/>
                  </a:solidFill>
                  <a:latin typeface="Times New Roman"/>
                </a:rPr>
                <a:t>адаптированные для детей с синдромом Дауна: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ормирование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пособности воспринимать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 понимать речь окружающих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ормирование способности реагировать на речь окружающих;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ормирование способности  соблюдать очередность в разговоре;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вершенствование способности при помощи общения удовлетворять целый ряд своих потребностей - социальных, эмоциональных и материальных;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ормирование способности выражать свои желания - сначала жестами, позже отдельными словами, затем словосочетаниями;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99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ормирование способности завязывать и поддерживать разговор, ожидая реакции собеседника и реагируя на его слова; (Л.М.Шипицына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70160" y="333360"/>
            <a:ext cx="5865840" cy="3240000"/>
          </a:xfrm>
          <a:prstGeom prst="rect">
            <a:avLst/>
          </a:prstGeom>
          <a:gradFill rotWithShape="0">
            <a:gsLst>
              <a:gs pos="0">
                <a:srgbClr val="b2b2b2">
                  <a:alpha val="40000"/>
                </a:srgbClr>
              </a:gs>
              <a:gs pos="50000">
                <a:srgbClr val="33cccc">
                  <a:alpha val="60392"/>
                </a:srgbClr>
              </a:gs>
              <a:gs pos="100000">
                <a:srgbClr val="b2b2b2">
                  <a:alpha val="40000"/>
                </a:srgbClr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Синдром Дау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одна из наиболее частых генетических патологий, встречающихся примерно у 1 из 700 новорожденны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Times New Roman"/>
              </a:rPr>
              <a:t>Синдром Даун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- хромосомная болезнь, при которой нарушения познавательной сферы сочетаются со своеобразным внешним обликом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640" y="4149360"/>
            <a:ext cx="7416720" cy="2376360"/>
          </a:xfrm>
          <a:prstGeom prst="rect">
            <a:avLst/>
          </a:prstGeom>
          <a:gradFill rotWithShape="0">
            <a:gsLst>
              <a:gs pos="0">
                <a:srgbClr val="b2b2b2">
                  <a:alpha val="40000"/>
                </a:srgbClr>
              </a:gs>
              <a:gs pos="50000">
                <a:srgbClr val="33cccc">
                  <a:alpha val="60392"/>
                </a:srgbClr>
              </a:gs>
              <a:gs pos="100000">
                <a:srgbClr val="b2b2b2">
                  <a:alpha val="40000"/>
                </a:srgbClr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чина возникновения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явление лишней хромосомы в 21 паре (трисомия), была выявлена в 1959 год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деляют три варианта возникновения дефекта хромосомной пары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егулярная трисомия (95% случае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транслокационная форма (3-4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мозаичная форма (1-2 %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7"/>
          <p:cNvSpPr/>
          <p:nvPr/>
        </p:nvSpPr>
        <p:spPr>
          <a:xfrm rot="821400">
            <a:off x="7596360" y="2707920"/>
            <a:ext cx="1223640" cy="1428840"/>
          </a:xfrm>
          <a:custGeom>
            <a:avLst/>
            <a:gdLst>
              <a:gd name="textAreaLeft" fmla="*/ 163800 w 1223640"/>
              <a:gd name="textAreaRight" fmla="*/ 1059840 w 1223640"/>
              <a:gd name="textAreaTop" fmla="*/ 249840 h 1428840"/>
              <a:gd name="textAreaBottom" fmla="*/ 1036080 h 142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1051830"/>
                <a:lnTo>
                  <a:pt x="16035" y="19105"/>
                </a:lnTo>
                <a:lnTo>
                  <a:pt x="0" y="17280"/>
                </a:lnTo>
                <a:lnTo>
                  <a:pt x="16035" y="10465"/>
                </a:lnTo>
                <a:lnTo>
                  <a:pt x="16035" y="12625"/>
                </a:lnTo>
                <a:arcTo wR="21600" hR="7560" stAng="1051830" swAng="-694395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188640"/>
            <a:ext cx="73134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Times New Roman"/>
              </a:rPr>
              <a:t>Альтернативные системы общ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1" name="Diagram 7"/>
          <p:cNvGrpSpPr/>
          <p:nvPr/>
        </p:nvGrpSpPr>
        <p:grpSpPr>
          <a:xfrm>
            <a:off x="1725120" y="1522080"/>
            <a:ext cx="5690520" cy="5335560"/>
            <a:chOff x="1725120" y="1522080"/>
            <a:chExt cx="5690520" cy="5335560"/>
          </a:xfrm>
        </p:grpSpPr>
        <p:sp>
          <p:nvSpPr>
            <p:cNvPr id="202" name="_s6148"/>
            <p:cNvSpPr/>
            <p:nvPr/>
          </p:nvSpPr>
          <p:spPr>
            <a:xfrm>
              <a:off x="2904120" y="1522080"/>
              <a:ext cx="3333240" cy="3796560"/>
            </a:xfrm>
            <a:custGeom>
              <a:avLst/>
              <a:gdLst>
                <a:gd name="textAreaLeft" fmla="*/ 0 w 3333240"/>
                <a:gd name="textAreaRight" fmla="*/ 3333600 w 3333240"/>
                <a:gd name="textAreaTop" fmla="*/ 0 h 3796560"/>
                <a:gd name="textAreaBottom" fmla="*/ 3796920 h 379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_s6149"/>
            <p:cNvSpPr/>
            <p:nvPr/>
          </p:nvSpPr>
          <p:spPr>
            <a:xfrm rot="7200000">
              <a:off x="3124440" y="2649240"/>
              <a:ext cx="3796920" cy="3333240"/>
            </a:xfrm>
            <a:custGeom>
              <a:avLst/>
              <a:gdLst>
                <a:gd name="textAreaLeft" fmla="*/ 0 w 3796920"/>
                <a:gd name="textAreaRight" fmla="*/ 3797280 w 3796920"/>
                <a:gd name="textAreaTop" fmla="*/ 0 h 3333240"/>
                <a:gd name="textAreaBottom" fmla="*/ 3333600 h 333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00">
                <a:alpha val="47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_s6150"/>
            <p:cNvSpPr/>
            <p:nvPr/>
          </p:nvSpPr>
          <p:spPr>
            <a:xfrm rot="14400000">
              <a:off x="2219040" y="2648880"/>
              <a:ext cx="3796920" cy="3333240"/>
            </a:xfrm>
            <a:custGeom>
              <a:avLst/>
              <a:gdLst>
                <a:gd name="textAreaLeft" fmla="*/ 0 w 3796920"/>
                <a:gd name="textAreaRight" fmla="*/ 3797280 w 3796920"/>
                <a:gd name="textAreaTop" fmla="*/ 0 h 3333240"/>
                <a:gd name="textAreaBottom" fmla="*/ 3333600 h 3333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c99ff">
                <a:alpha val="7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_s6151"/>
            <p:cNvSpPr/>
            <p:nvPr/>
          </p:nvSpPr>
          <p:spPr>
            <a:xfrm>
              <a:off x="5482800" y="2215800"/>
              <a:ext cx="1337400" cy="15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Общение с помощью объектов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картин, пиктограм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_s6152"/>
            <p:cNvSpPr/>
            <p:nvPr/>
          </p:nvSpPr>
          <p:spPr>
            <a:xfrm>
              <a:off x="3902040" y="5334840"/>
              <a:ext cx="1337040" cy="152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Общение с помощью электронного устройства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синтезирующие реч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_s6153"/>
            <p:cNvSpPr/>
            <p:nvPr/>
          </p:nvSpPr>
          <p:spPr>
            <a:xfrm>
              <a:off x="2320920" y="2217600"/>
              <a:ext cx="1337400" cy="152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Жестовое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Times New Roman"/>
                </a:rPr>
                <a:t>обще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2060640"/>
            <a:ext cx="8713800" cy="4797360"/>
          </a:xfrm>
          <a:prstGeom prst="rect">
            <a:avLst/>
          </a:prstGeom>
          <a:gradFill rotWithShape="0">
            <a:gsLst>
              <a:gs pos="0">
                <a:srgbClr val="e0fdb1">
                  <a:alpha val="60392"/>
                </a:srgbClr>
              </a:gs>
              <a:gs pos="100000">
                <a:srgbClr val="b2b2b2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Times New Roman"/>
              </a:rPr>
              <a:t>Современный подход к оказанию ранней помощи опирается на основные положения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Ребенок с особыми потребностями должен жить и воспитываться в семье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омощь семье, направленная на создание оптимальных условий для развития ребенка и поддержки родителей, должна начинаться как можно раньше, сразу же после установления диагноз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 центре внимания должен быть не только ребенок, но и вся семья, которой требуется социально-психологическая поддержка, и, лишь организовав ее, мы сможем эффективно осуществлять коррекционно-педагогическую помощь.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1042920" y="189000"/>
            <a:ext cx="7705800" cy="1584360"/>
          </a:xfrm>
          <a:prstGeom prst="downArrowCallout">
            <a:avLst>
              <a:gd name="adj1" fmla="val 121603"/>
              <a:gd name="adj2" fmla="val 121592"/>
              <a:gd name="adj3" fmla="val 16667"/>
              <a:gd name="adj4" fmla="val 66667"/>
            </a:avLst>
          </a:prstGeom>
          <a:gradFill rotWithShape="0">
            <a:gsLst>
              <a:gs pos="0">
                <a:srgbClr val="99cccc"/>
              </a:gs>
              <a:gs pos="100000">
                <a:srgbClr val="e0fd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Особенности работы с семьей, воспитывающ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ребенка с синдромом Дау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8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imes New Roman"/>
              </a:rPr>
              <a:t>ВЫВОД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351640" cy="4969080"/>
          </a:xfrm>
          <a:prstGeom prst="rect">
            <a:avLst/>
          </a:prstGeom>
          <a:gradFill rotWithShape="0">
            <a:gsLst>
              <a:gs pos="0">
                <a:srgbClr val="00ff00">
                  <a:alpha val="44313"/>
                </a:srgbClr>
              </a:gs>
              <a:gs pos="100000">
                <a:srgbClr val="b2b2b2">
                  <a:alpha val="14117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3399"/>
                </a:solidFill>
                <a:latin typeface="Times New Roman"/>
              </a:rPr>
              <a:t>Максимально возможное развитие детей с синдромом Дауна может быть достигнуто только при соблюдении ряда условий: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более раннее начало коррекционной работы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благоприятная семейная обстановка и тесная связь образовательного  учреждения с семьёй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рименение адекватной индивидуальной программы, методов, средств обучения и развития, соответствующих реальному возрастному периоду и реальным психофизическим возможностям  детей с синдромом Дауна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пора на перспективу развития (зону ближайшего развития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тератур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иказ МИНОБРНАУКИ РОССИИ «Об утверждении федерального государственного стандарта дошкольного образования» №1155 от 17.10.1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.Ф.Шалимов, Г.Р.Новикова. Клиника интеллектуальных нарушений.-М.: МБА, 2011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познавательной деятельности у детей с синдромом Дауна. Т.П.Медведева.-М.:Монолит, 200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.Питерси, Р.Трилор Маленькие ступеньки. Программа ранней педагогической помощи детям с отклонениями в развитии.Книга 1. Введение в программу.М:Ассоциация Даун Синдром, 200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785440" cy="5256360"/>
          </a:xfrm>
          <a:prstGeom prst="rect">
            <a:avLst/>
          </a:prstGeom>
          <a:gradFill rotWithShape="0">
            <a:gsLst>
              <a:gs pos="0">
                <a:srgbClr val="e0fdb1">
                  <a:alpha val="60392"/>
                </a:srgbClr>
              </a:gs>
              <a:gs pos="100000">
                <a:srgbClr val="b2b2b2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«плоское лицо» -90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утолщенная шейная складк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брахицефалия (короткоголовость)- 81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раскосые гла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imes New Roman"/>
              </a:rPr>
              <a:t>полулунная кожная складка у внутреннего глаза (эпиканту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Дальнейшее обследование ребенка выявляет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мышечную гипотонию, повышенную подвижность сустав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ороткие и широкие кисти, плоский затылок, маленькое аркообразное неб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деформированные ушные раковины, большой складчатый нос, поперечная ладонная складк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илевидная или варонкообразная грудная клетк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игментные пятна по краю радужной оболочки глаз (пятна Брушфильда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Изменения со стороны внутренних орган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очетанные, множественные пороки развития серд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роблемы со стороны зрения (врожденная катаракта, глаукома), нарушение слух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болевания щитовидной желез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атология желудочно-кишечного трак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аномалии опорно-двигательного аппара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доразвитие почек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1042920" y="189000"/>
            <a:ext cx="7705800" cy="1224000"/>
          </a:xfrm>
          <a:prstGeom prst="downArrowCallout">
            <a:avLst>
              <a:gd name="adj1" fmla="val 157404"/>
              <a:gd name="adj2" fmla="val 157390"/>
              <a:gd name="adj3" fmla="val 16667"/>
              <a:gd name="adj4" fmla="val 66667"/>
            </a:avLst>
          </a:prstGeom>
          <a:gradFill rotWithShape="0">
            <a:gsLst>
              <a:gs pos="0">
                <a:srgbClr val="99cccc"/>
              </a:gs>
              <a:gs pos="100000">
                <a:srgbClr val="e0fd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Фенотипические признаки детей с синдромом Дау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imes New Roman"/>
              </a:rPr>
              <a:t>(определяются при рождении ребен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189000"/>
            <a:ext cx="73134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Times New Roman"/>
              </a:rPr>
              <a:t>Особенности психофизического развития детей с синдромом Дауна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1" name="Diagram 3"/>
          <p:cNvGrpSpPr/>
          <p:nvPr/>
        </p:nvGrpSpPr>
        <p:grpSpPr>
          <a:xfrm>
            <a:off x="573840" y="1069560"/>
            <a:ext cx="7812360" cy="5553000"/>
            <a:chOff x="573840" y="1069560"/>
            <a:chExt cx="7812360" cy="5553000"/>
          </a:xfrm>
        </p:grpSpPr>
        <p:sp>
          <p:nvSpPr>
            <p:cNvPr id="102" name="_s1028"/>
            <p:cNvSpPr/>
            <p:nvPr/>
          </p:nvSpPr>
          <p:spPr>
            <a:xfrm>
              <a:off x="3494880" y="1859040"/>
              <a:ext cx="1972440" cy="2256840"/>
            </a:xfrm>
            <a:prstGeom prst="ellipse">
              <a:avLst/>
            </a:prstGeom>
            <a:solidFill>
              <a:srgbClr val="99cccc">
                <a:alpha val="50000"/>
              </a:srgbClr>
            </a:solidFill>
            <a:ln w="4680">
              <a:solidFill>
                <a:srgbClr val="99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_s1029"/>
            <p:cNvSpPr/>
            <p:nvPr/>
          </p:nvSpPr>
          <p:spPr>
            <a:xfrm>
              <a:off x="3494880" y="1069560"/>
              <a:ext cx="19724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ЗРИТЕЛЬНОЕ ВОСПРИЯТ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-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фиксация внимания на единичные образы (целостность нарушена)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дети не воспринимают и не выделяют отдельные детал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отвлекаются на яркие образы и предме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_s1030"/>
            <p:cNvSpPr/>
            <p:nvPr/>
          </p:nvSpPr>
          <p:spPr>
            <a:xfrm>
              <a:off x="4246200" y="2718360"/>
              <a:ext cx="1972440" cy="225684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_s1031"/>
            <p:cNvSpPr/>
            <p:nvPr/>
          </p:nvSpPr>
          <p:spPr>
            <a:xfrm>
              <a:off x="6413760" y="3564360"/>
              <a:ext cx="19724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СЛУХОВОЕ ВОСПРИЯТИЕ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РЕЧ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6666"/>
                  </a:solidFill>
                  <a:latin typeface="Times New Roman"/>
                </a:rPr>
                <a:t>-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снижение остроты слуха, понижение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мышечного тонуса, малая полость рта,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-узкие ушные раковины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-задержка речевого развития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_s1032"/>
            <p:cNvSpPr/>
            <p:nvPr/>
          </p:nvSpPr>
          <p:spPr>
            <a:xfrm>
              <a:off x="3494880" y="3578400"/>
              <a:ext cx="1972440" cy="2256840"/>
            </a:xfrm>
            <a:prstGeom prst="ellipse">
              <a:avLst/>
            </a:prstGeom>
            <a:solidFill>
              <a:srgbClr val="006666">
                <a:alpha val="50000"/>
              </a:srgbClr>
            </a:solidFill>
            <a:ln w="468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_s1033"/>
            <p:cNvSpPr/>
            <p:nvPr/>
          </p:nvSpPr>
          <p:spPr>
            <a:xfrm>
              <a:off x="3494880" y="6059160"/>
              <a:ext cx="19724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66"/>
                  </a:solidFill>
                  <a:latin typeface="Times New Roman"/>
                </a:rPr>
                <a:t>ДЕЯТЕЛЬНОСТЬ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игровая деятельность самостоятельно не формируется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-характерна предметно-манипулятивная деятельность в дошкольном возраст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6666"/>
                  </a:solidFill>
                  <a:latin typeface="Times New Roman"/>
                </a:rPr>
                <a:t>МОТОРИКА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Times New Roman"/>
                </a:rPr>
                <a:t>-нарушения крупной и мелкой моторики (точность, объем, координация, переключаемость движений)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_s1034"/>
            <p:cNvSpPr/>
            <p:nvPr/>
          </p:nvSpPr>
          <p:spPr>
            <a:xfrm>
              <a:off x="2743920" y="2718360"/>
              <a:ext cx="1972440" cy="225684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_s1035"/>
            <p:cNvSpPr/>
            <p:nvPr/>
          </p:nvSpPr>
          <p:spPr>
            <a:xfrm>
              <a:off x="573840" y="3564360"/>
              <a:ext cx="197244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ЭМОЦИОНАЛЬНО-ВОЛЕВА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006666"/>
                  </a:solidFill>
                  <a:latin typeface="Times New Roman"/>
                </a:rPr>
                <a:t>СФЕР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относительная сохранность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эмоциональной сферы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-ласковы, доброжелательны, внушаемы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-развита подражательная способность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4000" y="2637000"/>
            <a:ext cx="8280360" cy="3960720"/>
          </a:xfrm>
          <a:prstGeom prst="rect">
            <a:avLst/>
          </a:prstGeom>
          <a:gradFill rotWithShape="0">
            <a:gsLst>
              <a:gs pos="0">
                <a:srgbClr val="e0fdb1">
                  <a:alpha val="60392"/>
                </a:srgbClr>
              </a:gs>
              <a:gs pos="100000">
                <a:srgbClr val="b2b2b2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сеобщая декларация прав челове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кларация о правах инвалид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кларация о правах умственно-отсталых лиц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венция о правах ребенк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ституция РФ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он об образовании в РФ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ГОС ДО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он о социальной защите прав инвалидов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кон об образовании лиц с ОВЗ и др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1042920" y="404640"/>
            <a:ext cx="7705800" cy="1944720"/>
          </a:xfrm>
          <a:prstGeom prst="downArrowCallout">
            <a:avLst>
              <a:gd name="adj1" fmla="val 99070"/>
              <a:gd name="adj2" fmla="val 99061"/>
              <a:gd name="adj3" fmla="val 16667"/>
              <a:gd name="adj4" fmla="val 66667"/>
            </a:avLst>
          </a:prstGeom>
          <a:gradFill rotWithShape="0">
            <a:gsLst>
              <a:gs pos="0">
                <a:srgbClr val="99cccc"/>
              </a:gs>
              <a:gs pos="100000">
                <a:srgbClr val="e0fdb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Нормативно-правовое обеспечени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коррекционно-развивающего и воспитательно-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образовательного процесса с детьми с синдромом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Дауна  в ДОУ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Organization Chart 2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13" name="_s2052"/>
            <p:cNvCxnSpPr>
              <a:stCxn id="114" idx="0"/>
              <a:endCxn id="115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053"/>
            <p:cNvCxnSpPr>
              <a:stCxn id="117" idx="0"/>
              <a:endCxn id="115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054"/>
            <p:cNvCxnSpPr>
              <a:stCxn id="119" idx="0"/>
              <a:endCxn id="115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832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5" name="_s2055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0fdb1"/>
                </a:gs>
                <a:gs pos="50000">
                  <a:srgbClr val="33cccc"/>
                </a:gs>
                <a:gs pos="100000">
                  <a:srgbClr val="e0fdb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УСЛОВИЯ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рганизации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работы в ДОУ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_s2056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cccc">
                    <a:alpha val="37254"/>
                  </a:srgbClr>
                </a:gs>
                <a:gs pos="50000">
                  <a:srgbClr val="99cccc">
                    <a:alpha val="55294"/>
                  </a:srgbClr>
                </a:gs>
                <a:gs pos="100000">
                  <a:srgbClr val="33cccc">
                    <a:alpha val="37254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Разработка и утвержде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нормативных документ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и локальных актов: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учебный план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расписание НОД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режим пребывания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режим двигательно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актив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АОП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_s2057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cc">
                    <a:alpha val="37254"/>
                  </a:srgbClr>
                </a:gs>
                <a:gs pos="50000">
                  <a:srgbClr val="33cccc">
                    <a:alpha val="54117"/>
                  </a:srgbClr>
                </a:gs>
                <a:gs pos="100000">
                  <a:srgbClr val="99cccc">
                    <a:alpha val="37254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Кадровое обеспечени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педагоги, специалисты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медицинский персонал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Организация работы с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емьями воспитанник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_s2058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cc">
                    <a:alpha val="36078"/>
                  </a:srgbClr>
                </a:gs>
                <a:gs pos="50000">
                  <a:srgbClr val="33cccc">
                    <a:alpha val="56078"/>
                  </a:srgbClr>
                </a:gs>
                <a:gs pos="100000">
                  <a:srgbClr val="99cccc">
                    <a:alpha val="3607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Создание благоприятных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услови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(развивающа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редметно-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пространственная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среда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макро и микросреда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imes New Roman"/>
              </a:rPr>
              <a:t>Программно-методические основы коррекционно-развивающего и воспитательно-образовательного процесс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1" name="Rectangle 6"/>
          <p:cNvGrpSpPr/>
          <p:nvPr/>
        </p:nvGrpSpPr>
        <p:grpSpPr>
          <a:xfrm>
            <a:off x="1371600" y="2206800"/>
            <a:ext cx="7308720" cy="3815640"/>
            <a:chOff x="1371600" y="2206800"/>
            <a:chExt cx="7308720" cy="3815640"/>
          </a:xfrm>
        </p:grpSpPr>
        <p:pic>
          <p:nvPicPr>
            <p:cNvPr id="122" name="Rectangle 6" descr=""/>
            <p:cNvPicPr/>
            <p:nvPr/>
          </p:nvPicPr>
          <p:blipFill>
            <a:blip r:embed="rId1"/>
            <a:stretch/>
          </p:blipFill>
          <p:spPr>
            <a:xfrm>
              <a:off x="1372680" y="2208240"/>
              <a:ext cx="7304040" cy="381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371600" y="2206800"/>
              <a:ext cx="7308720" cy="38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Основная образовательная программа ДОУ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римерная (адаптированная для детей с ОВЗ):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76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От рождения до школы. Примерная основная общеобразовательная программа дошкольного образования. (М.А.Васильева, Т.С.Веракса, Н.Е.Комарова, М, 2013)</a:t>
              </a:r>
              <a:endParaRPr b="0" lang="en-US" sz="19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Адаптированная основная образовательная программа (если ребенок посещает специализированные группы)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buClr>
                  <a:srgbClr val="006666"/>
                </a:buClr>
                <a:buSzPct val="70000"/>
                <a:buFont typeface="Wingdings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Адаптированная образовательная программа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(индивидуальная)</a:t>
              </a:r>
              <a:r>
                <a:rPr b="0" lang="ru-RU" sz="2400" spc="-1" strike="noStrike" u="sng">
                  <a:solidFill>
                    <a:srgbClr val="003399"/>
                  </a:solidFill>
                  <a:uFillTx/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Программы дошкольных 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образовательных учреждений 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компенсирующего вида для детей</a:t>
            </a:r>
            <a:br>
              <a:rPr sz="1800"/>
            </a:br>
            <a:r>
              <a:rPr b="1" i="1" lang="ru-RU" sz="1800" spc="-1" strike="noStrike">
                <a:solidFill>
                  <a:srgbClr val="006666"/>
                </a:solidFill>
                <a:latin typeface="Times New Roman"/>
              </a:rPr>
              <a:t> с нарушениями интеллекта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827000"/>
            <a:ext cx="842472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«Коррекционно-развивающее обучение и воспитание. Программа дошкольных образовательных учреждений компенсирующего вида для детей с нарушениями  интеллекта» (Е.А.Екжанова, Е.А. Стребелева. М, 2010г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Воспитание и обучение умственно отсталых детей дошкольного возраста. О.П.Гаврилушкина, Н.Д.Соколова.М, 199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Программа воспитания и обучения дошкольников с интеллектуальной недостаточностью. Л.Б.Баряева, О.П. Гаврилушкина, А.П.Зарин, Н.Д.Соколова. Спб, 200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Times New Roman"/>
              </a:rPr>
              <a:t>Программа обучения и воспитания детей дошкольного возраста с выраженной умственной отсталостью. Т.Н.Исаева, Г.Н.Багаева, Г.В.Цикото, А.А.Еремина, Н.Б.Жарова. под ред. Н.Ф.Дементьева. М, 199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835280" y="765000"/>
            <a:ext cx="1296720" cy="1290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1258920" y="189000"/>
            <a:ext cx="898560" cy="1295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2987640" y="260280"/>
            <a:ext cx="961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Программы дошкольных образовательных учреждений компенсирующего вида для детей с </a:t>
            </a:r>
            <a:r>
              <a:rPr b="1" lang="ru-RU" sz="2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6666"/>
                </a:solidFill>
                <a:latin typeface="Times New Roman"/>
              </a:rPr>
              <a:t>задержкой психоречевого  развития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285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Подготовка к школе детей с задержкой психического развития. Книга 1, 2 / Под общей ред. С.Г. Шевченко. М.: Школьная Пресса, 2005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Ступеньки развития. Н.Ю.Борякова. М, 1999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Система работы со старшими дошкольниками с ЗПР в условиях ДОУ. Г.А.Кузнецова, В.В.Колевникова и др. под ред. Т.Г.Неретина. М, 199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8000"/>
                </a:solidFill>
                <a:latin typeface="Times New Roman"/>
              </a:rPr>
              <a:t>Программа и методические рекомендации для педагогов по формированию игровой и мыслительной деятельности у детей со спец.потребностями. «Играя - развиваемся». Т.Н.Бабич, С.М.Елинова, В.А.Кузнецова, Л.Э.Калмыкова, Е.Л.Кириллова. под ред. Л.Ф.Павленко.Ульяновск, 2002.</a:t>
            </a:r>
            <a:r>
              <a:rPr b="0" i="1" lang="ru-RU" sz="15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619280" y="4221000"/>
            <a:ext cx="1457280" cy="2162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6732720" y="4724280"/>
            <a:ext cx="1209600" cy="1866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5076720" y="4149720"/>
            <a:ext cx="1381320" cy="2158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3492360" y="4724280"/>
            <a:ext cx="12733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2:19:36Z</dcterms:created>
  <dc:creator>User</dc:creator>
  <dc:description/>
  <dc:language>en-US</dc:language>
  <cp:lastModifiedBy>Пользователь</cp:lastModifiedBy>
  <dcterms:modified xsi:type="dcterms:W3CDTF">2017-10-16T11:42:49Z</dcterms:modified>
  <cp:revision>25</cp:revision>
  <dc:subject/>
  <dc:title>Слайд 1</dc:title>
</cp:coreProperties>
</file>