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024F-27D5-4778-819D-F2769E96C9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284E-094C-4691-9A83-C0E2AE1261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к чему же приведут нас ФГОС второго поколения??? Урок должен строиться по – новому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94A6-90D2-409E-9E93-B5DE3F4E346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ратим внимание на составление рабочих пр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хнологической карт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нь творцом и тогда каждый новый шаг в твоей профессиональной деятельности станет открытием мира души ребёнка. 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й стандарт предъявляет следующие требования к результатам 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5A28-3752-41D4-9ADD-0AF9F096EE4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обеспечить такие результаты, в Фундаментальном ядре содержания общего образования предусмотре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EEAC-501E-4484-809D-6552023DB8A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ы в области физической культуры (М. Я. Виленский, Ю. А. Копылов, В. П. Лукьяненко и др.)  отмечают, что традиционный урок физической культуры решает в основном две задачи –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здоровитель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нирующу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Не умаляя значимости ни одной из них,  специалисты предполагают, что для «престижа», значимости нашего предмета этого недостаточно. Поэтому определяющим в модернизации физкультурного образования, по  их мнению, является повышени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образователь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отенциала предмета «Физическая культура». Из-за  недостаточности внимания к общеобразовательной  направленности произошло его «выпадение» из системы общего образования; одновременно с этим задачи урока физической культуры  решаются не в полном объеме, что сказывается на результативности  физической культуры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5792-BC20-49AB-B1C2-965B0574C5A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8E88-34DD-4430-B368-39D176D319D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4EF-027F-4EF6-BA73-1D8F4249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AD9-980D-4047-A3C8-9ACCC774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72D-2B0C-40FA-BA53-25B4B4DC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835-5332-47CB-98DD-38AA7708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753A-8FA3-4CD1-AE6C-DB805B33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89AF-86B9-4773-A0C4-202804A9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C860-AF28-41F6-80AB-10F62734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D52B-8E20-4D28-B5F4-FCCABB69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E4A2-EE11-40B1-8646-B39938C8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0DFF-9774-464C-B943-7286CAC8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E299-E0C7-4102-89FD-87C88778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744-B021-4EE3-9036-724941B1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9C0D-5CEA-4AD5-A401-155CE8F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95B6-2908-4AB7-BEDF-AE04133D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C2B3-8B86-48A8-B099-DAD898EB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F8A7-8906-443E-8177-807790A5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4AC4-B3B7-4FB4-AA60-1748CC6A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9EBF-90AE-4C0D-9FD8-036383E5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107E-B19C-4227-9F68-06DBFEFF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7A950-33AE-413E-8EDF-79E4DD99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A414-5B0D-4AD5-8F74-D06FEC0E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9047-2881-4E53-8AEA-CAEFF909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95D-3C35-4D4B-B869-89AB756D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1A73-D9EB-46EA-9026-9E305B10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547BC-9C00-4A5B-A1C0-09ECBE23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58067-C8DA-4057-82BD-93B719A8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895AD-C314-4BEF-B1ED-C3F0387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EFA5-F443-4CCB-B86D-A84871BD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33B56-E2FF-481D-A68E-6E47C090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29A0B-6CEE-49A7-AB78-3F5D5585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A4CE-875F-493D-ABFF-6EFC09C9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DB3C9-4A68-49F6-8441-4B4FD7A4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474E1-950F-4056-8049-17989A2C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1FC-6299-4977-BF33-1B81FF38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A40E9-47A5-4AE8-8E3A-1750E93D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60D25-E2B7-4285-815C-24C9B4AA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D576-F961-4489-8963-5EFD07DB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D5DDC-6452-41A1-8993-FB78618D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E10F6-5788-4668-803B-CA691472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C951F-4257-4775-86AC-B090D8E3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693AE-46C5-4E84-B61B-477D41D2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8C56C-2AF2-4063-9993-10C21EEE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BC94D-A65B-479C-ACE5-28D9B72B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57B6D-0BAE-4FB8-A304-39316DCD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EBE-0CF8-443E-86D7-02655E21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3B5E3-5FA9-446D-BFE2-F7668680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7B4D6-3A54-44AC-89B1-D6D45408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94CA6-6D00-43BB-BAB7-05392BDE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61542-7E8D-4DD9-ABF3-C5E38D2B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B94AD-7E29-42A9-B8D7-0D163052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FF90D-930B-4CB7-97B1-D4B6EB25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A5AE6-34BE-4F59-9E45-01B08E81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E9642-05F7-4EB5-83B8-9EC95FDB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C20EB-D259-4C85-878C-ECB69CF0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DC1F-616A-4DD1-B6A2-CF9423C1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AE1-BAB9-45DD-8691-85C7C95E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7C3E9-91EA-4840-9A4E-76EAA751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1EE76-73A1-4FEA-811B-AA9F3193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D1844-8C85-4FFB-ADD1-90C8D522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41939-CC44-4015-A953-A0E64319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BB735-833D-4472-ADC7-B1CCAE2F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4F72E-CDA4-40F1-B354-CED8693C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BEE78-134D-42FD-869C-473948A0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A4A44-AB48-42A7-9078-6D915CCD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EBF2-8D0F-4139-A22F-7553656B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39138-B22D-4502-99EE-64295A19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1AF-D2EB-4541-833B-B7968B7C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99F59-3330-472B-A53D-BA01E096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FEAB5-222B-47FB-BE13-4DCBE217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2C7E2-5963-48B1-843D-A08F5C3D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77E32-ECB1-40F4-8169-313A733C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830E1-803E-4C66-905D-3C75DD56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A85AD-4E1B-4B97-975F-CAE0E39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DFC5B-0846-43AC-9C72-A4AF6934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5E52D-4BAF-45A1-AE13-981D3D66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0274B-66D5-4E40-8F38-EF65AD99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CCDC3-C197-4760-B130-38E3B1C6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199-0C26-4941-ACDE-E3558C0E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316F8-19E1-4E87-BB2C-D59D553F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EE831-48CF-4718-9EE1-7A7C380B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E279D-7D78-4CD5-AF70-6F0DDACF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9E04D-AAD9-4B2F-89A5-BBE905D0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6B504-5D77-4BBC-8224-BB3717D7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DFE-89AD-4780-937D-73AABBB2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8e6f3">
              <a:alpha val="33000"/>
            </a:srgbClr>
          </a:solidFill>
          <a:ln cap="rnd" w="3240">
            <a:solidFill>
              <a:srgbClr val="c80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dabe5"/>
            </a:solidFill>
            <a:miter/>
          </a:ln>
          <a:effectLst>
            <a:outerShdw dist="12600" dir="5400000" blurRad="0" rotWithShape="0">
              <a:srgbClr val="96167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233F-B320-4FD2-91C6-3B34DAF8AA98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57164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8e6f3">
              <a:alpha val="33000"/>
            </a:srgbClr>
          </a:solidFill>
          <a:ln cap="rnd" w="3240">
            <a:solidFill>
              <a:srgbClr val="c80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dabe5"/>
            </a:solidFill>
            <a:miter/>
          </a:ln>
          <a:effectLst>
            <a:outerShdw dist="12600" dir="5400000" blurRad="0" rotWithShape="0">
              <a:srgbClr val="96167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57164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88C2-A491-41C6-9CD3-4F12C6573B05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57164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C685-C7C7-42C0-81A3-33DE14DD1BC0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A048-A2D9-4B9A-AE65-A78C2934FA4D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57164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AFB3-7AD8-47FD-81C4-F039CB7ED051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3847-031D-464A-8D84-AA2CBB37E7AA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f05b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13f9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EE42-CA54-4696-9D9B-F2FC6F135AAD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77122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Corbel"/>
              </a:rPr>
              <a:t>ТЕМА</a:t>
            </a:r>
            <a:r>
              <a:rPr b="1" i="1" lang="en-US" sz="3600" spc="-1" strike="noStrike" u="sng">
                <a:solidFill>
                  <a:srgbClr val="f6e5ed"/>
                </a:solidFill>
                <a:uFillTx/>
                <a:latin typeface="Corbel"/>
              </a:rPr>
              <a:t>:</a:t>
            </a:r>
            <a:r>
              <a:rPr b="1" i="1" lang="en-US" sz="3600" spc="-1" strike="noStrike">
                <a:solidFill>
                  <a:srgbClr val="f6e5ed"/>
                </a:solidFill>
                <a:latin typeface="Corbel"/>
              </a:rPr>
              <a:t>  </a:t>
            </a:r>
            <a:r>
              <a:rPr b="1" i="1" lang="en-US" sz="3600" spc="-1" strike="noStrike">
                <a:solidFill>
                  <a:srgbClr val="b13f9a"/>
                </a:solidFill>
                <a:latin typeface="Corbel"/>
              </a:rPr>
              <a:t>Содержание и организация преподавания физической культуры в условиях реализации  ФГОС  в основной школе</a:t>
            </a:r>
            <a:br>
              <a:rPr sz="4900"/>
            </a:br>
            <a:br>
              <a:rPr sz="4900"/>
            </a:br>
            <a:r>
              <a:rPr b="1" i="1" lang="en-US" sz="2000" spc="-1" strike="noStrike">
                <a:solidFill>
                  <a:srgbClr val="cc00cc"/>
                </a:solidFill>
                <a:latin typeface="Corbel"/>
              </a:rPr>
              <a:t>(учитель физической культуры МКОУ «Кобыльская СОШ» Бурлуцкий Ю.В.)</a:t>
            </a:r>
            <a:br>
              <a:rPr sz="4900"/>
            </a:br>
            <a:br>
              <a:rPr sz="3900"/>
            </a:br>
            <a:endParaRPr b="0" lang="en-US" sz="20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03280" y="6308280"/>
            <a:ext cx="7407360" cy="289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0848a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2ea4"/>
                </a:solidFill>
                <a:latin typeface="Corbel"/>
              </a:rPr>
              <a:t>В основной школе рекомендуются три типа уроков физической культуры:</a:t>
            </a:r>
            <a:endParaRPr b="0" lang="en-US" sz="36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- с образовательно-познавательной направленностью;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-с образовательно-обучающей направленностью;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-с образовательно-тренировочной направленностью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Эти уроки по своим задачам и направленности учебного материала могут планироваться как комплексные уроки (когда на уроке решается несколько педагогических задач) и как целевые (с преимущественным решением одной педагогической задачи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2ea4"/>
                </a:solidFill>
                <a:latin typeface="Corbel"/>
              </a:rPr>
              <a:t>- На уроках с образовательно-познавательной направленностью ---</a:t>
            </a:r>
            <a:endParaRPr b="0" lang="en-US" sz="32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учащиеся приобретают необходимые знания, знакомятся со способами и правилами организации самостоятельных занятий, обучаются умениям их планирования, проведения и контроля. На этих уроках учащиеся активно используют учебники по физической культуре, различные дидактические материалы и методические разработки учителя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2ea4"/>
                </a:solidFill>
                <a:latin typeface="Corbel"/>
              </a:rPr>
              <a:t>- Уроки с образовательно-обучающей направленностью ---</a:t>
            </a:r>
            <a:endParaRPr b="0" lang="en-US" sz="32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используются преимущественно для обучения умениям и навыкам материала базовых видов спорта. На этих же уроках осваиваются также знания, которые относятся к предмету обучения (например, терминология избранной спортивной игры, техника выполнения соответствующих приёмов, тактика игры и т. п.)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2ea4"/>
                </a:solidFill>
                <a:latin typeface="Corbel"/>
              </a:rPr>
              <a:t>- Уроки с образовательно-тренировочной направленностью ---</a:t>
            </a:r>
            <a:endParaRPr b="0" lang="en-US" sz="32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проводятся по типу целенаправленной физической подготовки. Иначе говоря, здесь решаются задачи направленного развития (тренировки) кондиционных и координационных способностей. На них следует соблюдать соотношение объёмов тренировочной нагрузки при развитии разных физических способностей и одной физической способности, когда применяются упражнения более общей и специальной направленности. Показатели объёма, интенсивности и координационной сложности используемых упражнений должны постепенно повышаться в соответствующем цикле тренировочных уроков. На уроках с образовательно-тренировочной направленностью школьникам необходимо сообщать также сведения о физической подготовке, физических способностях, показателях их развития у подростков от 11 до 15 лет, физической нагрузке и её влиянии на развитие разных систем организма. Кроме этого, на этих уроках учащиеся должны получать сведения о способах контроля величины и функциональной направленности физической нагрузки, о способах её регулирования в процессе выполнения разных физических упражнений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2ea4"/>
                </a:solidFill>
                <a:latin typeface="Corbel"/>
              </a:rPr>
              <a:t>Высокая активность и сознательная работа учащихся на уроке</a:t>
            </a:r>
            <a:endParaRPr b="0" lang="en-US" sz="32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достигается чёткой постановкой общей цели физического воспитания в школе, педагогических задач по освоению конкретного раздела или темы программы, а также в результате обучения детей двигательным действиям (навыкам), освоения теоретических и методических знаний в области физической культуры, приобретения умений осуществлять физкультурно-оздоровительную и спортивную деятельность и достижения соответствующего уровня двигательных способностей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6e5ed"/>
                </a:solidFill>
                <a:latin typeface="Corbel"/>
              </a:rPr>
              <a:t>Отличие традиционного урока от современног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0" y="0"/>
          <a:ext cx="9144000" cy="7053120"/>
        </p:xfrm>
        <a:graphic>
          <a:graphicData uri="http://schemas.openxmlformats.org/drawingml/2006/table">
            <a:tbl>
              <a:tblPr/>
              <a:tblGrid>
                <a:gridCol w="2700360"/>
                <a:gridCol w="3166920"/>
                <a:gridCol w="3276720"/>
              </a:tblGrid>
              <a:tr h="2905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ебования к уро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диционный ур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ок современного ти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2905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ъявление темы ур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сообщает учащим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6664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общение целей и зада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формулирует и сообщает учащимся, чему должны научи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, определив границы знания и незн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04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сообщает учащимся, какую работу они должны выполнить, чтобы достичь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 учащимися способов достижения намеченной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746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актическая деятельность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 руководством учителя учащиеся выполняют ряд практических задач (чаще применяется фронтальный метод организации деятельност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учебные действия по намеченному плану (применяется групповой, индивидуальный метод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04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уществление контро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существляет контроль за выполнением учащимися практической 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контроль (применяются формы самоконтроля, взаимоконтрол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04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уществление корре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в ходе выполнения и по итогам выполненной работы учащимися осуществляет коррекц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формулируют затруднения и осуществляют коррекцию самостоятель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746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ценивание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существляет оценивание учащихся за работу на уро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дают оценку деятельности по её результатам (самооценивание, оценивание результатов деятельности товарище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367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тог ур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выясняет у учащихся, что они запомни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одится рефлек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046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машнее зад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бъявляет и комментирует (чаще – задание одно для все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могут выбирать задание из предложенных учителем с учётом индивидуальных возможнос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107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2ea4"/>
                </a:solidFill>
                <a:latin typeface="Corbel"/>
              </a:rPr>
              <a:t>Рабочая программа по ФГОС</a:t>
            </a:r>
            <a:endParaRPr b="0" lang="en-US" sz="2800" spc="-1" strike="noStrike">
              <a:solidFill>
                <a:srgbClr val="c22ea4"/>
              </a:solidFill>
              <a:latin typeface="Corbe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0" y="476280"/>
          <a:ext cx="9144000" cy="7826400"/>
        </p:xfrm>
        <a:graphic>
          <a:graphicData uri="http://schemas.openxmlformats.org/drawingml/2006/table">
            <a:tbl>
              <a:tblPr/>
              <a:tblGrid>
                <a:gridCol w="455760"/>
                <a:gridCol w="2171520"/>
                <a:gridCol w="420840"/>
                <a:gridCol w="1523880"/>
                <a:gridCol w="1728720"/>
                <a:gridCol w="863640"/>
                <a:gridCol w="647640"/>
                <a:gridCol w="576360"/>
                <a:gridCol w="755640"/>
              </a:tblGrid>
              <a:tr h="5479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ируемые 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ректиров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 комментари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040">
                <a:tc gridSpan="9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 четверть - ЛЕГКАЯ  АТЛЕТИКА  - 11 ЧАСОВ  ЭСТАФЕТНЫЙ БЕГ (2 ЧАС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7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ая атле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и бег 3 ча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074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Олимпийские игры древности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Возрождение Олимпийских игр и олимпийского движе­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Правила безопасности и гигиени­ческие треб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074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Правила безопасности и гигиени­ческие требования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аж по ТБ</a:t>
                      </a: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074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Олимпийские игры древности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Возрождение Олимпийских игр и олимпийского движе­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Техника безопасности на уроках легкой атлетике. Возрождение Олимпийских игр древности, их герои. Разновидности ходьбы, бега. Ходьба по разметкам.  Ходьба с преодолением препятствий. Высокий старт и ускорение  до 40 метр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авильно выполнять движения  в беге; бегать с максимальной скоростью до 40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т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овые упражнения для развития физических качест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ть и показыват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ысокий  ста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т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сновные цели Олимпийских иг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вать их гуманистическую направлен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оват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лимпийские игры древности как явление культур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личат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по воздействию на развитие основных физических качеств (быстрота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3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1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2ea4"/>
                </a:solidFill>
                <a:latin typeface="Corbel"/>
              </a:rPr>
              <a:t>Технологическая карта урока по ФГОС</a:t>
            </a:r>
            <a:endParaRPr b="0" lang="en-US" sz="2800" spc="-1" strike="noStrike">
              <a:solidFill>
                <a:srgbClr val="c22ea4"/>
              </a:solidFill>
              <a:latin typeface="Corbe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0" y="620640"/>
          <a:ext cx="9144000" cy="6235920"/>
        </p:xfrm>
        <a:graphic>
          <a:graphicData uri="http://schemas.openxmlformats.org/drawingml/2006/table">
            <a:tbl>
              <a:tblPr/>
              <a:tblGrid>
                <a:gridCol w="539640"/>
                <a:gridCol w="1871640"/>
                <a:gridCol w="2160720"/>
                <a:gridCol w="2016000"/>
                <a:gridCol w="648000"/>
                <a:gridCol w="1908000"/>
              </a:tblGrid>
              <a:tr h="900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ная задача эта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иров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о-методичсекие указ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0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0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подготовительная  ча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12 мину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, приветствие, прием рапорта, сообщение задач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нимают задачи и активизируют учебную деятельность по поиску способов её реш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деятельности учащих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ину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в шеренгу, проверка готовности: наличие спортивной формы, бодрого настроения на работ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283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строевые упражнения: повороты направо, налево, кругом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ходьба на носках, пятках, внешней стороне стопы, в полуприседе, приседе с различными положениями рук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бег; бег правым (левым) боком, приставными шагами; бег спиной вперёд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прыжковые упражнения: прыжки вверх – дотронуться до баскетбольного щита, сетки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по сигналу остановка прыжком – имитация броска мяча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по сигналу остановка прыжком – выполнение поворотов на месте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ходьба с восстановлением дыхания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проведение ОРУ в движ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 осанки и плоскостоп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прыгучест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мин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в колонну по одному. Форма организации деятельности – фронтальная, способ выполнения – одновременны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располагается в центре зал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-36720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68360"/>
                <a:gridCol w="2579760"/>
                <a:gridCol w="1811160"/>
                <a:gridCol w="2233800"/>
                <a:gridCol w="527040"/>
                <a:gridCol w="1523880"/>
              </a:tblGrid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ная задача эта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иров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44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Основная часть урока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мину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. Развитие двигательных способност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совершенствование техники ведения мяча левой, правой рукой в низкой, средней, высокой стойке баскетболиста (ведение мяча по залу: 3 круга левой, правой рукой, и с переводом с левой руки на правую)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ведение мяча с различной высотой отскока и сопротивлением партнёра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выполнение штрафного броска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совершенствование техники ведения и броска в кольцо с двух шагов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совершенствование техники нападения быстрым прорыв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Работа с максимальной скоростью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Совершенствовать технику перемещения в сочетании с техникой передачи, ловли и ведения мяча в движ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овершенствование индивидуальных технических и тактических действий. Повышение надежности навыка и качества ведения мяча с различной высотой отск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 мин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Форма организации фронтальная, способ выполнения - поточны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строение в колонну по одному. Форма организации фронтальная, способ выполнения – поточный, учитель располагается в центре зал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Построение в колонну по одному. Форма организации фронтальная, способ выполнения – поточный, учитель располагается в центре зал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. Двусторонняя игра в баскетбо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ие способности управлять своими эмоциями. Совершенствование технических и тактических действий в защите и нападении. Формирование умения эффективно использовать технические приемы и тактические навыки в зависимых от своих возможностей, условий игр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сторонняя игра проводится по всем правилам игры в баскетбол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9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жеребьёвку, дает установку на игру. Осуществляет судейство. Бег в медленном темпе. Восстановление дыха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 и осознание учебных заданий, проектирование собственных действий, внесение корректив в собственную деятельность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548720" y="-3132360"/>
            <a:ext cx="647640" cy="79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611280"/>
                <a:gridCol w="2016000"/>
                <a:gridCol w="1944720"/>
                <a:gridCol w="2303640"/>
                <a:gridCol w="504720"/>
                <a:gridCol w="1763640"/>
              </a:tblGrid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ная задача эта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иров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62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Заключительная ч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 м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. Подведение итогов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ину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в одну шеренгу. Форма организации – фронтальна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4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Сообщает о выставленных отметк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. Организованное завершение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ину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в шеренгу, поворот направо, выход из зал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ность учащимся за совместную деятельность на урок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коман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Образовательный процесс учебного предмета «Физическая культура» в основной школе направлен на решение следующих задач:</a:t>
            </a:r>
            <a:endParaRPr b="0" lang="en-US" sz="24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содействие гармоничному физическому развитию, закрепление навыков правильной осанки, развитие устойчивости организма к неблагоприятным условиям внешней среды, воспитание ценностных ориентации на здоровый образ жизни и привычки соблюдения личной гигиены;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обучение основам базовых видов двигательных действий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дальнейшее развитие координационных (ориентирование в пространстве, перестроение двигательных действий, быстрота и точность реагирования на сигналы, согласование движений, ритм, равновесие, точность воспроизведения и дифференцирования основных параметров движений) и кондиционных способностей (скоростно-силовых, скоростных, выносливости, силы и гибкости)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формирование основ знаний о личной гигиене, о влиянии занятий физическими упражнениями на основные системы организма, развитие волевых и нравственных качеств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выработку представлений о физической культуре личности и приёмах самоконтроля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углубление представления об основных видах спорта, соревнованиях, снарядах и инвентаре, соблюдение правил техники безопасности во время занятий, оказание первой помощи при травмах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260000" y="-1494360"/>
            <a:ext cx="1008000" cy="46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6e5ed"/>
              </a:solidFill>
              <a:latin typeface="Corbel"/>
            </a:endParaRPr>
          </a:p>
        </p:txBody>
      </p:sp>
      <p:pic>
        <p:nvPicPr>
          <p:cNvPr id="363" name="Содержимое 5" descr=""/>
          <p:cNvPicPr/>
          <p:nvPr/>
        </p:nvPicPr>
        <p:blipFill>
          <a:blip r:embed="rId1"/>
          <a:stretch/>
        </p:blipFill>
        <p:spPr>
          <a:xfrm>
            <a:off x="1042920" y="0"/>
            <a:ext cx="8290080" cy="41497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116000" y="4653000"/>
            <a:ext cx="777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СПАСИБО ЗА ВНИМАНИЕ!!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84280"/>
            <a:ext cx="749952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85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оспитание привычки к самостоятельным занятиям физическими упражнениями, избранными видами спорта в свободное время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ыработку организаторских навыков проведения занятий в качестве командира отделения, капитана команды, судьи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формирование адекватной оценки собственных физических возможностей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оспитание инициативности, самостоятельности, взаимопомощи, дисциплинированности, чувства ответственности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содействие развитию психических процессов и обучение основам психическойсаморегуляции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en-US" sz="3900" spc="-1" strike="noStrike">
                <a:solidFill>
                  <a:srgbClr val="ff0000"/>
                </a:solidFill>
                <a:latin typeface="Corbel"/>
              </a:rPr>
              <a:t>Требования ФГОС</a:t>
            </a:r>
            <a:br>
              <a:rPr sz="3900"/>
            </a:br>
            <a:r>
              <a:rPr b="0" lang="en-US" sz="3900" spc="-1" strike="noStrike">
                <a:solidFill>
                  <a:srgbClr val="ff0000"/>
                </a:solidFill>
                <a:latin typeface="Corbel"/>
              </a:rPr>
              <a:t> к результатам обучения.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32" name="Содержимое 3" descr="image1.png"/>
          <p:cNvPicPr/>
          <p:nvPr/>
        </p:nvPicPr>
        <p:blipFill>
          <a:blip r:embed="rId1"/>
          <a:stretch/>
        </p:blipFill>
        <p:spPr>
          <a:xfrm>
            <a:off x="684360" y="1341360"/>
            <a:ext cx="82087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Corbel"/>
              </a:rPr>
              <a:t>Как добиться результатов?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34" name="Содержимое 3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7540560" cy="54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адачу формирования целостного мировоззрения учащихся, всестороннего раскрытия взаимосвязи и взаимообусловленности изучаемых явлений и процессов в сфере физической культуры учитель реализует на основе расширения межпредметных связей из области разных предметов: литературы, истории, математики, анатомии, гигиены, физиологии, психологии и др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475920"/>
            <a:ext cx="7499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Традиционный урок физической культуры решает в основном две задачи:</a:t>
            </a:r>
            <a:endParaRPr b="0" lang="en-US" sz="36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2276280"/>
            <a:ext cx="749952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1" i="1" lang="ru-RU" sz="3600" spc="-1" strike="noStrike">
                <a:solidFill>
                  <a:srgbClr val="ffffff"/>
                </a:solidFill>
                <a:latin typeface="Corbel"/>
              </a:rPr>
              <a:t>оздоровительную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1" i="1" lang="ru-RU" sz="3600" spc="-1" strike="noStrike">
                <a:solidFill>
                  <a:srgbClr val="ffffff"/>
                </a:solidFill>
                <a:latin typeface="Corbel"/>
              </a:rPr>
              <a:t>тренирующую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 advTm="5000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6e5ed"/>
                </a:solidFill>
                <a:latin typeface="Corbel"/>
              </a:rPr>
              <a:t>Для модернизации системы 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40" name="Содержимое 3" descr=""/>
          <p:cNvPicPr/>
          <p:nvPr/>
        </p:nvPicPr>
        <p:blipFill>
          <a:blip r:embed="rId1"/>
          <a:stretch/>
        </p:blipFill>
        <p:spPr>
          <a:xfrm>
            <a:off x="878040" y="0"/>
            <a:ext cx="826596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87280" y="1163880"/>
            <a:ext cx="7705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уроках физической культуры в 5—9 классах решаются основные задачи, стоящие перед школьной системой физического воспитания. Вместе с тем особенностью урочных занятий в этих классах является углублённое обучение базовым двигательным действиям, включая технику основных видов спорта (лёгкая атлетика, гимнастика, спортивные игры, элементы единоборств, лыжная подготовка, плавание). Углубляются знания о личной гигиене, о влиянии занятий физическими упражнениями на основные системы организма (дыхание, кровообращение, ЦНС, обмен веществ), на развитие волевых и нравственных качеств. На уроках физической культуры учащиеся 5—9 классов получают представления о физической культуре личности, её взаимосвязи с основами здорового образа жизни, овладевают знаниями о методике самостоятельной тренировки. Во время изучения конкретных разделов программы пополняются представления об основных видах спорта, соревнованиях, снарядах и инвентаре, правилах техники безопасности и оказания первой помощи при травм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2:56:10Z</dcterms:created>
  <dc:creator>Андрей</dc:creator>
  <dc:description/>
  <dc:language>en-US</dc:language>
  <cp:lastModifiedBy>Пользователь Windows</cp:lastModifiedBy>
  <dcterms:modified xsi:type="dcterms:W3CDTF">2015-06-29T16:20:25Z</dcterms:modified>
  <cp:revision>53</cp:revision>
  <dc:subject/>
  <dc:title>ФГОС общего образования. Урок физической культуры</dc:title>
</cp:coreProperties>
</file>