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2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C78D-BAEE-45A0-9A06-FAF4BE45EB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938A-65C4-43E9-9374-A1DDB6B462F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 к чему же приведут нас ФГОС второго поколения??? Урок должен строиться по – новому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2121-5351-49BD-8596-18AE812419E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обратим внимание на составление рабочих програ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Технологической карты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тань творцом и тогда каждый новый шаг в твоей профессиональной деятельности станет открытием мира души ребёнка. Спасибо за внимание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ый стандарт предъявляет следующие требования к результатам обуч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1C7C-9CFB-4295-A8CE-6C7B042B669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ого, чтобы обеспечить такие результаты, в Фундаментальном ядре содержания общего образования предусмотре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5946-604F-4413-9D64-16529ADA404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сты в области физической культуры (М. Я. Виленский, Ю. А. Копылов, В. П. Лукьяненко и др.)  отмечают, что традиционный урок физической культуры решает в основном две задачи – 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здоровительну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и 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ренирующую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Не умаляя значимости ни одной из них,  специалисты предполагают, что для «престижа», значимости нашего предмета этого недостаточно. Поэтому определяющим в модернизации физкультурного образования, по  их мнению, является повышени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щеобразовательн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потенциала предмета «Физическая культура». Из-за  недостаточности внимания к общеобразовательной  направленности произошло его «выпадение» из системы общего образования; одновременно с этим задачи урока физической культуры  решаются не в полном объеме, что сказывается на результативности  физической культуры в шк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22A2-CABA-4B63-8410-12276E30ADB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3310-F493-4FD8-AAC0-2BA62CFE8EE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38CA-85E4-4CBD-8461-D5DBBCEB8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B9EC-F59D-48F7-A224-894DFAF0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2BCC-CB4F-40C6-9E25-9864CAB6F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547A-2597-4A74-88BA-96ABC9DCF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F5D11-9E66-441B-A1B5-F6C075269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B9DB-0CB0-48F1-A72F-24059587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3AB34-B7DA-42A6-ADA2-6E41C29C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B2AE-B678-4851-9135-A733029B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A04D-E0CA-4BE4-AD96-23714010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485E-E172-4C46-9D4F-77FD6271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A19E-D93A-485E-95F2-B99658B1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AE3B-6B90-4D91-835C-D0ECF961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B33A-E532-43A4-B7CF-E59DFA5D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9452-9DE2-47A3-A0F4-51A7F8B2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A211-943A-476B-BCEF-3C1261AF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955E-D074-46DE-B8F8-8922034A7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EEBB-59F8-4DED-BBBB-D6DCBB94B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40DD9-0EC5-4ECD-92AA-5E5FFC6C3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B7E67-4723-40D0-AED0-C87393F3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46651-AF33-4ABC-B46A-DB1B19A2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861AE-ABDA-4DD4-BB66-46AFECED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7165E-9A25-4956-93B7-ECD551D3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1F6E-F584-44BA-BCC6-16F83079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5BE86-FB54-4E1C-A4F1-9D4F8708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C6D3F-AAE1-4DB1-8C2B-9DAE2E225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FA2FD-2C8F-4E38-9A13-0E658313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C5165-2F84-4C2B-9151-3B1C836F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10F5E-EC27-4061-9E5D-17E46E44D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1164A-F1EB-40C0-87E8-BBF07B7BC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02593-E49E-4F84-9CDD-AFB5E5E6B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DBD65-330C-44A5-8DA3-38B1560E9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A4AAA-0583-4F32-9D44-1667CE26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51B2B-D87D-44C4-9A80-E48F80E6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8279-41B3-45EC-95AE-8E1379FA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211A8-F607-4548-B99D-E1491FD9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2B617-27F4-49BA-BACF-1FC1CEB7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697E9-2055-4691-9C75-9A3A53AF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8439B-12D5-4F76-8800-B9BDA235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2CCD2-D0CF-49C0-810B-B389E617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56832-FAA0-4093-B27E-A0D982DD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7AB14-6E19-42F2-9368-FC149075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C8AD7-F73D-4771-A8FB-A8232807B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E2F3D-49AA-4A5A-A0DB-2F0BBF181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6F9C3-CAD0-4B11-B3D3-828E45AF9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A49E-38B9-4702-BDE4-04D6B382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8DEF8-8C4B-46B4-B8D8-7C12BA40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2C690-A775-4A44-9096-D8C97842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B215B-21DF-4129-863D-4A910D14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BC0C5-92EC-4EFB-9D8C-855C44A4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67993-84D5-4491-88B2-7BD7C3EA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E16D7-7633-4BA9-85C8-4AB4833D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2BD78-6B40-4F8D-8626-9757647E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84174-8EE7-4CAE-B761-7EB042B4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5CFB5-C3F5-49B4-9092-753DF871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1DD56-BABB-4102-B081-96EBB7090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524C-866F-43CF-BEDC-E9C7A2C7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4E562-F552-4572-80A5-7CD92D95A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D602B-A050-48AB-85E2-E9645F808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03E7E-4EA7-47AA-8CDD-F89C028D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8E1CB1-C58E-443C-9C1C-2622C2C1B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3C616-3B24-48AF-9E88-8A41ED33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2C980-5FCB-4A0F-808A-5D4714C5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64DF3-3FB2-4965-81E9-510FC620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5A0EB-C10D-4CFA-9402-D8FBBDE3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5C62E-2677-48DB-B22C-A35685C2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9E6BD-4C97-481B-92B4-919549DF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1436-8BFB-412F-8D18-789A4262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30F02-63F7-4B1D-86A8-7194545C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69F7E-B2E3-4F80-B7A5-856C99A75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78C6E-883F-478C-94F7-BEEF08492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924E0-7662-4155-9D1B-D96179B0F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750DE-A3C8-4CDD-9697-1D5BEC4A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76EE9-19F7-4976-B489-AC4D1D27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12F46-68E2-41BC-9D9D-1E6298F9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8565E-ED4D-4093-B360-FBF57D1C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D567B-73F0-4BF8-B645-A185ED5B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D441BE-93F1-470F-9FC1-41229DB5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9A75-9FCC-4A0B-AD59-EFF829DA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DBE588-28EC-4571-8C4F-1D27256CC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0D105-CEF4-47ED-89F4-606DDCFD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C0A3F-5E6D-464C-AE88-D0DA2EED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3A9A6-92B0-4469-9F1D-6574DABE8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942B5-BA2F-407A-9D3F-68BA09637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9554-BABD-45D7-9292-85958948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90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8e6f3">
              <a:alpha val="33000"/>
            </a:srgbClr>
          </a:solidFill>
          <a:ln cap="rnd" w="3240">
            <a:solidFill>
              <a:srgbClr val="c803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dabe5"/>
            </a:solidFill>
            <a:miter/>
          </a:ln>
          <a:effectLst>
            <a:outerShdw dist="12600" dir="5400000" blurRad="0" rotWithShape="0">
              <a:srgbClr val="96167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0189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0189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0189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E0E4-76D5-4E07-B7D1-FB8AE10F8B0B}" type="slidenum">
              <a:rPr b="0" lang="en-US" sz="1200" spc="-1" strike="noStrike">
                <a:solidFill>
                  <a:srgbClr val="ac01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38160" dir="10800000" blurRad="0" rotWithShape="0">
              <a:srgbClr val="57164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90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8e6f3">
              <a:alpha val="33000"/>
            </a:srgbClr>
          </a:solidFill>
          <a:ln cap="rnd" w="3240">
            <a:solidFill>
              <a:srgbClr val="c803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dabe5"/>
            </a:solidFill>
            <a:miter/>
          </a:ln>
          <a:effectLst>
            <a:outerShdw dist="12600" dir="5400000" blurRad="0" rotWithShape="0">
              <a:srgbClr val="96167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2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38160" dir="10800000" blurRad="0" rotWithShape="0">
              <a:srgbClr val="57164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3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0189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0189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0189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D2C6-A76C-420D-849B-9323E4B39D36}" type="slidenum">
              <a:rPr b="0" lang="en-US" sz="1200" spc="-1" strike="noStrike">
                <a:solidFill>
                  <a:srgbClr val="ac01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90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38160" dir="10800000" blurRad="0" rotWithShape="0">
              <a:srgbClr val="57164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2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a2355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0189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0189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0189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1979-EB3A-4479-A74A-D99C3A671F32}" type="slidenum">
              <a:rPr b="0" lang="en-US" sz="1200" spc="-1" strike="noStrike">
                <a:solidFill>
                  <a:srgbClr val="ac01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90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0189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0189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0189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3D5A-8160-4FE2-B255-76CBC8E78E68}" type="slidenum">
              <a:rPr b="0" lang="en-US" sz="1200" spc="-1" strike="noStrike">
                <a:solidFill>
                  <a:srgbClr val="ac01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90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38160" dir="10800000" blurRad="0" rotWithShape="0">
              <a:srgbClr val="57164a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0189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0189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0189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190A-2C1B-4392-8C25-6457A974C217}" type="slidenum">
              <a:rPr b="0" lang="en-US" sz="1200" spc="-1" strike="noStrike">
                <a:solidFill>
                  <a:srgbClr val="ac01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90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0189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0189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0189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C44A-ABB7-402F-A178-5E153B8595D0}" type="slidenum">
              <a:rPr b="0" lang="en-US" sz="1200" spc="-1" strike="noStrike">
                <a:solidFill>
                  <a:srgbClr val="ac01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90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2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f05b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b13f9a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de6c3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9b63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0189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c0189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c0189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2265-C520-4943-8985-2A7C25E86A27}" type="slidenum">
              <a:rPr b="0" lang="en-US" sz="1200" spc="-1" strike="noStrike">
                <a:solidFill>
                  <a:srgbClr val="ac0189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490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86920" y="549000"/>
            <a:ext cx="77122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cc00"/>
                </a:solidFill>
                <a:uFillTx/>
                <a:latin typeface="Corbel"/>
              </a:rPr>
              <a:t>ТЕМА</a:t>
            </a:r>
            <a:r>
              <a:rPr b="1" i="1" lang="en-US" sz="3600" spc="-1" strike="noStrike" u="sng">
                <a:solidFill>
                  <a:srgbClr val="f6e5ed"/>
                </a:solidFill>
                <a:uFillTx/>
                <a:latin typeface="Corbel"/>
              </a:rPr>
              <a:t>:</a:t>
            </a:r>
            <a:r>
              <a:rPr b="1" i="1" lang="en-US" sz="3600" spc="-1" strike="noStrike">
                <a:solidFill>
                  <a:srgbClr val="f6e5ed"/>
                </a:solidFill>
                <a:latin typeface="Corbel"/>
              </a:rPr>
              <a:t>  </a:t>
            </a:r>
            <a:r>
              <a:rPr b="1" i="1" lang="en-US" sz="3600" spc="-1" strike="noStrike">
                <a:solidFill>
                  <a:srgbClr val="b13f9a"/>
                </a:solidFill>
                <a:latin typeface="Corbel"/>
              </a:rPr>
              <a:t>Содержание и организация преподавания физической культуры в условиях реализации  ФГОС  в основной школе</a:t>
            </a:r>
            <a:br>
              <a:rPr sz="4900"/>
            </a:br>
            <a:br>
              <a:rPr sz="4900"/>
            </a:br>
            <a:r>
              <a:rPr b="1" i="1" lang="en-US" sz="2000" spc="-1" strike="noStrike">
                <a:solidFill>
                  <a:srgbClr val="cc00cc"/>
                </a:solidFill>
                <a:latin typeface="Corbel"/>
              </a:rPr>
              <a:t>(учитель физической культуры МКОУ «Кобыльская СОШ» Бурлуцкий Ю.В.)</a:t>
            </a:r>
            <a:br>
              <a:rPr sz="4900"/>
            </a:br>
            <a:br>
              <a:rPr sz="3900"/>
            </a:br>
            <a:endParaRPr b="0" lang="en-US" sz="20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403280" y="6308280"/>
            <a:ext cx="7407360" cy="2890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0848a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490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22ea4"/>
                </a:solidFill>
                <a:latin typeface="Corbel"/>
              </a:rPr>
              <a:t>В основной школе рекомендуются три типа уроков физической культуры:</a:t>
            </a:r>
            <a:endParaRPr b="0" lang="en-US" sz="36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- с образовательно-познавательной направленностью;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-с образовательно-обучающей направленностью;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-с образовательно-тренировочной направленностью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Эти уроки по своим задачам и направленности учебного материала могут планироваться как комплексные уроки (когда на уроке решается несколько педагогических задач) и как целевые (с преимущественным решением одной педагогической задачи)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490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22ea4"/>
                </a:solidFill>
                <a:latin typeface="Corbel"/>
              </a:rPr>
              <a:t>- На уроках с образовательно-познавательной направленностью ---</a:t>
            </a:r>
            <a:endParaRPr b="0" lang="en-US" sz="32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учащиеся приобретают необходимые знания, знакомятся со способами и правилами организации самостоятельных занятий, обучаются умениям их планирования, проведения и контроля. На этих уроках учащиеся активно используют учебники по физической культуре, различные дидактические материалы и методические разработки учителя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490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22ea4"/>
                </a:solidFill>
                <a:latin typeface="Corbel"/>
              </a:rPr>
              <a:t>- Уроки с образовательно-обучающей направленностью ---</a:t>
            </a:r>
            <a:endParaRPr b="0" lang="en-US" sz="32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используются преимущественно для обучения умениям и навыкам материала базовых видов спорта. На этих же уроках осваиваются также знания, которые относятся к предмету обучения (например, терминология избранной спортивной игры, техника выполнения соответствующих приёмов, тактика игры и т. п.).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490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22ea4"/>
                </a:solidFill>
                <a:latin typeface="Corbel"/>
              </a:rPr>
              <a:t>- Уроки с образовательно-тренировочной направленностью ---</a:t>
            </a:r>
            <a:endParaRPr b="0" lang="en-US" sz="32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-25416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проводятся по типу целенаправленной физической подготовки. Иначе говоря, здесь решаются задачи направленного развития (тренировки) кондиционных и координационных способностей. На них следует соблюдать соотношение объёмов тренировочной нагрузки при развитии разных физических способностей и одной физической способности, когда применяются упражнения более общей и специальной направленности. Показатели объёма, интенсивности и координационной сложности используемых упражнений должны постепенно повышаться в соответствующем цикле тренировочных уроков. На уроках с образовательно-тренировочной направленностью школьникам необходимо сообщать также сведения о физической подготовке, физических способностях, показателях их развития у подростков от 11 до 15 лет, физической нагрузке и её влиянии на развитие разных систем организма. Кроме этого, на этих уроках учащиеся должны получать сведения о способах контроля величины и функциональной направленности физической нагрузки, о способах её регулирования в процессе выполнения разных физических упражнений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490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22ea4"/>
                </a:solidFill>
                <a:latin typeface="Corbel"/>
              </a:rPr>
              <a:t>Высокая активность и сознательная работа учащихся на уроке</a:t>
            </a:r>
            <a:endParaRPr b="0" lang="en-US" sz="32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достигается чёткой постановкой общей цели физического воспитания в школе, педагогических задач по освоению конкретного раздела или темы программы, а также в результате обучения детей двигательным действиям (навыкам), освоения теоретических и методических знаний в области физической культуры, приобретения умений осуществлять физкультурно-оздоровительную и спортивную деятельность и достижения соответствующего уровня двигательных способностей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490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6e5ed"/>
                </a:solidFill>
                <a:latin typeface="Corbel"/>
              </a:rPr>
              <a:t>Отличие традиционного урока от современног</a:t>
            </a:r>
            <a:endParaRPr b="0" lang="en-US" sz="3900" spc="-1" strike="noStrike">
              <a:solidFill>
                <a:srgbClr val="c22ea4"/>
              </a:solidFill>
              <a:latin typeface="Corbe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0" y="0"/>
          <a:ext cx="9144000" cy="7053120"/>
        </p:xfrm>
        <a:graphic>
          <a:graphicData uri="http://schemas.openxmlformats.org/drawingml/2006/table">
            <a:tbl>
              <a:tblPr/>
              <a:tblGrid>
                <a:gridCol w="2700360"/>
                <a:gridCol w="3166920"/>
                <a:gridCol w="3276720"/>
              </a:tblGrid>
              <a:tr h="29052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ребования к урок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радиционный урок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рок современного тип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29052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бъявление темы уро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итель сообщает учащим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ормулируют сами учащиеся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56664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ообщение целей и задач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итель формулирует и сообщает учащимся, чему должны научить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Формулируют сами учащиеся, определив границы знания и незн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80496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ланиров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итель сообщает учащимся, какую работу они должны выполнить, чтобы достичь це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ланирование учащимися способов достижения намеченной це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107460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актическая деятельность учащих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д руководством учителя учащиеся выполняют ряд практических задач (чаще применяется фронтальный метод организации деятельности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ащиеся осуществляют учебные действия по намеченному плану (применяется групповой, индивидуальный методы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80496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существление контро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итель осуществляет контроль за выполнением учащимися практической рабо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ащиеся осуществляют контроль (применяются формы самоконтроля, взаимоконтроля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80496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существление коррек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итель в ходе выполнения и по итогам выполненной работы учащимися осуществляет коррекцию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ащиеся формулируют затруднения и осуществляют коррекцию самостоятельн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07460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ценивание учащих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итель осуществляет оценивание учащихся за работу на урок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ащиеся дают оценку деятельности по её результатам (самооценивание, оценивание результатов деятельности товарищей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53676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тог уро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итель выясняет у учащихся, что они запомнил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водится рефлекс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804600">
                <a:tc>
                  <a:txBody>
                    <a:bodyPr lIns="55440" rIns="554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омашнее задание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итель объявляет и комментирует (чаще – задание одно для всех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55440" rIns="5544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чащиеся могут выбирать задание из предложенных учителем с учётом индивидуальных возможност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55440" marR="55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490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6560" y="-360"/>
            <a:ext cx="8107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22ea4"/>
                </a:solidFill>
                <a:latin typeface="Corbel"/>
              </a:rPr>
              <a:t>Рабочая программа по ФГОС</a:t>
            </a:r>
            <a:endParaRPr b="0" lang="en-US" sz="2800" spc="-1" strike="noStrike">
              <a:solidFill>
                <a:srgbClr val="c22ea4"/>
              </a:solidFill>
              <a:latin typeface="Corbe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0" y="476280"/>
          <a:ext cx="9144000" cy="7826400"/>
        </p:xfrm>
        <a:graphic>
          <a:graphicData uri="http://schemas.openxmlformats.org/drawingml/2006/table">
            <a:tbl>
              <a:tblPr/>
              <a:tblGrid>
                <a:gridCol w="455760"/>
                <a:gridCol w="2171520"/>
                <a:gridCol w="420840"/>
                <a:gridCol w="1523880"/>
                <a:gridCol w="1728720"/>
                <a:gridCol w="863640"/>
                <a:gridCol w="647640"/>
                <a:gridCol w="576360"/>
                <a:gridCol w="755640"/>
              </a:tblGrid>
              <a:tr h="54792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83d68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ма  уро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83d68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ас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83d68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ы деятель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83d68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анируемые  результа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83d68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нтро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83d68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ата провед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рректиров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 комментарии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040">
                <a:tc gridSpan="9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1 четверть - ЛЕГКАЯ  АТЛЕТИКА  - 11 ЧАСОВ  ЭСТАФЕТНЫЙ БЕГ (2 ЧАСА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74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ая атлет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дьба и бег 3 час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ts val="1074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03030"/>
                          </a:solidFill>
                          <a:latin typeface="Times New Roman"/>
                          <a:ea typeface="Times New Roman"/>
                        </a:rPr>
                        <a:t>Олимпийские игры древности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303030"/>
                          </a:solidFill>
                          <a:latin typeface="Times New Roman"/>
                          <a:ea typeface="Times New Roman"/>
                        </a:rPr>
                        <a:t>Возрождение Олимпийских игр и олимпийского движе­ни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03030"/>
                          </a:solidFill>
                          <a:latin typeface="Times New Roman"/>
                          <a:ea typeface="Times New Roman"/>
                        </a:rPr>
                        <a:t>Правила безопасности и гигиени­ческие требова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074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03030"/>
                          </a:solidFill>
                          <a:latin typeface="Times New Roman"/>
                          <a:ea typeface="Times New Roman"/>
                        </a:rPr>
                        <a:t>Правила безопасности и гигиени­ческие требования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аж по ТБ</a:t>
                      </a:r>
                      <a:r>
                        <a:rPr b="0" lang="en-US" sz="1200" spc="-1" strike="noStrike">
                          <a:solidFill>
                            <a:srgbClr val="30303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ts val="1074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03030"/>
                          </a:solidFill>
                          <a:latin typeface="Times New Roman"/>
                          <a:ea typeface="Times New Roman"/>
                        </a:rPr>
                        <a:t>Олимпийские игры древности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303030"/>
                          </a:solidFill>
                          <a:latin typeface="Times New Roman"/>
                          <a:ea typeface="Times New Roman"/>
                        </a:rPr>
                        <a:t>Возрождение Олимпийских игр и олимпийского движе­ни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 Техника безопасности на уроках легкой атлетике. Возрождение Олимпийских игр древности, их герои. Разновидности ходьбы, бега. Ходьба по разметкам.  Ходьба с преодолением препятствий. Высокий старт и ускорение  до 40 метр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т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авильно выполнять движения  в беге; бегать с максимальной скоростью до 40 м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ять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говые упражнения для развития физических качест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ять и показыват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высокий  стар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ыват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сновные цели Олимпийских игр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крывать их гуманистическую направлен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зоват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лимпийские игры древности как явление культуры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Различать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ражнения по воздействию на развитие основных физических качеств (быстрота)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ущ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032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490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78184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22ea4"/>
                </a:solidFill>
                <a:latin typeface="Corbel"/>
              </a:rPr>
              <a:t>Технологическая карта урока по ФГОС</a:t>
            </a:r>
            <a:endParaRPr b="0" lang="en-US" sz="2800" spc="-1" strike="noStrike">
              <a:solidFill>
                <a:srgbClr val="c22ea4"/>
              </a:solidFill>
              <a:latin typeface="Corbe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0" y="620640"/>
          <a:ext cx="9144000" cy="6235920"/>
        </p:xfrm>
        <a:graphic>
          <a:graphicData uri="http://schemas.openxmlformats.org/drawingml/2006/table">
            <a:tbl>
              <a:tblPr/>
              <a:tblGrid>
                <a:gridCol w="539640"/>
                <a:gridCol w="1871640"/>
                <a:gridCol w="2160720"/>
                <a:gridCol w="2016000"/>
                <a:gridCol w="648000"/>
                <a:gridCol w="1908000"/>
              </a:tblGrid>
              <a:tr h="900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  <a:ea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83d6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  <a:ea typeface="Arial"/>
                        </a:rPr>
                        <a:t>Этапы уро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астная задача этап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83d68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зировк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83d68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онно-методичсекие указ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90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учите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ь учащих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02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подготовительная  ча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Arial"/>
                        </a:rPr>
                        <a:t>12 мину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оение, приветствие, прием рапорта, сообщение задач урок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ринимают задачи и активизируют учебную деятельность по поиску способов её решени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ивация деятельности учащихс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мину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оение в шеренгу, проверка готовности: наличие спортивной формы, бодрого настроения на работу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283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строевые упражнения: повороты направо, налево, кругом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- ходьба на носках, пятках, внешней стороне стопы, в полуприседе, приседе с различными положениями рук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- бег; бег правым (левым) боком, приставными шагами; бег спиной вперёд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- прыжковые упражнения: прыжки вверх – дотронуться до баскетбольного щита, сетки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- по сигналу остановка прыжком – имитация броска мяча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- по сигналу остановка прыжком – выполнение поворотов на месте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- ходьба с восстановлением дыхания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- проведение ОРУ в движен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актика осанки и плоскостопи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прыгучести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мину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оение в колонну по одному. Форма организации деятельности – фронтальная, способ выполнения – одновременный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располагается в центре зал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40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490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-367200"/>
            <a:ext cx="749952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c22ea4"/>
              </a:solidFill>
              <a:latin typeface="Corbe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468360"/>
                <a:gridCol w="2579760"/>
                <a:gridCol w="1811160"/>
                <a:gridCol w="2233800"/>
                <a:gridCol w="527040"/>
                <a:gridCol w="1523880"/>
              </a:tblGrid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  <a:ea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ь учите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ь учащих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астная задача этап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зировк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М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9448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Основная часть урока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3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мину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3. Развитие двигательных способностей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совершенствование техники ведения мяча левой, правой рукой в низкой, средней, высокой стойке баскетболиста (ведение мяча по залу: 3 круга левой, правой рукой, и с переводом с левой руки на правую)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ведение мяча с различной высотой отскока и сопротивлением партнёра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выполнение штрафного броска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совершенствование техники ведения и броска в кольцо с двух шагов;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совершенствование техники нападения быстрым прорыво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Работа с максимальной скоростью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Совершенствовать технику перемещения в сочетании с техникой передачи, ловли и ведения мяча в движени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овершенствование индивидуальных технических и тактических действий. Повышение надежности навыка и качества ведения мяча с различной высотой отскок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0 мину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Форма организации фронтальная, способ выполнения - поточный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Построение в колонну по одному. Форма организации фронтальная, способ выполнения – поточный, учитель располагается в центре зал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Построение в колонну по одному. Форма организации фронтальная, способ выполнения – поточный, учитель располагается в центре зал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28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4. Двусторонняя игра в баскетбол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ние способности управлять своими эмоциями. Совершенствование технических и тактических действий в защите и нападении. Формирование умения эффективно использовать технические приемы и тактические навыки в зависимых от своих возможностей, условий игры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мину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усторонняя игра проводится по всем правилам игры в баскетбол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19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одит жеребьёвку, дает установку на игру. Осуществляет судейство. Бег в медленном темпе. Восстановление дыхани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риятие и осознание учебных заданий, проектирование собственных действий, внесение корректив в собственную деятельность.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490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548720" y="-3132360"/>
            <a:ext cx="647640" cy="79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611280"/>
                <a:gridCol w="2016000"/>
                <a:gridCol w="1944720"/>
                <a:gridCol w="2303640"/>
                <a:gridCol w="504720"/>
                <a:gridCol w="1763640"/>
              </a:tblGrid>
              <a:tr h="11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  <a:ea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ь учите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ятельность учащихс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астная задача этап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зировк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МУ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6620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Заключительная ча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3 ми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5. Подведение итогов урок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мину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оение в одну шеренгу. Форма организации – фронтальная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74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Сообщает о выставленных отметках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6. Организованное завершение урок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мину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роение в шеренгу, поворот направо, выход из зала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агодарность учащимся за совместную деятельность на уроке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е команд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8e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490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rbel"/>
              </a:rPr>
              <a:t>Образовательный процесс учебного предмета «Физическая культура» в основной школе направлен на решение следующих задач:</a:t>
            </a:r>
            <a:endParaRPr b="0" lang="en-US" sz="24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• </a:t>
            </a: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содействие гармоничному физическому развитию, закрепление навыков правильной осанки, развитие устойчивости организма к неблагоприятным условиям внешней среды, воспитание ценностных ориентации на здоровый образ жизни и привычки соблюдения личной гигиены; 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• </a:t>
            </a: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обучение основам базовых видов двигательных действий;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• </a:t>
            </a: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дальнейшее развитие координационных (ориентирование в пространстве, перестроение двигательных действий, быстрота и точность реагирования на сигналы, согласование движений, ритм, равновесие, точность воспроизведения и дифференцирования основных параметров движений) и кондиционных способностей (скоростно-силовых, скоростных, выносливости, силы и гибкости);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• </a:t>
            </a: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формирование основ знаний о личной гигиене, о влиянии занятий физическими упражнениями на основные системы организма, развитие волевых и нравственных качеств;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• </a:t>
            </a: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выработку представлений о физической культуре личности и приёмах самоконтроля;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• </a:t>
            </a: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углубление представления об основных видах спорта, соревнованиях, снарядах и инвентаре, соблюдение правил техники безопасности во время занятий, оказание первой помощи при травмах;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490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260000" y="-1494360"/>
            <a:ext cx="1008000" cy="46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6e5ed"/>
              </a:solidFill>
              <a:latin typeface="Corbel"/>
            </a:endParaRPr>
          </a:p>
        </p:txBody>
      </p:sp>
      <p:pic>
        <p:nvPicPr>
          <p:cNvPr id="363" name="Содержимое 5" descr=""/>
          <p:cNvPicPr/>
          <p:nvPr/>
        </p:nvPicPr>
        <p:blipFill>
          <a:blip r:embed="rId1"/>
          <a:stretch/>
        </p:blipFill>
        <p:spPr>
          <a:xfrm>
            <a:off x="1042920" y="0"/>
            <a:ext cx="8290080" cy="41497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1116000" y="4653000"/>
            <a:ext cx="7777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ffffff"/>
                </a:solidFill>
                <a:uFillTx/>
                <a:latin typeface="Arial"/>
              </a:rPr>
              <a:t>СПАСИБО ЗА ВНИМАНИЕ!!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490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434960" y="1484280"/>
            <a:ext cx="7499520" cy="476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885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• </a:t>
            </a: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воспитание привычки к самостоятельным занятиям физическими упражнениями, избранными видами спорта в свободное время;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lvl="2" marL="885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lvl="2" marL="885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• </a:t>
            </a: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выработку организаторских навыков проведения занятий в качестве командира отделения, капитана команды, судьи;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lvl="2" marL="885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lvl="2" marL="885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• </a:t>
            </a: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формирование адекватной оценки собственных физических возможностей;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lvl="2" marL="885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lvl="2" marL="885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• </a:t>
            </a: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воспитание инициативности, самостоятельности, взаимопомощи, дисциплинированности, чувства ответственности;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lvl="2" marL="885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lvl="2" marL="885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• </a:t>
            </a:r>
            <a:r>
              <a:rPr b="0" lang="ru-RU" sz="1600" spc="-1" strike="noStrike">
                <a:solidFill>
                  <a:srgbClr val="ffffff"/>
                </a:solidFill>
                <a:latin typeface="Corbel"/>
              </a:rPr>
              <a:t>содействие развитию психических процессов и обучение основам психическойсаморегуляции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490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0" lang="en-US" sz="3900" spc="-1" strike="noStrike">
                <a:solidFill>
                  <a:srgbClr val="ff0000"/>
                </a:solidFill>
                <a:latin typeface="Corbel"/>
              </a:rPr>
              <a:t>Требования ФГОС</a:t>
            </a:r>
            <a:br>
              <a:rPr sz="3900"/>
            </a:br>
            <a:r>
              <a:rPr b="0" lang="en-US" sz="3900" spc="-1" strike="noStrike">
                <a:solidFill>
                  <a:srgbClr val="ff0000"/>
                </a:solidFill>
                <a:latin typeface="Corbel"/>
              </a:rPr>
              <a:t> к результатам обучения.</a:t>
            </a:r>
            <a:endParaRPr b="0" lang="en-US" sz="3900" spc="-1" strike="noStrike">
              <a:solidFill>
                <a:srgbClr val="c22ea4"/>
              </a:solidFill>
              <a:latin typeface="Corbel"/>
            </a:endParaRPr>
          </a:p>
        </p:txBody>
      </p:sp>
      <p:pic>
        <p:nvPicPr>
          <p:cNvPr id="332" name="Содержимое 3" descr="image1.png"/>
          <p:cNvPicPr/>
          <p:nvPr/>
        </p:nvPicPr>
        <p:blipFill>
          <a:blip r:embed="rId1"/>
          <a:stretch/>
        </p:blipFill>
        <p:spPr>
          <a:xfrm>
            <a:off x="684360" y="1341360"/>
            <a:ext cx="8208720" cy="53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490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0000"/>
                </a:solidFill>
                <a:latin typeface="Corbel"/>
              </a:rPr>
              <a:t>Как добиться результатов?</a:t>
            </a:r>
            <a:endParaRPr b="0" lang="en-US" sz="3900" spc="-1" strike="noStrike">
              <a:solidFill>
                <a:srgbClr val="c22ea4"/>
              </a:solidFill>
              <a:latin typeface="Corbel"/>
            </a:endParaRPr>
          </a:p>
        </p:txBody>
      </p:sp>
      <p:pic>
        <p:nvPicPr>
          <p:cNvPr id="334" name="Содержимое 3" descr=""/>
          <p:cNvPicPr/>
          <p:nvPr/>
        </p:nvPicPr>
        <p:blipFill>
          <a:blip r:embed="rId1"/>
          <a:stretch/>
        </p:blipFill>
        <p:spPr>
          <a:xfrm>
            <a:off x="1403280" y="1052640"/>
            <a:ext cx="7540560" cy="54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490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Задачу формирования целостного мировоззрения учащихся, всестороннего раскрытия взаимосвязи и взаимообусловленности изучаемых явлений и процессов в сфере физической культуры учитель реализует на основе расширения межпредметных связей из области разных предметов: литературы, истории, математики, анатомии, гигиены, физиологии, психологии и др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490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475920"/>
            <a:ext cx="74995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rbel"/>
              </a:rPr>
              <a:t>Традиционный урок физической культуры решает в основном две задачи:</a:t>
            </a:r>
            <a:endParaRPr b="0" lang="en-US" sz="36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434960" y="2276280"/>
            <a:ext cx="749952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 </a:t>
            </a:r>
            <a:r>
              <a:rPr b="1" i="1" lang="ru-RU" sz="3600" spc="-1" strike="noStrike">
                <a:solidFill>
                  <a:srgbClr val="ffffff"/>
                </a:solidFill>
                <a:latin typeface="Corbel"/>
              </a:rPr>
              <a:t>оздоровительную</a:t>
            </a: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 </a:t>
            </a:r>
            <a:r>
              <a:rPr b="1" i="1" lang="ru-RU" sz="3600" spc="-1" strike="noStrike">
                <a:solidFill>
                  <a:srgbClr val="ffffff"/>
                </a:solidFill>
                <a:latin typeface="Corbel"/>
              </a:rPr>
              <a:t>тренирующую;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 advTm="5000"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490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6e5ed"/>
                </a:solidFill>
                <a:latin typeface="Corbel"/>
              </a:rPr>
              <a:t>Для модернизации системы 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pic>
        <p:nvPicPr>
          <p:cNvPr id="340" name="Содержимое 3" descr=""/>
          <p:cNvPicPr/>
          <p:nvPr/>
        </p:nvPicPr>
        <p:blipFill>
          <a:blip r:embed="rId1"/>
          <a:stretch/>
        </p:blipFill>
        <p:spPr>
          <a:xfrm>
            <a:off x="878040" y="0"/>
            <a:ext cx="8265960" cy="687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490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187280" y="1163880"/>
            <a:ext cx="7705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 уроках физической культуры в 5—9 классах решаются основные задачи, стоящие перед школьной системой физического воспитания. Вместе с тем особенностью урочных занятий в этих классах является углублённое обучение базовым двигательным действиям, включая технику основных видов спорта (лёгкая атлетика, гимнастика, спортивные игры, элементы единоборств, лыжная подготовка, плавание). Углубляются знания о личной гигиене, о влиянии занятий физическими упражнениями на основные системы организма (дыхание, кровообращение, ЦНС, обмен веществ), на развитие волевых и нравственных качеств. На уроках физической культуры учащиеся 5—9 классов получают представления о физической культуре личности, её взаимосвязи с основами здорового образа жизни, овладевают знаниями о методике самостоятельной тренировки. Во время изучения конкретных разделов программы пополняются представления об основных видах спорта, соревнованиях, снарядах и инвентаре, правилах техники безопасности и оказания первой помощи при травм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8T12:56:10Z</dcterms:created>
  <dc:creator>Андрей</dc:creator>
  <dc:description/>
  <dc:language>en-US</dc:language>
  <cp:lastModifiedBy>Пользователь Windows</cp:lastModifiedBy>
  <dcterms:modified xsi:type="dcterms:W3CDTF">2015-06-29T16:20:25Z</dcterms:modified>
  <cp:revision>53</cp:revision>
  <dc:subject/>
  <dc:title>ФГОС общего образования. Урок физической культуры</dc:title>
</cp:coreProperties>
</file>