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BD9-4AD0-4F28-A43B-1FE8ACD5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287-F0F9-46B4-921C-9970C3E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2C3-303E-4510-8CAB-A083A5B1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39A-20AC-44FA-8881-036EF3F4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3B9-060D-48BC-B7F0-97AD9CCB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2E71-B7B5-4D3C-9DC0-C2CB86F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3F7-B39B-4364-86E4-78B814E9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B95-F1EA-4E3E-9F49-90AF488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7297-7F65-43E9-8879-880FFA46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57B-8D04-44FE-980B-CA2363B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31F-03DB-4A70-8A69-B930489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37D-0DB2-45EA-B1AE-C20F0BB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CD5-BDC2-4999-9EF4-574D09A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955-8392-43EB-846C-AE39F794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E08B-C8E1-40DA-BB8D-CE973AF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11C3-2D66-467A-ADF8-5CCEB7F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3BF1-CD0A-4FD5-91B1-24B8B9CB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291-E99C-4E42-BAB4-524BA60F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08E-2FE4-4CFD-98F7-B1E83B8B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7DA-C3DF-411E-B13E-1630F1F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B3B-9CCD-41A7-850B-44C2DECE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8C8-2F8B-486C-8386-23DB1A3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362-E525-4EBA-93E7-1346A89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871-6643-4EF5-859A-FB77F1B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F1CC-AAB2-46C0-AC3D-4FEF14F998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7080" y="49860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3600" y="26136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3440" y="140184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604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7600" y="191160"/>
                  <a:ext cx="2869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054-54D5-4854-9A5B-794AC6796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 разработке и использовании индивидуальной карты развития ребенка в соответствии с ФГОС Д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440" y="4571640"/>
            <a:ext cx="6680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ДОУ детский са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5 «Журавлик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ведующий: Ромазанова О.Б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pe02097_"/>
          <p:cNvPicPr/>
          <p:nvPr/>
        </p:nvPicPr>
        <p:blipFill>
          <a:blip r:embed="rId1"/>
          <a:stretch/>
        </p:blipFill>
        <p:spPr>
          <a:xfrm>
            <a:off x="6019920" y="328680"/>
            <a:ext cx="27432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5800" y="1870200"/>
          <a:ext cx="7696080" cy="4662360"/>
        </p:xfrm>
        <a:graphic>
          <a:graphicData uri="http://schemas.openxmlformats.org/drawingml/2006/table">
            <a:tbl>
              <a:tblPr/>
              <a:tblGrid>
                <a:gridCol w="3165480"/>
                <a:gridCol w="1141560"/>
                <a:gridCol w="1139760"/>
                <a:gridCol w="1143000"/>
                <a:gridCol w="1106280"/>
              </a:tblGrid>
              <a:tr h="24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43f6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ение (норма/отклонение от но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х (норма/отклонение от но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ая подготовка (соответствие возрасту/несоответствие возрас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анка (норма/незначительные отклонения/ значительные отклон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ические заболевания (наличие/отсутств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здоровья (основная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ропущенных по болезни дней з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лергия (наличие/отсутств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3"/>
          <p:cNvSpPr/>
          <p:nvPr/>
        </p:nvSpPr>
        <p:spPr>
          <a:xfrm>
            <a:off x="1001880" y="568800"/>
            <a:ext cx="608472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здоров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523880" y="457200"/>
            <a:ext cx="5334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ропометрические показатели и функциональное состоя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16120" y="1765440"/>
          <a:ext cx="7435800" cy="4662360"/>
        </p:xfrm>
        <a:graphic>
          <a:graphicData uri="http://schemas.openxmlformats.org/drawingml/2006/table">
            <a:tbl>
              <a:tblPr/>
              <a:tblGrid>
                <a:gridCol w="1293840"/>
                <a:gridCol w="1222200"/>
                <a:gridCol w="1143000"/>
                <a:gridCol w="1266840"/>
                <a:gridCol w="1387440"/>
                <a:gridCol w="1122480"/>
              </a:tblGrid>
              <a:tr h="73656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к осмо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.гр.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 телос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590920" y="76320"/>
            <a:ext cx="32385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обучен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Таблица 3" descr=""/>
          <p:cNvPicPr/>
          <p:nvPr/>
        </p:nvPicPr>
        <p:blipFill>
          <a:blip r:embed="rId1"/>
          <a:stretch/>
        </p:blipFill>
        <p:spPr>
          <a:xfrm>
            <a:off x="1378080" y="384120"/>
            <a:ext cx="677232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124080" y="228600"/>
            <a:ext cx="2551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е достиж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8800" y="762120"/>
          <a:ext cx="5867280" cy="5389560"/>
        </p:xfrm>
        <a:graphic>
          <a:graphicData uri="http://schemas.openxmlformats.org/drawingml/2006/table">
            <a:tbl>
              <a:tblPr/>
              <a:tblGrid>
                <a:gridCol w="3755880"/>
                <a:gridCol w="2111400"/>
              </a:tblGrid>
              <a:tr h="245880">
                <a:tc>
                  <a:txBody>
                    <a:bodyPr lIns="28800" rIns="28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1600200" y="152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сещении дополнительных занят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22440" y="762120"/>
          <a:ext cx="4892760" cy="5229000"/>
        </p:xfrm>
        <a:graphic>
          <a:graphicData uri="http://schemas.openxmlformats.org/drawingml/2006/table">
            <a:tbl>
              <a:tblPr/>
              <a:tblGrid>
                <a:gridCol w="3132360"/>
                <a:gridCol w="1760400"/>
              </a:tblGrid>
              <a:tr h="490320">
                <a:tc>
                  <a:txBody>
                    <a:bodyPr lIns="37800" rIns="37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посещ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какого возра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19320" y="228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использованию ИК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598320"/>
          <a:ext cx="6781680" cy="5499360"/>
        </p:xfrm>
        <a:graphic>
          <a:graphicData uri="http://schemas.openxmlformats.org/drawingml/2006/table">
            <a:tbl>
              <a:tblPr/>
              <a:tblGrid>
                <a:gridCol w="1046160"/>
                <a:gridCol w="5735520"/>
              </a:tblGrid>
              <a:tr h="86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,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при поступлении ребенка в образовательную организацию, при необходимости обновл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 ежедневно, в течение адаптационного пери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старшей медсестрой и врачом, руководствуясь медицинской картой 1 раз в год (антропометрические показатели 2 раза в год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, музыкальным руководителем (музыкальное развитие) по результатам обследования и наблюдения за ребенком (два раза в год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, музыкальным руководителем. В листок вносятся личные достижения, значимые для ребенка (призовые места в спортивных соревнованиях, конкурсах и т.д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. В листок вносятся сведения о посещении дополнительных занятий в образовательном учреждении и вне 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77151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j0250670"/>
          <p:cNvPicPr/>
          <p:nvPr/>
        </p:nvPicPr>
        <p:blipFill>
          <a:blip r:embed="rId1"/>
          <a:stretch/>
        </p:blipFill>
        <p:spPr>
          <a:xfrm>
            <a:off x="6629400" y="4800600"/>
            <a:ext cx="1523880" cy="17715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" descr=""/>
          <p:cNvPicPr/>
          <p:nvPr/>
        </p:nvPicPr>
        <p:blipFill>
          <a:blip r:embed="rId2"/>
          <a:stretch/>
        </p:blipFill>
        <p:spPr>
          <a:xfrm>
            <a:off x="1886040" y="264960"/>
            <a:ext cx="47433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9360" y="2376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371600" y="1295280"/>
            <a:ext cx="624852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КАР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_____________________________________________Им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ство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371600" y="304920"/>
            <a:ext cx="64771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ая карта развития ребенка хранится у педагога (в местах, недоступных детям и передается родителям при переходе в другое ОУ (группу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449280" algn="ctr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77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ие сведения о ребен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поступления в детский сад __________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уда прибыл 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ии при поступлении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468440" y="1835280"/>
          <a:ext cx="6130800" cy="3644640"/>
        </p:xfrm>
        <a:graphic>
          <a:graphicData uri="http://schemas.openxmlformats.org/drawingml/2006/table">
            <a:tbl>
              <a:tblPr/>
              <a:tblGrid>
                <a:gridCol w="1689120"/>
                <a:gridCol w="2430360"/>
                <a:gridCol w="20113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, имя, от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ние и 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угие члены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Таблица 5" descr=""/>
          <p:cNvPicPr/>
          <p:nvPr/>
        </p:nvPicPr>
        <p:blipFill>
          <a:blip r:embed="rId1"/>
          <a:stretch/>
        </p:blipFill>
        <p:spPr>
          <a:xfrm>
            <a:off x="304920" y="2987640"/>
            <a:ext cx="8680320" cy="27972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683080" y="602280"/>
            <a:ext cx="5606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адапт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Фамилия, имя ребенка 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та рождения 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та поступления в ДОУ 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Возраст при поступлении 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Группа здоровья 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нные антропометрии: рост _____  вес ______ (при поступлении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                                             </a:t>
            </a: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рост _____  вес ______ (через месяц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Заболевания до поступления 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Индивидуальные особенности 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Привычки 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914400"/>
          <a:ext cx="7848720" cy="4222800"/>
        </p:xfrm>
        <a:graphic>
          <a:graphicData uri="http://schemas.openxmlformats.org/drawingml/2006/table">
            <a:tbl>
              <a:tblPr/>
              <a:tblGrid>
                <a:gridCol w="1238400"/>
                <a:gridCol w="976320"/>
                <a:gridCol w="195120"/>
                <a:gridCol w="195480"/>
                <a:gridCol w="195120"/>
                <a:gridCol w="195120"/>
                <a:gridCol w="195480"/>
                <a:gridCol w="195120"/>
                <a:gridCol w="196920"/>
                <a:gridCol w="196920"/>
                <a:gridCol w="236520"/>
                <a:gridCol w="237960"/>
                <a:gridCol w="231840"/>
                <a:gridCol w="230400"/>
                <a:gridCol w="233280"/>
                <a:gridCol w="231840"/>
                <a:gridCol w="231480"/>
                <a:gridCol w="231840"/>
                <a:gridCol w="236520"/>
                <a:gridCol w="236520"/>
                <a:gridCol w="250920"/>
                <a:gridCol w="252360"/>
                <a:gridCol w="246240"/>
                <a:gridCol w="245880"/>
                <a:gridCol w="246240"/>
                <a:gridCol w="245880"/>
                <a:gridCol w="243000"/>
              </a:tblGrid>
              <a:tr h="684360">
                <a:tc row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ые конта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 взрос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 grid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ая и игров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 grid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акция на изменение привычной ситу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2"/>
          <p:cNvSpPr/>
          <p:nvPr/>
        </p:nvSpPr>
        <p:spPr>
          <a:xfrm>
            <a:off x="1828800" y="5649120"/>
            <a:ext cx="541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несенные заболевания, кол-во пропущенных дней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  <a:ea typeface="Calibri"/>
              </a:rPr>
              <a:t>Оценка адаптационного периода: 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Оксана</cp:lastModifiedBy>
  <dcterms:modified xsi:type="dcterms:W3CDTF">2017-10-16T05:50:54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