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6355-4685-4A34-AEC1-77A74CC4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A28A-5FBF-4962-8EEA-5401396F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D3B5-F320-4DAA-ABA3-F5A79F99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E7A-E837-4C07-8C9F-E8FAAF110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1E34-1F25-41F7-BDBC-773B0C93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E065-DF26-4EBF-B1F0-F5B1EA9B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290D-8DF4-485F-9CB7-6D5262D1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2C0E-21A2-4D5C-BF1C-6535EF16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F0C5-21B0-4EFB-831C-6AB97D95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391A-4D8C-4BB8-8B1C-4C6C5983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10ED-78D5-42B3-8001-7491E8ED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4BEF-497B-443F-8FD7-DA881479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D765-E04C-4AEB-AC06-52B83AEB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34D1-F215-4192-9F03-6F688D5E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47E5-0112-41B0-9DCD-053EFA91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E06C-6264-4CAA-A5E4-409AF816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399F-6E68-4F8C-BADA-C671075A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BC46-A841-41A0-94C5-42E6B185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3A6E-A38B-4F2E-BE1B-462D75EF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506F-947D-4518-9D79-17EAA77F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9D1C-DD7B-4505-BB2F-B1452085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2250-F2C9-4F17-94B1-D4BA72E0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45D1-2A05-4E51-9D3D-918D15FF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46A-4021-40CA-BBA7-C92D7B4A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6502-2347-4B00-9A79-9880B0C87A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7080" y="498600"/>
                  <a:ext cx="43164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3600" y="261360"/>
                  <a:ext cx="80964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3440" y="1401840"/>
                  <a:ext cx="27072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6040"/>
                  <a:ext cx="2905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7600" y="191160"/>
                  <a:ext cx="2869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0760" y="4661280"/>
              <a:ext cx="998640" cy="463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6640" y="4640040"/>
              <a:ext cx="995400" cy="4586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4760" y="4626000"/>
              <a:ext cx="660240" cy="419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6E3A-E160-4237-B4FC-545A6A3691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400800" cy="30481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О разработке и использовании индивидуальной карты развития ребенка в соответствии с ФГОС Д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440" y="4571640"/>
            <a:ext cx="668016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ДОУ детский сад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№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5 «Журавлик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Заведующий: Ромазанова О.Б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Picture 4" descr="pe02097_"/>
          <p:cNvPicPr/>
          <p:nvPr/>
        </p:nvPicPr>
        <p:blipFill>
          <a:blip r:embed="rId1"/>
          <a:stretch/>
        </p:blipFill>
        <p:spPr>
          <a:xfrm>
            <a:off x="6019920" y="328680"/>
            <a:ext cx="27432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685800" y="1870200"/>
          <a:ext cx="7696080" cy="4662360"/>
        </p:xfrm>
        <a:graphic>
          <a:graphicData uri="http://schemas.openxmlformats.org/drawingml/2006/table">
            <a:tbl>
              <a:tblPr/>
              <a:tblGrid>
                <a:gridCol w="3165480"/>
                <a:gridCol w="1141560"/>
                <a:gridCol w="1139760"/>
                <a:gridCol w="1143000"/>
                <a:gridCol w="1106280"/>
              </a:tblGrid>
              <a:tr h="2458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43f6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-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-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-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рение (норма/отклонение от норм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ух (норма/отклонение от норм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изическая подготовка (соответствие возрасту/несоответствие возраст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анка (норма/незначительные отклонения/ значительные отклонения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нические заболевания (наличие/отсутств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здоровья (основная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..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ичество пропущенных по болезни дней за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ллергия (наличие/отсутств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3"/>
          <p:cNvSpPr/>
          <p:nvPr/>
        </p:nvSpPr>
        <p:spPr>
          <a:xfrm>
            <a:off x="1001880" y="568800"/>
            <a:ext cx="6084720" cy="7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7080" bIns="0" anchor="ctr">
            <a:spAutoFit/>
          </a:bodyPr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ст здоровья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1523880" y="457200"/>
            <a:ext cx="53341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тропометрические показатели и функциональное состояние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816120" y="1765440"/>
          <a:ext cx="7435800" cy="4662360"/>
        </p:xfrm>
        <a:graphic>
          <a:graphicData uri="http://schemas.openxmlformats.org/drawingml/2006/table">
            <a:tbl>
              <a:tblPr/>
              <a:tblGrid>
                <a:gridCol w="1293840"/>
                <a:gridCol w="1222200"/>
                <a:gridCol w="1143000"/>
                <a:gridCol w="1266840"/>
                <a:gridCol w="1387440"/>
                <a:gridCol w="1122480"/>
              </a:tblGrid>
              <a:tr h="736560"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казател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фик осмо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с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р.гр.к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п телос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 rowSpan="2"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-4 г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е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с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rowSpan="2"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-5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е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с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rowSpan="2"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-6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е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с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rowSpan="2"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-7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с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2590920" y="76320"/>
            <a:ext cx="32385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ониторинг обученност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Таблица 3" descr=""/>
          <p:cNvPicPr/>
          <p:nvPr/>
        </p:nvPicPr>
        <p:blipFill>
          <a:blip r:embed="rId1"/>
          <a:stretch/>
        </p:blipFill>
        <p:spPr>
          <a:xfrm>
            <a:off x="1378080" y="384120"/>
            <a:ext cx="677232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1"/>
          <p:cNvSpPr/>
          <p:nvPr/>
        </p:nvSpPr>
        <p:spPr>
          <a:xfrm>
            <a:off x="3124080" y="228600"/>
            <a:ext cx="25513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чные достижен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828800" y="762120"/>
          <a:ext cx="5867280" cy="5389560"/>
        </p:xfrm>
        <a:graphic>
          <a:graphicData uri="http://schemas.openxmlformats.org/drawingml/2006/table">
            <a:tbl>
              <a:tblPr/>
              <a:tblGrid>
                <a:gridCol w="3755880"/>
                <a:gridCol w="2111400"/>
              </a:tblGrid>
              <a:tr h="245880">
                <a:tc>
                  <a:txBody>
                    <a:bodyPr lIns="28800" rIns="288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стиж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28800" rIns="28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28800" marR="28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1"/>
          <p:cNvSpPr/>
          <p:nvPr/>
        </p:nvSpPr>
        <p:spPr>
          <a:xfrm>
            <a:off x="1600200" y="1522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сещении дополнительных занятий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422440" y="762120"/>
          <a:ext cx="4892760" cy="5229000"/>
        </p:xfrm>
        <a:graphic>
          <a:graphicData uri="http://schemas.openxmlformats.org/drawingml/2006/table">
            <a:tbl>
              <a:tblPr/>
              <a:tblGrid>
                <a:gridCol w="3132360"/>
                <a:gridCol w="1760400"/>
              </a:tblGrid>
              <a:tr h="490320">
                <a:tc>
                  <a:txBody>
                    <a:bodyPr lIns="37800" rIns="378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посеща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какого возрас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7800" rIns="3780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37800" marR="37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5"/>
          <p:cNvSpPr/>
          <p:nvPr/>
        </p:nvSpPr>
        <p:spPr>
          <a:xfrm>
            <a:off x="1219320" y="2286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по использованию ИК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143000" y="598320"/>
          <a:ext cx="6781680" cy="5499360"/>
        </p:xfrm>
        <a:graphic>
          <a:graphicData uri="http://schemas.openxmlformats.org/drawingml/2006/table">
            <a:tbl>
              <a:tblPr/>
              <a:tblGrid>
                <a:gridCol w="1046160"/>
                <a:gridCol w="5735520"/>
              </a:tblGrid>
              <a:tr h="868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I, 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лняется при поступлении ребенка в образовательную организацию, при необходимости обновляет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лняется воспитателем ежедневно, в течение адаптационного период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лняется старшей медсестрой и врачом, руководствуясь медицинской картой 1 раз в год (антропометрические показатели 2 раза в год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лняется воспитателем, музыкальным руководителем (музыкальное развитие) по результатам обследования и наблюдения за ребенком (два раза в год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лняется воспитателем, музыкальным руководителем. В листок вносятся личные достижения, значимые для ребенка (призовые места в спортивных соревнованиях, конкурсах и т.д.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дел VI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олняется воспитателем. В листок вносятся сведения о посещении дополнительных занятий в образовательном учреждении и вне ег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Рисунок 1" descr=""/>
          <p:cNvPicPr/>
          <p:nvPr/>
        </p:nvPicPr>
        <p:blipFill>
          <a:blip r:embed="rId1"/>
          <a:stretch/>
        </p:blipFill>
        <p:spPr>
          <a:xfrm>
            <a:off x="0" y="11160"/>
            <a:ext cx="771516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" descr=""/>
          <p:cNvPicPr/>
          <p:nvPr/>
        </p:nvPicPr>
        <p:blipFill>
          <a:blip r:embed="rId2"/>
          <a:stretch/>
        </p:blipFill>
        <p:spPr>
          <a:xfrm>
            <a:off x="6400800" y="1600200"/>
            <a:ext cx="2057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8" descr="j0250670"/>
          <p:cNvPicPr/>
          <p:nvPr/>
        </p:nvPicPr>
        <p:blipFill>
          <a:blip r:embed="rId1"/>
          <a:stretch/>
        </p:blipFill>
        <p:spPr>
          <a:xfrm>
            <a:off x="6629400" y="4800600"/>
            <a:ext cx="1523880" cy="177156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" descr=""/>
          <p:cNvPicPr/>
          <p:nvPr/>
        </p:nvPicPr>
        <p:blipFill>
          <a:blip r:embed="rId2"/>
          <a:stretch/>
        </p:blipFill>
        <p:spPr>
          <a:xfrm>
            <a:off x="1886040" y="264960"/>
            <a:ext cx="474336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1" descr=""/>
          <p:cNvPicPr/>
          <p:nvPr/>
        </p:nvPicPr>
        <p:blipFill>
          <a:blip r:embed="rId1"/>
          <a:stretch/>
        </p:blipFill>
        <p:spPr>
          <a:xfrm>
            <a:off x="9360" y="23760"/>
            <a:ext cx="74678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1"/>
          <p:cNvSpPr/>
          <p:nvPr/>
        </p:nvSpPr>
        <p:spPr>
          <a:xfrm>
            <a:off x="1371600" y="1295280"/>
            <a:ext cx="6248520" cy="55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КАРТ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РЕБЕН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_____________________________________________Имя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ство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рождения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1371600" y="304920"/>
            <a:ext cx="6477120" cy="55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ндивидуальная карта развития ребенка хранится у педагога (в местах, недоступных детям и передается родителям при переходе в другое ОУ (группу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449280" algn="ctr">
              <a:lnSpc>
                <a:spcPct val="115000"/>
              </a:lnSpc>
              <a:spcAft>
                <a:spcPts val="1001"/>
              </a:spcAft>
              <a:buClr>
                <a:srgbClr val="000000"/>
              </a:buClr>
              <a:buSzPct val="77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щие сведения о ребенке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та поступления в детский сад _______________________________________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ткуда прибыл 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комендации при поступлении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468440" y="1835280"/>
          <a:ext cx="6130800" cy="3644640"/>
        </p:xfrm>
        <a:graphic>
          <a:graphicData uri="http://schemas.openxmlformats.org/drawingml/2006/table">
            <a:tbl>
              <a:tblPr/>
              <a:tblGrid>
                <a:gridCol w="1689120"/>
                <a:gridCol w="2430360"/>
                <a:gridCol w="2011320"/>
              </a:tblGrid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амилия, имя, отч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разование и место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е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ругие члены семь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Таблица 5" descr=""/>
          <p:cNvPicPr/>
          <p:nvPr/>
        </p:nvPicPr>
        <p:blipFill>
          <a:blip r:embed="rId1"/>
          <a:stretch/>
        </p:blipFill>
        <p:spPr>
          <a:xfrm>
            <a:off x="304920" y="2987640"/>
            <a:ext cx="8680320" cy="279720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2683080" y="602280"/>
            <a:ext cx="5606280" cy="21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Лист адаптаци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omic Sans MS"/>
                <a:ea typeface="Calibri"/>
              </a:rPr>
              <a:t>Фамилия, имя ребенка ________________________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omic Sans MS"/>
                <a:ea typeface="Calibri"/>
              </a:rPr>
              <a:t>Дата рождения ____________________________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omic Sans MS"/>
                <a:ea typeface="Calibri"/>
              </a:rPr>
              <a:t>Дата поступления в ДОУ _____________________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omic Sans MS"/>
                <a:ea typeface="Calibri"/>
              </a:rPr>
              <a:t>Возраст при поступлении ____________________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omic Sans MS"/>
                <a:ea typeface="Calibri"/>
              </a:rPr>
              <a:t>Группа здоровья ___________________________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omic Sans MS"/>
                <a:ea typeface="Calibri"/>
              </a:rPr>
              <a:t>Данные антропометрии: рост _____  вес ______ (при поступлении)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omic Sans MS"/>
                <a:ea typeface="Calibri"/>
              </a:rPr>
              <a:t>                                                    </a:t>
            </a:r>
            <a:r>
              <a:rPr b="1" i="1" lang="ru-RU" sz="1100" spc="-1" strike="noStrike">
                <a:solidFill>
                  <a:srgbClr val="000000"/>
                </a:solidFill>
                <a:latin typeface="Comic Sans MS"/>
                <a:ea typeface="Calibri"/>
              </a:rPr>
              <a:t>рост _____  вес ______ (через месяц)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omic Sans MS"/>
                <a:ea typeface="Calibri"/>
              </a:rPr>
              <a:t>Заболевания до поступления 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omic Sans MS"/>
                <a:ea typeface="Calibri"/>
              </a:rPr>
              <a:t>Индивидуальные особенности 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omic Sans MS"/>
                <a:ea typeface="Calibri"/>
              </a:rPr>
              <a:t>Привычки 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609480" y="914400"/>
          <a:ext cx="7848720" cy="4222800"/>
        </p:xfrm>
        <a:graphic>
          <a:graphicData uri="http://schemas.openxmlformats.org/drawingml/2006/table">
            <a:tbl>
              <a:tblPr/>
              <a:tblGrid>
                <a:gridCol w="1238400"/>
                <a:gridCol w="976320"/>
                <a:gridCol w="195120"/>
                <a:gridCol w="195480"/>
                <a:gridCol w="195120"/>
                <a:gridCol w="195120"/>
                <a:gridCol w="195480"/>
                <a:gridCol w="195120"/>
                <a:gridCol w="196920"/>
                <a:gridCol w="196920"/>
                <a:gridCol w="236520"/>
                <a:gridCol w="237960"/>
                <a:gridCol w="231840"/>
                <a:gridCol w="230400"/>
                <a:gridCol w="233280"/>
                <a:gridCol w="231840"/>
                <a:gridCol w="231480"/>
                <a:gridCol w="231840"/>
                <a:gridCol w="236520"/>
                <a:gridCol w="236520"/>
                <a:gridCol w="250920"/>
                <a:gridCol w="252360"/>
                <a:gridCol w="246240"/>
                <a:gridCol w="245880"/>
                <a:gridCol w="246240"/>
                <a:gridCol w="245880"/>
                <a:gridCol w="243000"/>
              </a:tblGrid>
              <a:tr h="684360">
                <a:tc rowSpan="2"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циальные контак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 деть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о взрослы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 gridSpan="2"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знавательная и игров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040">
                <a:tc gridSpan="2">
                  <a:txBody>
                    <a:bodyPr lIns="59040" rIns="59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акция на изменение привычной ситу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2"/>
          <p:cNvSpPr/>
          <p:nvPr/>
        </p:nvSpPr>
        <p:spPr>
          <a:xfrm>
            <a:off x="1828800" y="5649120"/>
            <a:ext cx="541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  <a:ea typeface="Calibri"/>
              </a:rPr>
              <a:t>Перенесенные заболевания, кол-во пропущенных дней 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  <a:ea typeface="Calibri"/>
              </a:rPr>
              <a:t>Оценка адаптационного периода: _____________________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митрий</dc:creator>
  <dc:description/>
  <dc:language>en-US</dc:language>
  <cp:lastModifiedBy>Оксана</cp:lastModifiedBy>
  <dcterms:modified xsi:type="dcterms:W3CDTF">2017-10-16T05:50:54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