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FB93-E9D0-4931-A27F-3A7B380F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9821-AC03-4CBC-8AA8-4BC389F9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858E-0A57-4246-9AD3-0CEE1425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8E2-680C-4960-8A6B-1238F873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C8A2-7789-45D5-AAF5-0D15AEFA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F810-D4CF-4AD0-AD59-93B4B3BB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10C1-0340-4A6F-8CBE-8C63E2F6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0960-20F8-4E77-9655-17BFB44D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8EC9-FD24-4663-9DE0-169AB200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C01B-EB50-44FE-96C5-9E545D72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09DC-22A0-4627-9ADC-000FE7A9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E40-3460-4976-96CB-BA241509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F834-760F-4B25-9A1E-C97F0983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3873-9DD2-4584-BC5C-09F3231D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E5EA-0786-4661-AE9C-8E967F90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4368-7944-4B65-B124-E6E7308A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AD2A-AE15-4ECA-9C5A-4995B98E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5E6C-0366-46DE-90EC-4776769B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AF32-306A-42C3-A62A-C57A4507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4DE7-44E6-45F8-8C19-F71481AA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18B-7469-442C-9FC4-22C28EC8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457-9C1E-4ABD-BAD4-046D47C1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A5EE-4FB1-4F89-8005-293DCC7F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08E-916B-42C6-A72A-F3286E99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EA24-5470-4A24-921E-C1E02E56EFE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FF35-0DAF-4AF8-B582-B399EEC9233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Волжская Булгария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 составлена учителем истории МБОУ «Школа № 71» Халиковой Г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3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31599"/>
                </a:solidFill>
                <a:latin typeface="Times New Roman"/>
              </a:rPr>
              <a:t>Города Волжской Булгарии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421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улгарское государство славилоськак страна городов. Один из путешественников XIII века так и писал: "Булгария - великое и могущественное  царство с богатыми городами". Крупнейшим городом всей средневековой Европы являлся Биляр. По своей територии он был в полтора раза больше Парижа и два раза больше Киева и Рима. Русские летописцы называли его Великим городом. Теперь у села Билярска Алексеевского района Республики Татарстан мы можем видеть только остатки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p5_gorodavb"/>
          <p:cNvPicPr/>
          <p:nvPr/>
        </p:nvPicPr>
        <p:blipFill>
          <a:blip r:embed="rId1"/>
          <a:stretch/>
        </p:blipFill>
        <p:spPr>
          <a:xfrm>
            <a:off x="4140360" y="907920"/>
            <a:ext cx="4802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4038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иляр был столицей государства. Булгарскую столицу окружали земляные валы и широкие стены с башнями по углам. Оборонительные сооружения делили Биляр на внутренний и внешний город. Во внутреннем городе было много кирпичных и каменных зданий. Иметь такие дома могли только богатые и знатные люди. В центре цитатели находился дворец эмира. Рядом с ним стояла белокаменная Соборная меч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Внешний город сильно отличался от внутреннего. Здесь стояли неказистые бревенчатые дома. В них жили ремесленники и мелкие купцы. Металлурги и кузнецы, а также гончары селились слобода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54900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p5_bilyarskoegorodishae"/>
          <p:cNvPicPr/>
          <p:nvPr/>
        </p:nvPicPr>
        <p:blipFill>
          <a:blip r:embed="rId1"/>
          <a:stretch/>
        </p:blipFill>
        <p:spPr>
          <a:xfrm>
            <a:off x="4859280" y="620640"/>
            <a:ext cx="3809880" cy="44658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>
            <a:off x="4859280" y="602100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ИЙ ПЛАН БИЛЯРСКОГО ГОРОДИЩА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68360" y="3068280"/>
            <a:ext cx="40384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БИЛЯР. СОБОРНАЯ МЕЧЕТЬ.X в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p5_bilyarsobornayamechet-"/>
          <p:cNvPicPr/>
          <p:nvPr/>
        </p:nvPicPr>
        <p:blipFill>
          <a:blip r:embed="rId1"/>
          <a:stretch/>
        </p:blipFill>
        <p:spPr>
          <a:xfrm>
            <a:off x="611280" y="333360"/>
            <a:ext cx="3809880" cy="2882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p5_karavan-sarybilyara"/>
          <p:cNvPicPr/>
          <p:nvPr/>
        </p:nvPicPr>
        <p:blipFill>
          <a:blip r:embed="rId2"/>
          <a:stretch/>
        </p:blipFill>
        <p:spPr>
          <a:xfrm>
            <a:off x="611280" y="3716280"/>
            <a:ext cx="3809880" cy="22575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6"/>
          <p:cNvSpPr/>
          <p:nvPr/>
        </p:nvSpPr>
        <p:spPr>
          <a:xfrm>
            <a:off x="1042920" y="5803920"/>
            <a:ext cx="299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Times New Roman"/>
              </a:rPr>
              <a:t>КАРАВАН-САРАЙ БИЛЯРА</a:t>
            </a:r>
            <a:endParaRPr b="0" lang="en-US" sz="14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Times New Roman"/>
              </a:rPr>
              <a:t>Реконструкция А.А.Мазанова по раскопкам А.Х.Халикова</a:t>
            </a:r>
            <a:endParaRPr b="0" lang="en-US" sz="1400" spc="-1" strike="noStrike">
              <a:solidFill>
                <a:srgbClr val="006633"/>
              </a:solidFill>
              <a:latin typeface="Times New Roman"/>
            </a:endParaRPr>
          </a:p>
        </p:txBody>
      </p:sp>
      <p:pic>
        <p:nvPicPr>
          <p:cNvPr id="133" name="Picture 18" descr="p5_aga-bazarvbolgarax6"/>
          <p:cNvPicPr/>
          <p:nvPr/>
        </p:nvPicPr>
        <p:blipFill>
          <a:blip r:embed="rId3"/>
          <a:stretch/>
        </p:blipFill>
        <p:spPr>
          <a:xfrm>
            <a:off x="4932360" y="260280"/>
            <a:ext cx="3465360" cy="29545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9"/>
          <p:cNvSpPr/>
          <p:nvPr/>
        </p:nvSpPr>
        <p:spPr>
          <a:xfrm>
            <a:off x="4932360" y="301392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ГА-БАЗАР В Г.БОЛГАР</a:t>
            </a:r>
            <a:endParaRPr b="0" lang="en-US" sz="14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уд. Рушан Шамсутдинов</a:t>
            </a:r>
            <a:endParaRPr b="0" lang="en-US" sz="1400" spc="-1" strike="noStrike">
              <a:solidFill>
                <a:srgbClr val="006633"/>
              </a:solidFill>
              <a:latin typeface="Times New Roman"/>
            </a:endParaRPr>
          </a:p>
        </p:txBody>
      </p:sp>
      <p:pic>
        <p:nvPicPr>
          <p:cNvPr id="135" name="Picture 21" descr="p5_domfeodalaizsuvara"/>
          <p:cNvPicPr/>
          <p:nvPr/>
        </p:nvPicPr>
        <p:blipFill>
          <a:blip r:embed="rId4"/>
          <a:stretch/>
        </p:blipFill>
        <p:spPr>
          <a:xfrm>
            <a:off x="4643280" y="3573360"/>
            <a:ext cx="428472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324000" y="186840"/>
            <a:ext cx="828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Около ворот, ведущий во внутренний город, располагался большой караван-сарай. Чужеземные купцы могли здесь сложить свои  товары, переночевать, отдохнуть перед дальней дорогой, сходить в баню.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Нигде не было столько купцов, как в Болгаре. Этот небольшой город на Волге стоял на пересечении торговых путей. И потому сюда приезжали купцы (гости) со всех концов мира. Здесь почти круглый год шумели многочисленные базары.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Вторым после Биляра крупным городом страны был Сувар. Он также имел мощные укрепления. На вершине наружных валов стояла деревянная стена из толстых столбов с заострёнными концами. За валами шел глубокий ров с водой. Со дна его торчали остро заточенные колья. Наверху внутренних валов были возведены дубовые стены с башнями. 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И в Суваре было немало кирпичных домов. Простые горожане, ремесленники строили себе одноэтажные деревянные дома. И жили они вдали от центральной части города.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Главным городом булгар на правом берегу Волги являлся Ошель. Это был один из самых крупных торгово-ремесленных пунктов страны. Остатки Ошеля сохранились в Тетюшском районе республики около деревни Богдашкино.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Знаменитым булгарским городом был и Джукетау. Он стоял на берегу Камы, там, где сейчас находится западная окраина г. Чистополя.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Times New Roman"/>
              </a:rPr>
              <a:t>На рубеже X-XI столетий недалеко от места слияния  Волги и Казанки возникла небольшая булгарская крепость, названная Казанью. Вскоре она стала одним из крупных центров международной торговли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p5_gkazan-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1767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468360" y="576648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Times New Roman"/>
              </a:rPr>
              <a:t>На булгарской земле стояло более пятидесяти больших и малых городов. Это были центры ремесла, торговли и культуры.</a:t>
            </a:r>
            <a:endParaRPr b="0" lang="en-US" sz="2000" spc="-1" strike="noStrike">
              <a:solidFill>
                <a:srgbClr val="00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ультура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58435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Принятие ислама Волжской Булгарией имело еще одно важное значение. Был дан сильный толчок развитию просвещения, литературы, нау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Первоначально булгары пользовались рунической письменностью. С принятием ислама они переходят к письменности на основе </a:t>
            </a:r>
            <a:r>
              <a:rPr b="1" i="1" lang="ru-RU" sz="1600" spc="-1" strike="noStrike">
                <a:solidFill>
                  <a:srgbClr val="006633"/>
                </a:solidFill>
                <a:latin typeface="Times New Roman"/>
              </a:rPr>
              <a:t>арабского алфавита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Со временем арабская письменность получила широкое распространение. На ней делали надписи на многочисленных памятниках, ювелирных изделиях, бытовых вещах. Многие образцы этих надписей являются настоящими произведениями каллигра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Чаще всего писали на бересте и на досках, покрытых слоем воска. Орудием письма было костяное писало. Но в ход уже пошла и </a:t>
            </a:r>
            <a:r>
              <a:rPr b="1" i="1" lang="ru-RU" sz="1600" spc="-1" strike="noStrike">
                <a:solidFill>
                  <a:srgbClr val="006633"/>
                </a:solidFill>
                <a:latin typeface="Times New Roman"/>
              </a:rPr>
              <a:t>бумага. 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Ее привозили из Самарканда. Писали на ней чернилами и перь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Арабской письменности, основам религиозных знаний обучали в </a:t>
            </a:r>
            <a:r>
              <a:rPr b="1" i="1" lang="ru-RU" sz="1600" spc="-1" strike="noStrike">
                <a:solidFill>
                  <a:srgbClr val="006633"/>
                </a:solidFill>
                <a:latin typeface="Times New Roman"/>
              </a:rPr>
              <a:t>мектебах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. Это были начальные школы при мечетях, которые строились в булгарских городах и селах. Высшее образование булгарские юноши получали, обучаясь у среднеазиатских уче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Владение арабским языком открывало доступ к сочинениям выдающихся ученых, поэтов Востока того времени. Это способствовало развитию в Волжской Булгарии разных наук и лит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6" descr="p38_kalligrafiya"/>
          <p:cNvPicPr/>
          <p:nvPr/>
        </p:nvPicPr>
        <p:blipFill>
          <a:blip r:embed="rId1"/>
          <a:stretch/>
        </p:blipFill>
        <p:spPr>
          <a:xfrm>
            <a:off x="6443640" y="981000"/>
            <a:ext cx="2376360" cy="1695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p38_kalligr"/>
          <p:cNvPicPr/>
          <p:nvPr/>
        </p:nvPicPr>
        <p:blipFill>
          <a:blip r:embed="rId2"/>
          <a:stretch/>
        </p:blipFill>
        <p:spPr>
          <a:xfrm>
            <a:off x="6948360" y="3213000"/>
            <a:ext cx="14623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2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Булгары достигли немалых успехов в математике и астрономии, химии и медицине, географии и истории.</a:t>
            </a:r>
            <a:br>
              <a:rPr sz="1600"/>
            </a:b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br>
              <a:rPr sz="1600"/>
            </a:b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В странах Востока был очень популярен труд Таджеддина аль-Булгари "Лучшие лекарства от отравления". Поэты прославляли в стихах булгарского ученого, врачевателя Ходжи Булгари. Булгарский судья Йакуб ибн Нугман написал книгу "История Булгара".</a:t>
            </a:r>
            <a:br>
              <a:rPr sz="1600"/>
            </a:b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br>
              <a:rPr sz="1600"/>
            </a:b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Значительное развитие в Волжской Булгарии получили художественная литература и поэтическое народное творчество. Лучшим произведением стала поэма Кул Гали "Кыйсса-и Йусуф" ("Сказание о Йусуфе").</a:t>
            </a:r>
            <a:br>
              <a:rPr sz="1600"/>
            </a:b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5" descr="p38_kulgali2"/>
          <p:cNvPicPr/>
          <p:nvPr/>
        </p:nvPicPr>
        <p:blipFill>
          <a:blip r:embed="rId1"/>
          <a:stretch/>
        </p:blipFill>
        <p:spPr>
          <a:xfrm>
            <a:off x="250920" y="3141720"/>
            <a:ext cx="1904760" cy="2543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38_kyiyssaiiyusuf"/>
          <p:cNvPicPr/>
          <p:nvPr/>
        </p:nvPicPr>
        <p:blipFill>
          <a:blip r:embed="rId2"/>
          <a:stretch/>
        </p:blipFill>
        <p:spPr>
          <a:xfrm>
            <a:off x="6588000" y="3141720"/>
            <a:ext cx="2232000" cy="24494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8"/>
          <p:cNvSpPr/>
          <p:nvPr/>
        </p:nvSpPr>
        <p:spPr>
          <a:xfrm>
            <a:off x="2340000" y="3147840"/>
            <a:ext cx="39956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Поэт Кул Гали жил в конце XII-первой половине XIII веков. Он создавал свои  произведения в Биляре. Здесь Кул Гали и написал свою поэму. В ней он создал образ идеального правителя и идеального государства. Правитель, по его мысли, должен быть мудрым, справедливым, нравственно безупречным. Государство же должно обеспечивать мирную, счастливую жизнь народа. Счастье Кул Гали не представлял без верной и чистой любви, без крепкой и дружной  семьи.</a:t>
            </a:r>
            <a:endParaRPr b="0" lang="en-US" sz="16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250920" y="5804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Л ГАЛИ </a:t>
            </a: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                                </a:t>
            </a:r>
            <a:r>
              <a:rPr b="0" lang="ru-RU" sz="1800" spc="-1" strike="noStrike">
                <a:solidFill>
                  <a:srgbClr val="0066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6270840" y="57333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ЭМА 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"КЫЙССА-И ЙУСУФ"</a:t>
            </a:r>
            <a:r>
              <a:rPr b="0" lang="ru-RU" sz="1800" spc="-1" strike="noStrike">
                <a:solidFill>
                  <a:srgbClr val="0066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4247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Times New Roman"/>
              </a:rPr>
              <a:t>Замечательным воплощением культуры Волжской Булгарии являюся работы ее архитекторов, строителей и ремесленников. Общественные сооружения, мечети, дома знатных людей украшались изразцовыми кирпичами и плитами, каменной резьбой. Произведениями архитектуры были булгарские бани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6" descr="p38_vb"/>
          <p:cNvPicPr/>
          <p:nvPr/>
        </p:nvPicPr>
        <p:blipFill>
          <a:blip r:embed="rId1"/>
          <a:stretch/>
        </p:blipFill>
        <p:spPr>
          <a:xfrm>
            <a:off x="5076720" y="2133720"/>
            <a:ext cx="3527640" cy="3671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p38_bani"/>
          <p:cNvPicPr/>
          <p:nvPr/>
        </p:nvPicPr>
        <p:blipFill>
          <a:blip r:embed="rId2"/>
          <a:stretch/>
        </p:blipFill>
        <p:spPr>
          <a:xfrm>
            <a:off x="468360" y="2133720"/>
            <a:ext cx="4103640" cy="37432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1762560" y="5876280"/>
            <a:ext cx="56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РХИТЕКТУРНЫЕ СООРУЖЕНИЯ В Г. БОЛГАР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Большим художественным вкусом отмечены многие изделия булгарских ремесленников. В западных и восточных странах были известны работы ювелиров из Булгарии под названием "булгарская филигрань".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6" name="Picture 10" descr="podveska2jpg"/>
          <p:cNvPicPr/>
          <p:nvPr/>
        </p:nvPicPr>
        <p:blipFill>
          <a:blip r:embed="rId1"/>
          <a:stretch/>
        </p:blipFill>
        <p:spPr>
          <a:xfrm>
            <a:off x="611280" y="2133720"/>
            <a:ext cx="2152440" cy="38098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1"/>
          <p:cNvSpPr/>
          <p:nvPr/>
        </p:nvSpPr>
        <p:spPr>
          <a:xfrm>
            <a:off x="179280" y="5883840"/>
            <a:ext cx="324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ОЛОТОЕ ВИСОЧНОЕ 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ЛЬЦО С ПОДВЕСКАМИ</a:t>
            </a: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2916360" y="2932560"/>
            <a:ext cx="57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В Волжской Булгарии культура достигла высокого уровня развития. Она развивалась как часть восточной культуры. Болгары создали в Средние века одну из ярких цивилизации Европы</a:t>
            </a:r>
            <a:r>
              <a:rPr b="1" i="1" lang="ru-RU" sz="1800" spc="-1" strike="noStrike">
                <a:solidFill>
                  <a:srgbClr val="006633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Times New Roman"/>
              </a:rPr>
              <a:t>Связи с другими народами и странами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716360" cy="56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Волжская Булгария наладила и поддерживала тесные связи со многими странами и народами. Это были прежде всего торговые отно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Активно торговали булгары со своими ближними соседями - предками современных удмуртов, марийцев, чувашей, мордвы. Центрами их торговых отношений с ближними соседями были фактории, основанные по берегам р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В поисках дорогих мехов булгары дошли до народов Прикамья и далекого Севера. С предками современных ханты и манси велась меновая, или "немая" торговля. При такой торговле одна вешь просто обменивалась на друг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На юге основным торговым партнером Волжской Булгарии был Хазарский каган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Булгары торговали также с иранскими, среднеазиатскими,  византийскими городами. Они поддерживали торговые связи с Прибалтикой, скандинавскими странами, Инд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p37_svyazivbsdrugimistranami"/>
          <p:cNvPicPr/>
          <p:nvPr/>
        </p:nvPicPr>
        <p:blipFill>
          <a:blip r:embed="rId1"/>
          <a:stretch/>
        </p:blipFill>
        <p:spPr>
          <a:xfrm>
            <a:off x="4788000" y="836640"/>
            <a:ext cx="4105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0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5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0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5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0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31599"/>
                </a:solidFill>
                <a:latin typeface="Times New Roman"/>
              </a:rPr>
              <a:t>Волжская Булгария: </a:t>
            </a:r>
            <a:br>
              <a:rPr sz="3200"/>
            </a:br>
            <a:r>
              <a:rPr b="1" lang="ru-RU" sz="3200" spc="-1" strike="noStrike">
                <a:solidFill>
                  <a:srgbClr val="f31599"/>
                </a:solidFill>
                <a:latin typeface="Times New Roman"/>
              </a:rPr>
              <a:t>возникновение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5280" y="1484280"/>
            <a:ext cx="40384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Первые болгары появились на Средней Волге в конце VII - начало VIII веков. Отправиться в столь долгий путь их вынудил разгром  Великой Болгарии хазарами.  Придя в наши края, болгары принесли с собой традиции полукочевого образа жизни. Занимались они в основном пастушеским скотоводств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Через сто лет крупное поражение от арабов терпят хазары, в зависимости от которых оказались приазовские болгары. Теснимые хазарами, болгары большими группами вновь уходят на Среднюю Вол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Последнее переселение болгар в наши края было вызвано мощным наступлением на Хазарский каганат печенегов. Произошло это в конце IX - начало X ве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p12_bolgaryinavolge"/>
          <p:cNvPicPr/>
          <p:nvPr/>
        </p:nvPicPr>
        <p:blipFill>
          <a:blip r:embed="rId1"/>
          <a:stretch/>
        </p:blipFill>
        <p:spPr>
          <a:xfrm>
            <a:off x="4643280" y="1341360"/>
            <a:ext cx="3810240" cy="233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p12_voinvoljbulgarii"/>
          <p:cNvPicPr/>
          <p:nvPr/>
        </p:nvPicPr>
        <p:blipFill>
          <a:blip r:embed="rId2"/>
          <a:stretch/>
        </p:blipFill>
        <p:spPr>
          <a:xfrm>
            <a:off x="5219640" y="3789360"/>
            <a:ext cx="26002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Торговля занимала важное место в булгаро-русских отношениях. На Русь вывозились скот, мех и хлеб, глиняная посуда, бронзовые замки в виде животных. Из Руси поступали меха, стеклянные бусы и браслеты, посуда, железные замки и ключи, костяные и глиняные поделки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4" name="Picture 5" descr="p37_ukrasheniya"/>
          <p:cNvPicPr/>
          <p:nvPr/>
        </p:nvPicPr>
        <p:blipFill>
          <a:blip r:embed="rId1"/>
          <a:stretch/>
        </p:blipFill>
        <p:spPr>
          <a:xfrm>
            <a:off x="468360" y="1557360"/>
            <a:ext cx="813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kuvshinyi"/>
          <p:cNvPicPr/>
          <p:nvPr/>
        </p:nvPicPr>
        <p:blipFill>
          <a:blip r:embed="rId2"/>
          <a:stretch/>
        </p:blipFill>
        <p:spPr>
          <a:xfrm>
            <a:off x="468360" y="4149720"/>
            <a:ext cx="2951280" cy="2398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3492360" y="429300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После принятия ислама укрепились связи  Булгарского государства со странами Востока. Булгария стала частью исламского мира. Булгарские эмиры поддерживали отношения с правителями мусульманских государств, обменивались подарками. Широкими были торговые связи. Жители страны начали совершать хадж в Мекку.</a:t>
            </a:r>
            <a:r>
              <a:rPr b="0" lang="ru-RU" sz="1800" spc="-1" strike="noStrike">
                <a:solidFill>
                  <a:srgbClr val="0066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324000" y="621612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ИНЯНЫЕ 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НЧАРНЫЕ КУВШИНЫ</a:t>
            </a:r>
            <a:r>
              <a:rPr b="0" lang="ru-RU" sz="1800" spc="-1" strike="noStrike">
                <a:solidFill>
                  <a:srgbClr val="0066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опросы и задания для повторения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91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 Откуда пришли болгары на Среднюю Волгу? Что привело их в наши кра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 Кто был первым правителем Волжской Булгари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Закончите предложение: "Во второй половине X века из разных племен Волжской Булгарии...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Когда ислам стал государственной религией Волжской Булгари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В учебнике нам уже встречалось утверждение арабского географа Ибн Русте о том, что "болгары - народ земледельческий". Выдающийся  российский историк  С.М.Соловьев писал, что "болгары - торговый и промышленный народ". Кто прав? Попробуйте рассудить этих авторов, подыскивая аргументы в пользу каждого утверждения. Запишите эти аргументы в таблицу. Сформулируйте свой вы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4360" y="5229360"/>
          <a:ext cx="8070840" cy="1047600"/>
        </p:xfrm>
        <a:graphic>
          <a:graphicData uri="http://schemas.openxmlformats.org/drawingml/2006/table">
            <a:tbl>
              <a:tblPr/>
              <a:tblGrid>
                <a:gridCol w="3671640"/>
                <a:gridCol w="43992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Болгары – народ  земледельческий" 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66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Болгары - торговый и промышленный народ"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66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Тест по теме 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"Волжская Булгария: возникновение, территория, население, управление, занятия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Ранние булгары на Средней Волге изначально в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кочевой образ жизни  б) полукочевой образ жизни  в)оседлый образ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Одним из исследователей жизни Волжской Булгарии начала X века бы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византийский император Константин Багрянород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русский путешественник Афанасий Никит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арабский географ Ибн Ру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)местный богослов Ахмед ал-Булга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Основой экономики Волжской Булгарии являлос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земледелие  б)скотоводство  в) ремесло  Г)торговое де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Аборигенами (т.е. коренным населением) Волго-Камья можно счита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финно-угорские племе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тюркоязычные племе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восточнославянские плем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) мадьярские плем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Волжская Булгария приняла исла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в 922 году  Б) в 1236 году  В) в 988 году    Г)  в 1047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Принятие Волжской Булгарией ислама связано с именем тогдашнего булгарского эми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Абдуллы ибн Мика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Алмуш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) Микаила ибн Джаф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) Мумина ибн Хас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Принято считать, что единая народность с общим названием "булгары" возник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в X веке  Б) в XI веке  В) в XII веке  Г) в XIII век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Государство волжских булгар окончательно сложилос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в VIII веке  Б) в начале IX века   В) в начале X века   Г) к концу X ве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9. Какое из утверждений вы считаете неверны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булгары добывали пушных зверей и использовали меха для собственных нуж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булгары продавали пушнину за границу  В) булгары покупали пушнину у своих сосед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) булгары не занимались промыслом пушн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0. Правитель Волжской Булгарии в разные периоды называл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султан  Б) халиф  В) эмир   Г) король  Д) хан  Е)эльтебер  Ж)ца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верь себя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-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-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-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-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-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6-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7-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8-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9-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0-В,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4537080" cy="60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Задолго до прихода болгар  в Среднем Поволжье жили поволжско-финские племена. То были предки современных марийцев, удмуртов и мордвы. 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Волжские булгары (в современной науке их принято писать через "у") быстро заняли среди местных племен лидирующее положение. Они активно осваивали пашенное (плужное) земледелие, новые ремесла, что ускорило нарастание имущественного неравенства в булгарской среде.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У военно-племенной булгарской знати была сильная военная дружина. Дружинники совершали походы и набеги на соседние земли.  При их помощи с населения собирались налоги. 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Завершающим этапом в образовании Булгарского государства явилось начало X века. Тогда на берегах Волги и Камы, в нашем крае, строятся города и крепости. Появляются первые булгарские монеты.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В поисках союзников  для борьбы с хазарами булгары приглашают к себе </a:t>
            </a:r>
            <a:r>
              <a:rPr b="1" i="1" lang="ru-RU" sz="1400" spc="-1" strike="noStrike">
                <a:solidFill>
                  <a:srgbClr val="006633"/>
                </a:solidFill>
                <a:latin typeface="Arial"/>
              </a:rPr>
              <a:t>посольство багдадского халифа аль-Муктадира. 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Булгары получают поддержку арабов и принимают новую религию. В 922 г. ислам становится государственной религией Волжской Булгарии.</a:t>
            </a:r>
            <a:endParaRPr b="0" lang="en-US" sz="1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Picture 8" descr="p30_voljbulgariya"/>
          <p:cNvPicPr/>
          <p:nvPr/>
        </p:nvPicPr>
        <p:blipFill>
          <a:blip r:embed="rId1"/>
          <a:stretch/>
        </p:blipFill>
        <p:spPr>
          <a:xfrm>
            <a:off x="4859280" y="1052640"/>
            <a:ext cx="40338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1599"/>
                </a:solidFill>
                <a:latin typeface="Times New Roman"/>
              </a:rPr>
              <a:t>Волжская Булгария: </a:t>
            </a:r>
            <a:br>
              <a:rPr sz="2400"/>
            </a:br>
            <a:r>
              <a:rPr b="1" lang="ru-RU" sz="2400" spc="-1" strike="noStrike">
                <a:solidFill>
                  <a:srgbClr val="f31599"/>
                </a:solidFill>
                <a:latin typeface="Times New Roman"/>
              </a:rPr>
              <a:t>территория и население стран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96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Волжская Булгария занимала обширные земли. К XII веку границы государства раздвинулись ещё больше. На севере они доходили до реки Казанки, на юге - до Самарской Луки. Западными пределами Булгарского государства служила река Зай. Соседями булгар были древние марийские, удмуртские, мордовские  и другие племена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Булгары жили по обеим сторонам Волги и на землях, примыкающих к Каме с севера. Крунпные города Биляр, Болгар, Сувар, Джукетау  находились на волжском левобережье. Десятки городских, сельских поселений, и среди них знаменитый Ошель, располагались на  правобережье Волги. Здесь среди городов наиболее известны Кашан и Чаллы. На реке Казанке в самом начале XI столетия возникает военная крепость и торговое поселение Казань - будущая столица нашей республ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p20_kazan-14v"/>
          <p:cNvPicPr/>
          <p:nvPr/>
        </p:nvPicPr>
        <p:blipFill>
          <a:blip r:embed="rId1"/>
          <a:stretch/>
        </p:blipFill>
        <p:spPr>
          <a:xfrm>
            <a:off x="5192640" y="1413000"/>
            <a:ext cx="3772080" cy="4680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6374160" y="616500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КАЗА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138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Население страны было разноплеменным. Булгарские племена нам хорошо известны. Но были еще сувары, барсилы, баранджары, а также билеры и эсенгелы. Во второй половине X века из них сложились единая </a:t>
            </a:r>
            <a:r>
              <a:rPr b="1" i="1" lang="ru-RU" sz="1800" spc="-1" strike="noStrike">
                <a:solidFill>
                  <a:srgbClr val="006633"/>
                </a:solidFill>
                <a:latin typeface="Times New Roman"/>
              </a:rPr>
              <a:t>булгарская народность</a:t>
            </a: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. Общим именем населения страны стало имя "булгары"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p20_dom"/>
          <p:cNvPicPr/>
          <p:nvPr/>
        </p:nvPicPr>
        <p:blipFill>
          <a:blip r:embed="rId1"/>
          <a:stretch/>
        </p:blipFill>
        <p:spPr>
          <a:xfrm>
            <a:off x="539640" y="1413000"/>
            <a:ext cx="8136000" cy="5445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6465600" y="6216120"/>
            <a:ext cx="26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ЛГАРСКИЙ ДОМ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нструкция. XI век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31599"/>
                </a:solidFill>
                <a:latin typeface="Times New Roman"/>
              </a:rPr>
              <a:t>Управление Волжской Булгарией</a:t>
            </a:r>
            <a:br>
              <a:rPr sz="3800"/>
            </a:b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Волжская Булгария управлялась, как и все раннефеодальные государства. Во главе стоял правитель. В Булгарии это был эмир. Его раньше называли эльтебер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0384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773360"/>
            <a:ext cx="42447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Первым  эмиром страны был Алмуш, князь города Болгара. Именно Алмуш отправил посольство булгар в Бухару и Багдад и принимал у себя посольство багдадского халифа. После обращения в новую веру он стал называться мусульманским именем Джагфар ибн Абдул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Эмиру подчинялись правители  отдельных земель - областей. Это был высший слой знати. К правящей  верхушке принадлежали и предводители боевых дружин, беки, представители высшего духове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p26_car-almush6"/>
          <p:cNvPicPr/>
          <p:nvPr/>
        </p:nvPicPr>
        <p:blipFill>
          <a:blip r:embed="rId1"/>
          <a:stretch/>
        </p:blipFill>
        <p:spPr>
          <a:xfrm>
            <a:off x="468360" y="1773360"/>
            <a:ext cx="4032360" cy="47512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8"/>
          <p:cNvSpPr/>
          <p:nvPr/>
        </p:nvSpPr>
        <p:spPr>
          <a:xfrm>
            <a:off x="324000" y="6021000"/>
            <a:ext cx="41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ЛГАРСКИЙ ПРАВИТЕЛЬ АЛМУШ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уд. Рушан Шамсутдинов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Times New Roman"/>
              </a:rPr>
              <a:t>В роли управляемых находились земледельцы, ремесленники, торговцы. Они выполняли различные феодальные повинности в пользу  государства, но зависимыми от феодалов не были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26_bulgarskiyvoin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31599"/>
                </a:solidFill>
                <a:latin typeface="Times New Roman"/>
              </a:rPr>
              <a:t>Основные занятия булгар</a:t>
            </a:r>
            <a:br>
              <a:rPr sz="3200"/>
            </a:b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Основными занятиями булгар были сельское хозяйство и торговля.</a:t>
            </a:r>
            <a:br>
              <a:rPr sz="1800"/>
            </a:b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 </a:t>
            </a:r>
            <a:br>
              <a:rPr sz="1800"/>
            </a:b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Земледелием и скотоводством занимались сельские жители. Их было большинство. Арабский географ начало X века Ибн Русте писал: "Болгары - народ земледельческий и возделывают всякого рода зерновой хлеб, как то: пшеницу, ячмень, просо и другие".  Кроме того, они сеяли полбу, чечевицу, горох. Хлеб убирали серпами и косами. </a:t>
            </a:r>
            <a:br>
              <a:rPr sz="1800"/>
            </a:b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Земледелие у булгар было пашенным. Хлеба было много, и булгары могли оказать помощь русским княжествам в голодные 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Булгары не забывали свое традиционное занятие - скотоводство. Скот они держали крупный, породистый, а потому были с мясом и молоком. Булгары разводили также боевых и скаковых коней. Почти в каждом хозяйстве имелись овцы и козы, из домашней птицы - к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p27_kopiyawork_03_21"/>
          <p:cNvPicPr/>
          <p:nvPr/>
        </p:nvPicPr>
        <p:blipFill>
          <a:blip r:embed="rId1"/>
          <a:stretch/>
        </p:blipFill>
        <p:spPr>
          <a:xfrm>
            <a:off x="6732720" y="4797360"/>
            <a:ext cx="1942920" cy="1727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p27_805cbbf41f601"/>
          <p:cNvPicPr/>
          <p:nvPr/>
        </p:nvPicPr>
        <p:blipFill>
          <a:blip r:embed="rId2"/>
          <a:stretch/>
        </p:blipFill>
        <p:spPr>
          <a:xfrm>
            <a:off x="3419640" y="4869000"/>
            <a:ext cx="2520720" cy="1728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5serp21"/>
          <p:cNvPicPr/>
          <p:nvPr/>
        </p:nvPicPr>
        <p:blipFill>
          <a:blip r:embed="rId3"/>
          <a:stretch/>
        </p:blipFill>
        <p:spPr>
          <a:xfrm>
            <a:off x="324000" y="5013360"/>
            <a:ext cx="2303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4500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Земледелие у булгар было пашенным. Хлеба было много, и булгары могли оказать помощь русским княжествам в голодные г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Булгары не забывали свое традиционное занятие - скотоводство. Скот они держали крупный, породистый, а потому были с мясои и молоком. Булгары разводили также боевых и скаковых коней. Почти в каждом хозяйстве имелись овцы и козы, из домашней птицы - к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В местах, богатых лесами, булгары ходили на охоту. Особый интерес вызывали пышные звери - соболи, белки и лисы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В лесах также было много диких пчел, носивших в дупла деревьев дикий мед. Собирали этот мед булгары один-два раза за лето и делали из него свои любимые напитки </a:t>
            </a:r>
            <a:r>
              <a:rPr b="1" i="1" lang="ru-RU" sz="1600" spc="-1" strike="noStrike">
                <a:solidFill>
                  <a:srgbClr val="006633"/>
                </a:solidFill>
                <a:latin typeface="Times New Roman"/>
              </a:rPr>
              <a:t>набиз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 и </a:t>
            </a:r>
            <a:r>
              <a:rPr b="1" i="1" lang="ru-RU" sz="1600" spc="-1" strike="noStrike">
                <a:solidFill>
                  <a:srgbClr val="006633"/>
                </a:solidFill>
                <a:latin typeface="Times New Roman"/>
              </a:rPr>
              <a:t>суджув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. Реки, богатые рыбой, привлекали рыболовов. Здесь в изобилии водились осетры, стерлядь, сом, саз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0" descr="p27_28466571"/>
          <p:cNvPicPr/>
          <p:nvPr/>
        </p:nvPicPr>
        <p:blipFill>
          <a:blip r:embed="rId1"/>
          <a:stretch/>
        </p:blipFill>
        <p:spPr>
          <a:xfrm>
            <a:off x="1908000" y="5373720"/>
            <a:ext cx="1019520" cy="1228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1" descr="p27_fox32_1600x12001"/>
          <p:cNvPicPr/>
          <p:nvPr/>
        </p:nvPicPr>
        <p:blipFill>
          <a:blip r:embed="rId2"/>
          <a:stretch/>
        </p:blipFill>
        <p:spPr>
          <a:xfrm>
            <a:off x="250920" y="5589720"/>
            <a:ext cx="1428480" cy="1066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9" descr="p27_02238026761"/>
          <p:cNvPicPr/>
          <p:nvPr/>
        </p:nvPicPr>
        <p:blipFill>
          <a:blip r:embed="rId3"/>
          <a:stretch/>
        </p:blipFill>
        <p:spPr>
          <a:xfrm>
            <a:off x="3132000" y="5516640"/>
            <a:ext cx="1428840" cy="11332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4"/>
          <p:cNvSpPr/>
          <p:nvPr/>
        </p:nvSpPr>
        <p:spPr>
          <a:xfrm>
            <a:off x="4788000" y="9720"/>
            <a:ext cx="41702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Городское население занималось ремеслом и торговлей. Каких ремесленников только не было: металлурги и кузнецы, ювелиры и косторезы, кожевенники и гончары .... </a:t>
            </a:r>
            <a:endParaRPr b="0" lang="en-US" sz="16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Булгарские ремесленники были большими мастерами. Глиняные сосуды, кожа "булгари", ювелирные изделия расходились далеко</a:t>
            </a:r>
            <a:r>
              <a:rPr b="1" lang="ru-RU" sz="1400" spc="-1" strike="noStrike">
                <a:solidFill>
                  <a:srgbClr val="006633"/>
                </a:solidFill>
                <a:latin typeface="Times New Roman"/>
              </a:rPr>
              <a:t> за пределы страны.</a:t>
            </a:r>
            <a:endParaRPr b="0" lang="en-US" sz="1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Славу Булгарии приумножали купцы. Развитию торговли благоприятствовало выгодное географическое положение страны. На булгарской земле сходились многие караванные пути. Один из них вел в Киев, другой - в Итиль, третий - в Хозерм. В крупных городах для иноземных купцов строились караван-сараи. Правители страны поощряли торговое дело.</a:t>
            </a:r>
            <a:r>
              <a:rPr b="0" lang="ru-RU" sz="1600" spc="-1" strike="noStrike">
                <a:solidFill>
                  <a:srgbClr val="0066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6633"/>
              </a:solidFill>
              <a:latin typeface="Times New Roman"/>
            </a:endParaRPr>
          </a:p>
        </p:txBody>
      </p:sp>
      <p:pic>
        <p:nvPicPr>
          <p:cNvPr id="120" name="Picture 46" descr="p27_naxodkiarxeologov"/>
          <p:cNvPicPr/>
          <p:nvPr/>
        </p:nvPicPr>
        <p:blipFill>
          <a:blip r:embed="rId4"/>
          <a:stretch/>
        </p:blipFill>
        <p:spPr>
          <a:xfrm>
            <a:off x="4859280" y="4724280"/>
            <a:ext cx="42847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6:58:53Z</dcterms:created>
  <dc:creator>Admin</dc:creator>
  <dc:description/>
  <dc:language>en-US</dc:language>
  <cp:lastModifiedBy>шкоа №71</cp:lastModifiedBy>
  <dcterms:modified xsi:type="dcterms:W3CDTF">2017-01-17T07:10:44Z</dcterms:modified>
  <cp:revision>19</cp:revision>
  <dc:subject/>
  <dc:title>Слайд 1</dc:title>
</cp:coreProperties>
</file>