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87F0-17D0-40E6-8877-335118F8E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207-7C9A-4E69-9426-4C3853F3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8D9C-8B01-47AB-AA54-0DD89A9F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72E0-D069-4621-97DC-36A41EC6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8987A-55D9-4934-B7DA-50C77D82C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73DD-4F72-400B-A848-06641DC4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2738-98A0-42D0-86B4-F2CB0FA0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FF4E-022F-4461-9A54-6258E86F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B7FA-91C0-4F5E-B151-4C93F571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ED70-70BC-4176-8FAD-FE4B30CC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F054-6952-4EDF-BC41-7E87B966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53D-7FDF-4CE6-95FB-967679596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0B988-35C3-46D5-804F-F28DD27B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7DAA-A7FC-4D13-ABAB-D9C1B5B2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1140-5D10-4E6E-B3CC-03BF7FD5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DAB9-7C4F-40CA-B2B8-6427B7E9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252E-BEAC-4DCD-BA68-7B10C480B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297-61E0-4649-8E7C-5660AAE2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D7C-661B-4314-8391-3C645C94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CE38-8B3F-4AEB-BB06-3A4311CB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EE8-DE1B-4641-803F-91DC938C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89B-125F-4CEE-82C3-171DC985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CA2-61DF-4351-9F5A-3B9E4A13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148-A634-4BBA-A756-388DE0A6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8FB23-89A3-494B-9865-E447C3FA981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A63C-62D9-419D-BE4E-680604F7883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Волжская Булгари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зентация составлена учителем истории МБОУ «Школа № 71» Халиковой Г.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31599"/>
                </a:solidFill>
                <a:latin typeface="Times New Roman"/>
              </a:rPr>
              <a:t>Города Волжской Булгарии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421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улгарское государство славилоськак страна городов. Один из путешественников XIII века так и писал: "Булгария - великое и могущественное  царство с богатыми городами". Крупнейшим городом всей средневековой Европы являлся Биляр. По своей територии он был в полтора раза больше Парижа и два раза больше Киева и Рима. Русские летописцы называли его Великим городом. Теперь у села Билярска Алексеевского района Республики Татарстан мы можем видеть только остатки г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p5_gorodavb"/>
          <p:cNvPicPr/>
          <p:nvPr/>
        </p:nvPicPr>
        <p:blipFill>
          <a:blip r:embed="rId1"/>
          <a:stretch/>
        </p:blipFill>
        <p:spPr>
          <a:xfrm>
            <a:off x="4140360" y="907920"/>
            <a:ext cx="4802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40384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иляр был столицей государства. Булгарскую столицу окружали земляные валы и широкие стены с башнями по углам. Оборонительные сооружения делили Биляр на внутренний и внешний город. Во внутреннем городе было много кирпичных и каменных зданий. Иметь такие дома могли только богатые и знатные люди. В центре цитатели находился дворец эмира. Рядом с ним стояла белокаменная Соборная меч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Внешний город сильно отличался от внутреннего. Здесь стояли неказистые бревенчатые дома. В них жили ремесленники и мелкие купцы. Металлурги и кузнецы, а также гончары селились слобод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54900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p5_bilyarskoegorodishae"/>
          <p:cNvPicPr/>
          <p:nvPr/>
        </p:nvPicPr>
        <p:blipFill>
          <a:blip r:embed="rId1"/>
          <a:stretch/>
        </p:blipFill>
        <p:spPr>
          <a:xfrm>
            <a:off x="4859280" y="620640"/>
            <a:ext cx="3809880" cy="44658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9"/>
          <p:cNvSpPr/>
          <p:nvPr/>
        </p:nvSpPr>
        <p:spPr>
          <a:xfrm>
            <a:off x="4859280" y="6021000"/>
            <a:ext cx="36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ИЙ ПЛАН БИЛЯРСКОГО ГОРОДИЩА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68360" y="3068280"/>
            <a:ext cx="40384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БИЛЯР. СОБОРНАЯ МЕЧЕТЬ.X ве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3" descr="p5_bilyarsobornayamechet-"/>
          <p:cNvPicPr/>
          <p:nvPr/>
        </p:nvPicPr>
        <p:blipFill>
          <a:blip r:embed="rId1"/>
          <a:stretch/>
        </p:blipFill>
        <p:spPr>
          <a:xfrm>
            <a:off x="611280" y="333360"/>
            <a:ext cx="3809880" cy="2882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p5_karavan-sarybilyara"/>
          <p:cNvPicPr/>
          <p:nvPr/>
        </p:nvPicPr>
        <p:blipFill>
          <a:blip r:embed="rId2"/>
          <a:stretch/>
        </p:blipFill>
        <p:spPr>
          <a:xfrm>
            <a:off x="611280" y="3716280"/>
            <a:ext cx="3809880" cy="22575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6"/>
          <p:cNvSpPr/>
          <p:nvPr/>
        </p:nvSpPr>
        <p:spPr>
          <a:xfrm>
            <a:off x="1042920" y="5803920"/>
            <a:ext cx="2997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Times New Roman"/>
              </a:rPr>
              <a:t>КАРАВАН-САРАЙ БИЛЯРА</a:t>
            </a:r>
            <a:endParaRPr b="0" lang="en-US" sz="14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Times New Roman"/>
              </a:rPr>
              <a:t>Реконструкция А.А.Мазанова по раскопкам А.Х.Халикова</a:t>
            </a:r>
            <a:endParaRPr b="0" lang="en-US" sz="1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133" name="Picture 18" descr="p5_aga-bazarvbolgarax6"/>
          <p:cNvPicPr/>
          <p:nvPr/>
        </p:nvPicPr>
        <p:blipFill>
          <a:blip r:embed="rId3"/>
          <a:stretch/>
        </p:blipFill>
        <p:spPr>
          <a:xfrm>
            <a:off x="4932360" y="260280"/>
            <a:ext cx="3465360" cy="29545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9"/>
          <p:cNvSpPr/>
          <p:nvPr/>
        </p:nvSpPr>
        <p:spPr>
          <a:xfrm>
            <a:off x="4932360" y="301392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Arial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ГА-БАЗАР В Г.БОЛГАР</a:t>
            </a:r>
            <a:endParaRPr b="0" lang="en-US" sz="14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уд. Рушан Шамсутдинов</a:t>
            </a:r>
            <a:endParaRPr b="0" lang="en-US" sz="14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135" name="Picture 21" descr="p5_domfeodalaizsuvara"/>
          <p:cNvPicPr/>
          <p:nvPr/>
        </p:nvPicPr>
        <p:blipFill>
          <a:blip r:embed="rId4"/>
          <a:stretch/>
        </p:blipFill>
        <p:spPr>
          <a:xfrm>
            <a:off x="4643280" y="3573360"/>
            <a:ext cx="4284720" cy="30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324000" y="186840"/>
            <a:ext cx="82803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Около ворот, ведущий во внутренний город, располагался большой караван-сарай. Чужеземные купцы могли здесь сложить свои  товары, переночевать, отдохнуть перед дальней дорогой, сходить в баню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Нигде не было столько купцов, как в Болгаре. Этот небольшой город на Волге стоял на пересечении торговых путей. И потому сюда приезжали купцы (гости) со всех концов мира. Здесь почти круглый год шумели многочисленные базары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Вторым после Биляра крупным городом страны был Сувар. Он также имел мощные укрепления. На вершине наружных валов стояла деревянная стена из толстых столбов с заострёнными концами. За валами шел глубокий ров с водой. Со дна его торчали остро заточенные колья. Наверху внутренних валов были возведены дубовые стены с башнями.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И в Суваре было немало кирпичных домов. Простые горожане, ремесленники строили себе одноэтажные деревянные дома. И жили они вдали от центральной части города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Главным городом булгар на правом берегу Волги являлся Ошель. Это был один из самых крупных торгово-ремесленных пунктов страны. Остатки Ошеля сохранились в Тетюшском районе республики около деревни Богдашкино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Знаменитым булгарским городом был и Джукетау. Он стоял на берегу Камы, там, где сейчас находится западная окраина г. Чистополя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Times New Roman"/>
              </a:rPr>
              <a:t>На рубеже X-XI столетий недалеко от места слияния  Волги и Казанки возникла небольшая булгарская крепость, названная Казанью. Вскоре она стала одним из крупных центров международной торговли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5_gkazan-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176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468360" y="5766480"/>
            <a:ext cx="820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Times New Roman"/>
              </a:rPr>
              <a:t>На булгарской земле стояло более пятидесяти больших и малых городов. Это были центры ремесла, торговли и культуры.</a:t>
            </a:r>
            <a:endParaRPr b="0" lang="en-US" sz="20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ультура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584352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Принятие ислама Волжской Булгарией имело еще одно важное значение. Был дан сильный толчок развитию просвещения, литературы, на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Первоначально булгары пользовались рунической письменностью. С принятием ислама они переходят к письменности на основе </a:t>
            </a:r>
            <a:r>
              <a:rPr b="1" i="1" lang="ru-RU" sz="1600" spc="-1" strike="noStrike">
                <a:solidFill>
                  <a:srgbClr val="006633"/>
                </a:solidFill>
                <a:latin typeface="Times New Roman"/>
              </a:rPr>
              <a:t>арабского алфавита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Со временем арабская письменность получила широкое распространение. На ней делали надписи на многочисленных памятниках, ювелирных изделиях, бытовых вещах. Многие образцы этих надписей являются настоящими произведениями каллигра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Чаще всего писали на бересте и на досках, покрытых слоем воска. Орудием письма было костяное писало. Но в ход уже пошла и </a:t>
            </a:r>
            <a:r>
              <a:rPr b="1" i="1" lang="ru-RU" sz="1600" spc="-1" strike="noStrike">
                <a:solidFill>
                  <a:srgbClr val="006633"/>
                </a:solidFill>
                <a:latin typeface="Times New Roman"/>
              </a:rPr>
              <a:t>бумага. 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Ее привозили из Самарканда. Писали на ней чернилами и перь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Арабской письменности, основам религиозных знаний обучали в </a:t>
            </a:r>
            <a:r>
              <a:rPr b="1" i="1" lang="ru-RU" sz="1600" spc="-1" strike="noStrike">
                <a:solidFill>
                  <a:srgbClr val="006633"/>
                </a:solidFill>
                <a:latin typeface="Times New Roman"/>
              </a:rPr>
              <a:t>мектебах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. Это были начальные школы при мечетях, которые строились в булгарских городах и селах. Высшее образование булгарские юноши получали, обучаясь у среднеазиатских уче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ладение арабским языком открывало доступ к сочинениям выдающихся ученых, поэтов Востока того времени. Это способствовало развитию в Волжской Булгарии разных наук и литерат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6" descr="p38_kalligrafiya"/>
          <p:cNvPicPr/>
          <p:nvPr/>
        </p:nvPicPr>
        <p:blipFill>
          <a:blip r:embed="rId1"/>
          <a:stretch/>
        </p:blipFill>
        <p:spPr>
          <a:xfrm>
            <a:off x="6443640" y="981000"/>
            <a:ext cx="2376360" cy="1695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8" descr="p38_kalligr"/>
          <p:cNvPicPr/>
          <p:nvPr/>
        </p:nvPicPr>
        <p:blipFill>
          <a:blip r:embed="rId2"/>
          <a:stretch/>
        </p:blipFill>
        <p:spPr>
          <a:xfrm>
            <a:off x="6948360" y="3213000"/>
            <a:ext cx="14623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2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7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2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Булгары достигли немалых успехов в математике и астрономии, химии и медицине, географии и истории.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 странах Востока был очень популярен труд Таджеддина аль-Булгари "Лучшие лекарства от отравления". Поэты прославляли в стихах булгарского ученого, врачевателя Ходжи Булгари. Булгарский судья Йакуб ибн Нугман написал книгу "История Булгара".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Значительное развитие в Волжской Булгарии получили художественная литература и поэтическое народное творчество. Лучшим произведением стала поэма Кул Гали "Кыйсса-и Йусуф" ("Сказание о Йусуфе").</a:t>
            </a:r>
            <a:br>
              <a:rPr sz="1600"/>
            </a:b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5" descr="p38_kulgali2"/>
          <p:cNvPicPr/>
          <p:nvPr/>
        </p:nvPicPr>
        <p:blipFill>
          <a:blip r:embed="rId1"/>
          <a:stretch/>
        </p:blipFill>
        <p:spPr>
          <a:xfrm>
            <a:off x="250920" y="3141720"/>
            <a:ext cx="1904760" cy="2543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p38_kyiyssaiiyusuf"/>
          <p:cNvPicPr/>
          <p:nvPr/>
        </p:nvPicPr>
        <p:blipFill>
          <a:blip r:embed="rId2"/>
          <a:stretch/>
        </p:blipFill>
        <p:spPr>
          <a:xfrm>
            <a:off x="6588000" y="3141720"/>
            <a:ext cx="2232000" cy="24494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8"/>
          <p:cNvSpPr/>
          <p:nvPr/>
        </p:nvSpPr>
        <p:spPr>
          <a:xfrm>
            <a:off x="2340000" y="3147840"/>
            <a:ext cx="39956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Поэт Кул Гали жил в конце XII-первой половине XIII веков. Он создавал свои  произведения в Биляре. Здесь Кул Гали и написал свою поэму. В ней он создал образ идеального правителя и идеального государства. Правитель, по его мысли, должен быть мудрым, справедливым, нравственно безупречным. Государство же должно обеспечивать мирную, счастливую жизнь народа. Счастье Кул Гали не представлял без верной и чистой любви, без крепкой и дружной  семьи.</a:t>
            </a:r>
            <a:endParaRPr b="0" lang="en-US" sz="16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250920" y="58046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Л ГАЛИ </a:t>
            </a: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                               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6270840" y="57333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ЭМА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"КЫЙССА-И ЙУСУФ"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42472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Times New Roman"/>
              </a:rPr>
              <a:t>Замечательным воплощением культуры Волжской Булгарии являюся работы ее архитекторов, строителей и ремесленников. Общественные сооружения, мечети, дома знатных людей украшались изразцовыми кирпичами и плитами, каменной резьбой. Произведениями архитектуры были булгарские бани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2" name="Picture 6" descr="p38_vb"/>
          <p:cNvPicPr/>
          <p:nvPr/>
        </p:nvPicPr>
        <p:blipFill>
          <a:blip r:embed="rId1"/>
          <a:stretch/>
        </p:blipFill>
        <p:spPr>
          <a:xfrm>
            <a:off x="5076720" y="2133720"/>
            <a:ext cx="3527640" cy="3671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p38_bani"/>
          <p:cNvPicPr/>
          <p:nvPr/>
        </p:nvPicPr>
        <p:blipFill>
          <a:blip r:embed="rId2"/>
          <a:stretch/>
        </p:blipFill>
        <p:spPr>
          <a:xfrm>
            <a:off x="468360" y="2133720"/>
            <a:ext cx="4103640" cy="37432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7"/>
          <p:cNvSpPr/>
          <p:nvPr/>
        </p:nvSpPr>
        <p:spPr>
          <a:xfrm>
            <a:off x="1762560" y="5876280"/>
            <a:ext cx="56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РХИТЕКТУРНЫЕ СООРУЖЕНИЯ В Г. БОЛГАР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Большим художественным вкусом отмечены многие изделия булгарских ремесленников. В западных и восточных странах были известны работы ювелиров из Булгарии под названием "булгарская филигрань"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6" name="Picture 10" descr="podveska2jpg"/>
          <p:cNvPicPr/>
          <p:nvPr/>
        </p:nvPicPr>
        <p:blipFill>
          <a:blip r:embed="rId1"/>
          <a:stretch/>
        </p:blipFill>
        <p:spPr>
          <a:xfrm>
            <a:off x="611280" y="2133720"/>
            <a:ext cx="2152440" cy="380988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1"/>
          <p:cNvSpPr/>
          <p:nvPr/>
        </p:nvSpPr>
        <p:spPr>
          <a:xfrm>
            <a:off x="179280" y="5883840"/>
            <a:ext cx="324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ОЛОТОЕ ВИСОЧНОЕ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ЛЬЦО С ПОДВЕСКАМИ</a:t>
            </a: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2916360" y="293256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В Волжской Булгарии культура достигла высокого уровня развития. Она развивалась как часть восточной культуры. Болгары создали в Средние века одну из ярких цивилизации Европы</a:t>
            </a:r>
            <a:r>
              <a:rPr b="1" i="1" lang="ru-RU" sz="1800" spc="-1" strike="noStrike">
                <a:solidFill>
                  <a:srgbClr val="006633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Times New Roman"/>
              </a:rPr>
              <a:t>Связи с другими народами и странами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56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олжская Булгария наладила и поддерживала тесные связи со многими странами и народами. Это были прежде всего торговые отно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Активно торговали булгары со своими ближними соседями - предками современных удмуртов, марийцев, чувашей, мордвы. Центрами их торговых отношений с ближними соседями были фактории, основанные по берегам р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 поисках дорогих мехов булгары дошли до народов Прикамья и далекого Севера. С предками современных ханты и манси велась меновая, или "немая" торговля. При такой торговле одна вешь просто обменивалась на другу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На юге основным торговым партнером Волжской Булгарии был Хазарский каган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Булгары торговали также с иранскими, среднеазиатскими,  византийскими городами. Они поддерживали торговые связи с Прибалтикой, скандинавскими странами, Инд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37_svyazivbsdrugimistranami"/>
          <p:cNvPicPr/>
          <p:nvPr/>
        </p:nvPicPr>
        <p:blipFill>
          <a:blip r:embed="rId1"/>
          <a:stretch/>
        </p:blipFill>
        <p:spPr>
          <a:xfrm>
            <a:off x="4788000" y="836640"/>
            <a:ext cx="4105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0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5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0" dur="2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5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0" dur="2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31599"/>
                </a:solidFill>
                <a:latin typeface="Times New Roman"/>
              </a:rPr>
              <a:t>Волжская Булгария: </a:t>
            </a:r>
            <a:br>
              <a:rPr sz="3200"/>
            </a:br>
            <a:r>
              <a:rPr b="1" lang="ru-RU" sz="3200" spc="-1" strike="noStrike">
                <a:solidFill>
                  <a:srgbClr val="f31599"/>
                </a:solidFill>
                <a:latin typeface="Times New Roman"/>
              </a:rPr>
              <a:t>возникновени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5280" y="1484280"/>
            <a:ext cx="4038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Первые болгары появились на Средней Волге в конце VII - начало VIII веков. Отправиться в столь долгий путь их вынудил разгром  Великой Болгарии хазарами.  Придя в наши края, болгары принесли с собой традиции полукочевого образа жизни. Занимались они в основном пастушеским скотоводств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Через сто лет крупное поражение от арабов терпят хазары, в зависимости от которых оказались приазовские болгары. Теснимые хазарами, болгары большими группами вновь уходят на Среднюю Волг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Последнее переселение болгар в наши края было вызвано мощным наступлением на Хазарский каганат печенегов. Произошло это в конце IX - начало X ве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p12_bolgaryinavolge"/>
          <p:cNvPicPr/>
          <p:nvPr/>
        </p:nvPicPr>
        <p:blipFill>
          <a:blip r:embed="rId1"/>
          <a:stretch/>
        </p:blipFill>
        <p:spPr>
          <a:xfrm>
            <a:off x="4643280" y="1341360"/>
            <a:ext cx="3810240" cy="233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p12_voinvoljbulgarii"/>
          <p:cNvPicPr/>
          <p:nvPr/>
        </p:nvPicPr>
        <p:blipFill>
          <a:blip r:embed="rId2"/>
          <a:stretch/>
        </p:blipFill>
        <p:spPr>
          <a:xfrm>
            <a:off x="5219640" y="3789360"/>
            <a:ext cx="26002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Торговля занимала важное место в булгаро-русских отношениях. На Русь вывозились скот, мех и хлеб, глиняная посуда, бронзовые замки в виде животных. Из Руси поступали меха, стеклянные бусы и браслеты, посуда, железные замки и ключи, костяные и глиняные поделки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4" name="Picture 5" descr="p37_ukrasheniya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kuvshinyi"/>
          <p:cNvPicPr/>
          <p:nvPr/>
        </p:nvPicPr>
        <p:blipFill>
          <a:blip r:embed="rId2"/>
          <a:stretch/>
        </p:blipFill>
        <p:spPr>
          <a:xfrm>
            <a:off x="468360" y="4149720"/>
            <a:ext cx="2951280" cy="2398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3492360" y="429300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После принятия ислама укрепились связи  Булгарского государства со странами Востока. Булгария стала частью исламского мира. Булгарские эмиры поддерживали отношения с правителями мусульманских государств, обменивались подарками. Широкими были торговые связи. Жители страны начали совершать хадж в Мекку.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24000" y="621612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ЛИНЯНЫЕ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НЧАРНЫЕ КУВШИНЫ</a:t>
            </a:r>
            <a:r>
              <a:rPr b="0" lang="ru-RU" sz="18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5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опросы и задания для повторения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915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 Откуда пришли болгары на Среднюю Волгу? Что привело их в наши кра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 Кто был первым правителем Волжской Булгар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Закончите предложение: "Во второй половине X века из разных племен Волжской Булгарии...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Когда ислам стал государственной религией Волжской Булгари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В учебнике нам уже встречалось утверждение арабского географа Ибн Русте о том, что "болгары - народ земледельческий". Выдающийся  российский историк  С.М.Соловьев писал, что "болгары - торговый и промышленный народ". Кто прав? Попробуйте рассудить этих авторов, подыскивая аргументы в пользу каждого утверждения. Запишите эти аргументы в таблицу. Сформулируйте свой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84360" y="5229360"/>
          <a:ext cx="8070840" cy="1047600"/>
        </p:xfrm>
        <a:graphic>
          <a:graphicData uri="http://schemas.openxmlformats.org/drawingml/2006/table">
            <a:tbl>
              <a:tblPr/>
              <a:tblGrid>
                <a:gridCol w="3671640"/>
                <a:gridCol w="43992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Болгары – народ  земледельческий" 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600" spc="-1" strike="noStrike">
                        <a:solidFill>
                          <a:srgbClr val="0066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66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Болгары - торговый и промышленный народ"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66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8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Тест по теме 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Times New Roman"/>
              </a:rPr>
              <a:t>"Волжская Булгария: возникновение, территория, население, управление, занятия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Ранние булгары на Средней Волге изначально в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кочевой образ жизни  б) полукочевой образ жизни  в)оседлый образ жиз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Одним из исследователей жизни Волжской Булгарии начала X века был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византийский император Константин Багрянород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русский путешественник Афанасий Ники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арабский географ Ибн Руст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)местный богослов Ахмед ал-Булг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Основой экономики Волжской Булгарии являлос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земледелие  б)скотоводство  в) ремесло  Г)торговое де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Аборигенами (т.е. коренным населением) Волго-Камья можно счита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финно-угорские плем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тюркоязычные племе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 восточнославянские пле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) мадьярские пле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. Волжская Булгария приняла исл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 922 году  Б) в 1236 году  В) в 988 году    Г)  в 1047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. Принятие Волжской Булгарией ислама связано с именем тогдашнего булгарского эмир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Абдуллы ибн Мика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Алмуш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) Микаила ибн Джаф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Мумина ибн Хас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Принято считать, что единая народность с общим названием "булгары" возник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 X веке  Б) в XI веке  В) в XII веке  Г) в XIII век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Государство волжских булгар окончательно сложилос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в VIII веке  Б) в начале IX века   В) в начале X века   Г) к концу X 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9. Какое из утверждений вы считаете неверны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булгары добывали пушных зверей и использовали меха для собственных нуж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) булгары продавали пушнину за границу  В) булгары покупали пушнину у своих сосед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) булгары не занимались промыслом пушн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0. Правитель Волжской Булгарии в разные периоды называл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) султан  Б) халиф  В) эмир   Г) король  Д) хан  Е)эльтебер  Ж)цар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верь себя!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-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-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-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-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-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-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7-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8-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9-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0-В,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537080" cy="603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Задолго до прихода болгар  в Среднем Поволжье жили поволжско-финские племена. То были предки современных марийцев, удмуртов и мордвы. 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Волжские булгары (в современной науке их принято писать через "у") быстро заняли среди местных племен лидирующее положение. Они активно осваивали пашенное (плужное) земледелие, новые ремесла, что ускорило нарастание имущественного неравенства в булгарской среде.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У военно-племенной булгарской знати была сильная военная дружина. Дружинники совершали походы и набеги на соседние земли.  При их помощи с населения собирались налоги. 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Завершающим этапом в образовании Булгарского государства явилось начало X века. Тогда на берегах Волги и Камы, в нашем крае, строятся города и крепости. Появляются первые булгарские монеты.</a:t>
            </a:r>
            <a:br>
              <a:rPr sz="1400"/>
            </a:b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В поисках союзников  для борьбы с хазарами булгары приглашают к себе </a:t>
            </a:r>
            <a:r>
              <a:rPr b="1" i="1" lang="ru-RU" sz="1400" spc="-1" strike="noStrike">
                <a:solidFill>
                  <a:srgbClr val="006633"/>
                </a:solidFill>
                <a:latin typeface="Arial"/>
              </a:rPr>
              <a:t>посольство багдадского халифа аль-Муктадира. </a:t>
            </a:r>
            <a:r>
              <a:rPr b="1" lang="ru-RU" sz="1400" spc="-1" strike="noStrike">
                <a:solidFill>
                  <a:srgbClr val="006633"/>
                </a:solidFill>
                <a:latin typeface="Arial"/>
              </a:rPr>
              <a:t>Булгары получают поддержку арабов и принимают новую религию. В 922 г. ислам становится государственной религией Волжской Булгарии.</a:t>
            </a:r>
            <a:endParaRPr b="0" lang="en-US" sz="1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Picture 8" descr="p30_voljbulgariya"/>
          <p:cNvPicPr/>
          <p:nvPr/>
        </p:nvPicPr>
        <p:blipFill>
          <a:blip r:embed="rId1"/>
          <a:stretch/>
        </p:blipFill>
        <p:spPr>
          <a:xfrm>
            <a:off x="4859280" y="1052640"/>
            <a:ext cx="4033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1599"/>
                </a:solidFill>
                <a:latin typeface="Times New Roman"/>
              </a:rPr>
              <a:t>Волжская Булгария: </a:t>
            </a:r>
            <a:br>
              <a:rPr sz="2400"/>
            </a:br>
            <a:r>
              <a:rPr b="1" lang="ru-RU" sz="2400" spc="-1" strike="noStrike">
                <a:solidFill>
                  <a:srgbClr val="f31599"/>
                </a:solidFill>
                <a:latin typeface="Times New Roman"/>
              </a:rPr>
              <a:t>территория и население страны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4968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Волжская Булгария занимала обширные земли. К XII веку границы государства раздвинулись ещё больше. На севере они доходили до реки Казанки, на юге - до Самарской Луки. Западными пределами Булгарского государства служила река Зай. Соседями булгар были древние марийские, удмуртские, мордовские  и другие племен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Булгары жили по обеим сторонам Волги и на землях, примыкающих к Каме с севера. Крунпные города Биляр, Болгар, Сувар, Джукетау  находились на волжском левобережье. Десятки городских, сельских поселений, и среди них знаменитый Ошель, располагались на  правобережье Волги. Здесь среди городов наиболее известны Кашан и Чаллы. На реке Казанке в самом начале XI столетия возникает военная крепость и торговое поселение Казань - будущая столица нашей республ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p20_kazan-14v"/>
          <p:cNvPicPr/>
          <p:nvPr/>
        </p:nvPicPr>
        <p:blipFill>
          <a:blip r:embed="rId1"/>
          <a:stretch/>
        </p:blipFill>
        <p:spPr>
          <a:xfrm>
            <a:off x="5192640" y="1413000"/>
            <a:ext cx="377208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6374160" y="6165000"/>
            <a:ext cx="13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КАЗА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8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13800" cy="11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Население страны было разноплеменным. Булгарские племена нам хорошо известны. Но были еще сувары, барсилы, баранджары, а также билеры и эсенгелы. Во второй половине X века из них сложились единая </a:t>
            </a:r>
            <a:r>
              <a:rPr b="1" i="1" lang="ru-RU" sz="1800" spc="-1" strike="noStrike">
                <a:solidFill>
                  <a:srgbClr val="006633"/>
                </a:solidFill>
                <a:latin typeface="Times New Roman"/>
              </a:rPr>
              <a:t>булгарская народность</a:t>
            </a: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. Общим именем населения страны стало имя "булгары"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p20_dom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5445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6"/>
          <p:cNvSpPr/>
          <p:nvPr/>
        </p:nvSpPr>
        <p:spPr>
          <a:xfrm>
            <a:off x="6465600" y="6216120"/>
            <a:ext cx="26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ЛГАРСКИЙ ДОМ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 XI век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31599"/>
                </a:solidFill>
                <a:latin typeface="Times New Roman"/>
              </a:rPr>
              <a:t>Управление Волжской Булгарией</a:t>
            </a:r>
            <a:br>
              <a:rPr sz="3800"/>
            </a:b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Волжская Булгария управлялась, как и все раннефеодальные государства. Во главе стоял правитель. В Булгарии это был эмир. Его раньше называли эльтебер.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773360"/>
            <a:ext cx="42447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Первым  эмиром страны был Алмуш, князь города Болгара. Именно Алмуш отправил посольство булгар в Бухару и Багдад и принимал у себя посольство багдадского халифа. После обращения в новую веру он стал называться мусульманским именем Джагфар ибн Абду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Эмиру подчинялись правители  отдельных земель - областей. Это был высший слой знати. К правящей  верхушке принадлежали и предводители боевых дружин, беки, представители высшего духове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p26_car-almush6"/>
          <p:cNvPicPr/>
          <p:nvPr/>
        </p:nvPicPr>
        <p:blipFill>
          <a:blip r:embed="rId1"/>
          <a:stretch/>
        </p:blipFill>
        <p:spPr>
          <a:xfrm>
            <a:off x="468360" y="1773360"/>
            <a:ext cx="4032360" cy="4751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324000" y="6021000"/>
            <a:ext cx="41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ЛГАРСКИЙ ПРАВИТЕЛЬ АЛМУШ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уд. Рушан Шамсутдинов</a:t>
            </a:r>
            <a:endParaRPr b="0" lang="en-US" sz="1800" spc="-1" strike="noStrike">
              <a:solidFill>
                <a:srgbClr val="00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33"/>
                </a:solidFill>
                <a:latin typeface="Times New Roman"/>
              </a:rPr>
              <a:t>В роли управляемых находились земледельцы, ремесленники, торговцы. Они выполняли различные феодальные повинности в пользу  государства, но зависимыми от феодалов не были.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p26_bulgarskiyvoin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1844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31599"/>
                </a:solidFill>
                <a:latin typeface="Times New Roman"/>
              </a:rPr>
              <a:t>Основные занятия булгар</a:t>
            </a:r>
            <a:br>
              <a:rPr sz="3200"/>
            </a:b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Основными занятиями булгар были сельское хозяйство и торговля.</a:t>
            </a:r>
            <a:br>
              <a:rPr sz="1800"/>
            </a:b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br>
              <a:rPr sz="1800"/>
            </a:b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Земледелием и скотоводством занимались сельские жители. Их было большинство. Арабский географ начало X века Ибн Русте писал: "Болгары - народ земледельческий и возделывают всякого рода зерновой хлеб, как то: пшеницу, ячмень, просо и другие".  Кроме того, они сеяли полбу, чечевицу, горох. Хлеб убирали серпами и косами. </a:t>
            </a:r>
            <a:br>
              <a:rPr sz="1800"/>
            </a:b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Земледелие у булгар было пашенным. Хлеба было много, и булгары могли оказать помощь русским княжествам в голодные 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33"/>
                </a:solidFill>
                <a:latin typeface="Times New Roman"/>
              </a:rPr>
              <a:t>Булгары не забывали свое традиционное занятие - скотоводство. Скот они держали крупный, породистый, а потому были с мясом и молоком. Булгары разводили также боевых и скаковых коней. Почти в каждом хозяйстве имелись овцы и козы, из домашней птицы - к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p27_kopiyawork_03_21"/>
          <p:cNvPicPr/>
          <p:nvPr/>
        </p:nvPicPr>
        <p:blipFill>
          <a:blip r:embed="rId1"/>
          <a:stretch/>
        </p:blipFill>
        <p:spPr>
          <a:xfrm>
            <a:off x="6732720" y="4797360"/>
            <a:ext cx="1942920" cy="1727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p27_805cbbf41f601"/>
          <p:cNvPicPr/>
          <p:nvPr/>
        </p:nvPicPr>
        <p:blipFill>
          <a:blip r:embed="rId2"/>
          <a:stretch/>
        </p:blipFill>
        <p:spPr>
          <a:xfrm>
            <a:off x="3419640" y="4869000"/>
            <a:ext cx="2520720" cy="1728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5serp21"/>
          <p:cNvPicPr/>
          <p:nvPr/>
        </p:nvPicPr>
        <p:blipFill>
          <a:blip r:embed="rId3"/>
          <a:stretch/>
        </p:blipFill>
        <p:spPr>
          <a:xfrm>
            <a:off x="324000" y="5013360"/>
            <a:ext cx="230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450072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Земледелие у булгар было пашенным. Хлеба было много, и булгары могли оказать помощь русским княжествам в голодные г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Булгары не забывали свое традиционное занятие - скотоводство. Скот они держали крупный, породистый, а потому были с мясои и молоком. Булгары разводили также боевых и скаковых коней. Почти в каждом хозяйстве имелись овцы и козы, из домашней птицы - ку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 местах, богатых лесами, булгары ходили на охоту. Особый интерес вызывали пышные звери - соболи, белки и лисы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 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В лесах также было много диких пчел, носивших в дупла деревьев дикий мед. Собирали этот мед булгары один-два раза за лето и делали из него свои любимые напитки </a:t>
            </a:r>
            <a:r>
              <a:rPr b="1" i="1" lang="ru-RU" sz="1600" spc="-1" strike="noStrike">
                <a:solidFill>
                  <a:srgbClr val="006633"/>
                </a:solidFill>
                <a:latin typeface="Times New Roman"/>
              </a:rPr>
              <a:t>набиз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 и </a:t>
            </a:r>
            <a:r>
              <a:rPr b="1" i="1" lang="ru-RU" sz="1600" spc="-1" strike="noStrike">
                <a:solidFill>
                  <a:srgbClr val="006633"/>
                </a:solidFill>
                <a:latin typeface="Times New Roman"/>
              </a:rPr>
              <a:t>суджув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. Реки, богатые рыбой, привлекали рыболовов. Здесь в изобилии водились осетры, стерлядь, сом, саза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0" descr="p27_28466571"/>
          <p:cNvPicPr/>
          <p:nvPr/>
        </p:nvPicPr>
        <p:blipFill>
          <a:blip r:embed="rId1"/>
          <a:stretch/>
        </p:blipFill>
        <p:spPr>
          <a:xfrm>
            <a:off x="1908000" y="5373720"/>
            <a:ext cx="1019520" cy="1228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1" descr="p27_fox32_1600x12001"/>
          <p:cNvPicPr/>
          <p:nvPr/>
        </p:nvPicPr>
        <p:blipFill>
          <a:blip r:embed="rId2"/>
          <a:stretch/>
        </p:blipFill>
        <p:spPr>
          <a:xfrm>
            <a:off x="250920" y="5589720"/>
            <a:ext cx="142848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9" descr="p27_02238026761"/>
          <p:cNvPicPr/>
          <p:nvPr/>
        </p:nvPicPr>
        <p:blipFill>
          <a:blip r:embed="rId3"/>
          <a:stretch/>
        </p:blipFill>
        <p:spPr>
          <a:xfrm>
            <a:off x="3132000" y="5516640"/>
            <a:ext cx="1428840" cy="11332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4"/>
          <p:cNvSpPr/>
          <p:nvPr/>
        </p:nvSpPr>
        <p:spPr>
          <a:xfrm>
            <a:off x="4788000" y="9720"/>
            <a:ext cx="41702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Городское население занималось ремеслом и торговлей. Каких ремесленников только не было: металлурги и кузнецы, ювелиры и косторезы, кожевенники и гончары .... </a:t>
            </a:r>
            <a:endParaRPr b="0" lang="en-US" sz="16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    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Булгарские ремесленники были большими мастерами. Глиняные сосуды, кожа "булгари", ювелирные изделия расходились далеко</a:t>
            </a:r>
            <a:r>
              <a:rPr b="1" lang="ru-RU" sz="1400" spc="-1" strike="noStrike">
                <a:solidFill>
                  <a:srgbClr val="006633"/>
                </a:solidFill>
                <a:latin typeface="Times New Roman"/>
              </a:rPr>
              <a:t> за пределы страны.</a:t>
            </a:r>
            <a:endParaRPr b="0" lang="en-US" sz="1400" spc="-1" strike="noStrike">
              <a:solidFill>
                <a:srgbClr val="0066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     </a:t>
            </a:r>
            <a:r>
              <a:rPr b="1" lang="ru-RU" sz="1600" spc="-1" strike="noStrike">
                <a:solidFill>
                  <a:srgbClr val="006633"/>
                </a:solidFill>
                <a:latin typeface="Times New Roman"/>
              </a:rPr>
              <a:t>Славу Булгарии приумножали купцы. Развитию торговли благоприятствовало выгодное географическое положение страны. На булгарской земле сходились многие караванные пути. Один из них вел в Киев, другой - в Итиль, третий - в Хозерм. В крупных городах для иноземных купцов строились караван-сараи. Правители страны поощряли торговое дело.</a:t>
            </a:r>
            <a:r>
              <a:rPr b="0" lang="ru-RU" sz="16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6633"/>
              </a:solidFill>
              <a:latin typeface="Times New Roman"/>
            </a:endParaRPr>
          </a:p>
        </p:txBody>
      </p:sp>
      <p:pic>
        <p:nvPicPr>
          <p:cNvPr id="120" name="Picture 46" descr="p27_naxodkiarxeologov"/>
          <p:cNvPicPr/>
          <p:nvPr/>
        </p:nvPicPr>
        <p:blipFill>
          <a:blip r:embed="rId4"/>
          <a:stretch/>
        </p:blipFill>
        <p:spPr>
          <a:xfrm>
            <a:off x="4859280" y="4724280"/>
            <a:ext cx="4284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16:58:53Z</dcterms:created>
  <dc:creator>Admin</dc:creator>
  <dc:description/>
  <dc:language>en-US</dc:language>
  <cp:lastModifiedBy>шкоа №71</cp:lastModifiedBy>
  <dcterms:modified xsi:type="dcterms:W3CDTF">2017-01-17T07:10:44Z</dcterms:modified>
  <cp:revision>19</cp:revision>
  <dc:subject/>
  <dc:title>Слайд 1</dc:title>
</cp:coreProperties>
</file>