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60392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Перенос слов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42560" y="1356840"/>
            <a:ext cx="86770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т-ол, ру-ки, 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а-лина, пена-л,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0" lang="ru-RU" sz="8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</a:t>
            </a:r>
            <a:r>
              <a:rPr b="0" lang="en-US" sz="8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</a:t>
            </a:r>
            <a:r>
              <a:rPr b="0" lang="ru-RU" sz="8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ок, ст-риж. 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76583865_s17.png"/>
          <p:cNvPicPr/>
          <p:nvPr/>
        </p:nvPicPr>
        <p:blipFill>
          <a:blip r:embed="rId1"/>
          <a:stretch/>
        </p:blipFill>
        <p:spPr>
          <a:xfrm>
            <a:off x="1143000" y="-50004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00160" y="571464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пасибо!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71680" y="2143080"/>
            <a:ext cx="82483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</a:t>
            </a: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о не-бу плы-вет 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</a:t>
            </a: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у</a:t>
            </a:r>
            <a:r>
              <a:rPr b="0" lang="en-US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</a:t>
            </a: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шис-тое об-л</a:t>
            </a:r>
            <a:r>
              <a:rPr b="0" lang="en-US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a-</a:t>
            </a: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ко.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Правило.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42640" y="250020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перенести слово с одной строки на другую, надо разделить слова на слоги.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14240" y="1642680"/>
            <a:ext cx="810576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4d4d4d"/>
                </a:solidFill>
                <a:latin typeface="Times New Roman"/>
              </a:rPr>
              <a:t>Ар-буз, ар-мия, пол-ка, зем-ля, крас-ный, слад-кий, храб-рый, Де-нис, гро-за.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499760"/>
            <a:ext cx="81439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ы изучали перенос,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от как слова я перенес: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Едва я перенес: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 </a:t>
            </a:r>
            <a:r>
              <a:rPr b="0" lang="ru-RU" sz="5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Е-два,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получил за это «два»,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85520" y="207180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кол я перенес: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-кол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 получил за это «кол»,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8400" y="2071800"/>
            <a:ext cx="83912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Опять я перенес: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-пять,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Теперь, наверное, будет «пять»?!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13840" y="1213920"/>
            <a:ext cx="8605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ило.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дну букву не оставляют на строке, а всё слово переносят на другую строчку.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56800" y="1071720"/>
            <a:ext cx="764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Ольга-Оля, </a:t>
            </a:r>
            <a:endParaRPr b="0" lang="en-US" sz="72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рина-Ира, </a:t>
            </a:r>
            <a:endParaRPr b="0" lang="en-US" sz="72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етр-Петя,</a:t>
            </a:r>
            <a:endParaRPr b="0" lang="en-US" sz="72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елка-ель, </a:t>
            </a:r>
            <a:endParaRPr b="0" lang="en-US" sz="72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шары-шар.</a:t>
            </a:r>
            <a:endParaRPr b="0" lang="en-US" sz="7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3:50:25Z</dcterms:created>
  <dc:creator>Admin</dc:creator>
  <dc:description/>
  <dc:language>en-US</dc:language>
  <cp:lastModifiedBy>Афанасьева Галя</cp:lastModifiedBy>
  <dcterms:modified xsi:type="dcterms:W3CDTF">2017-10-15T08:43:54Z</dcterms:modified>
  <cp:revision>16</cp:revision>
  <dc:subject/>
  <dc:title>Слайд 1</dc:title>
</cp:coreProperties>
</file>