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262-D64A-498C-BAC0-717747406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2C0A-4EBD-4CAA-B7AF-5F3BCAF3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D298-2F21-4A95-A56F-38F46900B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1710-86B7-4BB7-A656-5AC5E2015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CACB8-1EE3-4A6B-9CFD-D2D5CB3A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1B0F-729D-46E7-AD30-3E672BA8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D5AF-3FA4-4261-9B45-5312C7FD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391D-76EB-49FC-A626-05D1B106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1FEE-BE36-414F-96B2-E69A02E2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A2DB7-0AD2-448C-B4D0-0509B311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9794-84DB-4514-BB78-52EC9CB80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1D7-76C0-44F5-AFD9-F49B6A71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3AE7-DB5A-4380-AF1D-A88396E9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0E85-F183-415A-8537-CE51369F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6F63-F317-456D-A43A-7BA01E71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4B83-E7DA-4BA3-943A-AE68D164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7B0D-2D03-49AD-A8DE-8B6A8A4D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C879-F585-444E-BB1E-39E8EE1C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1B19-A299-4BCC-8928-0DDA558E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EDE7-D6C8-4E4C-BEFF-B2554587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1588-59BD-4A30-AFAA-1BCC8AAF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F4AB-D758-4259-AD13-6D28C85C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D9D3-EB6B-4D57-B45F-5AAB3A58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886-EFC0-4621-864F-E3940F8C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809F-749F-4460-BAF3-A30CB0E88815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A3C9-DB89-49D0-9237-C1EA529E617A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02920" y="189000"/>
            <a:ext cx="7435800" cy="22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ff"/>
                </a:solidFill>
                <a:latin typeface="Impact"/>
              </a:rPr>
              <a:t>МБОУ СОШ № 3 </a:t>
            </a:r>
            <a:br>
              <a:rPr sz="7200"/>
            </a:br>
            <a:r>
              <a:rPr b="0" lang="ru-RU" sz="3200" spc="-1" strike="noStrike">
                <a:solidFill>
                  <a:srgbClr val="ff00ff"/>
                </a:solidFill>
                <a:latin typeface="Impact"/>
              </a:rPr>
              <a:t>п.г.т.  Актюбинский Азнакаевского муниципального района</a:t>
            </a:r>
            <a:endParaRPr b="0" lang="en-US" sz="32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3" name="Picture 4" descr="C:\Users\Zohra\Desktop\Фото\Акция\20170330_141953.jpg"/>
          <p:cNvPicPr/>
          <p:nvPr/>
        </p:nvPicPr>
        <p:blipFill>
          <a:blip r:embed="rId1"/>
          <a:stretch/>
        </p:blipFill>
        <p:spPr>
          <a:xfrm>
            <a:off x="250920" y="2421000"/>
            <a:ext cx="4800600" cy="287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C:\Users\Zohra\Desktop\Фото\Акция\20170330_142035.jpg"/>
          <p:cNvPicPr/>
          <p:nvPr/>
        </p:nvPicPr>
        <p:blipFill>
          <a:blip r:embed="rId2"/>
          <a:stretch/>
        </p:blipFill>
        <p:spPr>
          <a:xfrm>
            <a:off x="4140360" y="3860640"/>
            <a:ext cx="5003640" cy="3002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C:\Users\Zohra\Desktop\Фото\Акция\20170330_142342.jpg"/>
          <p:cNvPicPr/>
          <p:nvPr/>
        </p:nvPicPr>
        <p:blipFill>
          <a:blip r:embed="rId3"/>
          <a:stretch/>
        </p:blipFill>
        <p:spPr>
          <a:xfrm>
            <a:off x="5292720" y="2374920"/>
            <a:ext cx="3268800" cy="196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Users\Zohra\Desktop\Фото\Акция\20170330_142404.jpg"/>
          <p:cNvPicPr/>
          <p:nvPr/>
        </p:nvPicPr>
        <p:blipFill>
          <a:blip r:embed="rId4"/>
          <a:stretch/>
        </p:blipFill>
        <p:spPr>
          <a:xfrm>
            <a:off x="468360" y="4653000"/>
            <a:ext cx="3371760" cy="2023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9"/>
          <p:cNvSpPr/>
          <p:nvPr/>
        </p:nvSpPr>
        <p:spPr>
          <a:xfrm>
            <a:off x="1908000" y="3716280"/>
            <a:ext cx="66535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Impact"/>
              </a:rPr>
              <a:t>«</a:t>
            </a:r>
            <a:r>
              <a:rPr b="1" lang="ru-RU" sz="3600" spc="-1" strike="noStrike">
                <a:solidFill>
                  <a:srgbClr val="ff66ff"/>
                </a:solidFill>
                <a:latin typeface="Impact"/>
              </a:rPr>
              <a:t>День весеннего настроения»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57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C:\Users\Zohra\Desktop\Фото\Акция\20170330_135951.jpg"/>
          <p:cNvPicPr/>
          <p:nvPr/>
        </p:nvPicPr>
        <p:blipFill>
          <a:blip r:embed="rId3"/>
          <a:stretch/>
        </p:blipFill>
        <p:spPr>
          <a:xfrm>
            <a:off x="179280" y="3716280"/>
            <a:ext cx="4427640" cy="2657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Zohra\Desktop\Фото\Акция\20170330_140430.jpg"/>
          <p:cNvPicPr/>
          <p:nvPr/>
        </p:nvPicPr>
        <p:blipFill>
          <a:blip r:embed="rId4"/>
          <a:stretch/>
        </p:blipFill>
        <p:spPr>
          <a:xfrm>
            <a:off x="4427640" y="3414600"/>
            <a:ext cx="4716360" cy="2959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C:\Users\Zohra\Desktop\Фото\Акция\20170330_140727.jpg"/>
          <p:cNvPicPr/>
          <p:nvPr/>
        </p:nvPicPr>
        <p:blipFill>
          <a:blip r:embed="rId5"/>
          <a:stretch/>
        </p:blipFill>
        <p:spPr>
          <a:xfrm>
            <a:off x="1116000" y="4046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Users\Zohra\Desktop\Фото\Акция\20170330_141218.jpg"/>
          <p:cNvPicPr/>
          <p:nvPr/>
        </p:nvPicPr>
        <p:blipFill>
          <a:blip r:embed="rId6"/>
          <a:stretch/>
        </p:blipFill>
        <p:spPr>
          <a:xfrm>
            <a:off x="5003640" y="404640"/>
            <a:ext cx="3969000" cy="2381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9T12:35:51Z</dcterms:created>
  <dc:creator>kuteynikov</dc:creator>
  <dc:description/>
  <dc:language>en-US</dc:language>
  <cp:lastModifiedBy>Zohra</cp:lastModifiedBy>
  <dcterms:modified xsi:type="dcterms:W3CDTF">2017-04-16T14:49:20Z</dcterms:modified>
  <cp:revision>12</cp:revision>
  <dc:subject/>
  <dc:title>Крестьянская реформа 1861 г.</dc:title>
</cp:coreProperties>
</file>