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2BD-791E-4FB6-B4BA-218EC2BB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EA16-FA54-4D5A-BA3B-9AAA279E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2BA8-3FB4-47F9-A9EE-ADCB5B84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6EF-E3AB-444D-991A-C868400D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1001-5A65-4BD7-9716-E1E18732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E2D2-DD6B-4212-8090-EE9DBEC6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EE7D-9934-425B-A43B-922EEA9A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2949-7649-40C4-A7B4-7838E4B4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FCD8-2891-4700-8047-0FFE4DFB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5513-1924-4EE5-8F04-483CCD8E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F8D2-0592-4EB1-B886-E6FAAAD6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8C8-F79E-4109-9898-572A08DA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F78E-5EF4-48B7-B947-0002044B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DA46-987F-412B-B6C6-8088117A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FDCA-57C9-4B2F-A08B-D05D8FDB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F203-1A08-4939-8E3D-801E954A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37FE-BFA1-4D4C-8193-0D66A655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BD5-55A6-4A3F-A596-D6740D1D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5009-08BE-4974-8D5E-F4ACC209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1C6-2A56-44DA-B503-8B3F01D1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AF8-C805-4792-825B-D6394808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4303-3A1B-4DBF-A5F0-6E637578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A15-6A1A-4F64-99D9-E81A1A98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398F-DA88-4209-BCBC-DC1B3B1C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D423-9305-459D-9519-3919BC6F0AED}" type="slidenum">
              <a:rPr b="0" lang="ru-RU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Picture 6" descr="grapes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DE78-ED16-4AA8-829D-8868717B5676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402920" y="189000"/>
            <a:ext cx="74358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ff"/>
                </a:solidFill>
                <a:latin typeface="Impact"/>
              </a:rPr>
              <a:t>МБОУ СОШ № 3 </a:t>
            </a:r>
            <a:br>
              <a:rPr sz="7200"/>
            </a:br>
            <a:r>
              <a:rPr b="0" lang="ru-RU" sz="3200" spc="-1" strike="noStrike">
                <a:solidFill>
                  <a:srgbClr val="ff00ff"/>
                </a:solidFill>
                <a:latin typeface="Impact"/>
              </a:rPr>
              <a:t>п.г.т.  Актюбинский Азнакаевского муниципального района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3" name="Picture 4" descr="C:\Users\Zohra\Desktop\Фото\Акция\20170330_141953.jpg"/>
          <p:cNvPicPr/>
          <p:nvPr/>
        </p:nvPicPr>
        <p:blipFill>
          <a:blip r:embed="rId1"/>
          <a:stretch/>
        </p:blipFill>
        <p:spPr>
          <a:xfrm>
            <a:off x="250920" y="2421000"/>
            <a:ext cx="480060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Users\Zohra\Desktop\Фото\Акция\20170330_142035.jpg"/>
          <p:cNvPicPr/>
          <p:nvPr/>
        </p:nvPicPr>
        <p:blipFill>
          <a:blip r:embed="rId2"/>
          <a:stretch/>
        </p:blipFill>
        <p:spPr>
          <a:xfrm>
            <a:off x="4140360" y="3860640"/>
            <a:ext cx="5003640" cy="3002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:\Users\Zohra\Desktop\Фото\Акция\20170330_142342.jpg"/>
          <p:cNvPicPr/>
          <p:nvPr/>
        </p:nvPicPr>
        <p:blipFill>
          <a:blip r:embed="rId3"/>
          <a:stretch/>
        </p:blipFill>
        <p:spPr>
          <a:xfrm>
            <a:off x="5292720" y="2374920"/>
            <a:ext cx="3268800" cy="196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:\Users\Zohra\Desktop\Фото\Акция\20170330_142404.jpg"/>
          <p:cNvPicPr/>
          <p:nvPr/>
        </p:nvPicPr>
        <p:blipFill>
          <a:blip r:embed="rId4"/>
          <a:stretch/>
        </p:blipFill>
        <p:spPr>
          <a:xfrm>
            <a:off x="468360" y="4653000"/>
            <a:ext cx="3371760" cy="2023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9"/>
          <p:cNvSpPr/>
          <p:nvPr/>
        </p:nvSpPr>
        <p:spPr>
          <a:xfrm>
            <a:off x="1908000" y="3716280"/>
            <a:ext cx="66535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ff"/>
                </a:solidFill>
                <a:latin typeface="Impact"/>
              </a:rPr>
              <a:t>«</a:t>
            </a:r>
            <a:r>
              <a:rPr b="1" lang="ru-RU" sz="3600" spc="-1" strike="noStrike">
                <a:solidFill>
                  <a:srgbClr val="ff66ff"/>
                </a:solidFill>
                <a:latin typeface="Impact"/>
              </a:rPr>
              <a:t>День весеннего настроения»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3810240" cy="4114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57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:\Users\Zohra\Desktop\Фото\Акция\20170330_135951.jpg"/>
          <p:cNvPicPr/>
          <p:nvPr/>
        </p:nvPicPr>
        <p:blipFill>
          <a:blip r:embed="rId3"/>
          <a:stretch/>
        </p:blipFill>
        <p:spPr>
          <a:xfrm>
            <a:off x="179280" y="3716280"/>
            <a:ext cx="4427640" cy="2657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C:\Users\Zohra\Desktop\Фото\Акция\20170330_140430.jpg"/>
          <p:cNvPicPr/>
          <p:nvPr/>
        </p:nvPicPr>
        <p:blipFill>
          <a:blip r:embed="rId4"/>
          <a:stretch/>
        </p:blipFill>
        <p:spPr>
          <a:xfrm>
            <a:off x="4427640" y="3414600"/>
            <a:ext cx="4716360" cy="2959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C:\Users\Zohra\Desktop\Фото\Акция\20170330_140727.jpg"/>
          <p:cNvPicPr/>
          <p:nvPr/>
        </p:nvPicPr>
        <p:blipFill>
          <a:blip r:embed="rId5"/>
          <a:stretch/>
        </p:blipFill>
        <p:spPr>
          <a:xfrm>
            <a:off x="1116000" y="4046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C:\Users\Zohra\Desktop\Фото\Акция\20170330_141218.jpg"/>
          <p:cNvPicPr/>
          <p:nvPr/>
        </p:nvPicPr>
        <p:blipFill>
          <a:blip r:embed="rId6"/>
          <a:stretch/>
        </p:blipFill>
        <p:spPr>
          <a:xfrm>
            <a:off x="5003640" y="404640"/>
            <a:ext cx="3969000" cy="238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2:35:51Z</dcterms:created>
  <dc:creator>kuteynikov</dc:creator>
  <dc:description/>
  <dc:language>en-US</dc:language>
  <cp:lastModifiedBy>Zohra</cp:lastModifiedBy>
  <dcterms:modified xsi:type="dcterms:W3CDTF">2017-04-16T14:49:20Z</dcterms:modified>
  <cp:revision>12</cp:revision>
  <dc:subject/>
  <dc:title>Крестьянская реформа 1861 г.</dc:title>
</cp:coreProperties>
</file>