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18FF-A075-4661-8C6E-7267231B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C3D7-91C6-406A-BC37-138CB301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C1A6-6CB0-4D7D-82E7-D3236F7E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8A6F-2C13-4C69-9F46-C0270ED5C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141F-CE98-495B-A0A1-692389CC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DD60-0009-4432-A32E-40D79152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4E9A-5A4A-4008-940D-143C82A8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44BC-33CF-4C14-89D7-7B23170D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CEFC-76C8-446C-9226-228646974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B632-B0B1-4858-9D6D-F773E582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C52AA-8B30-41E3-A0E4-103D0392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407D-0E45-40ED-A10B-B7F2D7AA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C47CA-2FE7-472C-B81F-D1BF895E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DE15-C944-4C25-BD01-3CF421E5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F332-ACAE-45BE-98B1-838B9158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9B5A-D538-4FD8-A40B-85869041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0CA3-1E7B-4C48-91AE-0681EB01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5E2B-8B26-41C1-AE4D-3558AD17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6D8-6610-4423-BD24-707D3623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06C4-2FD7-40E1-A0A7-C1833947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26CB-5BC9-4C01-B803-CD8855C1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9B93-D82B-43FD-8FA2-30A662BF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D31-CCEB-4783-8F93-8B21161A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717-7F6D-4034-961C-986B932E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0338-5B94-4EE6-9A9E-F3469035BE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832E-389B-41A7-A1E2-A3A389D1E9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«Современные подходы к обучению орфографии в начальных классах»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Пути совершенствования орфографической подготовки младших школьник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Формирование у младших школьников орфографической зоркости как базового орфографического ум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Использование словарей как способ решения орфографических задач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Различные виды заданий, способствующие развитию орфографической зоркости учащих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ЭФФЕКТИВНОСТЬ РАБОТЫ СО СЛОВАРЁМ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-первых, поможет  бы освоить  соответствующую норму литературного язы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о-вторых, в процессе поиска конкретного слова ученик читал бы другие слова и, может быть, сделал бы  для себя  какие-то лингвистические  «открытия»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-третьих, младший школьник постепенно накапливал бы опыт пользования различными словарям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Трудности младших школьников в подборе проверочных слов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удности младших школьников в подборе проверочных слов для корня заключаются в скудости словарного запа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их неумении извлечь из памяти нужное слово для провер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 причины заключаются ещё и в том, что дети не умеют свободно пользоваться словом (изменять его, преобразовывать в другие слова), а также  среди различных вариантов они просто не узнают проверочное слово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рудности возникают  в подборе слов с парными по глухости-звонкости согласными, в подборе проверочных слов в различных формах глагол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пособы проверк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сколько способов проверки корневых орфограмм в именах существительных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Изменение по числам; по падежа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Подбор однокоренного слова (объясни значение, сделай маленьким, скажи ласково»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Постановка в форму родительного падеж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Логика действий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 организованных наблюдений- к коллективным выводам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 обобщению и последующему использованию полученных знан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азмышления над тем, почему тому или иному предмету дано его название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блюдение за ударным гласным приведут учеников к выводу о том,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то толкование значения слова с помощью однокоренного- это интересный способ подбора проверочных слов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го систематическое применение значимо не только для грамотности школьников, но и для повышения их общей культуры пользования слов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иды упражнен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Орфографическое проговариван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Графическое выделен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Сигнальные карточк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ерфокарт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исьмо по памят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Письмо с «окошечками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иды работ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исьмо с проговаривание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исывание. Основывается на проговаривании по слогам. Слова ищут в книге и диктуют себе сами. Уместна игра, «Как птичка зёрнышки клюёт?» Голова вверх-вниз, вверх-вниз. А как мы будим зёрнышки – слоги – слова клевать? Комментированное письмо. Это вид диктанта, который строится на основе проговаривания по слога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исьмо под диктовку с предварительной подготовкой. Письмо под диктовку. Игра «Эхо». Письмо по памяти. Читаем, объясняем орфограммы, учим, записывае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ворческие работ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ставление предложений по опорным слова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Творческие диктанты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-5850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очинение, изложение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8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рфографическая зоркост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рфографическая зоркость- это умение замечать орфограммы, то есть те случаи, где при произношении возможен выбор написания, это способность обнаруживать при письме звуки в слабой пози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оставление словарных диктант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бучение  детей поиску слов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орфографические ум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У младших школьников следует формировать четыре орфографических умения, а именн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ставить орфографические задачи, то есть обнаруживать орфограммы (обладать орфографической зоркостью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устанавливать тип орфограммы, соотносить её с определённым правилом (выбирать способ решения задачи, чаще всего - орфографическое правило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рименять правило  (верно  выполнять предписываемый им способ решения поставленной задачи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роверять  написанное,  осуществлять орфографический самоконтроль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способы обозначения «опасных мест»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приём с «окошками» на месте обнаруженных орфограм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Приём требует не только обнаружения орфограмм и верного решения каждой орфографической задачи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При написании «антидиктанта» учащиеся выполняют операцию обнаружения орфограмм. Цель использования   этих заданий - способствовать становлению орфографической зоркост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о– первых,  какографические упражнения помогают выработать у учащихся коммуникативный мотив, определяющий правописание как инструмент речевой деятельности: писать надо так, чтобы тебя понимали окружающи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о– вторых,  убеждает учащихся в необходимости изучения прави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В-третьих, даёт возможность в совместной деятельности с учащимися самоконтроля, направленного на предупреждение нарушений норм правопис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Систематическая  тренировка через письмо под диктовку и списывание, запись слов и предложений под диктовку с предварительным выявлением орфограмм предусматривает развитие орфографической зорк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Обучение сознательному пропуску буквы способствует безошибочному письму и формирует орфографическую зоркост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писывание и  письмо по памяти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иды упражнен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1995120"/>
            <a:ext cx="9144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писывание и  письмо по памя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. формирование орфографической зорк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тие различных видов памя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ктивно работает зрительная память(слова  прочитываются  и  запечатлеваются сигналы (орфограммы), включается слуховая и речедвигательная  (орфографическое проговаривание )или моторная памя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) Развивается орфографическая,  словесно смысловая, произвольная и зрительная память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) Происходит успешное становление орфографической зоркости и формирование умения проверять написанное.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писывание как раз обеспечивает одновременное развитие всех видов памяти. Эта система способствует становлению умения проверять написанное. Этот способ предусматривает не только запоминание конкретных слов, но и развитие орфографической зоркости. За счёт формирования орфографической зоркости и основ самоконтроля достигается развивающий и обучающий эффект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eec94"/>
                </a:solidFill>
                <a:latin typeface="Times New Roman"/>
              </a:rPr>
              <a:t>Словарная</a:t>
            </a:r>
            <a:r>
              <a:rPr b="1" i="1" lang="en-US" sz="4400" spc="-1" strike="noStrike">
                <a:solidFill>
                  <a:srgbClr val="feec94"/>
                </a:solidFill>
                <a:latin typeface="Times New Roman"/>
              </a:rPr>
              <a:t> работ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Словарь может быть использован не только как справоч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к специальное пособие по орфограф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к дидактический материал, на основе которого могут быть различные виды орфографических, грамматических, лексических и других упражнений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мение пользоваться орфографическим словарём, ориентироваться в нём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«Словарные слова» проводятся через списывани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писывание  развивает все виды памяти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это надёжный путь к запоминанию словарных слов без их механического зазубривания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Эффективность обучения использованию словаря связана с отбором словарных слов, с целенаправленным обучением поиска слов, с их предъявлением не в виде изолированного списка, а включёнными в орфографический словарь учебника, с более широким применением словаря для выполнения различных видов упражнений по русскому язык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Универсальные умения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Способность извлечения информации из словарей и справочных изданий универсальна и относится к общеучебным, так как помогает освоить соответствующую норму литературного языка, обеспечивает правильное написание слова;  в процессе поиска ученик  читает другие слова и делает какие-то лингвистические «открытия»; накапливает опыт пользования различными словарями. Словари не только справочники, но и средство для обучения в виде пособия для решения орфографических задач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При знакомстве с новым словом необходимо знать лексическое значени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ВИДЫ УПРАЖНЕНИ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Ребус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олкование лексем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этимологическая справ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дбор однокоренных сл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инонимические и фразеологические отнош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рактический материал (загадки, ребус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ПРАКТИЧЕСКИЙ материа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словицы, поговорки).  В процессе работы у  школьников формируется внимание к слову и к его значению. Систематическое использование слов повышает орфографическую грамотность, обогащает запас слов, формирует понятия о языке как функционирующей системе. Такой подход к работе над словарём повышает интерес к родному языку, снимает  тормозящие фактор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7T18:13:18Z</dcterms:created>
  <dc:creator>DOM</dc:creator>
  <dc:description/>
  <dc:language>en-US</dc:language>
  <cp:lastModifiedBy>DOM</cp:lastModifiedBy>
  <dcterms:modified xsi:type="dcterms:W3CDTF">2011-03-29T18:40:46Z</dcterms:modified>
  <cp:revision>8</cp:revision>
  <dc:subject/>
  <dc:title>«Современные подходы к обучению орфографии в начальных классах» </dc:title>
</cp:coreProperties>
</file>