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D196-8D07-45DF-BEA0-73DCC2DD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E37B-0849-4749-A2D1-5890AC41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FB5C-AA19-40D9-A18B-0DBB9421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77A-ACC6-47F4-8300-F1E9C9C9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8680-6F82-45F9-AEEF-6CEF1259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91E3-B0D8-40BB-B842-8957A0E3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55AF-C156-4121-8EC4-3B473D23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8A6F-1CD3-493A-9BA9-BDAA1A0B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3E66-4E1F-4218-8FE6-2604901E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D9ED-D029-4774-8309-DC0A8363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D15F-8707-4C57-89D7-50805F2B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614B-BF4B-41E7-8056-812A14BF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8AFA-8972-4968-BFA3-3BF1BF35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5CE7-79B5-49A3-83B4-D3B8F3FD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A6E8-A15B-4F98-971E-693B7991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6A24-C077-4E73-B70F-63132B16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3170-9808-4D7C-BFA4-BC0BE4E5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937F-2978-47AB-B2C2-F2C2BB0C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32F-4F41-4E36-BF56-EBB1AA37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377-A29D-48A7-8880-F9694D55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25F-AE02-4454-B0E9-828068FD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8BD7-8A31-4891-B687-408D7800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E478-09C9-4D89-8C13-2A562BE1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4B75-B269-42A9-822B-2812DC56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DD2A-BF56-46AF-8D0A-0F98E40EED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E3C4-8232-4926-A288-270F327E2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Современные подходы к обучению орфографии в начальных классах»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Пути совершенствования орфографической подготовки младших школьни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Формирование у младших школьников орфографической зоркости как базового орфографического ум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Использование словарей как способ решения орфографических задач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Различные виды заданий, способствующие развитию орфографической зоркости учащих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ЭФФЕКТИВНОСТЬ РАБОТЫ СО СЛОВАРЁМ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-первых, поможет  бы освоить  соответствующую норму литературного язы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-вторых, в процессе поиска конкретного слова ученик читал бы другие слова и, может быть, сделал бы  для себя  какие-то лингвистические  «открытия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-третьих, младший школьник постепенно накапливал бы опыт пользования различными словарям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рудности младших школьников в подборе проверочных сл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удности младших школьников в подборе проверочных слов для корня заключаются в скудости словарного запа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их неумении извлечь из памяти нужное слово для провер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причины заключаются ещё и в том, что дети не умеют свободно пользоваться словом (изменять его, преобразовывать в другие слова), а также  среди различных вариантов они просто не узнают проверочное слово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удности возникают  в подборе слов с парными по глухости-звонкости согласными, в подборе проверочных слов в различных формах глаго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пособы проверк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сколько способов проверки корневых орфограмм в именах существительных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Изменение по числам; по падежа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Подбор однокоренного слова (объясни значение, сделай маленьким, скажи ласково»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Постановка в форму родительного падеж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огика действий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 организованных наблюдений- к коллективным выводам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 обобщению и последующему использованию полученных зна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змышления над тем, почему тому или иному предмету дано его названи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блюдение за ударным гласным приведут учеников к выводу о том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то толкование значения слова с помощью однокоренного- это интересный способ подбора проверочных сл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го систематическое применение значимо не только для грамотности школьников, но и для повышения их общей культуры пользования слов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иды упражнен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Орфографическое проговарива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Графическое выделе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игнальные карточк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ерфокарт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исьмо по памят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исьмо с «окошечками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иды работ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исьмо с проговаривание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исывание. Основывается на проговаривании по слогам. Слова ищут в книге и диктуют себе сами. Уместна игра, «Как птичка зёрнышки клюёт?» Голова вверх-вниз, вверх-вниз. А как мы будим зёрнышки – слоги – слова клевать? Комментированное письмо. Это вид диктанта, который строится на основе проговаривания по слога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исьмо под диктовку с предварительной подготовкой. Письмо под диктовку. Игра «Эхо». Письмо по памяти. Читаем, объясняем орфограммы, учим, записывае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ворческие работ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ставление предложений по опорным слова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ворческие диктант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чинение, изложени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рфографическая зорко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рфографическая зоркость- это умение замечать орфограммы, то есть те случаи, где при произношении возможен выбор написания, это способность обнаруживать при письме звуки в слабой пози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оставление словарных диктант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учение  детей поиску сл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рфографические ум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У младших школьников следует формировать четыре орфографических умения, а именн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тавить орфографические задачи, то есть обнаруживать орфограммы (обладать орфографической зоркостью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устанавливать тип орфограммы, соотносить её с определённым правилом (выбирать способ решения задачи, чаще всего - орфографическое правило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рименять правило  (верно  выполнять предписываемый им способ решения поставленной задачи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роверять  написанное,  осуществлять орфографический самоконтроль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пособы обозначения «опасных мест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приём с «окошками» на месте обнаруженных орфограм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Приём требует не только обнаружения орфограмм и верного решения каждой орфографической задачи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При написании «антидиктанта» учащиеся выполняют операцию обнаружения орфограмм. Цель использования   этих заданий - способствовать становлению орфографической зоркост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о– первых,  какографические упражнения помогают выработать у учащихся коммуникативный мотив, определяющий правописание как инструмент речевой деятельности: писать надо так, чтобы тебя понимали окружающ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о– вторых,  убеждает учащихся в необходимости изучения прав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-третьих, даёт возможность в совместной деятельности с учащимися самоконтроля, направленного на предупреждение нарушений норм правопис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Систематическая  тренировка через письмо под диктовку и списывание, запись слов и предложений под диктовку с предварительным выявлением орфограмм предусматривает развитие орфографической зорк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Обучение сознательному пропуску буквы способствует безошибочному письму и формирует орфографическую зорк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писывание и  письмо по памят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иды упражнен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995120"/>
            <a:ext cx="9144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писывание и  письмо по памя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формирование орфографической зорк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тие различных видов памя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ктивно работает зрительная память(слова  прочитываются  и  запечатлеваются сигналы (орфограммы), включается слуховая и речедвигательная  (орфографическое проговаривание )или моторная памя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Развивается орфографическая,  словесно смысловая, произвольная и зрительная память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Происходит успешное становление орфографической зоркости и формирование умения проверять написанное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писывание как раз обеспечивает одновременное развитие всех видов памяти. Эта система способствует становлению умения проверять написанное. Этот способ предусматривает не только запоминание конкретных слов, но и развитие орфографической зоркости. За счёт формирования орфографической зоркости и основ самоконтроля достигается развивающий и обучающий эффект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eec94"/>
                </a:solidFill>
                <a:latin typeface="Times New Roman"/>
              </a:rPr>
              <a:t>Словарная</a:t>
            </a: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 рабо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Словарь может быть использован не только как справоч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к специальное пособие по орфограф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к дидактический материал, на основе которого могут быть различные виды орфографических, грамматических, лексических и других упражнени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мение пользоваться орфографическим словарём, ориентироваться в нё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«Словарные слова» проводятся через списывани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исывание  развивает все виды памят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это надёжный путь к запоминанию словарных слов без их механического зазубрива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Эффективность обучения использованию словаря связана с отбором словарных слов, с целенаправленным обучением поиска слов, с их предъявлением не в виде изолированного списка, а включёнными в орфографический словарь учебника, с более широким применением словаря для выполнения различных видов упражнений по русскому язык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Универсальные ум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пособность извлечения информации из словарей и справочных изданий универсальна и относится к общеучебным, так как помогает освоить соответствующую норму литературного языка, обеспечивает правильное написание слова;  в процессе поиска ученик  читает другие слова и делает какие-то лингвистические «открытия»; накапливает опыт пользования различными словарями. Словари не только справочники, но и средство для обучения в виде пособия для решения орфографических задач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ри знакомстве с новым словом необходимо знать лексическое значени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ИДЫ УПРАЖНЕН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ебус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олкование лексе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этимологическая справ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дбор однокоренных сл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инонимические и фразеологические отнош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актический материал (загадки, ребус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ПРАКТИЧЕСКИЙ материа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словицы, поговорки).  В процессе работы у  школьников формируется внимание к слову и к его значению. Систематическое использование слов повышает орфографическую грамотность, обогащает запас слов, формирует понятия о языке как функционирующей системе. Такой подход к работе над словарём повышает интерес к родному языку, снимает  тормозящие факто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8:13:18Z</dcterms:created>
  <dc:creator>DOM</dc:creator>
  <dc:description/>
  <dc:language>en-US</dc:language>
  <cp:lastModifiedBy>DOM</cp:lastModifiedBy>
  <dcterms:modified xsi:type="dcterms:W3CDTF">2011-03-29T18:40:46Z</dcterms:modified>
  <cp:revision>8</cp:revision>
  <dc:subject/>
  <dc:title>«Современные подходы к обучению орфографии в начальных классах» </dc:title>
</cp:coreProperties>
</file>