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622-FEA6-4519-834A-192BB443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CB0-1947-4FFE-AAAA-F860887C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FF7-7FD4-4AAD-BB16-680666D6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27D-1844-4BC7-B7A0-AC1F99E0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FF93-41BC-4DB2-AFDA-A655EBE5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5C0A-977B-4CB8-A590-0A212262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0CB8-FB28-4F74-ABB7-92D0BFD5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6122-2F41-4914-B883-1946C8FB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E879-1762-41DD-8579-60D40DAD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7FC9-11AD-4AE7-8CC8-1AAC3ABA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9BCD-403E-4889-B061-9ABC220A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03E-BA3E-4EEC-8BEB-ED5CA81B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8EFB-3E10-468F-B508-A855B882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B6DC-0CF1-431D-B6BD-CF3064E5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475A-A53C-4D6F-8438-652F8554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5148-1501-4678-812A-0B167A4A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4DE9-76A2-4393-B1D0-920F5D3E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88B-79C8-4E26-B2A0-C8D9AEA5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AFE-A61A-43B4-96AE-DC779A0A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348-21E3-443D-864A-EC67C4CD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21C-CCAD-4014-B4B5-88AB901D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0F0-3F81-426F-B371-DB5A7F14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9043-B816-4ABF-8B08-A4736F4F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428-12B9-4CB3-87C0-381D0E9F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DE17-AB2D-4B3B-A7DD-0CBCFB5052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96E3-5B62-40F5-B08F-F20F70932F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1267920"/>
            <a:ext cx="6840360" cy="3210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5 класс</a:t>
            </a: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Тема урока: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«Степень числа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68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ставитель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уйкова Е.В.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зовите показатель степе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116000" y="2276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403280" y="19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843280" y="2276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203640" y="19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4859280" y="19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6084720" y="19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4500720" y="2276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5796000" y="2276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зовите основание степе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403280" y="2637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132000" y="263700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5003640" y="263700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6804000" y="2637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1547640" y="2421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276720" y="2421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5148360" y="2421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694836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Вычислит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=                          5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omic Sans MS"/>
              </a:rPr>
              <a:t>2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=                          7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omic Sans MS"/>
              </a:rPr>
              <a:t>2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=                        2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omic Sans MS"/>
              </a:rPr>
              <a:t>3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843280" y="1844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916360" y="2565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203640" y="3284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3059280" y="4076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759636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7524720" y="24922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7380360" y="328464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7451640" y="3284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Сторона квадрата равна 5 см. Его площадь можно найти так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1908000" y="2708280"/>
            <a:ext cx="7993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∙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=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25(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площадь квадрата. Сторона которого ра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8с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10с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12см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826920" y="1700280"/>
          <a:ext cx="2586240" cy="2590560"/>
        </p:xfrm>
        <a:graphic>
          <a:graphicData uri="http://schemas.openxmlformats.org/drawingml/2006/table">
            <a:tbl>
              <a:tblPr/>
              <a:tblGrid>
                <a:gridCol w="517680"/>
                <a:gridCol w="517680"/>
                <a:gridCol w="515880"/>
                <a:gridCol w="517320"/>
                <a:gridCol w="517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rebuchet MS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Заполните таблиц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24000" y="1828800"/>
          <a:ext cx="8351640" cy="2895480"/>
        </p:xfrm>
        <a:graphic>
          <a:graphicData uri="http://schemas.openxmlformats.org/drawingml/2006/table">
            <a:tbl>
              <a:tblPr/>
              <a:tblGrid>
                <a:gridCol w="760320"/>
                <a:gridCol w="757080"/>
                <a:gridCol w="760680"/>
                <a:gridCol w="757080"/>
                <a:gridCol w="760320"/>
                <a:gridCol w="760320"/>
                <a:gridCol w="760680"/>
                <a:gridCol w="757080"/>
                <a:gridCol w="760320"/>
                <a:gridCol w="757440"/>
                <a:gridCol w="760320"/>
              </a:tblGrid>
              <a:tr h="96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</a:t>
                      </a:r>
                      <a:r>
                        <a:rPr b="0" lang="ru-RU" sz="2800" spc="-1" strike="noStrike" baseline="30000">
                          <a:solidFill>
                            <a:srgbClr val="333399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</a:t>
                      </a:r>
                      <a:r>
                        <a:rPr b="0" lang="ru-RU" sz="2800" spc="-1" strike="noStrike" baseline="30000">
                          <a:solidFill>
                            <a:srgbClr val="333399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5800" y="1828800"/>
          <a:ext cx="7918560" cy="3657600"/>
        </p:xfrm>
        <a:graphic>
          <a:graphicData uri="http://schemas.openxmlformats.org/drawingml/2006/table">
            <a:tbl>
              <a:tblPr/>
              <a:tblGrid>
                <a:gridCol w="700200"/>
                <a:gridCol w="698400"/>
                <a:gridCol w="700200"/>
                <a:gridCol w="698400"/>
                <a:gridCol w="700200"/>
                <a:gridCol w="701640"/>
                <a:gridCol w="699840"/>
                <a:gridCol w="698760"/>
                <a:gridCol w="699840"/>
                <a:gridCol w="698760"/>
                <a:gridCol w="922320"/>
              </a:tblGrid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</a:t>
                      </a:r>
                      <a:r>
                        <a:rPr b="0" lang="ru-RU" sz="2800" spc="-1" strike="noStrike" baseline="30000">
                          <a:solidFill>
                            <a:srgbClr val="333399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</a:t>
                      </a:r>
                      <a:r>
                        <a:rPr b="0" lang="ru-RU" sz="2800" spc="-1" strike="noStrike" baseline="30000">
                          <a:solidFill>
                            <a:srgbClr val="333399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6870960" cy="592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Comic Sans MS"/>
              </a:rPr>
              <a:t>Рефлексия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Сегодня я узнал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Было интересно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Было трудно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595959"/>
                </a:solidFill>
                <a:latin typeface="Comic Sans MS"/>
              </a:rPr>
              <a:t>Я выполнял задания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b800"/>
                </a:solidFill>
                <a:latin typeface="Comic Sans MS"/>
              </a:rPr>
              <a:t>Я понял, что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Теперь я могу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Я почувствовал, что…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 Я приобрел… </a:t>
            </a:r>
            <a:br>
              <a:rPr sz="2000"/>
            </a:br>
            <a:r>
              <a:rPr b="1" lang="ru-RU" sz="2000" spc="-1" strike="noStrike">
                <a:solidFill>
                  <a:srgbClr val="595959"/>
                </a:solidFill>
                <a:latin typeface="Comic Sans MS"/>
              </a:rPr>
              <a:t> Я научился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b800"/>
                </a:solidFill>
                <a:latin typeface="Comic Sans MS"/>
              </a:rPr>
              <a:t>У меня получилось 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Я смог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Я попробую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Меня удивило… </a:t>
            </a:r>
            <a:br>
              <a:rPr sz="2000"/>
            </a:br>
            <a:r>
              <a:rPr b="1" lang="ru-RU" sz="2000" spc="-1" strike="noStrike">
                <a:solidFill>
                  <a:srgbClr val="595959"/>
                </a:solidFill>
                <a:latin typeface="Comic Sans MS"/>
              </a:rPr>
              <a:t> Урок дал мне для жизни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b800"/>
                </a:solidFill>
                <a:latin typeface="Comic Sans MS"/>
              </a:rPr>
              <a:t>Мне захотелось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Домашнее задание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23640" y="2349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Comic Sans MS"/>
              </a:rPr>
              <a:t>Стр 40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16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Comic Sans MS"/>
              </a:rPr>
              <a:t>№ </a:t>
            </a:r>
            <a:r>
              <a:rPr b="0" lang="ru-RU" sz="6600" spc="-1" strike="noStrike">
                <a:solidFill>
                  <a:srgbClr val="333399"/>
                </a:solidFill>
                <a:latin typeface="Comic Sans MS"/>
              </a:rPr>
              <a:t>166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16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Comic Sans MS"/>
              </a:rPr>
              <a:t>№ </a:t>
            </a:r>
            <a:r>
              <a:rPr b="0" lang="ru-RU" sz="6600" spc="-1" strike="noStrike">
                <a:solidFill>
                  <a:srgbClr val="333399"/>
                </a:solidFill>
                <a:latin typeface="Comic Sans MS"/>
              </a:rPr>
              <a:t>169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тепень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новый способ записи произведения, в котором равны все множите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полните сложени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76000" y="18558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4+4+4+4+4 = __ = 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7+7+7+7+7+7=___=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) 10+10+10+10+10+10+10+10+10+10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____ = 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) 4+4+4+4+4+4 = ____ = 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) 3+3 = ____ = 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Итак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+а+а+….+а = а ∙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4"/>
          <p:cNvSpPr/>
          <p:nvPr/>
        </p:nvSpPr>
        <p:spPr>
          <a:xfrm rot="16200000">
            <a:off x="4391640" y="475992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36440 h 1800360"/>
              <a:gd name="textAreaBottom" fmla="*/ 166392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20"/>
                  <a:pt x="10800" y="5240"/>
                </a:cubicBezTo>
                <a:lnTo>
                  <a:pt x="10800" y="5880"/>
                </a:lnTo>
                <a:cubicBezTo>
                  <a:pt x="10800" y="8500"/>
                  <a:pt x="5400" y="11120"/>
                  <a:pt x="0" y="11120"/>
                </a:cubicBezTo>
                <a:cubicBezTo>
                  <a:pt x="5400" y="11120"/>
                  <a:pt x="10800" y="13740"/>
                  <a:pt x="10800" y="16360"/>
                </a:cubicBezTo>
                <a:lnTo>
                  <a:pt x="10800" y="16360"/>
                </a:lnTo>
                <a:cubicBezTo>
                  <a:pt x="10800" y="189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3929040" y="17733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4∙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5143680" y="177336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286160" y="22766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7∙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214960" y="22766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1403280" y="328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10∙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987640" y="328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4572000" y="3573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4∙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6012000" y="3573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987640" y="4149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3∙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4356000" y="42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записать короче произведения равных множит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758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 ∙ 3 ∙ 3 ∙ 3 ∙ 3=</a:t>
            </a:r>
            <a:r>
              <a:rPr b="0" lang="ru-RU" sz="2800" spc="-1" strike="noStrike" baseline="30000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 ∙ 2 ∙ 2 ∙ 2 ∙ 2 ∙ 2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0 ∙ 10 ∙ 10=</a:t>
            </a:r>
            <a:r>
              <a:rPr b="0" lang="ru-RU" sz="2800" spc="-1" strike="noStrike" baseline="30000">
                <a:solidFill>
                  <a:srgbClr val="ff0000"/>
                </a:solidFill>
                <a:latin typeface="Comic Sans MS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∙ 5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 ∙ 7=</a:t>
            </a:r>
            <a:r>
              <a:rPr b="0" lang="ru-RU" sz="2800" spc="-1" strike="noStrike" baseline="30000">
                <a:solidFill>
                  <a:srgbClr val="ff0000"/>
                </a:solidFill>
                <a:latin typeface="Comic Sans MS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 ∙ 4 ∙ 4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Выражение 3</a:t>
            </a:r>
            <a:r>
              <a:rPr b="0" lang="ru-RU" sz="3200" spc="-1" strike="noStrike" baseline="30000">
                <a:solidFill>
                  <a:srgbClr val="703dff"/>
                </a:solidFill>
                <a:latin typeface="Comic Sans MS"/>
              </a:rPr>
              <a:t>5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4</a:t>
            </a:r>
            <a:r>
              <a:rPr b="0" lang="ru-RU" sz="3200" spc="-1" strike="noStrike" baseline="30000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5</a:t>
            </a:r>
            <a:r>
              <a:rPr b="0" lang="ru-RU" sz="3200" spc="-1" strike="noStrike" baseline="30000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2</a:t>
            </a:r>
            <a:r>
              <a:rPr b="0" lang="ru-RU" sz="3200" spc="-1" strike="noStrike" baseline="30000">
                <a:solidFill>
                  <a:srgbClr val="703dff"/>
                </a:solidFill>
                <a:latin typeface="Comic Sans MS"/>
              </a:rPr>
              <a:t>6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10</a:t>
            </a:r>
            <a:r>
              <a:rPr b="0" lang="ru-RU" sz="3200" spc="-1" strike="noStrike" baseline="30000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7</a:t>
            </a:r>
            <a:r>
              <a:rPr b="0" lang="ru-RU" sz="3200" spc="-1" strike="noStrike" baseline="30000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называют степенью чис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132000" y="1773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700360" y="2276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10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619280" y="2781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7812000" y="177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5651640" y="234936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6300720" y="2852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казатель степен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ru-RU" sz="4000" spc="-1" strike="noStrike" baseline="30000">
                <a:solidFill>
                  <a:srgbClr val="703dff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снование степен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ru-RU" sz="3200" spc="-1" strike="noStrike" baseline="30000">
                <a:solidFill>
                  <a:srgbClr val="703dff"/>
                </a:solidFill>
                <a:latin typeface="Comic Sans MS"/>
              </a:rPr>
              <a:t>5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три в пятой степени»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6"/>
          <p:cNvSpPr/>
          <p:nvPr/>
        </p:nvSpPr>
        <p:spPr>
          <a:xfrm flipH="1" flipV="1">
            <a:off x="2771280" y="278100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7"/>
          <p:cNvSpPr/>
          <p:nvPr/>
        </p:nvSpPr>
        <p:spPr>
          <a:xfrm flipH="1">
            <a:off x="3203640" y="148428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казател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епен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8</a:t>
            </a:r>
            <a:r>
              <a:rPr b="0" lang="ru-RU" sz="4000" spc="-1" strike="noStrike" baseline="30000">
                <a:solidFill>
                  <a:srgbClr val="703d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снование степен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8</a:t>
            </a:r>
            <a:r>
              <a:rPr b="0" lang="ru-RU" sz="4000" spc="-1" strike="noStrike" baseline="30000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восемь в кубе»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восемь в третьей степени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3635280" y="234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5"/>
          <p:cNvSpPr/>
          <p:nvPr/>
        </p:nvSpPr>
        <p:spPr>
          <a:xfrm flipH="1">
            <a:off x="4356000" y="1197000"/>
            <a:ext cx="216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6"/>
          <p:cNvSpPr/>
          <p:nvPr/>
        </p:nvSpPr>
        <p:spPr>
          <a:xfrm flipH="1" flipV="1">
            <a:off x="3995640" y="2492280"/>
            <a:ext cx="144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83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казател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епен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5</a:t>
            </a:r>
            <a:r>
              <a:rPr b="0" lang="ru-RU" sz="4000" spc="-1" strike="noStrike" baseline="30000">
                <a:solidFill>
                  <a:srgbClr val="703d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снование степен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5</a:t>
            </a:r>
            <a:r>
              <a:rPr b="0" lang="ru-RU" sz="4000" spc="-1" strike="noStrike" baseline="30000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«пять во второй степени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пять в квадрате»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4427640" y="141300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5"/>
          <p:cNvSpPr/>
          <p:nvPr/>
        </p:nvSpPr>
        <p:spPr>
          <a:xfrm flipV="1">
            <a:off x="3492360" y="2708280"/>
            <a:ext cx="358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Можно ли записать в виде степени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4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+6+6+6+6+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0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0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0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0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4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42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реди выражений найдите рав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+5+5+5                              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6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6                                5∙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5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5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5                            6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+7+7+7+7                            7 ∙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+6+6                                   7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7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7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7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7                       6 ∙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2411280" y="2133720"/>
            <a:ext cx="36734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2268360" y="2708280"/>
            <a:ext cx="374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2916360" y="2133720"/>
            <a:ext cx="3024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2987640" y="393372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2195640" y="4437000"/>
            <a:ext cx="381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9"/>
          <p:cNvSpPr/>
          <p:nvPr/>
        </p:nvSpPr>
        <p:spPr>
          <a:xfrm flipV="1">
            <a:off x="3419640" y="4365720"/>
            <a:ext cx="26650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9:46:38Z</dcterms:created>
  <dc:creator>Елисеевы</dc:creator>
  <dc:description/>
  <dc:language>en-US</dc:language>
  <cp:lastModifiedBy>Елена</cp:lastModifiedBy>
  <dcterms:modified xsi:type="dcterms:W3CDTF">2017-10-16T15:21:18Z</dcterms:modified>
  <cp:revision>7</cp:revision>
  <dc:subject/>
  <dc:title>5 класс Тема урока: «Степень числа»</dc:title>
</cp:coreProperties>
</file>