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4FC9-6B85-4C04-B8C7-793515C6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492-393A-495F-BA99-5A611E11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F51-33E5-44C8-8ED6-DFC3C6C4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302A-5B6C-404D-8CC8-841BBF6D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D4B3-AA24-47EF-A7FD-145ECEEC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FA23-0C61-45FC-9DE0-6E783E8A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4B26C-3FD2-4BE7-9D88-D6311320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EBF3-AE98-4A84-A960-FDCCA5A0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0910-9D16-4969-A160-98ADCFBE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8265C-CB82-4151-8B9D-A6E456DA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2855-3467-4333-AF6E-C2B4BB7A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99D1-5DB7-48CC-84E5-DFBF937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C41C-3BA0-4D3B-B9CF-204497BF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4C46-D270-4FF4-939E-36D66E9F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C371-2728-4AC8-ADC8-66552006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FB55-BCF6-49D8-9C03-B17F2729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7818-1E0F-4E1E-9B59-F88C4081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986-E9B9-41E7-B70E-9148A909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04D3-AAFC-4641-BE95-6E02D199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A5C-150F-47B9-A97A-1519869B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AF8-4A81-442A-82F0-C3E90C0E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C78-1B39-4B98-9085-4328CD8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C023-55D9-4EC8-870F-CC61DBA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BBF-F0CE-4CE7-8A9E-BEAAD30C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0A31-F43E-4998-958B-3DD8BE2DC3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2F8D-A5E4-412A-A411-5EBA5A379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31640" y="1267920"/>
            <a:ext cx="6840360" cy="3210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5 класс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333399"/>
                </a:solidFill>
                <a:latin typeface="Comic Sans MS"/>
              </a:rPr>
              <a:t>Тема урока:</a:t>
            </a:r>
            <a:br>
              <a:rPr sz="2000"/>
            </a:br>
            <a:br>
              <a:rPr sz="2000"/>
            </a:b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«Степень числа»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26836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оставитель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Зуйкова Е.В.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показатель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116000" y="2276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40328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84328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20364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485928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6084720" y="1916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5"/>
          <p:cNvSpPr/>
          <p:nvPr/>
        </p:nvSpPr>
        <p:spPr>
          <a:xfrm>
            <a:off x="450072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6"/>
          <p:cNvSpPr/>
          <p:nvPr/>
        </p:nvSpPr>
        <p:spPr>
          <a:xfrm>
            <a:off x="5796000" y="227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азовите основание степе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1403280" y="2637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132000" y="2637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5003640" y="263700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6804000" y="263700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547640" y="24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3276720" y="242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5148360" y="2421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694836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b8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Вычислит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  5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  7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=                        2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3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4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2843280" y="184464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916360" y="2565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203640" y="3284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3059280" y="4076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7596360" y="17733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7524720" y="249228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7380360" y="3284640"/>
            <a:ext cx="93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7451640" y="328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Comic Sans MS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Сторона квадрата равна 5 см. Его площадь можно найти так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Rectangle 48"/>
          <p:cNvSpPr/>
          <p:nvPr/>
        </p:nvSpPr>
        <p:spPr>
          <a:xfrm>
            <a:off x="1908000" y="2708280"/>
            <a:ext cx="79930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∙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=5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25(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площадь квадрата. Сторона которого ра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8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 10см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) 12см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26920" y="1700280"/>
          <a:ext cx="2586240" cy="2590560"/>
        </p:xfrm>
        <a:graphic>
          <a:graphicData uri="http://schemas.openxmlformats.org/drawingml/2006/table">
            <a:tbl>
              <a:tblPr/>
              <a:tblGrid>
                <a:gridCol w="517680"/>
                <a:gridCol w="517680"/>
                <a:gridCol w="515880"/>
                <a:gridCol w="517320"/>
                <a:gridCol w="51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rebuchet M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Заполните таблиц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1828800"/>
          <a:ext cx="8351640" cy="2895480"/>
        </p:xfrm>
        <a:graphic>
          <a:graphicData uri="http://schemas.openxmlformats.org/drawingml/2006/table">
            <a:tbl>
              <a:tblPr/>
              <a:tblGrid>
                <a:gridCol w="760320"/>
                <a:gridCol w="757080"/>
                <a:gridCol w="760680"/>
                <a:gridCol w="757080"/>
                <a:gridCol w="760320"/>
                <a:gridCol w="760320"/>
                <a:gridCol w="760680"/>
                <a:gridCol w="757080"/>
                <a:gridCol w="760320"/>
                <a:gridCol w="757440"/>
                <a:gridCol w="760320"/>
              </a:tblGrid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Заполните таблиц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85800" y="1828800"/>
          <a:ext cx="7918560" cy="3657600"/>
        </p:xfrm>
        <a:graphic>
          <a:graphicData uri="http://schemas.openxmlformats.org/drawingml/2006/table">
            <a:tbl>
              <a:tblPr/>
              <a:tblGrid>
                <a:gridCol w="700200"/>
                <a:gridCol w="698400"/>
                <a:gridCol w="700200"/>
                <a:gridCol w="698400"/>
                <a:gridCol w="700200"/>
                <a:gridCol w="701640"/>
                <a:gridCol w="699840"/>
                <a:gridCol w="698760"/>
                <a:gridCol w="699840"/>
                <a:gridCol w="698760"/>
                <a:gridCol w="92232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</a:t>
                      </a:r>
                      <a:r>
                        <a:rPr b="0" lang="ru-RU" sz="2800" spc="-1" strike="noStrike" baseline="30000">
                          <a:solidFill>
                            <a:srgbClr val="333399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14240" y="571680"/>
            <a:ext cx="6870960" cy="592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333399"/>
                </a:solidFill>
                <a:latin typeface="Comic Sans MS"/>
              </a:rPr>
              <a:t>Рефлексия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Сегодня я узнал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Было интересн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Было трудн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Я выполнял задания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Я понял, что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Теперь я могу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Я почувствовал, что… 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 Я приобрел… </a:t>
            </a:r>
            <a:br>
              <a:rPr sz="2000"/>
            </a:b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 Я научился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У меня получилось 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Я смог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b050"/>
                </a:solidFill>
                <a:latin typeface="Comic Sans MS"/>
              </a:rPr>
              <a:t>Я попробую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omic Sans MS"/>
              </a:rPr>
              <a:t>Меня удивило… </a:t>
            </a:r>
            <a:br>
              <a:rPr sz="2000"/>
            </a:br>
            <a:r>
              <a:rPr b="1" lang="ru-RU" sz="2000" spc="-1" strike="noStrike">
                <a:solidFill>
                  <a:srgbClr val="595959"/>
                </a:solidFill>
                <a:latin typeface="Comic Sans MS"/>
              </a:rPr>
              <a:t> Урок дал мне для жизни…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b800"/>
                </a:solidFill>
                <a:latin typeface="Comic Sans MS"/>
              </a:rPr>
              <a:t>Мне захотелось…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Домашнее зад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23640" y="234936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Стр 40 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№ </a:t>
            </a: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166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spcBef>
                <a:spcPts val="165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№ </a:t>
            </a:r>
            <a:r>
              <a:rPr b="0" lang="ru-RU" sz="6600" spc="-1" strike="noStrike">
                <a:solidFill>
                  <a:srgbClr val="333399"/>
                </a:solidFill>
                <a:latin typeface="Comic Sans MS"/>
              </a:rPr>
              <a:t>169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Степень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зучить новый способ записи произведения, в котором равны все множител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Выполните сложение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76000" y="1855800"/>
            <a:ext cx="721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4+4+4+4+4 = __ = 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7+7+7+7+7+7=___=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10+10+10+10+10+10+10+10+10+10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____ = _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4+4+4+4+4+4 = ____ = _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3+3 = ____ = ___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так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а+а+а+….+а = а ∙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AutoShape 4"/>
          <p:cNvSpPr/>
          <p:nvPr/>
        </p:nvSpPr>
        <p:spPr>
          <a:xfrm rot="16200000">
            <a:off x="4391640" y="475992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136440 h 1800360"/>
              <a:gd name="textAreaBottom" fmla="*/ 166392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620"/>
                  <a:pt x="10800" y="5240"/>
                </a:cubicBezTo>
                <a:lnTo>
                  <a:pt x="10800" y="5880"/>
                </a:lnTo>
                <a:cubicBezTo>
                  <a:pt x="10800" y="8500"/>
                  <a:pt x="5400" y="11120"/>
                  <a:pt x="0" y="11120"/>
                </a:cubicBezTo>
                <a:cubicBezTo>
                  <a:pt x="5400" y="11120"/>
                  <a:pt x="10800" y="13740"/>
                  <a:pt x="10800" y="16360"/>
                </a:cubicBezTo>
                <a:lnTo>
                  <a:pt x="10800" y="16360"/>
                </a:lnTo>
                <a:cubicBezTo>
                  <a:pt x="10800" y="1898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929040" y="177336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4∙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5143680" y="1773360"/>
            <a:ext cx="7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286160" y="227664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7∙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14960" y="227664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140328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10∙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2987640" y="3284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4572000" y="3573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4∙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6012000" y="3573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987640" y="4149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3∙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4356000" y="422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записать короче произведения равных множителей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758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 ∙ 3 ∙ 3 ∙ 3 ∙ 3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 ∙ 2 ∙ 2 ∙ 2 ∙ 2 ∙ 2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 ∙ 10 ∙ 10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 ∙ 5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 ∙ 7=</a:t>
            </a:r>
            <a:r>
              <a:rPr b="0" lang="ru-RU" sz="2800" spc="-1" strike="noStrike" baseline="30000">
                <a:solidFill>
                  <a:srgbClr val="ff0000"/>
                </a:solidFill>
                <a:latin typeface="Comic Sans MS"/>
              </a:rPr>
              <a:t>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 ∙ 4 ∙ 4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Выражение 3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4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5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2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6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10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7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называют степенью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132000" y="1773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700360" y="2276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10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1619280" y="2781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7812000" y="17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5651640" y="234936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6300720" y="285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1" lang="ru-RU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 baseline="30000">
                <a:solidFill>
                  <a:srgbClr val="703dff"/>
                </a:solidFill>
                <a:latin typeface="Comic Sans MS"/>
              </a:rPr>
              <a:t>5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три в пятой степени»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6"/>
          <p:cNvSpPr/>
          <p:nvPr/>
        </p:nvSpPr>
        <p:spPr>
          <a:xfrm flipH="1" flipV="1">
            <a:off x="2771280" y="2781000"/>
            <a:ext cx="863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7"/>
          <p:cNvSpPr/>
          <p:nvPr/>
        </p:nvSpPr>
        <p:spPr>
          <a:xfrm flipH="1">
            <a:off x="3203640" y="1484280"/>
            <a:ext cx="1008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69608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епен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8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осемь в кубе»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«восемь в третьей степени»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3635280" y="234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Line 5"/>
          <p:cNvSpPr/>
          <p:nvPr/>
        </p:nvSpPr>
        <p:spPr>
          <a:xfrm flipH="1">
            <a:off x="4356000" y="1197000"/>
            <a:ext cx="216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 flipH="1" flipV="1">
            <a:off x="3995640" y="2492280"/>
            <a:ext cx="144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83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казатель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епен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снование степени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dff"/>
                </a:solidFill>
                <a:latin typeface="Comic Sans MS"/>
              </a:rPr>
              <a:t>5</a:t>
            </a:r>
            <a:r>
              <a:rPr b="0" lang="ru-RU" sz="4000" spc="-1" strike="noStrike" baseline="30000">
                <a:solidFill>
                  <a:srgbClr val="703dff"/>
                </a:solidFill>
                <a:latin typeface="Comic Sans MS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«пять во второй степени»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«пять в квадрате»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4"/>
          <p:cNvSpPr/>
          <p:nvPr/>
        </p:nvSpPr>
        <p:spPr>
          <a:xfrm flipH="1">
            <a:off x="4427640" y="1413000"/>
            <a:ext cx="504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5"/>
          <p:cNvSpPr/>
          <p:nvPr/>
        </p:nvSpPr>
        <p:spPr>
          <a:xfrm flipV="1">
            <a:off x="3492360" y="2708280"/>
            <a:ext cx="3589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Можно ли записать в виде степени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+6+6+6+6+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2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еди выражений найдите равны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+5+5+5                              5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6                                5∙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5                            6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+7+7+7+7                            7 ∙ 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6+6+6                                   7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7                       6 ∙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411280" y="2133720"/>
            <a:ext cx="367344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2268360" y="2708280"/>
            <a:ext cx="374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Line 6"/>
          <p:cNvSpPr/>
          <p:nvPr/>
        </p:nvSpPr>
        <p:spPr>
          <a:xfrm flipV="1">
            <a:off x="2916360" y="2133720"/>
            <a:ext cx="30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987640" y="3933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2195640" y="4437000"/>
            <a:ext cx="381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9"/>
          <p:cNvSpPr/>
          <p:nvPr/>
        </p:nvSpPr>
        <p:spPr>
          <a:xfrm flipV="1">
            <a:off x="3419640" y="4365720"/>
            <a:ext cx="2665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9:46:38Z</dcterms:created>
  <dc:creator>Елисеевы</dc:creator>
  <dc:description/>
  <dc:language>en-US</dc:language>
  <cp:lastModifiedBy>Елена</cp:lastModifiedBy>
  <dcterms:modified xsi:type="dcterms:W3CDTF">2017-10-16T15:21:18Z</dcterms:modified>
  <cp:revision>7</cp:revision>
  <dc:subject/>
  <dc:title>5 класс Тема урока: «Степень числа»</dc:title>
</cp:coreProperties>
</file>