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70F5-5FC7-40E7-962B-0B283135E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0FC6-AFEF-4165-99E8-CF175441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87A4-E6D0-4A77-BE3F-2F87FD11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61B-EF36-4396-8C6C-42F82DF1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BE24-6F74-460B-AAE6-2B250A2F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BE4E-7394-43F4-893B-DC23A422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A5B9-3EAF-4E5D-BF13-E454E154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E9A3D-118A-49C4-BCC4-F095F30C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5F7B-F749-4366-936A-FBC6F2AC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91D-1F4B-4ABB-8E3C-E1126605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189-5CC5-4C87-B0AF-A9540CC7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A05-48A4-41A5-BE03-88F8CA6F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FFED-F0F5-47E7-ABFF-68C4D0EC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1FF5-92B4-4AA8-A911-F357DD6D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868E-D893-4B4F-856F-8886E59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C9C-0AB9-4009-B477-6D53EE13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59C9-545E-4816-94DE-E1C74925C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D380-89FD-4888-9EBB-1C3FC830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5882-52BE-4E5E-A18F-447F9080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89E-4AB4-4FEF-9E42-76CD9732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BAA1-ECCB-4F06-A674-06CA3D3A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8E7A-FB2B-4F3E-BBA5-845457CA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297-A431-4B9A-8DC3-BDB3133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149-05C5-4D0C-939C-A5DA5E5B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5228-032B-4F6C-8B36-8BDA162B06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49D3-4DC1-4254-939B-21273A9DDDD6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280" y="141300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Техническое оснащение сварочного производства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403280" y="479736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Выполнил: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Преподаватель Хлебников Владимир Фёдорович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3924360" y="6093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2016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ыбор технологического оборудовани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507600" y="2059920"/>
            <a:ext cx="31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манипулятор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5487840" y="2059920"/>
            <a:ext cx="28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вращатель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tretch/>
        </p:blipFill>
        <p:spPr>
          <a:xfrm>
            <a:off x="0" y="2832120"/>
            <a:ext cx="3962520" cy="4025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9" descr=""/>
          <p:cNvPicPr/>
          <p:nvPr/>
        </p:nvPicPr>
        <p:blipFill>
          <a:blip r:embed="rId2"/>
          <a:stretch/>
        </p:blipFill>
        <p:spPr>
          <a:xfrm>
            <a:off x="4714920" y="2851200"/>
            <a:ext cx="44290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1190160" y="-72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аппарат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5932440" cy="27860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544680" y="649044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ый аппарат для стыковой сварки труб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6384240" y="393300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арочная машин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Picture 10" descr=""/>
          <p:cNvPicPr/>
          <p:nvPr/>
        </p:nvPicPr>
        <p:blipFill>
          <a:blip r:embed="rId2"/>
          <a:stretch/>
        </p:blipFill>
        <p:spPr>
          <a:xfrm>
            <a:off x="571680" y="642960"/>
            <a:ext cx="4168440" cy="28573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"/>
          <p:cNvPicPr/>
          <p:nvPr/>
        </p:nvPicPr>
        <p:blipFill>
          <a:blip r:embed="rId3"/>
          <a:stretch/>
        </p:blipFill>
        <p:spPr>
          <a:xfrm>
            <a:off x="5143680" y="285840"/>
            <a:ext cx="3857400" cy="34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лючение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Наибольший объём среди других видов сварки занимает ручная дуговая сварка – сварка плавлением штучными электродами при которой подача электрода и перемещение дуги вдоль свариваемых кромок производится вручную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Преимущества электросварки металлическим электродом благодаря высокой температуре дуги (до 60000 по Цельсию) и концентрированному нагреву заключаются в том, что по сравнению с газовой и атомно-водородной сваркой, она обеспечивает большую скорость, малую зону температурного влияния, малое коробление и возможность управлять механическими свойствами наплавленного металла путем введения в покрытие различных легирующих элементов, которые содержат электроды для сварк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2050920" y="765000"/>
            <a:ext cx="5113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4067280" y="2205000"/>
            <a:ext cx="1441440" cy="71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6" name="WordArt 6"/>
          <p:cNvSpPr txBox="1"/>
          <p:nvPr/>
        </p:nvSpPr>
        <p:spPr>
          <a:xfrm>
            <a:off x="1476360" y="3789360"/>
            <a:ext cx="662616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.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5400" y="476280"/>
            <a:ext cx="80038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Сварным соединением называется не­разъемное соединение, выполненное сваркой, состоящее из двух деталей и соединяющего их сварного шва</a:t>
            </a:r>
            <a:r>
              <a:rPr b="0" i="1" lang="ru-RU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ГОСТ 5264-80устанавливает ос­новные типы, конструктивные элемен­ты и размеры сварных соединений из сталей, а также сплавов на железо­никелевой и никелевой основах, вы­полняемых ручной дуговой сваркой металлическим электродом при толщине свариваемого металла до175 мм. Установлены следующие типы соединений: стыковые —условное обозначение С, нахлесточные —Н, тавровые —  Т и угловые —У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364240" cy="1643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ecff"/>
                </a:solidFill>
                <a:latin typeface="Arial"/>
              </a:rPr>
              <a:t>Угловые соединения </a:t>
            </a:r>
            <a:r>
              <a:rPr b="1" lang="ru-RU" sz="1800" spc="-1" strike="noStrike">
                <a:solidFill>
                  <a:srgbClr val="ccecff"/>
                </a:solidFill>
                <a:latin typeface="Arial"/>
              </a:rPr>
              <a:t>осуществляют при расположении свариваемых эле­ментов под прямым или произвольным углом и сварка выполняется по кромкам этих элементов с одной или с обеих сторон. Угловые соеди­нения применяют при сварке различ­ных коробчатых изделий, резервуаров и емкостей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Picture 7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4940280" cy="2495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"/>
          <p:cNvPicPr/>
          <p:nvPr/>
        </p:nvPicPr>
        <p:blipFill>
          <a:blip r:embed="rId2"/>
          <a:stretch/>
        </p:blipFill>
        <p:spPr>
          <a:xfrm>
            <a:off x="1143000" y="4714920"/>
            <a:ext cx="687564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92960" cy="207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Сварку стыковых швов с 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V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-образной разделкой при толщине кромок до 8 мм производят в один слой, а при большой толщине в два слоя и бо­лее. Первый слой наплавляют высотой3 … 5 мм электродом диаметром3 … 4 мм. Последующие слои выполняют электродом диаметром4…5 мм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1571760" y="2943360"/>
            <a:ext cx="6143400" cy="34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42600" y="928800"/>
            <a:ext cx="8219880" cy="223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На сегодняшний день сварочное производство занимает своё значительное место в машиностроении, строительстве и прочих трудовых сферах, которые включают в себя огромный объём работ и производство массивных конструкций. Благодаря сварочному производству, стало возможным существенное облегчение деталей.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285920" y="4578480"/>
            <a:ext cx="73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Область применения сварных балок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– это их использование в качестве металлических стальных конструкций для создания каркасов быстровозводимых зданий.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364240" cy="1716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ервым этапом производства сварных конструкций является подготовка всей технической документации, необходимой для создания детали, к которой предъявляются определенные требовани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1143000" y="2000160"/>
            <a:ext cx="70722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варка двутавра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928800" y="1143000"/>
            <a:ext cx="73580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Технологические требования к сварочным работам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2263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Основные требования к сборке конструкции перед сваркой детале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борка изделий под сварку должна производиться в соответствии со следующими требованиями, чтобы обеспечить выполнение качественного соединения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 месту соединения деталей должен быть обеспечен свободный доступ, даже если для их фиксации используются дополнительные приспособления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Детали должны быть закреплены жестко, с высокой точностью в требуемом положении, чтобы в процессе не возникало дополнительных деформаций, которые можно избежать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Все повороты, изменения положения конструкции в пространстве сводятся к минимуму, чтобы не возникало случайных перекосов и смещений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Сборку деталей под сварку на каждом этапе осуществляют таким образом, чтобы она не приводила к затруднениям для выполнения последующего. Все должно быть максимально доступно и грамотно спланирован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8226360" cy="21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режде чем сваривать металлические поверхности, их нужно хорошо зачистить. Подготовка металла под сварку – это наиболее важный этап, качественное выполнение которого позволит получить прочный, надежный шов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1357200" y="2644920"/>
            <a:ext cx="642960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5T08:50:41Z</dcterms:created>
  <dc:creator>ДЕН</dc:creator>
  <dc:description/>
  <dc:language>en-US</dc:language>
  <cp:lastModifiedBy>Admin</cp:lastModifiedBy>
  <dcterms:modified xsi:type="dcterms:W3CDTF">2017-10-16T06:55:10Z</dcterms:modified>
  <cp:revision>13</cp:revision>
  <dc:subject/>
  <dc:title>Техническое оснащение сварочного производства.</dc:title>
</cp:coreProperties>
</file>