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A2E6-DCC2-4D5C-8404-9311D8AE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F3F7-7576-4C82-A298-944BC652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6F45-FB9A-498C-B5AE-CAB15B01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370D-73CD-4A0F-9F93-6CB6F2D5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580B-1CFF-4E04-BFDD-C1C97827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BD26-EBD2-48E7-989C-67E2E1DE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30B1-E214-4853-9050-12BF0390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F2F6-6643-49A0-A705-5874808E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8534-248C-4481-AD33-15F234D0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0E0B-3BE9-455B-B854-17CA14DC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5C20-1C46-4EB1-83B4-F1B6A96A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55B0-7845-47EB-A0F0-BB58E444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18B0-FB16-4B8A-8254-75653F31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82D2-BC3B-4165-ADF2-9343B766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EBA7-772B-4657-A72C-0073A765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BBE4-BF8B-40C9-8927-704139AA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7DD3-8254-4B92-AB9B-750FE4E9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EB64-0508-44FF-818B-A761CBD1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194A-7CBE-4B5B-9722-CC08A572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2C69-EA1A-48BD-8C9A-85986DB7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DEF5-0E70-4526-ABE7-67E8E659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8F4C-AD37-4F60-94C8-13A46473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098-7771-4899-B1F4-99CADF60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A753-F1D3-4EE1-92C6-009FA607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0185-583C-4A05-82B4-01ED98EF514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B962-EBFE-415A-9449-DFF0C946ED6D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280" y="141300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Техническое оснащение сварочного производства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479736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Выполнил: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Преподаватель Хлебников Владимир Фёдорович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3924360" y="6093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2016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Выбор технологического оборудования.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07600" y="205992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варочный манипулятор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5487840" y="2059920"/>
            <a:ext cx="28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варочный вращатель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Picture 8" descr=""/>
          <p:cNvPicPr/>
          <p:nvPr/>
        </p:nvPicPr>
        <p:blipFill>
          <a:blip r:embed="rId1"/>
          <a:stretch/>
        </p:blipFill>
        <p:spPr>
          <a:xfrm>
            <a:off x="0" y="2832120"/>
            <a:ext cx="3962520" cy="4025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"/>
          <p:cNvPicPr/>
          <p:nvPr/>
        </p:nvPicPr>
        <p:blipFill>
          <a:blip r:embed="rId2"/>
          <a:stretch/>
        </p:blipFill>
        <p:spPr>
          <a:xfrm>
            <a:off x="4714920" y="2851200"/>
            <a:ext cx="44290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"/>
          <p:cNvSpPr/>
          <p:nvPr/>
        </p:nvSpPr>
        <p:spPr>
          <a:xfrm>
            <a:off x="1190160" y="-72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варочный аппарат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5932440" cy="27860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544680" y="6490440"/>
            <a:ext cx="56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варочный аппарат для стыковой сварки труб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6384240" y="3933000"/>
            <a:ext cx="24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варочная машин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2"/>
          <a:stretch/>
        </p:blipFill>
        <p:spPr>
          <a:xfrm>
            <a:off x="571680" y="642960"/>
            <a:ext cx="4168440" cy="2857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"/>
          <p:cNvPicPr/>
          <p:nvPr/>
        </p:nvPicPr>
        <p:blipFill>
          <a:blip r:embed="rId3"/>
          <a:stretch/>
        </p:blipFill>
        <p:spPr>
          <a:xfrm>
            <a:off x="5143680" y="285840"/>
            <a:ext cx="38574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лючени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Наибольший объём среди других видов сварки занимает ручная дуговая сварка – сварка плавлением штучными электродами при которой подача электрода и перемещение дуги вдоль свариваемых кромок производится вручную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Преимущества электросварки металлическим электродом благодаря высокой температуре дуги (до 60000 по Цельсию) и концентрированному нагреву заключаются в том, что по сравнению с газовой и атомно-водородной сваркой, она обеспечивает большую скорость, малую зону температурного влияния, малое коробление и возможность управлять механическими свойствами наплавленного металла путем введения в покрытие различных легирующих элементов, которые содержат электроды для сварк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4"/>
          <p:cNvSpPr txBox="1"/>
          <p:nvPr/>
        </p:nvSpPr>
        <p:spPr>
          <a:xfrm>
            <a:off x="2050920" y="765000"/>
            <a:ext cx="5113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WordArt 5"/>
          <p:cNvSpPr txBox="1"/>
          <p:nvPr/>
        </p:nvSpPr>
        <p:spPr>
          <a:xfrm>
            <a:off x="4067280" y="2205000"/>
            <a:ext cx="144144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WordArt 6"/>
          <p:cNvSpPr txBox="1"/>
          <p:nvPr/>
        </p:nvSpPr>
        <p:spPr>
          <a:xfrm>
            <a:off x="1476360" y="3789360"/>
            <a:ext cx="662616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имание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5400" y="476280"/>
            <a:ext cx="80038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Сварным соединением называется не­разъемное соединение, выполненное сваркой, состоящее из двух деталей и соединяющего их сварного шва</a:t>
            </a: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ГОСТ 5264-80устанавливает ос­новные типы, конструктивные элемен­ты и размеры сварных соединений из сталей, а также сплавов на железо­никелевой и никелевой основах, вы­полняемых ручной дуговой сваркой металлическим электродом при толщине свариваемого металла до175 мм. Установлены следующие типы соединений: стыковые —условное обозначение С, нахлесточные —Н, тавровые —  Т и угловые —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364240" cy="164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ecff"/>
                </a:solidFill>
                <a:latin typeface="Arial"/>
              </a:rPr>
              <a:t>Угловые соединения 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осуществляют при расположении свариваемых эле­ментов под прямым или произвольным углом и сварка выполняется по кромкам этих элементов с одной или с обеих сторон. Угловые соеди­нения применяют при сварке различ­ных коробчатых изделий, резервуаров и емкосте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1"/>
          <a:stretch/>
        </p:blipFill>
        <p:spPr>
          <a:xfrm>
            <a:off x="2071800" y="2071800"/>
            <a:ext cx="4940280" cy="2495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"/>
          <p:cNvPicPr/>
          <p:nvPr/>
        </p:nvPicPr>
        <p:blipFill>
          <a:blip r:embed="rId2"/>
          <a:stretch/>
        </p:blipFill>
        <p:spPr>
          <a:xfrm>
            <a:off x="1143000" y="4714920"/>
            <a:ext cx="687564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92960" cy="207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Сварку стыковых швов с </a:t>
            </a: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-образной разделкой при толщине кромок до 8 мм производят в один слой, а при большой толщине в два слоя и бо­лее. Первый слой наплавляют высотой3 … 5 мм электродом диаметром3 … 4 мм. Последующие слои выполняют электродом диаметром4…5 мм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1571760" y="2943360"/>
            <a:ext cx="6143400" cy="34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42600" y="928800"/>
            <a:ext cx="8219880" cy="22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На сегодняшний день сварочное производство занимает своё значительное место в машиностроении, строительстве и прочих трудовых сферах, которые включают в себя огромный объём работ и производство массивных конструкций. Благодаря сварочному производству, стало возможным существенное облегчение деталей.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285920" y="4578480"/>
            <a:ext cx="73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Область применения сварных балок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– это их использование в качестве металлических стальных конструкций для создания каркасов быстровозводимых зданий.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364240" cy="1716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ервым этапом производства сварных конструкций является подготовка всей технической документации, необходимой для создания детали, к которой предъявляются определенные требования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1143000" y="2000160"/>
            <a:ext cx="70722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варка двутавра.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928800" y="1143000"/>
            <a:ext cx="7358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Технологические требования к сварочным работам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26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Основные требования к сборке конструкции перед сваркой деталей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Сборка изделий под сварку должна производиться в соответствии со следующими требованиями, чтобы обеспечить выполнение качественного соединения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К месту соединения деталей должен быть обеспечен свободный доступ, даже если для их фиксации используются дополнительные приспособл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Детали должны быть закреплены жестко, с высокой точностью в требуемом положении, чтобы в процессе не возникало дополнительных деформаций, которые можно избежать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се повороты, изменения положения конструкции в пространстве сводятся к минимуму, чтобы не возникало случайных перекосов и смещений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Сборку деталей под сварку на каждом этапе осуществляют таким образом, чтобы она не приводила к затруднениям для выполнения последующего. Все должно быть максимально доступно и грамотно спланировано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226360" cy="21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режде чем сваривать металлические поверхности, их нужно хорошо зачистить. Подготовка металла под сварку – это наиболее важный этап, качественное выполнение которого позволит получить прочный, надежный шов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1357200" y="2644920"/>
            <a:ext cx="642960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5T08:50:41Z</dcterms:created>
  <dc:creator>ДЕН</dc:creator>
  <dc:description/>
  <dc:language>en-US</dc:language>
  <cp:lastModifiedBy>Admin</cp:lastModifiedBy>
  <dcterms:modified xsi:type="dcterms:W3CDTF">2017-10-16T06:55:10Z</dcterms:modified>
  <cp:revision>13</cp:revision>
  <dc:subject/>
  <dc:title>Техническое оснащение сварочного производства.</dc:title>
</cp:coreProperties>
</file>