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B722-45B6-4F11-B387-A759D0415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8413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2240" y="4623840"/>
            <a:ext cx="8413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60BD-7DF5-4323-B0E3-EB3416505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3600" y="213840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2240" y="462384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3600" y="462384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8459-4C42-4687-99B5-46F6EF23C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27090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66960" y="2138400"/>
            <a:ext cx="27090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2040" y="2138400"/>
            <a:ext cx="27090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2240" y="4623840"/>
            <a:ext cx="27090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66960" y="4623840"/>
            <a:ext cx="27090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2040" y="4623840"/>
            <a:ext cx="27090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1F25-1EF9-494E-86BF-99602828C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22240" y="2138400"/>
            <a:ext cx="84139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84139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58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33600" y="2138400"/>
            <a:ext cx="41058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40880" y="700200"/>
            <a:ext cx="860292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33600" y="2138400"/>
            <a:ext cx="41058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22240" y="462384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2240" y="2138400"/>
            <a:ext cx="84139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E545-7918-4E3E-9ECB-9BABCEB05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58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33600" y="213840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33600" y="462384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33600" y="213840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22240" y="4623840"/>
            <a:ext cx="8413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8413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22240" y="4623840"/>
            <a:ext cx="8413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33600" y="213840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22240" y="462384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33600" y="462384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27090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66960" y="2138400"/>
            <a:ext cx="27090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12040" y="2138400"/>
            <a:ext cx="27090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22240" y="4623840"/>
            <a:ext cx="27090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66960" y="4623840"/>
            <a:ext cx="27090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12040" y="4623840"/>
            <a:ext cx="27090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22240" y="2138400"/>
            <a:ext cx="84139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84139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58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33600" y="2138400"/>
            <a:ext cx="41058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84139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C8A7-B666-4CFB-9C04-CB97C7E9C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40880" y="700200"/>
            <a:ext cx="860292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33600" y="2138400"/>
            <a:ext cx="41058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22240" y="462384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58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33600" y="213840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33600" y="462384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33600" y="213840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22240" y="4623840"/>
            <a:ext cx="8413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8413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22240" y="4623840"/>
            <a:ext cx="8413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33600" y="213840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22240" y="462384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33600" y="462384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27090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66960" y="2138400"/>
            <a:ext cx="27090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12040" y="2138400"/>
            <a:ext cx="27090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22240" y="4623840"/>
            <a:ext cx="27090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66960" y="4623840"/>
            <a:ext cx="27090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512040" y="4623840"/>
            <a:ext cx="27090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822240" y="2138400"/>
            <a:ext cx="84139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84139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58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3600" y="2138400"/>
            <a:ext cx="41058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5B23-EFC7-452C-A57C-6627E7591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58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33600" y="2138400"/>
            <a:ext cx="41058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740880" y="700200"/>
            <a:ext cx="860292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33600" y="2138400"/>
            <a:ext cx="41058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822240" y="462384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58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33600" y="213840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133600" y="462384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33600" y="213840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22240" y="4623840"/>
            <a:ext cx="8413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8413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822240" y="4623840"/>
            <a:ext cx="8413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33600" y="213840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822240" y="462384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133600" y="462384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27090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666960" y="2138400"/>
            <a:ext cx="27090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12040" y="2138400"/>
            <a:ext cx="27090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822240" y="4623840"/>
            <a:ext cx="27090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666960" y="4623840"/>
            <a:ext cx="27090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12040" y="4623840"/>
            <a:ext cx="27090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3813-9250-45D8-AA81-1AD189CF1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700200"/>
            <a:ext cx="860292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0048-2D29-4F1D-89D8-07C5DA585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3600" y="2138400"/>
            <a:ext cx="41058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2240" y="462384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1FCE-8194-4580-A492-5DA2D28B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58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3600" y="213840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3600" y="462384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0497-6FF0-488D-A213-CD7EB732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2240" y="213840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3600" y="2138400"/>
            <a:ext cx="410580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2240" y="4623840"/>
            <a:ext cx="8413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8EFD-B1F9-4A12-8E36-878E099A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5A66A84-A138-460D-9165-B58A9DDAE446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cap="sq"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0880" y="555120"/>
            <a:ext cx="86043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40880" y="2101680"/>
            <a:ext cx="86043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6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40880" y="1963440"/>
            <a:ext cx="87678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85" name="AutoShape 3"/>
          <p:cNvSpPr/>
          <p:nvPr/>
        </p:nvSpPr>
        <p:spPr>
          <a:xfrm>
            <a:off x="725400" y="7077240"/>
            <a:ext cx="93553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40880" y="700200"/>
            <a:ext cx="8602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24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822240" y="2138400"/>
            <a:ext cx="84139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Times New Roman"/>
              </a:rPr>
              <a:t>Классный час 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961560" y="1847880"/>
            <a:ext cx="8418600" cy="3419280"/>
          </a:xfrm>
          <a:prstGeom prst="rect">
            <a:avLst/>
          </a:prstGeom>
          <a:noFill/>
          <a:ln w="0">
            <a:noFill/>
          </a:ln>
        </p:spPr>
        <p:txBody>
          <a:bodyPr lIns="0" rIns="0" tIns="3780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99284c"/>
                </a:solidFill>
                <a:latin typeface="Times New Roman"/>
              </a:rPr>
              <a:t>«Я и моя семья»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4" name="1.mp3" descr=""/>
          <p:cNvPicPr/>
          <p:nvPr/>
        </p:nvPicPr>
        <p:blipFill>
          <a:blip r:embed="rId1"/>
          <a:stretch/>
        </p:blipFill>
        <p:spPr>
          <a:xfrm>
            <a:off x="1079640" y="6372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4882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" descr=""/>
          <p:cNvPicPr/>
          <p:nvPr/>
        </p:nvPicPr>
        <p:blipFill>
          <a:blip r:embed="rId1"/>
          <a:stretch/>
        </p:blipFill>
        <p:spPr>
          <a:xfrm>
            <a:off x="2519280" y="1079640"/>
            <a:ext cx="4500720" cy="57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1" descr=""/>
          <p:cNvPicPr/>
          <p:nvPr/>
        </p:nvPicPr>
        <p:blipFill>
          <a:blip r:embed="rId1"/>
          <a:stretch/>
        </p:blipFill>
        <p:spPr>
          <a:xfrm>
            <a:off x="720720" y="720720"/>
            <a:ext cx="6095880" cy="37148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"/>
          <p:cNvPicPr/>
          <p:nvPr/>
        </p:nvPicPr>
        <p:blipFill>
          <a:blip r:embed="rId2"/>
          <a:stretch/>
        </p:blipFill>
        <p:spPr>
          <a:xfrm>
            <a:off x="4319640" y="3780000"/>
            <a:ext cx="4956120" cy="324000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1"/>
          <p:cNvSpPr/>
          <p:nvPr/>
        </p:nvSpPr>
        <p:spPr>
          <a:xfrm>
            <a:off x="2597040" y="720720"/>
            <a:ext cx="5538960" cy="60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8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80099"/>
                </a:solidFill>
                <a:latin typeface="Arial Black"/>
              </a:rPr>
              <a:t>Кто загадки отгадает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8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80099"/>
                </a:solidFill>
                <a:latin typeface="Arial Black"/>
              </a:rPr>
              <a:t>Тот своих родных узнает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8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80099"/>
                </a:solidFill>
                <a:latin typeface="Arial Black"/>
              </a:rPr>
              <a:t>Кто-то маму, кто-то папу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8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80099"/>
                </a:solidFill>
                <a:latin typeface="Arial Black"/>
              </a:rPr>
              <a:t>Кто сестренку или брат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8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80099"/>
                </a:solidFill>
                <a:latin typeface="Arial Black"/>
              </a:rPr>
              <a:t>А узнать вам деда с бабой —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8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80099"/>
                </a:solidFill>
                <a:latin typeface="Arial Black"/>
              </a:rPr>
              <a:t>Вовсе думать-то не надо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8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80099"/>
                </a:solidFill>
                <a:latin typeface="Arial Black"/>
              </a:rPr>
              <a:t>Все родные, с кем живете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8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80099"/>
                </a:solidFill>
                <a:latin typeface="Arial Black"/>
              </a:rPr>
              <a:t>Даже дядя или тетя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8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80099"/>
                </a:solidFill>
                <a:latin typeface="Arial Black"/>
              </a:rPr>
              <a:t>Непременно вам друзья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8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280099"/>
                </a:solidFill>
                <a:latin typeface="Arial Black"/>
              </a:rPr>
              <a:t>Вместе вы — одна…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8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280099"/>
                </a:solidFill>
                <a:latin typeface="Arial Black"/>
              </a:rPr>
              <a:t>                                         </a:t>
            </a:r>
            <a:r>
              <a:rPr b="1" lang="ru-RU" sz="2600" spc="-1" strike="noStrike">
                <a:solidFill>
                  <a:srgbClr val="280099"/>
                </a:solidFill>
                <a:latin typeface="Arial Black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 Black"/>
              </a:rPr>
              <a:t>Семья</a:t>
            </a:r>
            <a:r>
              <a:rPr b="1" lang="ru-RU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000" spc="-1" strike="noStrike">
                <a:solidFill>
                  <a:srgbClr val="280099"/>
                </a:solidFill>
                <a:latin typeface="Arial Black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6970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99284c"/>
                </a:solidFill>
                <a:latin typeface="Arial"/>
              </a:rPr>
              <a:t> </a:t>
            </a:r>
            <a:r>
              <a:rPr b="1" i="1" lang="ru-RU" sz="2600" spc="-1" strike="noStrike">
                <a:solidFill>
                  <a:srgbClr val="99284c"/>
                </a:solidFill>
                <a:latin typeface="Arial"/>
              </a:rPr>
              <a:t>Послушаем,   как объясняется значение    слова</a:t>
            </a:r>
            <a:br>
              <a:rPr sz="2600"/>
            </a:br>
            <a:r>
              <a:rPr b="1" i="1" lang="ru-RU" sz="2600" spc="-1" strike="noStrike">
                <a:solidFill>
                  <a:srgbClr val="99284c"/>
                </a:solidFill>
                <a:latin typeface="Arial"/>
              </a:rPr>
              <a:t> 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СЕМЬЯ</a:t>
            </a:r>
            <a:r>
              <a:rPr b="1" i="1" lang="ru-RU" sz="2600" spc="-1" strike="noStrike">
                <a:solidFill>
                  <a:srgbClr val="99284c"/>
                </a:solidFill>
                <a:latin typeface="Arial"/>
              </a:rPr>
              <a:t> в словаре.</a:t>
            </a:r>
            <a:endParaRPr b="1" i="1" lang="en-US" sz="26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40880" y="2160360"/>
            <a:ext cx="4281480" cy="47401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503280"/>
                <a:tab algn="l" pos="60804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b4794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Ожегов С.И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503280"/>
                <a:tab algn="l" pos="60804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503280" indent="-4287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3280"/>
                <a:tab algn="l" pos="60804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1. Это группа живущих вместе близких родственников;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503280" indent="-42876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503280"/>
                <a:tab algn="l" pos="60804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2. Объединение людей, сплочённых общими интересами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35400" y="2160360"/>
            <a:ext cx="4106880" cy="45003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503280"/>
                <a:tab algn="l" pos="60804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Ушаков Д.Н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503280"/>
                <a:tab algn="l" pos="60804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0"/>
                <a:tab algn="l" pos="503280"/>
                <a:tab algn="l" pos="60804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Семья – группа людей, состоящая из родителей, детей, внуков и ближних родственников, живущих вместе. 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"/>
          <p:cNvSpPr/>
          <p:nvPr/>
        </p:nvSpPr>
        <p:spPr>
          <a:xfrm>
            <a:off x="741240" y="700200"/>
            <a:ext cx="860760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ctr">
            <a:noAutofit/>
          </a:bodyPr>
          <a:p>
            <a:pPr algn="ctr">
              <a:lnSpc>
                <a:spcPct val="93000"/>
              </a:lnSpc>
              <a:spcBef>
                <a:spcPts val="139"/>
              </a:spcBef>
              <a:spcAft>
                <a:spcPts val="13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600" spc="-1" strike="noStrike">
                <a:solidFill>
                  <a:srgbClr val="99284c"/>
                </a:solidFill>
                <a:latin typeface="Arial"/>
              </a:rPr>
              <a:t>Семья - это люди, которые живут вместе,  заботятся друг о друге.</a:t>
            </a:r>
            <a:r>
              <a:rPr b="1" i="1" lang="en-US" sz="1600" spc="-1" strike="noStrike">
                <a:solidFill>
                  <a:srgbClr val="99284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979640" y="2160720"/>
            <a:ext cx="6300720" cy="444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9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1" descr=""/>
          <p:cNvPicPr/>
          <p:nvPr/>
        </p:nvPicPr>
        <p:blipFill>
          <a:blip r:embed="rId1"/>
          <a:stretch/>
        </p:blipFill>
        <p:spPr>
          <a:xfrm>
            <a:off x="3959280" y="2879640"/>
            <a:ext cx="5556240" cy="4140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" descr=""/>
          <p:cNvPicPr/>
          <p:nvPr/>
        </p:nvPicPr>
        <p:blipFill>
          <a:blip r:embed="rId2"/>
          <a:stretch/>
        </p:blipFill>
        <p:spPr>
          <a:xfrm>
            <a:off x="5227560" y="360360"/>
            <a:ext cx="3232080" cy="2879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"/>
          <p:cNvPicPr/>
          <p:nvPr/>
        </p:nvPicPr>
        <p:blipFill>
          <a:blip r:embed="rId3"/>
          <a:stretch/>
        </p:blipFill>
        <p:spPr>
          <a:xfrm>
            <a:off x="360360" y="539640"/>
            <a:ext cx="4500720" cy="2519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"/>
          <p:cNvPicPr/>
          <p:nvPr/>
        </p:nvPicPr>
        <p:blipFill>
          <a:blip r:embed="rId4"/>
          <a:stretch/>
        </p:blipFill>
        <p:spPr>
          <a:xfrm>
            <a:off x="1079640" y="2752560"/>
            <a:ext cx="3240000" cy="426744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22240" y="2138400"/>
            <a:ext cx="410688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59040" bIns="0" anchor="t">
            <a:normAutofit/>
          </a:bodyPr>
          <a:p>
            <a:pPr marL="343080" indent="0">
              <a:lnSpc>
                <a:spcPct val="82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haroni"/>
              </a:rPr>
              <a:t> 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2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2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82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741240" y="634680"/>
            <a:ext cx="8607600" cy="13906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39"/>
              </a:spcBef>
              <a:spcAft>
                <a:spcPts val="13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>
                <a:solidFill>
                  <a:srgbClr val="99284c"/>
                </a:solidFill>
                <a:latin typeface="Arial"/>
              </a:rPr>
              <a:t>Человеческое счастье вряд ли возможно без семьи. Ни  самая увлекательная работа, ни друзья не могут дать то, что может дать дружная и счастливая семья.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80" name="Picture 3" descr=""/>
          <p:cNvPicPr/>
          <p:nvPr/>
        </p:nvPicPr>
        <p:blipFill>
          <a:blip r:embed="rId1"/>
          <a:stretch/>
        </p:blipFill>
        <p:spPr>
          <a:xfrm>
            <a:off x="525600" y="1868400"/>
            <a:ext cx="3404880" cy="2271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"/>
          <p:cNvPicPr/>
          <p:nvPr/>
        </p:nvPicPr>
        <p:blipFill>
          <a:blip r:embed="rId2"/>
          <a:stretch/>
        </p:blipFill>
        <p:spPr>
          <a:xfrm>
            <a:off x="4140360" y="2073240"/>
            <a:ext cx="5270400" cy="33274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"/>
          <p:cNvPicPr/>
          <p:nvPr/>
        </p:nvPicPr>
        <p:blipFill>
          <a:blip r:embed="rId3"/>
          <a:stretch/>
        </p:blipFill>
        <p:spPr>
          <a:xfrm>
            <a:off x="384120" y="4140360"/>
            <a:ext cx="4656240" cy="3240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"/>
          <p:cNvPicPr/>
          <p:nvPr/>
        </p:nvPicPr>
        <p:blipFill>
          <a:blip r:embed="rId4"/>
          <a:stretch/>
        </p:blipFill>
        <p:spPr>
          <a:xfrm>
            <a:off x="5054760" y="4859280"/>
            <a:ext cx="4319280" cy="251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9T15:29:58Z</dcterms:created>
  <dc:creator/>
  <dc:description/>
  <dc:language>en-US</dc:language>
  <cp:lastModifiedBy>User</cp:lastModifiedBy>
  <dcterms:modified xsi:type="dcterms:W3CDTF">2017-10-16T17:48:47Z</dcterms:modified>
  <cp:revision>24</cp:revision>
  <dc:subject/>
  <dc:title>Классный час </dc:title>
</cp:coreProperties>
</file>