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F4D-38EA-4362-8C8B-9447D937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4E1-C45F-4ACE-B28F-E446030C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1F0-2465-4C54-AD1E-0F1B504A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D82-B683-4A8D-B31B-D4DC2EC9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262-5520-450D-8846-06340BC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B4F-055F-4A76-8592-EC6EA3A2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DFA-3D43-4469-9C15-AEB6DFD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E94-B679-4DED-9DA5-CFB8181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B39-30F8-45F6-8B11-D042B36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BAD-A4FC-49ED-9072-9BA22CE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9CC-18BE-46B1-A3D5-F7507E6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A4C-29D9-426F-9A0F-FF863D6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2AC15B-E05A-462E-AEC6-02250DD7C7E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Классный час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61560" y="1847880"/>
            <a:ext cx="84186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99284c"/>
                </a:solidFill>
                <a:latin typeface="Times New Roman"/>
              </a:rPr>
              <a:t>«Я и моя семья»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1.mp3" descr=""/>
          <p:cNvPicPr/>
          <p:nvPr/>
        </p:nvPicPr>
        <p:blipFill>
          <a:blip r:embed="rId1"/>
          <a:stretch/>
        </p:blipFill>
        <p:spPr>
          <a:xfrm>
            <a:off x="1079640" y="6372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88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519280" y="1079640"/>
            <a:ext cx="450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6095880" cy="3714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49561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597040" y="720720"/>
            <a:ext cx="55389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 загадки отгад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Тот своих родных узн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-то маму, кто-то пап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 сестренку или бр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А узнать вам деда с бабой 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овсе думать-то не над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се родные, с кем живе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Даже дядя или тет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Непременно вам друз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месте вы — одна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 Black"/>
              </a:rPr>
              <a:t>                                         </a:t>
            </a:r>
            <a:r>
              <a:rPr b="1" lang="ru-RU" sz="2600" spc="-1" strike="noStrike">
                <a:solidFill>
                  <a:srgbClr val="280099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емья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280099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Послушаем,   как объясняется значение    слова</a:t>
            </a:r>
            <a:br>
              <a:rPr sz="2600"/>
            </a:b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 в словаре.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60360"/>
            <a:ext cx="42814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b4794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жегов С.И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. Это группа живущих вместе близких родственников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. Объединение людей, сплочённых общими интересам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60360"/>
            <a:ext cx="41068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шаков Д.Н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емья – группа людей, состоящая из родителей, детей, внуков и ближних родственников, живущих вместе.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99284c"/>
                </a:solidFill>
                <a:latin typeface="Arial"/>
              </a:rPr>
              <a:t>Семья - это люди, которые живут вместе,  заботятся друг о друге.</a:t>
            </a:r>
            <a:r>
              <a:rPr b="1" i="1" lang="en-US" sz="16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630072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5556240" cy="414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5227560" y="360360"/>
            <a:ext cx="32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360360" y="539640"/>
            <a:ext cx="4500720" cy="251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4"/>
          <a:stretch/>
        </p:blipFill>
        <p:spPr>
          <a:xfrm>
            <a:off x="1079640" y="2752560"/>
            <a:ext cx="32400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2240" y="2138400"/>
            <a:ext cx="41068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haroni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Человеческое счастье вряд ли возможно без семьи. Ни  самая увлекательная работа, ни друзья не могут дать то, что может дать дружная и счастливая семья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25600" y="1868400"/>
            <a:ext cx="3404880" cy="227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140360" y="2073240"/>
            <a:ext cx="5270400" cy="3327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384120" y="4140360"/>
            <a:ext cx="4656240" cy="32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5054760" y="4859280"/>
            <a:ext cx="431928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5:29:58Z</dcterms:created>
  <dc:creator/>
  <dc:description/>
  <dc:language>en-US</dc:language>
  <cp:lastModifiedBy>User</cp:lastModifiedBy>
  <dcterms:modified xsi:type="dcterms:W3CDTF">2017-10-16T17:48:47Z</dcterms:modified>
  <cp:revision>24</cp:revision>
  <dc:subject/>
  <dc:title>Классный час </dc:title>
</cp:coreProperties>
</file>