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F7E0-AC27-4693-922B-0FBFCED7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719-61FC-4373-8A5E-D691C4D3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E80E-3258-41D1-8DD4-34C45E2D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68F-51F2-4B7A-A7D2-54E70B13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5E0-D440-4F09-87BB-8D63FFC1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FA0-9940-43E9-8889-0412F06D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0F67-30F2-4443-893F-E5974396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8CC-9FB6-4970-B71F-34CFFA57E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604-8A60-488D-BB72-6B03E0F8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E7FA-65CB-4E4F-B042-B2B73E27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4FDC-CF71-4D8F-8421-18570EE6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B24-0120-42AA-BC0F-E9883049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832A-3A4D-4466-8022-FC00990751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7.jpeg"/><Relationship Id="rId5" Type="http://schemas.openxmlformats.org/officeDocument/2006/relationships/image" Target="../media/image17.pn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17.pn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987640" cy="2241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3166920" cy="2238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43640" y="476280"/>
            <a:ext cx="2184480" cy="1892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24000" y="2421000"/>
            <a:ext cx="2817720" cy="2490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780000" y="2924280"/>
            <a:ext cx="1684080" cy="2149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084720" y="3068640"/>
            <a:ext cx="24717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2521080" cy="164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12000" y="189000"/>
            <a:ext cx="2627280" cy="1969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429000"/>
            <a:ext cx="344808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6588000" y="4365720"/>
            <a:ext cx="2102040" cy="2334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050920" y="476280"/>
            <a:ext cx="385308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де звук 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1908360" cy="1432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56000" y="1557360"/>
            <a:ext cx="1871640" cy="1322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2184480" cy="1892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50920" y="3429000"/>
            <a:ext cx="3816360" cy="2874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4788000" y="335772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ного ч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шей                       ух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924360" y="2852640"/>
            <a:ext cx="237492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олько звуко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2808360" cy="1876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3284640"/>
            <a:ext cx="2160720" cy="162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4950000"/>
            <a:ext cx="1908000" cy="190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843280" y="1484280"/>
            <a:ext cx="1511280" cy="984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924360" y="1413000"/>
            <a:ext cx="1120680" cy="1120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5003640" y="1484280"/>
            <a:ext cx="1511640" cy="984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1908000" y="3357720"/>
            <a:ext cx="1511640" cy="984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2987640" y="3284640"/>
            <a:ext cx="1120680" cy="1120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4067280" y="3429000"/>
            <a:ext cx="1511280" cy="9842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1908000" y="5157720"/>
            <a:ext cx="1511640" cy="984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1"/>
          <a:stretch/>
        </p:blipFill>
        <p:spPr>
          <a:xfrm>
            <a:off x="4067280" y="5157720"/>
            <a:ext cx="1511280" cy="984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2"/>
          <a:stretch/>
        </p:blipFill>
        <p:spPr>
          <a:xfrm>
            <a:off x="2987640" y="5013360"/>
            <a:ext cx="1120680" cy="11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Буква 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2976480" cy="2671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2990880" cy="4495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337644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4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4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7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76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411280" y="404640"/>
            <a:ext cx="2951280" cy="2213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3573360"/>
            <a:ext cx="3671640" cy="2065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924360" y="2781360"/>
            <a:ext cx="50641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ружи буквы и прочитай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2009880" cy="1508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659640" y="1052640"/>
            <a:ext cx="2184480" cy="2184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0" y="2637000"/>
            <a:ext cx="2184480" cy="2184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372360" y="2997360"/>
            <a:ext cx="2009520" cy="1508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79280" y="4941720"/>
            <a:ext cx="2009880" cy="15084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6659640" y="4653000"/>
            <a:ext cx="1689120" cy="1971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24000" y="119700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179280" y="2781360"/>
            <a:ext cx="168768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1692360" y="4842000"/>
            <a:ext cx="19778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C 0.04184 0.00718 0.08385 0.0095 0.12604 0.01112 C 0.20937 0.01019 0.29271 0.01065 0.37604 0.00857 C 0.43333 0.00718 0.49288 -0.00115 0.55104 -0.00115 E">
                                      <p:cBhvr>
                                        <p:cTn id="319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03 0.06065 C 0.04306 0.0544 0.11667 0.04977 0.12292 0.04954 C 0.15573 0.04468 0.18733 0.03449 0.22014 0.03102 C 0.2448 0.02407 0.26997 0.01852 0.29514 0.01481 C 0.33837 0.00139 0.37448 0.00278 0.42188 0 C 0.4283 -0.00069 0.43507 0.00023 0.44132 -0.00231 C 0.44289 -0.00301 0.44098 -0.00741 0.44237 -0.00856 C 0.4448 -0.01042 0.44792 -0.00972 0.4507 -0.00972 C 0.47969 -0.01088 0.53768 -0.01227 0.53768 -0.01204 E">
                                      <p:cBhvr>
                                        <p:cTn id="33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55556E-006 C 0.00087 0.00045 0.00191 0.00069 0.00278 0.00115 C 0.00382 0.00184 0.00451 0.00369 0.00556 0.00369 C 0.0592 0.00485 0.11302 0.00439 0.16667 0.00485 C 0.17448 0.01041 0.19965 0.01157 0.2092 0.01226 C 0.30972 0.0111 0.40972 0.0111 0.51024 0.0111 E">
                                      <p:cBhvr>
                                        <p:cTn id="35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3T12:53:57Z</dcterms:created>
  <dc:creator>UserXP</dc:creator>
  <dc:description/>
  <dc:language>en-US</dc:language>
  <cp:lastModifiedBy>UserXP</cp:lastModifiedBy>
  <dcterms:modified xsi:type="dcterms:W3CDTF">2017-10-16T15:51:47Z</dcterms:modified>
  <cp:revision>4</cp:revision>
  <dc:subject/>
  <dc:title>Слайд 1</dc:title>
</cp:coreProperties>
</file>