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D82-BC85-4926-86CB-D706381F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4F0-BFA2-4380-A1E3-49F254DD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8D4-2255-4414-9031-3803CCFF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7FD-C89F-4F8B-8442-5B8254E1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15F-8952-49AA-A76C-3480AD9A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036-EC72-489D-B13C-DF290FCB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6CA-B37F-4F99-9579-55975B5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D96-8EEC-4547-A75C-95EB78F2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09C-5238-4A84-ADBF-5D96385F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DBB-F909-40BA-801B-A0F786D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169-5929-47C2-8FCB-5817B3A0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D44-22A2-43E6-83ED-FABB2668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5EB3-6835-4D25-A719-0F9EB47E7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7.jpeg"/><Relationship Id="rId5" Type="http://schemas.openxmlformats.org/officeDocument/2006/relationships/image" Target="../media/image17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17.pn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3166920" cy="223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184480" cy="189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2817720" cy="249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780000" y="2924280"/>
            <a:ext cx="1684080" cy="214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84720" y="3068640"/>
            <a:ext cx="2471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521080" cy="16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44808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2102040" cy="2334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050920" y="476280"/>
            <a:ext cx="3853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де звук 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1908360" cy="143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1871640" cy="132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2184480" cy="1892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3429000"/>
            <a:ext cx="3816360" cy="2874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3577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шей                       у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237492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зву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808360" cy="187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95000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43280" y="148428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141300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003640" y="1484280"/>
            <a:ext cx="1511640" cy="98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908000" y="3357720"/>
            <a:ext cx="1511640" cy="98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987640" y="328464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4067280" y="342900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1908000" y="5157720"/>
            <a:ext cx="1511640" cy="984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4067280" y="5157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2987640" y="5013360"/>
            <a:ext cx="112068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уква 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2976480" cy="2671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990880" cy="4495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37644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671640" cy="206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24360" y="2781360"/>
            <a:ext cx="50641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ружи буквы и прочит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59640" y="1052640"/>
            <a:ext cx="2184480" cy="21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2184480" cy="2184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372360" y="2997360"/>
            <a:ext cx="2009520" cy="1508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2009880" cy="150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659640" y="4653000"/>
            <a:ext cx="1689120" cy="197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4000" y="1197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179280" y="2781360"/>
            <a:ext cx="168768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692360" y="4842000"/>
            <a:ext cx="1977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4184 0.00718 0.08385 0.0095 0.12604 0.01112 C 0.20937 0.01019 0.29271 0.01065 0.37604 0.00857 C 0.43333 0.00718 0.49288 -0.00115 0.55104 -0.00115 E">
                                      <p:cBhvr>
                                        <p:cTn id="31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03 0.06065 C 0.04306 0.0544 0.11667 0.04977 0.12292 0.04954 C 0.15573 0.04468 0.18733 0.03449 0.22014 0.03102 C 0.2448 0.02407 0.26997 0.01852 0.29514 0.01481 C 0.33837 0.00139 0.37448 0.00278 0.42188 0 C 0.4283 -0.00069 0.43507 0.00023 0.44132 -0.00231 C 0.44289 -0.00301 0.44098 -0.00741 0.44237 -0.00856 C 0.4448 -0.01042 0.44792 -0.00972 0.4507 -0.00972 C 0.47969 -0.01088 0.53768 -0.01227 0.53768 -0.01204 E">
                                      <p:cBhvr>
                                        <p:cTn id="33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55556E-006 C 0.00087 0.00045 0.00191 0.00069 0.00278 0.00115 C 0.00382 0.00184 0.00451 0.00369 0.00556 0.00369 C 0.0592 0.00485 0.11302 0.00439 0.16667 0.00485 C 0.17448 0.01041 0.19965 0.01157 0.2092 0.01226 C 0.30972 0.0111 0.40972 0.0111 0.51024 0.0111 E">
                                      <p:cBhvr>
                                        <p:cTn id="35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3T12:53:57Z</dcterms:created>
  <dc:creator>UserXP</dc:creator>
  <dc:description/>
  <dc:language>en-US</dc:language>
  <cp:lastModifiedBy>UserXP</cp:lastModifiedBy>
  <dcterms:modified xsi:type="dcterms:W3CDTF">2017-10-16T15:51:47Z</dcterms:modified>
  <cp:revision>4</cp:revision>
  <dc:subject/>
  <dc:title>Слайд 1</dc:title>
</cp:coreProperties>
</file>