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8AB-0EEE-4E1E-90C7-2B6DD3DA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98B-3E65-448A-A4B2-FD87F0AA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051-B517-42CC-B68B-91F1328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377-128B-4BC3-8116-CEF8D948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1B8-B435-44B1-93E6-C8B20ECB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96F-F858-47BD-9E48-C146092D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8427-BBEA-402C-8EE3-8036C43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9EDE-7E93-4782-A59F-4AD4089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313-C18F-4DC8-BEFB-F768D941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E60-7A51-4FAA-9140-A573404F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9EA-16DC-4284-933D-5C77D6E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BD4-1A15-43DD-A493-B99BE23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EE6-6FA2-41F5-B14D-630CEE8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F97-4367-4611-A44F-53B0F74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D0F8-7245-4600-9EA9-D75F6C5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A9B-514F-4B93-84AE-E5222BC2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718-5A7C-44CF-8644-487F28DA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99F-5DA9-4488-B960-8648A9F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A85-D3D4-4494-953D-05FF8A7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7F7-8D5A-4A2A-81FE-738AFBB9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054-7CDB-4071-82D4-2523BC5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AFB-9FA6-4B40-9C5A-FC902C4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4AC-DDD7-4D75-BAC3-72D88DBB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02C-3DDD-4952-88BF-1EBB958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D1B-0C12-4CAA-BB84-882F7412A6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822-B7A3-4560-AFEC-0F44E9036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40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c"/>
                </a:solidFill>
                <a:latin typeface="Times New Roman"/>
              </a:rPr>
              <a:t>РЕЧЕВОЕ РАЗВИТИЕ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4005c"/>
                </a:solidFill>
                <a:latin typeface="Times New Roman"/>
              </a:rPr>
              <a:t>в  ДОУ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Образовательная область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(ФГОС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</a:rPr>
              <a:t>Речевое развит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владение речью как средством общения и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обогащение активного слова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связной, грамматически правильной диалогической и монологической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речевого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звуковой и интонационной культуры   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фонематического слу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знакомство с книжной культурой, детской литературой, понимание на слух текстов различных жанров дет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формирование звуковой аналитико – синтетической активности как предпосылки обучения грамоте.</a:t>
            </a: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Приоритетное направление                реализации ФГОС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гра  -  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ведущая деятельностью   до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eliftepe.com/wp-content/uploads/2015/01/play-theraphy1.jpg"/>
          <p:cNvPicPr/>
          <p:nvPr/>
        </p:nvPicPr>
        <p:blipFill>
          <a:blip r:embed="rId1"/>
          <a:stretch/>
        </p:blipFill>
        <p:spPr>
          <a:xfrm>
            <a:off x="3505320" y="35053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057400" y="1981080"/>
            <a:ext cx="6857640" cy="4571640"/>
            <a:chOff x="2057400" y="1981080"/>
            <a:chExt cx="6857640" cy="4571640"/>
          </a:xfrm>
        </p:grpSpPr>
        <p:sp>
          <p:nvSpPr>
            <p:cNvPr id="92" name=""/>
            <p:cNvSpPr/>
            <p:nvPr/>
          </p:nvSpPr>
          <p:spPr>
            <a:xfrm>
              <a:off x="3708000" y="2914560"/>
              <a:ext cx="3534120" cy="2801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400" y="5619240"/>
              <a:ext cx="2030760" cy="9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ff"/>
                  </a:solidFill>
                  <a:latin typeface="Arial"/>
                </a:rPr>
                <a:t>Иллюстр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ff"/>
                  </a:solidFill>
                  <a:latin typeface="Arial"/>
                </a:rPr>
                <a:t>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81080"/>
              <a:ext cx="2031120" cy="9334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Arial"/>
                </a:rPr>
                <a:t>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4280" y="5619240"/>
              <a:ext cx="2030760" cy="9334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0" y="304920"/>
            <a:ext cx="6629400" cy="1557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ИГРОВЫЕ ОБУЧ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СИТУАЦИИ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ФГ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764640"/>
            <a:ext cx="6554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comic"/>
              </a:rPr>
              <a:t>Единое коррекционно - образовательное пространство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700000">
            <a:off x="3132360" y="2060280"/>
            <a:ext cx="143964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900000">
            <a:off x="5292720" y="206064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8900000">
            <a:off x="3132000" y="4076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700000">
            <a:off x="5292720" y="4076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1844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314172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14172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997360"/>
            <a:ext cx="1547640" cy="1547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</cp:lastModifiedBy>
  <dcterms:modified xsi:type="dcterms:W3CDTF">2017-10-17T13:15:02Z</dcterms:modified>
  <cp:revision>3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