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589-73D1-4877-B883-57749EBD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3E2A-2DF5-42E8-B160-9564D040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D34D-B606-4EB0-B07A-1F0A62CF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36E-2CDE-4F44-89E4-0E042357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6877-F507-4D29-A589-885974DC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0F3C-1585-41BE-AB90-914A8621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3B64-BD91-4624-BA60-9DD14BD5B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DBD2-3D13-44B6-9248-26FDB3D0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8AEF-1884-4604-975F-99B046AB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A6C8-3C3C-43DA-879B-6CA5FEE2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A4E5-7D85-49F2-8F31-3D2CC90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594-E5E1-45FC-BAE2-DB4A9344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9B0B-834A-40BA-B386-1DC6D9DD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9633E-7AB2-416D-AEA0-BC19EA38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79E9-88B2-4416-BED6-FC9B14ED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4BFD-BAAE-44B3-A16B-3D05FD56F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BAD00-DF40-413C-BC99-4EAAEE68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9887-16D9-4223-A42E-9E6F3482B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A66-3340-490E-ADE7-52F27BA4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B92-748B-4A8F-AD9F-C0D29EE1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F3B8-8F3D-4F01-A758-7AAD24D4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E6E-ABB7-4F41-B6A2-7981183B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90B-8A05-4B5F-84EA-E005BF36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6BE-0C2A-48C6-8995-D47C497A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8CE4-6B12-4314-BA7B-B7FBE94FE6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F983-6023-428E-977F-188CEFD285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040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c"/>
                </a:solidFill>
                <a:latin typeface="Times New Roman"/>
              </a:rPr>
              <a:t>РЕЧЕВОЕ РАЗВИТИЕ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e4005c"/>
                </a:solidFill>
                <a:latin typeface="Times New Roman"/>
              </a:rPr>
              <a:t>в  ДОУ</a:t>
            </a: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    </a:t>
            </a: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Образовательная область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 (ФГОС)</a:t>
            </a:r>
            <a:br>
              <a:rPr sz="2800"/>
            </a:b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43200" y="3805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        </a:t>
            </a:r>
            <a:r>
              <a:rPr b="0" lang="en-US" sz="3600" spc="-1" strike="noStrike" u="sng">
                <a:solidFill>
                  <a:srgbClr val="e4005c"/>
                </a:solidFill>
                <a:uFillTx/>
                <a:latin typeface="Arial"/>
              </a:rPr>
              <a:t>Речевое развит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8280" y="1295280"/>
            <a:ext cx="6400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владение речью как средством общения и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обогащение активного словар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развитие связной, грамматически правильной диалогической и монологической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развитие речевого творчест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развитие звуковой и интонационной культуры    реч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развитие фонематического слух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знакомство с книжной культурой, детской литературой, понимание на слух текстов различных жанров детской литератур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c0039"/>
                </a:solidFill>
                <a:latin typeface="Arial"/>
              </a:rPr>
              <a:t>- формирование звуковой аналитико – синтетической активности как предпосылки обучения грамоте.</a:t>
            </a:r>
            <a:r>
              <a:rPr b="1" lang="ru-RU" sz="24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5c"/>
                </a:solidFill>
                <a:latin typeface="Arial"/>
              </a:rPr>
              <a:t>Приоритетное направление                реализации ФГОС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8c0039"/>
                </a:solidFill>
                <a:latin typeface="Arial"/>
              </a:rPr>
              <a:t>Игра  -  </a:t>
            </a: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ведущая деятельностью   дошколь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http://www.eliftepe.com/wp-content/uploads/2015/01/play-theraphy1.jpg"/>
          <p:cNvPicPr/>
          <p:nvPr/>
        </p:nvPicPr>
        <p:blipFill>
          <a:blip r:embed="rId1"/>
          <a:stretch/>
        </p:blipFill>
        <p:spPr>
          <a:xfrm>
            <a:off x="3505320" y="35053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057400" y="1981080"/>
            <a:ext cx="6857640" cy="4571640"/>
            <a:chOff x="2057400" y="1981080"/>
            <a:chExt cx="6857640" cy="4571640"/>
          </a:xfrm>
        </p:grpSpPr>
        <p:sp>
          <p:nvSpPr>
            <p:cNvPr id="92" name=""/>
            <p:cNvSpPr/>
            <p:nvPr/>
          </p:nvSpPr>
          <p:spPr>
            <a:xfrm>
              <a:off x="3708000" y="2914560"/>
              <a:ext cx="3534120" cy="28018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66ff"/>
                  </a:solidFill>
                  <a:latin typeface="Arial"/>
                </a:rPr>
                <a:t>ПРОБЛ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7400" y="5619240"/>
              <a:ext cx="2030760" cy="93348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66ff"/>
                  </a:solidFill>
                  <a:latin typeface="Arial"/>
                </a:rPr>
                <a:t>Иллюстра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66ff"/>
                  </a:solidFill>
                  <a:latin typeface="Arial"/>
                </a:rPr>
                <a:t>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70480" y="1981080"/>
              <a:ext cx="2031120" cy="933480"/>
            </a:xfrm>
            <a:prstGeom prst="ellips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66ff"/>
                  </a:solidFill>
                  <a:latin typeface="Arial"/>
                </a:rPr>
                <a:t>Упраж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84280" y="5619240"/>
              <a:ext cx="2030760" cy="933480"/>
            </a:xfrm>
            <a:prstGeom prst="ellips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966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9966ff"/>
                  </a:solidFill>
                  <a:latin typeface="Arial"/>
                </a:rPr>
                <a:t>Оцен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0" y="304920"/>
            <a:ext cx="6629400" cy="155700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ИГРОВЫЕ ОБУЧАЮЩ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e4005c"/>
                </a:solidFill>
                <a:latin typeface="Arial"/>
              </a:rPr>
              <a:t>СИТУАЦИИ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(ФГО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ff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0" y="764640"/>
            <a:ext cx="6554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5c"/>
                </a:solidFill>
                <a:latin typeface="comic"/>
              </a:rPr>
              <a:t>Единое коррекционно - образовательное пространство</a:t>
            </a:r>
            <a:endParaRPr b="0" lang="en-US" sz="2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700000">
            <a:off x="3132360" y="2060280"/>
            <a:ext cx="1439640" cy="144000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8900000">
            <a:off x="5292720" y="2060640"/>
            <a:ext cx="1440000" cy="143964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8900000">
            <a:off x="3132000" y="4076640"/>
            <a:ext cx="1440000" cy="144000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з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2700000">
            <a:off x="5292720" y="4076640"/>
            <a:ext cx="1440000" cy="144000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11640" y="1844640"/>
            <a:ext cx="1440000" cy="144000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огоп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35640" y="3141720"/>
            <a:ext cx="1440000" cy="143964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4221000"/>
            <a:ext cx="1440000" cy="144000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3141720"/>
            <a:ext cx="1440000" cy="143964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зы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ков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40360" y="2997360"/>
            <a:ext cx="1547640" cy="1547640"/>
          </a:xfrm>
          <a:prstGeom prst="ellipse">
            <a:avLst/>
          </a:prstGeom>
          <a:solidFill>
            <a:srgbClr val="c58bf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бён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rosoft Office</cp:lastModifiedBy>
  <dcterms:modified xsi:type="dcterms:W3CDTF">2017-10-17T13:15:02Z</dcterms:modified>
  <cp:revision>3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