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4119-2D0D-4757-BBDC-700230A5D5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BCD62-0A11-41E6-88DE-36E7ADC9A2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D745-EE55-4392-B58C-600E6F1C4F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EEB-DC26-4E51-98F6-DDCA1FB4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276B-4CD5-464A-B845-55DBDFF9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2F0E-F45A-435D-813B-9844D0DB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FEB-55B9-47E3-A4CC-BC672773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6D0-4753-48C8-9A32-E5C91B15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15E-BE95-4599-A50C-945454E20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AD6-CF94-4CD2-B6A1-461DAA655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D95-3A4E-48EF-BEB6-551064FB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286B-F5C7-484D-AB6B-E7E68B4C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025A-70EB-4A5E-860B-9164DD1F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49A-2D63-400D-B558-54BE2D5C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CC8C-0818-4881-B79E-7C5F3724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01D9-09CD-43F4-A334-918128993C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7"/>
          <p:cNvSpPr/>
          <p:nvPr/>
        </p:nvSpPr>
        <p:spPr>
          <a:xfrm>
            <a:off x="108000" y="6597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1deff"/>
                </a:solidFill>
                <a:latin typeface="Georgia"/>
              </a:rPr>
              <a:t>Устинова Валентина Ивановн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1" descr=""/>
          <p:cNvPicPr/>
          <p:nvPr/>
        </p:nvPicPr>
        <p:blipFill>
          <a:blip r:embed="rId2"/>
          <a:stretch/>
        </p:blipFill>
        <p:spPr>
          <a:xfrm>
            <a:off x="353880" y="79200"/>
            <a:ext cx="2163960" cy="27561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681280" y="189000"/>
            <a:ext cx="53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d"/>
                </a:solidFill>
                <a:latin typeface="Georgia"/>
              </a:rPr>
              <a:t>Л.Н. Толст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d"/>
                </a:solidFill>
                <a:latin typeface="Georgia"/>
              </a:rPr>
              <a:t>Кавказский пленни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7"/>
          <p:cNvSpPr/>
          <p:nvPr/>
        </p:nvSpPr>
        <p:spPr>
          <a:xfrm>
            <a:off x="108000" y="6597720"/>
            <a:ext cx="28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b0f0"/>
                </a:solidFill>
                <a:latin typeface="Georgia"/>
              </a:rPr>
              <a:t>Устинова Валентина Ивановн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ywebs.su/uploads/images/2/a/b/d/4/e1662e0b03.jp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s309820.vk.me/v309820165/83d5/MVsnJLVvIOY.jpg" TargetMode="External"/><Relationship Id="rId2" Type="http://schemas.openxmlformats.org/officeDocument/2006/relationships/hyperlink" Target="http://cs309820.vk.me/v309820165/83d5/MVsnJLVvIOY.jpg" TargetMode="External"/><Relationship Id="rId3" Type="http://schemas.openxmlformats.org/officeDocument/2006/relationships/hyperlink" Target="http://osinform.org/uploads/posts/2009-03/1238238292_nizhnii-unal.-lower-unal-nizhnii-unal-1886.jpeg" TargetMode="External"/><Relationship Id="rId4" Type="http://schemas.openxmlformats.org/officeDocument/2006/relationships/hyperlink" Target="http://osinform.org/uploads/posts/2009-03/1238238292_nizhnii-unal.-lower-unal-nizhnii-unal-1886.jpeg" TargetMode="External"/><Relationship Id="rId5" Type="http://schemas.openxmlformats.org/officeDocument/2006/relationships/hyperlink" Target="http://bsk.nios.ru/sites/bsk.nios.ru/files/article/image035.jpg" TargetMode="External"/><Relationship Id="rId6" Type="http://schemas.openxmlformats.org/officeDocument/2006/relationships/hyperlink" Target="http://bsk.nios.ru/sites/bsk.nios.ru/files/article/image035.jpg" TargetMode="External"/><Relationship Id="rId7" Type="http://schemas.openxmlformats.org/officeDocument/2006/relationships/hyperlink" Target="http://bsk.nios.ru/sites/bsk.nios.ru/files/article/image035.jpg" TargetMode="External"/><Relationship Id="rId8" Type="http://schemas.openxmlformats.org/officeDocument/2006/relationships/hyperlink" Target="http://muzan.ru/uploads/images/k/a/v/kavkaz_zhi_est_varsal_ti_serdtse_mojo_pokorila.jpg" TargetMode="External"/><Relationship Id="rId9" Type="http://schemas.openxmlformats.org/officeDocument/2006/relationships/hyperlink" Target="http://muzan.ru/uploads/images/k/a/v/kavkaz_zhi_est_varsal_ti_serdtse_mojo_pokorila.jpg" TargetMode="External"/><Relationship Id="rId10" Type="http://schemas.openxmlformats.org/officeDocument/2006/relationships/hyperlink" Target="http://www.bibliotekar.ru/pisateli-19-veka/27.files/image001.jpg" TargetMode="External"/><Relationship Id="rId11" Type="http://schemas.openxmlformats.org/officeDocument/2006/relationships/hyperlink" Target="http://www.bibliotekar.ru/pisateli-19-veka/27.files/image001.jpg" TargetMode="External"/><Relationship Id="rId12" Type="http://schemas.openxmlformats.org/officeDocument/2006/relationships/hyperlink" Target="http://www.bibliotekar.ru/pisateli-19-veka/27.files/image001.jpg" TargetMode="External"/><Relationship Id="rId13" Type="http://schemas.openxmlformats.org/officeDocument/2006/relationships/hyperlink" Target="http://kinozayka.net/uploads/posts/2013-09/1378142954_kavkazskiy-plennik.2.jpg" TargetMode="External"/><Relationship Id="rId14" Type="http://schemas.openxmlformats.org/officeDocument/2006/relationships/hyperlink" Target="http://kinozayka.net/uploads/posts/2013-09/1378142954_kavkazskiy-plennik.2.jpg" TargetMode="External"/><Relationship Id="rId15" Type="http://schemas.openxmlformats.org/officeDocument/2006/relationships/hyperlink" Target="http://kinozayka.net/uploads/posts/2013-09/1378142954_kavkazskiy-plennik.2.jpg" TargetMode="External"/><Relationship Id="rId1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Картинка 373 из 19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4"/>
          <p:cNvSpPr/>
          <p:nvPr/>
        </p:nvSpPr>
        <p:spPr>
          <a:xfrm>
            <a:off x="476280" y="368280"/>
            <a:ext cx="8191440" cy="6121440"/>
          </a:xfrm>
          <a:prstGeom prst="rect">
            <a:avLst/>
          </a:prstGeom>
          <a:solidFill>
            <a:srgbClr val="45fdf9">
              <a:alpha val="20000"/>
            </a:srgbClr>
          </a:solidFill>
          <a:ln w="25560">
            <a:solidFill>
              <a:srgbClr val="1737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TextBox 1" descr=""/>
          <p:cNvPicPr/>
          <p:nvPr/>
        </p:nvPicPr>
        <p:blipFill>
          <a:blip r:embed="rId3"/>
          <a:stretch/>
        </p:blipFill>
        <p:spPr>
          <a:xfrm>
            <a:off x="914400" y="1243080"/>
            <a:ext cx="7302600" cy="2433600"/>
          </a:xfrm>
          <a:prstGeom prst="rect">
            <a:avLst/>
          </a:prstGeom>
          <a:ln w="0">
            <a:noFill/>
          </a:ln>
        </p:spPr>
      </p:pic>
      <p:sp>
        <p:nvSpPr>
          <p:cNvPr id="131" name="Управляющая кнопка: сведения 2">
            <a:hlinkClick r:id="" action="ppaction://hlinkshowjump?jump=lastslide"/>
          </p:cNvPr>
          <p:cNvSpPr/>
          <p:nvPr/>
        </p:nvSpPr>
        <p:spPr>
          <a:xfrm>
            <a:off x="611280" y="503280"/>
            <a:ext cx="495360" cy="495360"/>
          </a:xfrm>
          <a:custGeom>
            <a:avLst/>
            <a:gdLst>
              <a:gd name="textAreaLeft" fmla="*/ 32040 w 495360"/>
              <a:gd name="textAreaRight" fmla="*/ 463320 w 495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Стрелка вправо 5">
            <a:hlinkClick r:id="" action="ppaction://hlinkshowjump?jump=nextslide"/>
          </p:cNvPr>
          <p:cNvSpPr/>
          <p:nvPr/>
        </p:nvSpPr>
        <p:spPr>
          <a:xfrm>
            <a:off x="7632720" y="6039000"/>
            <a:ext cx="900000" cy="26964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ff0000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TextBox 6" descr=""/>
          <p:cNvPicPr/>
          <p:nvPr/>
        </p:nvPicPr>
        <p:blipFill>
          <a:blip r:embed="rId4"/>
          <a:stretch/>
        </p:blipFill>
        <p:spPr>
          <a:xfrm>
            <a:off x="1957320" y="4681440"/>
            <a:ext cx="5186520" cy="7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extBox 2" descr=""/>
          <p:cNvPicPr/>
          <p:nvPr/>
        </p:nvPicPr>
        <p:blipFill>
          <a:blip r:embed="rId1"/>
          <a:stretch/>
        </p:blipFill>
        <p:spPr>
          <a:xfrm>
            <a:off x="1547640" y="-55440"/>
            <a:ext cx="6224760" cy="1152360"/>
          </a:xfrm>
          <a:prstGeom prst="rect">
            <a:avLst/>
          </a:prstGeom>
          <a:ln w="0">
            <a:noFill/>
          </a:ln>
        </p:spPr>
      </p:pic>
      <p:grpSp>
        <p:nvGrpSpPr>
          <p:cNvPr id="135" name="Группа 12"/>
          <p:cNvGrpSpPr/>
          <p:nvPr/>
        </p:nvGrpSpPr>
        <p:grpSpPr>
          <a:xfrm>
            <a:off x="858960" y="1179360"/>
            <a:ext cx="7426080" cy="4519080"/>
            <a:chOff x="858960" y="1179360"/>
            <a:chExt cx="7426080" cy="4519080"/>
          </a:xfrm>
        </p:grpSpPr>
        <p:sp>
          <p:nvSpPr>
            <p:cNvPr id="136" name="TextBox 1"/>
            <p:cNvSpPr/>
            <p:nvPr/>
          </p:nvSpPr>
          <p:spPr>
            <a:xfrm>
              <a:off x="858960" y="1179360"/>
              <a:ext cx="7426080" cy="44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just">
                <a:lnSpc>
                  <a:spcPct val="100000"/>
                </a:lnSpc>
                <a:buClr>
                  <a:srgbClr val="953735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  <a:ea typeface="Calibri"/>
                </a:rPr>
                <a:t>Разгадывать кроссворд  можно с любого выбранного слова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buClr>
                  <a:srgbClr val="953735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</a:rPr>
                <a:t>2.    Нажимаем на стрелку             –  появляется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</a:rPr>
                <a:t>вопрос-задание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</a:rPr>
                <a:t>3.    Щелкаем мышкой по полю с вопросом             ,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</a:rPr>
                <a:t>в клетках кроссворда появляется  отгаданное слово и иллюстрация к произведению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buClr>
                  <a:srgbClr val="953735"/>
                </a:buClr>
                <a:buFont typeface="Times New Roman"/>
                <a:buAutoNum type="arabicPeriod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По окончанию работы с кроссвордом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53735"/>
                  </a:solidFill>
                  <a:latin typeface="Times New Roman"/>
                  <a:ea typeface="Times New Roman"/>
                </a:rPr>
                <a:t>нажми</a:t>
              </a:r>
              <a:r>
                <a:rPr b="1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7" name="Picture 4" descr=""/>
            <p:cNvPicPr/>
            <p:nvPr/>
          </p:nvPicPr>
          <p:blipFill>
            <a:blip r:embed="rId2"/>
            <a:stretch/>
          </p:blipFill>
          <p:spPr>
            <a:xfrm>
              <a:off x="2096640" y="5228640"/>
              <a:ext cx="450720" cy="46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Скругленный прямоугольник 3"/>
            <p:cNvSpPr/>
            <p:nvPr/>
          </p:nvSpPr>
          <p:spPr>
            <a:xfrm>
              <a:off x="7002360" y="3474000"/>
              <a:ext cx="765000" cy="269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1737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Стрелка вправо 6"/>
            <p:cNvSpPr/>
            <p:nvPr/>
          </p:nvSpPr>
          <p:spPr>
            <a:xfrm>
              <a:off x="4707000" y="2394000"/>
              <a:ext cx="405000" cy="314640"/>
            </a:xfrm>
            <a:prstGeom prst="rightArrow">
              <a:avLst>
                <a:gd name="adj1" fmla="val 50000"/>
                <a:gd name="adj2" fmla="val 50057"/>
              </a:avLst>
            </a:prstGeom>
            <a:solidFill>
              <a:srgbClr val="00206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Скругленный прямоугольник 9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3382920" y="5797440"/>
            <a:ext cx="2335320" cy="79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Багетная рамка 13"/>
          <p:cNvSpPr/>
          <p:nvPr/>
        </p:nvSpPr>
        <p:spPr>
          <a:xfrm>
            <a:off x="1827360" y="3249720"/>
            <a:ext cx="3585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Багетная рамка 14"/>
          <p:cNvSpPr/>
          <p:nvPr/>
        </p:nvSpPr>
        <p:spPr>
          <a:xfrm>
            <a:off x="218592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Багетная рамка 15"/>
          <p:cNvSpPr/>
          <p:nvPr/>
        </p:nvSpPr>
        <p:spPr>
          <a:xfrm>
            <a:off x="254628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Багетная рамка 16"/>
          <p:cNvSpPr/>
          <p:nvPr/>
        </p:nvSpPr>
        <p:spPr>
          <a:xfrm>
            <a:off x="290664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Багетная рамка 17"/>
          <p:cNvSpPr/>
          <p:nvPr/>
        </p:nvSpPr>
        <p:spPr>
          <a:xfrm>
            <a:off x="326700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Багетная рамка 18"/>
          <p:cNvSpPr/>
          <p:nvPr/>
        </p:nvSpPr>
        <p:spPr>
          <a:xfrm>
            <a:off x="3627360" y="3249720"/>
            <a:ext cx="35892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Багетная рамка 19"/>
          <p:cNvSpPr/>
          <p:nvPr/>
        </p:nvSpPr>
        <p:spPr>
          <a:xfrm>
            <a:off x="398628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Багетная рамка 20"/>
          <p:cNvSpPr/>
          <p:nvPr/>
        </p:nvSpPr>
        <p:spPr>
          <a:xfrm>
            <a:off x="4346640" y="324972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Багетная рамка 22"/>
          <p:cNvSpPr/>
          <p:nvPr/>
        </p:nvSpPr>
        <p:spPr>
          <a:xfrm>
            <a:off x="1827360" y="3608280"/>
            <a:ext cx="3585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Багетная рамка 23"/>
          <p:cNvSpPr/>
          <p:nvPr/>
        </p:nvSpPr>
        <p:spPr>
          <a:xfrm>
            <a:off x="1467000" y="36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Багетная рамка 24"/>
          <p:cNvSpPr/>
          <p:nvPr/>
        </p:nvSpPr>
        <p:spPr>
          <a:xfrm>
            <a:off x="1106640" y="36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Багетная рамка 25"/>
          <p:cNvSpPr/>
          <p:nvPr/>
        </p:nvSpPr>
        <p:spPr>
          <a:xfrm>
            <a:off x="746280" y="36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Багетная рамка 26"/>
          <p:cNvSpPr/>
          <p:nvPr/>
        </p:nvSpPr>
        <p:spPr>
          <a:xfrm>
            <a:off x="4346640" y="288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Багетная рамка 27"/>
          <p:cNvSpPr/>
          <p:nvPr/>
        </p:nvSpPr>
        <p:spPr>
          <a:xfrm>
            <a:off x="4346640" y="25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Багетная рамка 28"/>
          <p:cNvSpPr/>
          <p:nvPr/>
        </p:nvSpPr>
        <p:spPr>
          <a:xfrm>
            <a:off x="4346640" y="21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Багетная рамка 29"/>
          <p:cNvSpPr/>
          <p:nvPr/>
        </p:nvSpPr>
        <p:spPr>
          <a:xfrm>
            <a:off x="4346640" y="18082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Багетная рамка 30"/>
          <p:cNvSpPr/>
          <p:nvPr/>
        </p:nvSpPr>
        <p:spPr>
          <a:xfrm>
            <a:off x="1827360" y="3968640"/>
            <a:ext cx="3585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Багетная рамка 31"/>
          <p:cNvSpPr/>
          <p:nvPr/>
        </p:nvSpPr>
        <p:spPr>
          <a:xfrm>
            <a:off x="2185920" y="397188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Багетная рамка 32"/>
          <p:cNvSpPr/>
          <p:nvPr/>
        </p:nvSpPr>
        <p:spPr>
          <a:xfrm>
            <a:off x="2546280" y="39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Багетная рамка 33"/>
          <p:cNvSpPr/>
          <p:nvPr/>
        </p:nvSpPr>
        <p:spPr>
          <a:xfrm>
            <a:off x="2906640" y="39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Багетная рамка 34"/>
          <p:cNvSpPr/>
          <p:nvPr/>
        </p:nvSpPr>
        <p:spPr>
          <a:xfrm>
            <a:off x="3267000" y="396864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Багетная рамка 35"/>
          <p:cNvSpPr/>
          <p:nvPr/>
        </p:nvSpPr>
        <p:spPr>
          <a:xfrm>
            <a:off x="1827360" y="4332240"/>
            <a:ext cx="3585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Багетная рамка 36"/>
          <p:cNvSpPr/>
          <p:nvPr/>
        </p:nvSpPr>
        <p:spPr>
          <a:xfrm>
            <a:off x="1467000" y="43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Багетная рамка 37"/>
          <p:cNvSpPr/>
          <p:nvPr/>
        </p:nvSpPr>
        <p:spPr>
          <a:xfrm>
            <a:off x="1106640" y="43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Багетная рамка 38"/>
          <p:cNvSpPr/>
          <p:nvPr/>
        </p:nvSpPr>
        <p:spPr>
          <a:xfrm>
            <a:off x="2185920" y="4330800"/>
            <a:ext cx="360360" cy="3585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Багетная рамка 39"/>
          <p:cNvSpPr/>
          <p:nvPr/>
        </p:nvSpPr>
        <p:spPr>
          <a:xfrm>
            <a:off x="2546280" y="432900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Багетная рамка 40"/>
          <p:cNvSpPr/>
          <p:nvPr/>
        </p:nvSpPr>
        <p:spPr>
          <a:xfrm>
            <a:off x="1827360" y="4689360"/>
            <a:ext cx="3585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агетная рамка 41"/>
          <p:cNvSpPr/>
          <p:nvPr/>
        </p:nvSpPr>
        <p:spPr>
          <a:xfrm>
            <a:off x="2185920" y="468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Багетная рамка 42"/>
          <p:cNvSpPr/>
          <p:nvPr/>
        </p:nvSpPr>
        <p:spPr>
          <a:xfrm>
            <a:off x="2546280" y="4689360"/>
            <a:ext cx="360360" cy="360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Багетная рамка 43"/>
          <p:cNvSpPr/>
          <p:nvPr/>
        </p:nvSpPr>
        <p:spPr>
          <a:xfrm>
            <a:off x="1827360" y="5049720"/>
            <a:ext cx="358560" cy="3589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Багетная рамка 44"/>
          <p:cNvSpPr/>
          <p:nvPr/>
        </p:nvSpPr>
        <p:spPr>
          <a:xfrm>
            <a:off x="1467000" y="5049720"/>
            <a:ext cx="360360" cy="3589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Багетная рамка 51"/>
          <p:cNvSpPr/>
          <p:nvPr/>
        </p:nvSpPr>
        <p:spPr>
          <a:xfrm>
            <a:off x="1106640" y="5049720"/>
            <a:ext cx="360360" cy="3589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Багетная рамка 52"/>
          <p:cNvSpPr/>
          <p:nvPr/>
        </p:nvSpPr>
        <p:spPr>
          <a:xfrm>
            <a:off x="746280" y="5049720"/>
            <a:ext cx="360360" cy="3589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Стрелка 8" descr=""/>
          <p:cNvPicPr/>
          <p:nvPr/>
        </p:nvPicPr>
        <p:blipFill>
          <a:blip r:embed="rId1"/>
          <a:stretch/>
        </p:blipFill>
        <p:spPr>
          <a:xfrm>
            <a:off x="4352760" y="1432080"/>
            <a:ext cx="298440" cy="311040"/>
          </a:xfrm>
          <a:prstGeom prst="rect">
            <a:avLst/>
          </a:prstGeom>
          <a:ln w="0">
            <a:noFill/>
          </a:ln>
        </p:spPr>
      </p:pic>
      <p:pic>
        <p:nvPicPr>
          <p:cNvPr id="175" name="Стрелка 7" descr=""/>
          <p:cNvPicPr/>
          <p:nvPr/>
        </p:nvPicPr>
        <p:blipFill>
          <a:blip r:embed="rId2"/>
          <a:stretch/>
        </p:blipFill>
        <p:spPr>
          <a:xfrm>
            <a:off x="1835280" y="2871720"/>
            <a:ext cx="298440" cy="309600"/>
          </a:xfrm>
          <a:prstGeom prst="rect">
            <a:avLst/>
          </a:prstGeom>
          <a:ln w="0">
            <a:noFill/>
          </a:ln>
        </p:spPr>
      </p:pic>
      <p:sp>
        <p:nvSpPr>
          <p:cNvPr id="176" name="Стрелка 6"/>
          <p:cNvSpPr/>
          <p:nvPr/>
        </p:nvSpPr>
        <p:spPr>
          <a:xfrm>
            <a:off x="341280" y="513864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Стрелка 5"/>
          <p:cNvSpPr/>
          <p:nvPr/>
        </p:nvSpPr>
        <p:spPr>
          <a:xfrm>
            <a:off x="1376280" y="477828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трелка 4"/>
          <p:cNvSpPr/>
          <p:nvPr/>
        </p:nvSpPr>
        <p:spPr>
          <a:xfrm>
            <a:off x="657360" y="4419720"/>
            <a:ext cx="269640" cy="223560"/>
          </a:xfrm>
          <a:prstGeom prst="rightArrow">
            <a:avLst>
              <a:gd name="adj1" fmla="val 50000"/>
              <a:gd name="adj2" fmla="val 50260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Стрелка 3"/>
          <p:cNvSpPr/>
          <p:nvPr/>
        </p:nvSpPr>
        <p:spPr>
          <a:xfrm>
            <a:off x="1376280" y="405936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трелка 2"/>
          <p:cNvSpPr/>
          <p:nvPr/>
        </p:nvSpPr>
        <p:spPr>
          <a:xfrm>
            <a:off x="341280" y="369900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Стрелка 1"/>
          <p:cNvSpPr/>
          <p:nvPr/>
        </p:nvSpPr>
        <p:spPr>
          <a:xfrm>
            <a:off x="1376280" y="3316320"/>
            <a:ext cx="270000" cy="225360"/>
          </a:xfrm>
          <a:prstGeom prst="rightArrow">
            <a:avLst>
              <a:gd name="adj1" fmla="val 50000"/>
              <a:gd name="adj2" fmla="val 49926"/>
            </a:avLst>
          </a:prstGeom>
          <a:solidFill>
            <a:srgbClr val="17375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картинка Жилин" descr=""/>
          <p:cNvPicPr/>
          <p:nvPr/>
        </p:nvPicPr>
        <p:blipFill>
          <a:blip r:embed="rId3"/>
          <a:stretch/>
        </p:blipFill>
        <p:spPr>
          <a:xfrm>
            <a:off x="5516640" y="1898640"/>
            <a:ext cx="2700360" cy="202572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3" name="картинка кавказ" descr=""/>
          <p:cNvPicPr/>
          <p:nvPr/>
        </p:nvPicPr>
        <p:blipFill>
          <a:blip r:embed="rId4"/>
          <a:stretch/>
        </p:blipFill>
        <p:spPr>
          <a:xfrm>
            <a:off x="5516640" y="1898640"/>
            <a:ext cx="2711520" cy="180036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4" name="картинка обоз" descr=""/>
          <p:cNvPicPr/>
          <p:nvPr/>
        </p:nvPicPr>
        <p:blipFill>
          <a:blip r:embed="rId5"/>
          <a:stretch/>
        </p:blipFill>
        <p:spPr>
          <a:xfrm>
            <a:off x="5516640" y="1898640"/>
            <a:ext cx="2700360" cy="191124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5" name="картинка аул" descr=""/>
          <p:cNvPicPr/>
          <p:nvPr/>
        </p:nvPicPr>
        <p:blipFill>
          <a:blip r:embed="rId6"/>
          <a:stretch/>
        </p:blipFill>
        <p:spPr>
          <a:xfrm>
            <a:off x="5516640" y="1898640"/>
            <a:ext cx="2705040" cy="202572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6" name="картинка сакля" descr=""/>
          <p:cNvPicPr/>
          <p:nvPr/>
        </p:nvPicPr>
        <p:blipFill>
          <a:blip r:embed="rId7"/>
          <a:stretch/>
        </p:blipFill>
        <p:spPr>
          <a:xfrm>
            <a:off x="5516640" y="1898640"/>
            <a:ext cx="2698560" cy="229536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pic>
        <p:nvPicPr>
          <p:cNvPr id="187" name="картинка выкуп" descr=""/>
          <p:cNvPicPr/>
          <p:nvPr/>
        </p:nvPicPr>
        <p:blipFill>
          <a:blip r:embed="rId8"/>
          <a:stretch/>
        </p:blipFill>
        <p:spPr>
          <a:xfrm>
            <a:off x="5499000" y="1878120"/>
            <a:ext cx="2737080" cy="2108160"/>
          </a:xfrm>
          <a:prstGeom prst="rect">
            <a:avLst/>
          </a:prstGeom>
          <a:ln w="0">
            <a:noFill/>
          </a:ln>
        </p:spPr>
      </p:pic>
      <p:pic>
        <p:nvPicPr>
          <p:cNvPr id="188" name="картинка Дина" descr=""/>
          <p:cNvPicPr/>
          <p:nvPr/>
        </p:nvPicPr>
        <p:blipFill>
          <a:blip r:embed="rId9"/>
          <a:stretch/>
        </p:blipFill>
        <p:spPr>
          <a:xfrm>
            <a:off x="5516640" y="1898640"/>
            <a:ext cx="2700360" cy="2048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89" name="картинка  Костылин" descr=""/>
          <p:cNvPicPr/>
          <p:nvPr/>
        </p:nvPicPr>
        <p:blipFill>
          <a:blip r:embed="rId10"/>
          <a:stretch/>
        </p:blipFill>
        <p:spPr>
          <a:xfrm>
            <a:off x="5516640" y="1898640"/>
            <a:ext cx="2695320" cy="2581200"/>
          </a:xfrm>
          <a:prstGeom prst="rect">
            <a:avLst/>
          </a:prstGeom>
          <a:ln w="19080">
            <a:solidFill>
              <a:srgbClr val="17375d"/>
            </a:solidFill>
            <a:miter/>
          </a:ln>
        </p:spPr>
      </p:pic>
      <p:sp>
        <p:nvSpPr>
          <p:cNvPr id="190" name="вопрос 8"/>
          <p:cNvSpPr/>
          <p:nvPr/>
        </p:nvSpPr>
        <p:spPr>
          <a:xfrm>
            <a:off x="4932360" y="4869000"/>
            <a:ext cx="373536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Офицер, который вызывает симпатии у татар чувством человеческого достоинств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вопрос 7"/>
          <p:cNvSpPr/>
          <p:nvPr/>
        </p:nvSpPr>
        <p:spPr>
          <a:xfrm>
            <a:off x="4932360" y="4869000"/>
            <a:ext cx="373536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Как называется место, где служили офицеры Жилин и Костыли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вопрос 6"/>
          <p:cNvSpPr/>
          <p:nvPr/>
        </p:nvSpPr>
        <p:spPr>
          <a:xfrm>
            <a:off x="4932360" y="4915080"/>
            <a:ext cx="3735360" cy="116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Вереница повозок, которые везут какой-либо груз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вопрос 5"/>
          <p:cNvSpPr/>
          <p:nvPr/>
        </p:nvSpPr>
        <p:spPr>
          <a:xfrm>
            <a:off x="4932360" y="4869000"/>
            <a:ext cx="3735360" cy="11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Как назы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татарская деревн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вопрос 4"/>
          <p:cNvSpPr/>
          <p:nvPr/>
        </p:nvSpPr>
        <p:spPr>
          <a:xfrm>
            <a:off x="4932360" y="4869000"/>
            <a:ext cx="3735360" cy="11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Как называетс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дом горца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вопрос 3"/>
          <p:cNvSpPr/>
          <p:nvPr/>
        </p:nvSpPr>
        <p:spPr>
          <a:xfrm>
            <a:off x="4932360" y="4869000"/>
            <a:ext cx="3735360" cy="11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Что потребовали татары у родственников Жилина и Костылина за их свобод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вопрос 2"/>
          <p:cNvSpPr/>
          <p:nvPr/>
        </p:nvSpPr>
        <p:spPr>
          <a:xfrm>
            <a:off x="4932360" y="4869000"/>
            <a:ext cx="3735360" cy="117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Имя девочки, которая помогла сбежать Жилин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вопрос 1"/>
          <p:cNvSpPr/>
          <p:nvPr/>
        </p:nvSpPr>
        <p:spPr>
          <a:xfrm>
            <a:off x="4932360" y="4869000"/>
            <a:ext cx="3735360" cy="1215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d"/>
                </a:solidFill>
                <a:latin typeface="Georgia"/>
              </a:rPr>
              <a:t>Фамилия офицера, который попал в плен вместе с Жили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Умножение 1">
            <a:hlinkClick r:id="" action="ppaction://hlinkshowjump?jump=endshow"/>
          </p:cNvPr>
          <p:cNvSpPr/>
          <p:nvPr/>
        </p:nvSpPr>
        <p:spPr>
          <a:xfrm>
            <a:off x="8307360" y="54000"/>
            <a:ext cx="600120" cy="630360"/>
          </a:xfrm>
          <a:custGeom>
            <a:avLst/>
            <a:gdLst>
              <a:gd name="textAreaLeft" fmla="*/ 92880 w 600120"/>
              <a:gd name="textAreaRight" fmla="*/ 507240 w 600120"/>
              <a:gd name="textAreaTop" fmla="*/ 102600 h 630360"/>
              <a:gd name="textAreaBottom" fmla="*/ 527760 h 630360"/>
            </a:gdLst>
            <a:ahLst/>
            <a:rect l="textAreaLeft" t="textAreaTop" r="textAreaRight" b="textAreaBottom"/>
            <a:pathLst>
              <a:path w="599365" h="630070">
                <a:moveTo>
                  <a:pt x="92883" y="199908"/>
                </a:moveTo>
                <a:lnTo>
                  <a:pt x="195022" y="102746"/>
                </a:lnTo>
                <a:lnTo>
                  <a:pt x="299683" y="212769"/>
                </a:lnTo>
                <a:lnTo>
                  <a:pt x="404343" y="102746"/>
                </a:lnTo>
                <a:lnTo>
                  <a:pt x="506482" y="199908"/>
                </a:lnTo>
                <a:lnTo>
                  <a:pt x="396965" y="315035"/>
                </a:lnTo>
                <a:lnTo>
                  <a:pt x="506482" y="430162"/>
                </a:lnTo>
                <a:lnTo>
                  <a:pt x="404343" y="527324"/>
                </a:lnTo>
                <a:lnTo>
                  <a:pt x="299683" y="417301"/>
                </a:lnTo>
                <a:lnTo>
                  <a:pt x="195022" y="527324"/>
                </a:lnTo>
                <a:lnTo>
                  <a:pt x="92883" y="430162"/>
                </a:lnTo>
                <a:lnTo>
                  <a:pt x="202400" y="315035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10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Box 2"/>
          <p:cNvSpPr/>
          <p:nvPr/>
        </p:nvSpPr>
        <p:spPr>
          <a:xfrm>
            <a:off x="1015920" y="320760"/>
            <a:ext cx="6931080" cy="58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ые источник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кля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2"/>
              </a:rPr>
              <a:t>cs309820.vk.me/v309820165/83d5/MVsnJLVvIOY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л 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3"/>
              </a:rPr>
              <a:t>http://osinform.org/uploads/posts/2009-03/1238238292_nizhnii-unal.-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4"/>
              </a:rPr>
              <a:t>lower-unal-nizhnii-unal-1886.jpe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 в горах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5"/>
              </a:rPr>
              <a:t>http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6"/>
              </a:rPr>
              <a:t>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7"/>
              </a:rPr>
              <a:t>bsk.nios.ru/sites/bsk.nios.ru/files/article/image035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вказ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8"/>
              </a:rPr>
              <a:t>http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9"/>
              </a:rPr>
              <a:t>muzan.ru/uploads/images/k/a/v/kavkaz_zhi_est_varsal_ti_serdtse_mojo_pokorila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трет Толстого Л. Н.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0"/>
              </a:rPr>
              <a:t>http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1"/>
              </a:rPr>
              <a:t>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2"/>
              </a:rPr>
              <a:t>www.bibliotekar.ru/pisateli-19-veka/27.files/image001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лин 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3"/>
              </a:rPr>
              <a:t>http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4"/>
              </a:rPr>
              <a:t>://</a:t>
            </a:r>
            <a:r>
              <a:rPr b="0" lang="en-US" sz="1600" spc="-1" strike="noStrike" u="sng">
                <a:solidFill>
                  <a:srgbClr val="366092"/>
                </a:solidFill>
                <a:uFillTx/>
                <a:latin typeface="Times New Roman"/>
                <a:ea typeface="Times New Roman"/>
                <a:hlinkClick r:id="rId15"/>
              </a:rPr>
              <a:t>kinozayka.net/uploads/posts/2013-09/1378142954_kavkazskiy-plennik.2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тылин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mp3word.ru/img.php?aHR0cHM6Ly9pLnl0aW1nLmNvbS92aS9RMGFkRFJQbXRPMC9ocWRlZmF1bHQuanBn.jp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Управляющая кнопка: домой 1">
            <a:hlinkClick r:id="" action="ppaction://hlinkshowjump?jump=firstslide"/>
          </p:cNvPr>
          <p:cNvSpPr/>
          <p:nvPr/>
        </p:nvSpPr>
        <p:spPr>
          <a:xfrm>
            <a:off x="8172360" y="5859360"/>
            <a:ext cx="636840" cy="584280"/>
          </a:xfrm>
          <a:custGeom>
            <a:avLst/>
            <a:gdLst>
              <a:gd name="textAreaLeft" fmla="*/ 37800 w 636840"/>
              <a:gd name="textAreaRight" fmla="*/ 599040 w 636840"/>
              <a:gd name="textAreaTop" fmla="*/ 37800 h 584280"/>
              <a:gd name="textAreaBottom" fmla="*/ 546480 h 584280"/>
            </a:gdLst>
            <a:ahLst/>
            <a:rect l="textAreaLeft" t="textAreaTop" r="textAreaRight" b="textAreaBottom"/>
            <a:pathLst>
              <a:path w="23542" h="21600">
                <a:moveTo>
                  <a:pt x="0" y="0"/>
                </a:moveTo>
                <a:lnTo>
                  <a:pt x="23542" y="0"/>
                </a:lnTo>
                <a:lnTo>
                  <a:pt x="23542" y="21600"/>
                </a:lnTo>
                <a:lnTo>
                  <a:pt x="0" y="21600"/>
                </a:lnTo>
                <a:close/>
              </a:path>
              <a:path fill="lightenLess" w="23542" h="21600">
                <a:moveTo>
                  <a:pt x="0" y="0"/>
                </a:moveTo>
                <a:lnTo>
                  <a:pt x="23542" y="0"/>
                </a:lnTo>
                <a:lnTo>
                  <a:pt x="22142" y="1400"/>
                </a:lnTo>
                <a:lnTo>
                  <a:pt x="1400" y="1400"/>
                </a:lnTo>
                <a:close/>
              </a:path>
              <a:path fill="darken" w="23542" h="21600">
                <a:moveTo>
                  <a:pt x="23542" y="0"/>
                </a:moveTo>
                <a:lnTo>
                  <a:pt x="23542" y="21600"/>
                </a:lnTo>
                <a:lnTo>
                  <a:pt x="22142" y="20200"/>
                </a:lnTo>
                <a:lnTo>
                  <a:pt x="22142" y="1400"/>
                </a:lnTo>
                <a:close/>
              </a:path>
              <a:path fill="darkenLess" w="23542" h="21600">
                <a:moveTo>
                  <a:pt x="23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2" y="20200"/>
                </a:lnTo>
                <a:close/>
              </a:path>
              <a:path fill="lighten" w="23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2" h="21600">
                <a:moveTo>
                  <a:pt x="11771" y="3837"/>
                </a:moveTo>
                <a:lnTo>
                  <a:pt x="14347" y="6448"/>
                </a:lnTo>
                <a:lnTo>
                  <a:pt x="14347" y="4707"/>
                </a:lnTo>
                <a:lnTo>
                  <a:pt x="16123" y="4707"/>
                </a:lnTo>
                <a:lnTo>
                  <a:pt x="16123" y="8224"/>
                </a:lnTo>
                <a:lnTo>
                  <a:pt x="18734" y="10800"/>
                </a:lnTo>
                <a:lnTo>
                  <a:pt x="17080" y="10800"/>
                </a:lnTo>
                <a:lnTo>
                  <a:pt x="17080" y="17989"/>
                </a:lnTo>
                <a:lnTo>
                  <a:pt x="6462" y="17989"/>
                </a:lnTo>
                <a:lnTo>
                  <a:pt x="6462" y="10800"/>
                </a:lnTo>
                <a:lnTo>
                  <a:pt x="4808" y="10800"/>
                </a:lnTo>
                <a:close/>
              </a:path>
              <a:path fill="darkenLess" w="23542" h="21600">
                <a:moveTo>
                  <a:pt x="14347" y="6448"/>
                </a:moveTo>
                <a:lnTo>
                  <a:pt x="14347" y="4707"/>
                </a:lnTo>
                <a:lnTo>
                  <a:pt x="16123" y="4707"/>
                </a:lnTo>
                <a:lnTo>
                  <a:pt x="16123" y="8224"/>
                </a:lnTo>
                <a:close/>
              </a:path>
              <a:path fill="darkenLess" w="23542" h="21600">
                <a:moveTo>
                  <a:pt x="10848" y="14299"/>
                </a:moveTo>
                <a:lnTo>
                  <a:pt x="12694" y="14299"/>
                </a:lnTo>
                <a:lnTo>
                  <a:pt x="12694" y="17989"/>
                </a:lnTo>
                <a:lnTo>
                  <a:pt x="17080" y="17989"/>
                </a:lnTo>
                <a:lnTo>
                  <a:pt x="17080" y="10800"/>
                </a:lnTo>
                <a:lnTo>
                  <a:pt x="6462" y="10800"/>
                </a:lnTo>
                <a:lnTo>
                  <a:pt x="6462" y="17989"/>
                </a:lnTo>
                <a:lnTo>
                  <a:pt x="10848" y="17989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8T00:37:26Z</dcterms:created>
  <dc:creator>Устинова Валентина Ивановна</dc:creator>
  <dc:description/>
  <dc:language>en-US</dc:language>
  <cp:lastModifiedBy>Admin</cp:lastModifiedBy>
  <dcterms:modified xsi:type="dcterms:W3CDTF">2017-10-17T01:20:55Z</dcterms:modified>
  <cp:revision>67</cp:revision>
  <dc:subject/>
  <dc:title>Интерактивный кроссворд. Л.Н. Толстой Кавказский пленник.</dc:title>
</cp:coreProperties>
</file>