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jpeg" ContentType="image/jpeg"/>
  <Override PartName="/ppt/media/image6.gif" ContentType="image/gif"/>
  <Override PartName="/ppt/media/image9.wmf" ContentType="image/x-wmf"/>
  <Override PartName="/ppt/media/image7.wmf" ContentType="image/x-wmf"/>
  <Override PartName="/ppt/media/image10.wmf" ContentType="image/x-wmf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48D2-E47B-4558-A2BE-8672471CA1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7078-B3A2-4E6A-AF2C-15DF1C1822E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ть в ку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AF6-8D5A-45E2-8F6D-76A726A8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C6D4-53C1-49D3-8CDB-0B167AE1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733A-7AD7-4992-97C3-F4B2AEF6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4F5-1753-47C8-8C66-C40743EC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FF5A-4562-4545-B9AC-AD4D3606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DA77-01CE-455A-9DC0-FE58D795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195B-EE00-4D9A-895C-1D30F299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0893-DD5C-457B-8190-C8C8EE87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EC14-6010-4A4A-B267-59CA0477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7D5A-D2B0-45E0-BF7C-C3B24D6D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2D48-E2CC-4506-A94B-C738E305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BEF1-8FFA-4044-9085-06B8C696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9AE3-A3AD-42B9-B75A-86856C67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E7F2-D087-4F1E-8BE0-6ACBBF9F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11EB-A75C-4753-AA86-310AA602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CC1F-51E6-4A5D-A4CD-F4A4D72F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4279-9046-4E21-A97A-B56D2280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8D37-6C5C-4B22-A6AF-A420C504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1548-003B-4727-8637-2DCB6563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7936-7E6A-439A-A146-CE2B22AD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42BC-90AE-4471-B58D-FE6C6F4A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D2C5-80F3-4A77-A77F-05BD6656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6895-6B93-4804-A03D-52D7DD1D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2E8D-A5F0-407D-BF9C-F34DFA37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405C-2640-4048-A8A5-C6FB66F8047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9741-A48E-43B6-8BF7-314054EC531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38"/>
          <p:cNvSpPr txBox="1"/>
          <p:nvPr/>
        </p:nvSpPr>
        <p:spPr>
          <a:xfrm>
            <a:off x="755640" y="333360"/>
            <a:ext cx="7920000" cy="17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Использование здоровьесберегающих</a:t>
            </a:r>
            <a:endParaRPr b="0" lang="en-US" sz="2800" spc="1" strike="noStrike">
              <a:ln w="9360">
                <a:solidFill>
                  <a:srgbClr val="cc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технологий на</a:t>
            </a:r>
            <a:endParaRPr b="0" lang="en-US" sz="2800" spc="1" strike="noStrike">
              <a:ln w="9360">
                <a:solidFill>
                  <a:srgbClr val="cc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уроках физической культуры</a:t>
            </a:r>
            <a:endParaRPr b="0" lang="en-US" sz="2800" spc="1" strike="noStrike">
              <a:ln w="9360">
                <a:solidFill>
                  <a:srgbClr val="cc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03" name="Text Box 42"/>
          <p:cNvSpPr/>
          <p:nvPr/>
        </p:nvSpPr>
        <p:spPr>
          <a:xfrm>
            <a:off x="5003640" y="2997360"/>
            <a:ext cx="33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ингажев Динар Джанбикович учитель физической культуры МОБУ СОШ №2 с.Верхние Киги МР Кигинский район Р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47" descr="P3150013"/>
          <p:cNvPicPr/>
          <p:nvPr/>
        </p:nvPicPr>
        <p:blipFill>
          <a:blip r:embed="rId1"/>
          <a:stretch/>
        </p:blipFill>
        <p:spPr>
          <a:xfrm>
            <a:off x="838080" y="2809800"/>
            <a:ext cx="3770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61" descr="BD13713_"/>
          <p:cNvPicPr/>
          <p:nvPr/>
        </p:nvPicPr>
        <p:blipFill>
          <a:blip r:embed="rId1"/>
          <a:stretch/>
        </p:blipFill>
        <p:spPr>
          <a:xfrm>
            <a:off x="324000" y="2060640"/>
            <a:ext cx="2752560" cy="3744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5" descr="SL00380_"/>
          <p:cNvPicPr/>
          <p:nvPr/>
        </p:nvPicPr>
        <p:blipFill>
          <a:blip r:embed="rId2"/>
          <a:stretch/>
        </p:blipFill>
        <p:spPr>
          <a:xfrm>
            <a:off x="3203640" y="4508640"/>
            <a:ext cx="585720" cy="720720"/>
          </a:xfrm>
          <a:prstGeom prst="rect">
            <a:avLst/>
          </a:prstGeom>
          <a:ln w="0">
            <a:noFill/>
          </a:ln>
        </p:spPr>
      </p:pic>
      <p:sp>
        <p:nvSpPr>
          <p:cNvPr id="152" name="WordArt 83"/>
          <p:cNvSpPr txBox="1"/>
          <p:nvPr/>
        </p:nvSpPr>
        <p:spPr>
          <a:xfrm>
            <a:off x="684360" y="333360"/>
            <a:ext cx="74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8f3da"/>
                  </a:solidFill>
                  <a:miter/>
                </a:ln>
                <a:solidFill>
                  <a:srgbClr val="cc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вигательный режим</a:t>
            </a:r>
            <a:endParaRPr b="1" lang="en-US" sz="1800" spc="1" strike="noStrike">
              <a:ln w="9360">
                <a:solidFill>
                  <a:srgbClr val="f8f3da"/>
                </a:solidFill>
                <a:miter/>
              </a:ln>
              <a:solidFill>
                <a:srgbClr val="cc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Oval 87"/>
          <p:cNvSpPr/>
          <p:nvPr/>
        </p:nvSpPr>
        <p:spPr>
          <a:xfrm>
            <a:off x="5508720" y="1413000"/>
            <a:ext cx="3313080" cy="1225440"/>
          </a:xfrm>
          <a:prstGeom prst="ellipse">
            <a:avLst/>
          </a:prstGeom>
          <a:solidFill>
            <a:srgbClr val="ffdfd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Урок физическо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ультур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Oval 89"/>
          <p:cNvSpPr/>
          <p:nvPr/>
        </p:nvSpPr>
        <p:spPr>
          <a:xfrm flipV="1" rot="10800000">
            <a:off x="2916360" y="2492280"/>
            <a:ext cx="4032000" cy="1727280"/>
          </a:xfrm>
          <a:prstGeom prst="ellipse">
            <a:avLst/>
          </a:prstGeom>
          <a:solidFill>
            <a:srgbClr val="ffdfd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изкультурно-оздоровитель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ероприятия в режим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учебного и продленного дн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Oval 90"/>
          <p:cNvSpPr/>
          <p:nvPr/>
        </p:nvSpPr>
        <p:spPr>
          <a:xfrm>
            <a:off x="5796000" y="4149720"/>
            <a:ext cx="3095640" cy="1366920"/>
          </a:xfrm>
          <a:prstGeom prst="ellipse">
            <a:avLst/>
          </a:prstGeom>
          <a:solidFill>
            <a:srgbClr val="ffdfd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неклассная рабо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Oval 93"/>
          <p:cNvSpPr/>
          <p:nvPr/>
        </p:nvSpPr>
        <p:spPr>
          <a:xfrm>
            <a:off x="2916360" y="5300640"/>
            <a:ext cx="3889080" cy="1368360"/>
          </a:xfrm>
          <a:prstGeom prst="ellipse">
            <a:avLst/>
          </a:prstGeom>
          <a:solidFill>
            <a:srgbClr val="ffdfd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изкультурно-массовые 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портивные мероприят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7" descr="Рисунок19"/>
          <p:cNvPicPr/>
          <p:nvPr/>
        </p:nvPicPr>
        <p:blipFill>
          <a:blip r:embed="rId1"/>
          <a:stretch/>
        </p:blipFill>
        <p:spPr>
          <a:xfrm>
            <a:off x="6012000" y="4076640"/>
            <a:ext cx="2879640" cy="2259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557280" y="433440"/>
            <a:ext cx="8235000" cy="1382040"/>
          </a:xfrm>
          <a:prstGeom prst="rect">
            <a:avLst/>
          </a:prstGeom>
          <a:solidFill>
            <a:srgbClr val="f5f7cd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Приемы  мотивации к урокам  физической культуры и внеклассным формам работы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08000" y="2205000"/>
            <a:ext cx="74167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валеологическое просвещени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учащихся и их родителе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проведение нетрадиционных уроко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применение современных средств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физического воспита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комбинирование методов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физического  воспита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9" descr="Рисунок18"/>
          <p:cNvPicPr/>
          <p:nvPr/>
        </p:nvPicPr>
        <p:blipFill>
          <a:blip r:embed="rId2"/>
          <a:stretch/>
        </p:blipFill>
        <p:spPr>
          <a:xfrm>
            <a:off x="7524720" y="1844640"/>
            <a:ext cx="1090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8" descr="Рисунок17"/>
          <p:cNvPicPr/>
          <p:nvPr/>
        </p:nvPicPr>
        <p:blipFill>
          <a:blip r:embed="rId1"/>
          <a:stretch/>
        </p:blipFill>
        <p:spPr>
          <a:xfrm>
            <a:off x="108000" y="2637000"/>
            <a:ext cx="2590920" cy="1206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7" descr="Рисунок16"/>
          <p:cNvPicPr/>
          <p:nvPr/>
        </p:nvPicPr>
        <p:blipFill>
          <a:blip r:embed="rId2"/>
          <a:stretch/>
        </p:blipFill>
        <p:spPr>
          <a:xfrm>
            <a:off x="6732720" y="2349360"/>
            <a:ext cx="2232000" cy="14875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27"/>
          <p:cNvSpPr/>
          <p:nvPr/>
        </p:nvSpPr>
        <p:spPr>
          <a:xfrm>
            <a:off x="1619280" y="458136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38"/>
          <p:cNvSpPr/>
          <p:nvPr/>
        </p:nvSpPr>
        <p:spPr>
          <a:xfrm>
            <a:off x="0" y="62064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Средства здоровьесбережени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Text Box 39"/>
          <p:cNvSpPr/>
          <p:nvPr/>
        </p:nvSpPr>
        <p:spPr>
          <a:xfrm>
            <a:off x="250920" y="184464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Закаливание (воздух, вода, солнце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Text Box 40"/>
          <p:cNvSpPr/>
          <p:nvPr/>
        </p:nvSpPr>
        <p:spPr>
          <a:xfrm>
            <a:off x="2340000" y="220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Text Box 41"/>
          <p:cNvSpPr/>
          <p:nvPr/>
        </p:nvSpPr>
        <p:spPr>
          <a:xfrm>
            <a:off x="395280" y="386064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Упражнения на формирование осан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Text Box 42"/>
          <p:cNvSpPr/>
          <p:nvPr/>
        </p:nvSpPr>
        <p:spPr>
          <a:xfrm>
            <a:off x="900000" y="242100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ыхательны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упражн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Text Box 43"/>
          <p:cNvSpPr/>
          <p:nvPr/>
        </p:nvSpPr>
        <p:spPr>
          <a:xfrm>
            <a:off x="187200" y="5084640"/>
            <a:ext cx="825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Упражнения на развитие физических качест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Text Box 44"/>
          <p:cNvSpPr/>
          <p:nvPr/>
        </p:nvSpPr>
        <p:spPr>
          <a:xfrm>
            <a:off x="0" y="4437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Упражнения для профилактики плоскостоп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Text Box 45"/>
          <p:cNvSpPr/>
          <p:nvPr/>
        </p:nvSpPr>
        <p:spPr>
          <a:xfrm>
            <a:off x="2195640" y="314172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Массаж (самомассаж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Text Box 46"/>
          <p:cNvSpPr/>
          <p:nvPr/>
        </p:nvSpPr>
        <p:spPr>
          <a:xfrm>
            <a:off x="1763640" y="465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Text Box 47"/>
          <p:cNvSpPr/>
          <p:nvPr/>
        </p:nvSpPr>
        <p:spPr>
          <a:xfrm>
            <a:off x="1934640" y="5683320"/>
            <a:ext cx="50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Упражнения на релаксацию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5"/>
          <p:cNvSpPr/>
          <p:nvPr/>
        </p:nvSpPr>
        <p:spPr>
          <a:xfrm>
            <a:off x="2556000" y="3933720"/>
            <a:ext cx="31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851280" y="3357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1619280" y="234936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14680" y="248040"/>
            <a:ext cx="715356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Нетрадиционные средств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8" name="Picture 17" descr="P8098105"/>
          <p:cNvPicPr/>
          <p:nvPr/>
        </p:nvPicPr>
        <p:blipFill>
          <a:blip r:embed="rId1"/>
          <a:stretch/>
        </p:blipFill>
        <p:spPr>
          <a:xfrm>
            <a:off x="4788000" y="3500280"/>
            <a:ext cx="4059000" cy="3043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P8098087"/>
          <p:cNvPicPr/>
          <p:nvPr/>
        </p:nvPicPr>
        <p:blipFill>
          <a:blip r:embed="rId2"/>
          <a:stretch/>
        </p:blipFill>
        <p:spPr>
          <a:xfrm>
            <a:off x="468360" y="350028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3"/>
          <p:cNvSpPr/>
          <p:nvPr/>
        </p:nvSpPr>
        <p:spPr>
          <a:xfrm>
            <a:off x="1835280" y="1268280"/>
            <a:ext cx="55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Упражнения на тренажерах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99280" y="5787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Задачи мониторинга:</a:t>
            </a: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1.  Выявить состояние физической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  подготовленности и здоровья       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  школьников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2.  Разработать рекомендации для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  индивидуальной работы по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  совершенствованию физической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  подготовленности учащихся.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3.  Проанализировать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  результативность работы по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  физическому воспитанию,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  сохранению здоровья учащихся в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  школе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692280"/>
            <a:ext cx="76932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83280" y="261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Мониторинг состояния физической подготовленности учащихс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340000" y="1484280"/>
            <a:ext cx="3743280" cy="576360"/>
          </a:xfrm>
          <a:prstGeom prst="rect">
            <a:avLst/>
          </a:prstGeom>
          <a:solidFill>
            <a:srgbClr val="f4d4d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Тестирование в начале год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2124000" y="2565360"/>
            <a:ext cx="4392720" cy="647640"/>
          </a:xfrm>
          <a:prstGeom prst="rect">
            <a:avLst/>
          </a:prstGeom>
          <a:solidFill>
            <a:srgbClr val="f4d4d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оставление списков по уровням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изического развит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971640" y="3716280"/>
            <a:ext cx="3166920" cy="647640"/>
          </a:xfrm>
          <a:prstGeom prst="rect">
            <a:avLst/>
          </a:prstGeom>
          <a:solidFill>
            <a:srgbClr val="f4d4d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Ежемесячное тестиров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1908000" y="4724280"/>
            <a:ext cx="5185080" cy="648000"/>
          </a:xfrm>
          <a:prstGeom prst="rect">
            <a:avLst/>
          </a:prstGeom>
          <a:solidFill>
            <a:srgbClr val="f4d4d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зработка рекомендаций по развитию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«отстающих» качест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900000" y="5805360"/>
            <a:ext cx="2737080" cy="574920"/>
          </a:xfrm>
          <a:prstGeom prst="rect">
            <a:avLst/>
          </a:prstGeom>
          <a:solidFill>
            <a:srgbClr val="f4d4d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тоговое тестиров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5435640" y="5734080"/>
            <a:ext cx="2592360" cy="647640"/>
          </a:xfrm>
          <a:prstGeom prst="rect">
            <a:avLst/>
          </a:prstGeom>
          <a:solidFill>
            <a:srgbClr val="f4d4d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нализ результато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4067280" y="2060640"/>
            <a:ext cx="0" cy="431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Line 20"/>
          <p:cNvSpPr/>
          <p:nvPr/>
        </p:nvSpPr>
        <p:spPr>
          <a:xfrm>
            <a:off x="2700360" y="3284640"/>
            <a:ext cx="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Line 22"/>
          <p:cNvSpPr/>
          <p:nvPr/>
        </p:nvSpPr>
        <p:spPr>
          <a:xfrm>
            <a:off x="5940360" y="3213000"/>
            <a:ext cx="0" cy="4334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Line 26"/>
          <p:cNvSpPr/>
          <p:nvPr/>
        </p:nvSpPr>
        <p:spPr>
          <a:xfrm>
            <a:off x="3635280" y="6093000"/>
            <a:ext cx="16574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Rectangle 27"/>
          <p:cNvSpPr/>
          <p:nvPr/>
        </p:nvSpPr>
        <p:spPr>
          <a:xfrm>
            <a:off x="4859280" y="3789360"/>
            <a:ext cx="3097440" cy="576360"/>
          </a:xfrm>
          <a:prstGeom prst="rect">
            <a:avLst/>
          </a:prstGeom>
          <a:solidFill>
            <a:srgbClr val="f4d4d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тслеживание измен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оказателе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Line 28"/>
          <p:cNvSpPr/>
          <p:nvPr/>
        </p:nvSpPr>
        <p:spPr>
          <a:xfrm>
            <a:off x="3348000" y="4365720"/>
            <a:ext cx="0" cy="431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Line 29"/>
          <p:cNvSpPr/>
          <p:nvPr/>
        </p:nvSpPr>
        <p:spPr>
          <a:xfrm>
            <a:off x="5580000" y="4365720"/>
            <a:ext cx="0" cy="3585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Line 30"/>
          <p:cNvSpPr/>
          <p:nvPr/>
        </p:nvSpPr>
        <p:spPr>
          <a:xfrm>
            <a:off x="3276720" y="5445000"/>
            <a:ext cx="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Line 31"/>
          <p:cNvSpPr/>
          <p:nvPr/>
        </p:nvSpPr>
        <p:spPr>
          <a:xfrm>
            <a:off x="5724360" y="5445000"/>
            <a:ext cx="0" cy="289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684360" y="3376440"/>
            <a:ext cx="782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973080" y="264960"/>
            <a:ext cx="646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Arial"/>
              </a:rPr>
              <a:t>Результативность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250920" y="1986840"/>
            <a:ext cx="597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вышение успеваемости по предмет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ост физической подготовленност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тивация к   соблюдению здорового образа жизн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вышение динамики состояния здоровья учащихся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2" name="Picture 18" descr="6"/>
          <p:cNvPicPr/>
          <p:nvPr/>
        </p:nvPicPr>
        <p:blipFill>
          <a:blip r:embed="rId1"/>
          <a:stretch/>
        </p:blipFill>
        <p:spPr>
          <a:xfrm>
            <a:off x="6012000" y="1989000"/>
            <a:ext cx="28494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733680" y="2615040"/>
            <a:ext cx="7679160" cy="168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Здоровьесберегающие технологии, должны, несомненно, использоваться в процессе оздоровления школьников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0920" y="1143000"/>
            <a:ext cx="7924680" cy="354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итература</a:t>
            </a:r>
            <a:br>
              <a:rPr sz="12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Дереклеева Н.И. Двигательные игры, тренинги и уроки здоровья. Москва </a:t>
            </a: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«ВАКО», 2004.</a:t>
            </a: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  Ковалько В.И. Здоровьесберегающие технологии. Издательство «ВАКО»,  </a:t>
            </a: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2004.</a:t>
            </a: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3. Коджаспиров Ю.Г. Развивающие игры на уроках физической культуры. </a:t>
            </a: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ООО «Дрофа», 2003.</a:t>
            </a:r>
            <a:br>
              <a:rPr sz="12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4. Мишин Б.И. Настольная книга учителя физической культуры. АСТ Арстель   </a:t>
            </a:r>
            <a:br>
              <a:rPr sz="12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   Москва    2003.</a:t>
            </a:r>
            <a:br>
              <a:rPr sz="12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5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Лях В.И., Зданевич А.А.  Комплексная программа физического воспитания </a:t>
            </a: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учащихся 1-11 классов  Москва «Просвещение» 2007. </a:t>
            </a:r>
            <a:br>
              <a:rPr sz="12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6. Смирнов  Н.К. «Здоровьесберегающие образовательные технологии в </a:t>
            </a:r>
            <a:br>
              <a:rPr sz="12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   современной школе», Москва, 2002 г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323080" y="459000"/>
            <a:ext cx="6010560" cy="754200"/>
          </a:xfrm>
          <a:prstGeom prst="rect">
            <a:avLst/>
          </a:prstGeom>
          <a:solidFill>
            <a:srgbClr val="f5f3a7"/>
          </a:solidFill>
          <a:ln w="76320">
            <a:solidFill>
              <a:srgbClr val="f0eec4"/>
            </a:solidFill>
            <a:miter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  <a:ea typeface="Arial"/>
              </a:rPr>
              <a:t>Актуальность темы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58920" y="1773000"/>
            <a:ext cx="7200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доровье школьников относится к приоритетным направлениям в сфере образова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величение числа учеников, имеющих различные функциональные отклонения в состоянии здоровь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нижение двигательной активности школьнико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физическая культура может компенсировать отрицательные явл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13" descr="PE02711_"/>
          <p:cNvPicPr/>
          <p:nvPr/>
        </p:nvPicPr>
        <p:blipFill>
          <a:blip r:embed="rId1"/>
          <a:stretch/>
        </p:blipFill>
        <p:spPr>
          <a:xfrm>
            <a:off x="0" y="189000"/>
            <a:ext cx="1746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92400" y="401400"/>
            <a:ext cx="8216640" cy="944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Организация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учебного процесса без ущерба здоровью учащихс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 flipH="1">
            <a:off x="1835280" y="2781360"/>
            <a:ext cx="496872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2392200" y="179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844640" y="2157480"/>
            <a:ext cx="50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 Black"/>
              </a:rPr>
              <a:t>ПРИНЦИПЫ</a:t>
            </a:r>
            <a:r>
              <a:rPr b="1" lang="ru-RU" sz="2800" spc="-1" strike="noStrike">
                <a:solidFill>
                  <a:srgbClr val="0066cc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 Black"/>
              </a:rPr>
              <a:t>ВАЛЕОЛОГ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326160" y="321300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 Black"/>
              </a:rPr>
              <a:t>Сохранение здоровь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539280" y="3789360"/>
            <a:ext cx="331164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>
            <a:off x="2124000" y="4797360"/>
            <a:ext cx="338472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1692360" y="4221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 Black"/>
              </a:rPr>
              <a:t>Укрепление здоровь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20"/>
          <p:cNvSpPr/>
          <p:nvPr/>
        </p:nvSpPr>
        <p:spPr>
          <a:xfrm>
            <a:off x="4356000" y="5877000"/>
            <a:ext cx="367200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3995640" y="530064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 Black"/>
              </a:rPr>
              <a:t>Формирование здоровь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22"/>
          <p:cNvSpPr/>
          <p:nvPr/>
        </p:nvSpPr>
        <p:spPr>
          <a:xfrm>
            <a:off x="4284720" y="2852640"/>
            <a:ext cx="0" cy="1152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23"/>
          <p:cNvSpPr/>
          <p:nvPr/>
        </p:nvSpPr>
        <p:spPr>
          <a:xfrm>
            <a:off x="6227640" y="2781360"/>
            <a:ext cx="0" cy="1800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>
            <a:off x="2268360" y="2781360"/>
            <a:ext cx="0" cy="503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66280" y="1331280"/>
            <a:ext cx="7832160" cy="3547440"/>
          </a:xfrm>
          <a:prstGeom prst="rect">
            <a:avLst/>
          </a:prstGeom>
          <a:solidFill>
            <a:srgbClr val="ffdfdf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Здоровьесберегающие образовательные технологии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– это многие из знакомых большинству педагогов психолого-педагогические приемы, методы, технологии, которые не наносят прямого или косвенного вреда здоровью учащихс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9"/>
          <p:cNvSpPr/>
          <p:nvPr/>
        </p:nvSpPr>
        <p:spPr>
          <a:xfrm>
            <a:off x="808200" y="492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34" descr="BD05578_"/>
          <p:cNvPicPr/>
          <p:nvPr/>
        </p:nvPicPr>
        <p:blipFill>
          <a:blip r:embed="rId1"/>
          <a:stretch/>
        </p:blipFill>
        <p:spPr>
          <a:xfrm>
            <a:off x="7236000" y="1628640"/>
            <a:ext cx="1517400" cy="2592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9" descr="BD07213_"/>
          <p:cNvPicPr/>
          <p:nvPr/>
        </p:nvPicPr>
        <p:blipFill>
          <a:blip r:embed="rId2"/>
          <a:stretch/>
        </p:blipFill>
        <p:spPr>
          <a:xfrm>
            <a:off x="7308720" y="4508640"/>
            <a:ext cx="1503360" cy="1827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3"/>
          <p:cNvSpPr/>
          <p:nvPr/>
        </p:nvSpPr>
        <p:spPr>
          <a:xfrm>
            <a:off x="395280" y="404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Причины нарушений здоровь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Rectangle 47"/>
          <p:cNvSpPr/>
          <p:nvPr/>
        </p:nvSpPr>
        <p:spPr>
          <a:xfrm>
            <a:off x="3708360" y="2060640"/>
            <a:ext cx="3384720" cy="3241440"/>
          </a:xfrm>
          <a:prstGeom prst="rect">
            <a:avLst/>
          </a:prstGeom>
          <a:solidFill>
            <a:srgbClr val="f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блем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болевание опорно-двигательного аппарат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арушения осанки, плоскостопи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нижение зр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ервно-психические расстройств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Rectangle 48"/>
          <p:cNvSpPr/>
          <p:nvPr/>
        </p:nvSpPr>
        <p:spPr>
          <a:xfrm>
            <a:off x="250920" y="2060640"/>
            <a:ext cx="3024000" cy="3241440"/>
          </a:xfrm>
          <a:prstGeom prst="rect">
            <a:avLst/>
          </a:prstGeom>
          <a:solidFill>
            <a:srgbClr val="f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ичин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алоподвижный образ жизн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еправильная привычка. Незнание средств, фор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едостаточная освещенность. Перегрузка учебными занятиям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AutoShape 53"/>
          <p:cNvSpPr/>
          <p:nvPr/>
        </p:nvSpPr>
        <p:spPr>
          <a:xfrm>
            <a:off x="3348000" y="3429000"/>
            <a:ext cx="2872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7"/>
          <p:cNvSpPr/>
          <p:nvPr/>
        </p:nvSpPr>
        <p:spPr>
          <a:xfrm>
            <a:off x="463680" y="2349360"/>
            <a:ext cx="8680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755640" y="2421000"/>
            <a:ext cx="770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ктивное участие в процессе самих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учащихс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создание здоровьесберегающей среды в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школе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компетентность и грамотность педагогов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ланомерная работа с родителям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взаимодействие с социально-культурно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сферой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AutoShape 31"/>
          <p:cNvSpPr/>
          <p:nvPr/>
        </p:nvSpPr>
        <p:spPr>
          <a:xfrm>
            <a:off x="684360" y="260280"/>
            <a:ext cx="7416720" cy="1944720"/>
          </a:xfrm>
          <a:prstGeom prst="downArrowCallout">
            <a:avLst>
              <a:gd name="adj1" fmla="val 26275"/>
              <a:gd name="adj2" fmla="val 95344"/>
              <a:gd name="adj3" fmla="val 11523"/>
              <a:gd name="adj4" fmla="val 66667"/>
            </a:avLst>
          </a:prstGeom>
          <a:solidFill>
            <a:srgbClr val="ffdfd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У</a:t>
            </a:r>
            <a:r>
              <a:rPr b="1" lang="ru-RU" sz="2400" spc="-1" strike="noStrike">
                <a:solidFill>
                  <a:srgbClr val="990033"/>
                </a:solidFill>
                <a:latin typeface="Arial Black"/>
              </a:rPr>
              <a:t>СПЕХ РАБОТЫ ПО РЕАЛИЗАЦИ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 Black"/>
              </a:rPr>
              <a:t>ЗДОРОВЬЕСБЕРЕГАЮЩИХ ТЕХНОЛОГ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Условия реализации здоровьесберегающего пространства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Гигиенический режим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Использование </a:t>
            </a:r>
            <a:br>
              <a:rPr sz="3600"/>
            </a:b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оздоровительных сил природ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Двигательный режим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22"/>
          <p:cNvSpPr/>
          <p:nvPr/>
        </p:nvSpPr>
        <p:spPr>
          <a:xfrm>
            <a:off x="2843280" y="3068640"/>
            <a:ext cx="3384360" cy="1224000"/>
          </a:xfrm>
          <a:prstGeom prst="ellipse">
            <a:avLst/>
          </a:prstGeom>
          <a:solidFill>
            <a:srgbClr val="f3d1f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Гигиеническ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режи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Oval 31">
            <a:hlinkClick r:id="rId1" action="ppaction://hlinksldjump"/>
          </p:cNvPr>
          <p:cNvSpPr/>
          <p:nvPr/>
        </p:nvSpPr>
        <p:spPr>
          <a:xfrm>
            <a:off x="3276720" y="4869000"/>
            <a:ext cx="2519280" cy="1584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Требования 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спортивном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оборудованию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Oval 35"/>
          <p:cNvSpPr/>
          <p:nvPr/>
        </p:nvSpPr>
        <p:spPr>
          <a:xfrm>
            <a:off x="6156360" y="1916280"/>
            <a:ext cx="2557440" cy="1223640"/>
          </a:xfrm>
          <a:prstGeom prst="ellipse">
            <a:avLst/>
          </a:prstGeom>
          <a:solidFill>
            <a:srgbClr val="f4d9d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Освещенност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зал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Oval 36">
            <a:hlinkClick r:id="rId2" action="ppaction://hlinksldjump"/>
          </p:cNvPr>
          <p:cNvSpPr/>
          <p:nvPr/>
        </p:nvSpPr>
        <p:spPr>
          <a:xfrm>
            <a:off x="3203640" y="1125360"/>
            <a:ext cx="2736720" cy="1295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Требования 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расписанию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уроко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Oval 37"/>
          <p:cNvSpPr/>
          <p:nvPr/>
        </p:nvSpPr>
        <p:spPr>
          <a:xfrm>
            <a:off x="6156360" y="4221000"/>
            <a:ext cx="2735280" cy="1152720"/>
          </a:xfrm>
          <a:prstGeom prst="ellipse">
            <a:avLst/>
          </a:prstGeom>
          <a:solidFill>
            <a:srgbClr val="f0fdc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Чисто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помеще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Oval 39"/>
          <p:cNvSpPr/>
          <p:nvPr/>
        </p:nvSpPr>
        <p:spPr>
          <a:xfrm>
            <a:off x="250920" y="4221000"/>
            <a:ext cx="2592360" cy="1225800"/>
          </a:xfrm>
          <a:prstGeom prst="ellipse">
            <a:avLst/>
          </a:prstGeom>
          <a:solidFill>
            <a:srgbClr val="c7fdd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Личная гигиен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учащихс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Line 42"/>
          <p:cNvSpPr/>
          <p:nvPr/>
        </p:nvSpPr>
        <p:spPr>
          <a:xfrm flipV="1">
            <a:off x="5796000" y="2852280"/>
            <a:ext cx="43164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Line 43"/>
          <p:cNvSpPr/>
          <p:nvPr/>
        </p:nvSpPr>
        <p:spPr>
          <a:xfrm flipH="1" flipV="1">
            <a:off x="2700000" y="2924280"/>
            <a:ext cx="431640" cy="288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Line 44"/>
          <p:cNvSpPr/>
          <p:nvPr/>
        </p:nvSpPr>
        <p:spPr>
          <a:xfrm>
            <a:off x="5940360" y="4005360"/>
            <a:ext cx="647640" cy="287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Line 45"/>
          <p:cNvSpPr/>
          <p:nvPr/>
        </p:nvSpPr>
        <p:spPr>
          <a:xfrm flipH="1">
            <a:off x="2339640" y="3933720"/>
            <a:ext cx="576360" cy="358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Line 46"/>
          <p:cNvSpPr/>
          <p:nvPr/>
        </p:nvSpPr>
        <p:spPr>
          <a:xfrm>
            <a:off x="4500720" y="4292640"/>
            <a:ext cx="0" cy="503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Line 55"/>
          <p:cNvSpPr/>
          <p:nvPr/>
        </p:nvSpPr>
        <p:spPr>
          <a:xfrm flipV="1">
            <a:off x="4500720" y="2565360"/>
            <a:ext cx="0" cy="503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Oval 56"/>
          <p:cNvSpPr/>
          <p:nvPr/>
        </p:nvSpPr>
        <p:spPr>
          <a:xfrm>
            <a:off x="179280" y="1916280"/>
            <a:ext cx="2592360" cy="1368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Воздушно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теплово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режи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Rectangle 57"/>
          <p:cNvSpPr/>
          <p:nvPr/>
        </p:nvSpPr>
        <p:spPr>
          <a:xfrm>
            <a:off x="1626840" y="332640"/>
            <a:ext cx="5688360" cy="520560"/>
          </a:xfrm>
          <a:prstGeom prst="rect">
            <a:avLst/>
          </a:prstGeom>
          <a:solidFill>
            <a:srgbClr val="ffdbdb"/>
          </a:solidFill>
          <a:ln w="0">
            <a:noFill/>
          </a:ln>
          <a:effectLst>
            <a:outerShdw dist="153753" dir="2700000" blurRad="0" rotWithShape="0">
              <a:srgbClr val="9983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Условия  здоровьесбереж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36800" y="541440"/>
            <a:ext cx="8870400" cy="188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Использование </a:t>
            </a:r>
            <a:br>
              <a:rPr sz="4400"/>
            </a:b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оздоровительных сил природы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Picture 6" descr="Кросс 21 сентября 2006 год (14)"/>
          <p:cNvPicPr/>
          <p:nvPr/>
        </p:nvPicPr>
        <p:blipFill>
          <a:blip r:embed="rId1"/>
          <a:stretch/>
        </p:blipFill>
        <p:spPr>
          <a:xfrm>
            <a:off x="1928880" y="3143160"/>
            <a:ext cx="4500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05:07:43Z</dcterms:created>
  <dc:creator>Татьяна</dc:creator>
  <dc:description/>
  <dc:language>en-US</dc:language>
  <cp:lastModifiedBy>Мингажев</cp:lastModifiedBy>
  <dcterms:modified xsi:type="dcterms:W3CDTF">2016-08-21T18:55:38Z</dcterms:modified>
  <cp:revision>113</cp:revision>
  <dc:subject/>
  <dc:title>ФИЗИЧЕСКАЯ КУЛЬТУ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c0a0000000000010250300207f7000400038000</vt:lpwstr>
  </property>
</Properties>
</file>