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jpeg" ContentType="image/jpeg"/>
  <Override PartName="/ppt/media/image6.gif" ContentType="image/gif"/>
  <Override PartName="/ppt/media/image9.wmf" ContentType="image/x-wmf"/>
  <Override PartName="/ppt/media/image7.wmf" ContentType="image/x-wmf"/>
  <Override PartName="/ppt/media/image10.wmf" ContentType="image/x-wmf"/>
  <Override PartName="/ppt/media/image12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0BC6-2E2B-4FA8-B5B2-9BC57221CF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2A6D-156B-4130-91AC-5162989F749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ть в ку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2BC7-8F16-4FEF-8AB5-E08F29EE6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AD4F-82BF-461F-8312-B83DC3E0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94A-9E69-4334-BDDD-80D1E690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6EEE-AFF9-4A5B-A4CF-23B24042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28E3-5BB0-4874-8374-C524A2FC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BD68-DC4B-4C5A-AD0A-4BB45D3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AD92-B19A-4AFE-B039-F562C9C6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C282-0134-4A5F-AC6D-14F77446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B95AB-E0AC-414B-B56B-9BB4F728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1BD3-0329-436F-98C0-9D41204C3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3700-C47C-431B-83AD-422016C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312-DB20-4275-BFAD-A292F2A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61F0-C69B-45BE-8B43-B27E13B7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7233-8957-4A56-AB8C-5C945404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8B78-64AB-4446-9597-3084B54A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3298-8430-4DB1-A4BB-35FB71DA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AA301-1D5E-4E43-8FCC-96F460A3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74B-7186-4319-A474-A72CD6C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5D3-71D9-4A6A-91A7-1C72D417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D72A-BEBF-4060-9580-F32BEABA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F96-C6D0-4871-8E5B-33498887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857A-A01C-44AD-9260-CA2B41F4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7041-87F6-4B46-B62E-6E08B8B3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A5C6-EBA1-49A2-94E8-14174202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F9D6-703F-48D6-B190-F2636726F57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f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ACA0-F58B-423B-B1FA-A236CC7D778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38"/>
          <p:cNvSpPr txBox="1"/>
          <p:nvPr/>
        </p:nvSpPr>
        <p:spPr>
          <a:xfrm>
            <a:off x="755640" y="333360"/>
            <a:ext cx="7920000" cy="17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Использование здоровьесберегающих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технологий на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990033"/>
                </a:solidFill>
                <a:latin typeface="Arial"/>
              </a:rPr>
              <a:t>уроках физической культуры</a:t>
            </a:r>
            <a:endParaRPr b="0" lang="en-US" sz="2800" spc="1" strike="noStrike">
              <a:ln w="9360">
                <a:solidFill>
                  <a:srgbClr val="cc0000"/>
                </a:solidFill>
                <a:miter/>
              </a:ln>
              <a:solidFill>
                <a:srgbClr val="990033"/>
              </a:solidFill>
              <a:latin typeface="Arial"/>
              <a:ea typeface="Arial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5003640" y="2997360"/>
            <a:ext cx="33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Мингажев Динар Джанбикович учитель физической культуры МОБУ СОШ №2 с.Верхние Киги МР Кигинский район РБ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47" descr="P3150013"/>
          <p:cNvPicPr/>
          <p:nvPr/>
        </p:nvPicPr>
        <p:blipFill>
          <a:blip r:embed="rId1"/>
          <a:stretch/>
        </p:blipFill>
        <p:spPr>
          <a:xfrm>
            <a:off x="838080" y="2809800"/>
            <a:ext cx="377028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1" descr="BD13713_"/>
          <p:cNvPicPr/>
          <p:nvPr/>
        </p:nvPicPr>
        <p:blipFill>
          <a:blip r:embed="rId1"/>
          <a:stretch/>
        </p:blipFill>
        <p:spPr>
          <a:xfrm>
            <a:off x="324000" y="2060640"/>
            <a:ext cx="2752560" cy="3744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5" descr="SL00380_"/>
          <p:cNvPicPr/>
          <p:nvPr/>
        </p:nvPicPr>
        <p:blipFill>
          <a:blip r:embed="rId2"/>
          <a:stretch/>
        </p:blipFill>
        <p:spPr>
          <a:xfrm>
            <a:off x="3203640" y="4508640"/>
            <a:ext cx="585720" cy="720720"/>
          </a:xfrm>
          <a:prstGeom prst="rect">
            <a:avLst/>
          </a:prstGeom>
          <a:ln w="0">
            <a:noFill/>
          </a:ln>
        </p:spPr>
      </p:pic>
      <p:sp>
        <p:nvSpPr>
          <p:cNvPr id="152" name="WordArt 83"/>
          <p:cNvSpPr txBox="1"/>
          <p:nvPr/>
        </p:nvSpPr>
        <p:spPr>
          <a:xfrm>
            <a:off x="684360" y="333360"/>
            <a:ext cx="74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8f3da"/>
                  </a:solidFill>
                  <a:miter/>
                </a:ln>
                <a:solidFill>
                  <a:srgbClr val="cc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Двигательный режим</a:t>
            </a:r>
            <a:endParaRPr b="1" lang="en-US" sz="1800" spc="1" strike="noStrike">
              <a:ln w="9360">
                <a:solidFill>
                  <a:srgbClr val="f8f3da"/>
                </a:solidFill>
                <a:miter/>
              </a:ln>
              <a:solidFill>
                <a:srgbClr val="cc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3" name="Oval 87"/>
          <p:cNvSpPr/>
          <p:nvPr/>
        </p:nvSpPr>
        <p:spPr>
          <a:xfrm>
            <a:off x="5508720" y="1413000"/>
            <a:ext cx="3313080" cy="122544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рок физическо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культур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Oval 89"/>
          <p:cNvSpPr/>
          <p:nvPr/>
        </p:nvSpPr>
        <p:spPr>
          <a:xfrm flipV="1" rot="10800000">
            <a:off x="2916360" y="2492280"/>
            <a:ext cx="4032000" cy="172728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зкультурно-оздоровите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ероприятия в режим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учебного и продленного дн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Oval 90"/>
          <p:cNvSpPr/>
          <p:nvPr/>
        </p:nvSpPr>
        <p:spPr>
          <a:xfrm>
            <a:off x="5796000" y="4149720"/>
            <a:ext cx="3095640" cy="136692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Внеклассная работ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Oval 93"/>
          <p:cNvSpPr/>
          <p:nvPr/>
        </p:nvSpPr>
        <p:spPr>
          <a:xfrm>
            <a:off x="2916360" y="5300640"/>
            <a:ext cx="3889080" cy="1368360"/>
          </a:xfrm>
          <a:prstGeom prst="ellipse">
            <a:avLst/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зкультурно-массовые 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ортивные мероприят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Рисунок19"/>
          <p:cNvPicPr/>
          <p:nvPr/>
        </p:nvPicPr>
        <p:blipFill>
          <a:blip r:embed="rId1"/>
          <a:stretch/>
        </p:blipFill>
        <p:spPr>
          <a:xfrm>
            <a:off x="6012000" y="4076640"/>
            <a:ext cx="2879640" cy="2259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557280" y="433440"/>
            <a:ext cx="8235000" cy="1382040"/>
          </a:xfrm>
          <a:prstGeom prst="rect">
            <a:avLst/>
          </a:prstGeom>
          <a:solidFill>
            <a:srgbClr val="f5f7cd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Приемы  мотивации к урокам  физической культуры и внеклассным формам работы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08000" y="2205000"/>
            <a:ext cx="7416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валеологическое просвещени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учащихся и их родителей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роведение нетрадиционных уро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применение современных средств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физического воспит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комбинирование методов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Verdana"/>
              </a:rPr>
              <a:t>физического  воспит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9" descr="Рисунок18"/>
          <p:cNvPicPr/>
          <p:nvPr/>
        </p:nvPicPr>
        <p:blipFill>
          <a:blip r:embed="rId2"/>
          <a:stretch/>
        </p:blipFill>
        <p:spPr>
          <a:xfrm>
            <a:off x="7524720" y="1844640"/>
            <a:ext cx="1090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8" descr="Рисунок17"/>
          <p:cNvPicPr/>
          <p:nvPr/>
        </p:nvPicPr>
        <p:blipFill>
          <a:blip r:embed="rId1"/>
          <a:stretch/>
        </p:blipFill>
        <p:spPr>
          <a:xfrm>
            <a:off x="108000" y="2637000"/>
            <a:ext cx="2590920" cy="1206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7" descr="Рисунок16"/>
          <p:cNvPicPr/>
          <p:nvPr/>
        </p:nvPicPr>
        <p:blipFill>
          <a:blip r:embed="rId2"/>
          <a:stretch/>
        </p:blipFill>
        <p:spPr>
          <a:xfrm>
            <a:off x="6732720" y="2349360"/>
            <a:ext cx="2232000" cy="1487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7"/>
          <p:cNvSpPr/>
          <p:nvPr/>
        </p:nvSpPr>
        <p:spPr>
          <a:xfrm>
            <a:off x="1619280" y="458136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0" y="62064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Arial"/>
              </a:rPr>
              <a:t>Средства здоровьесбережения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Text Box 39"/>
          <p:cNvSpPr/>
          <p:nvPr/>
        </p:nvSpPr>
        <p:spPr>
          <a:xfrm>
            <a:off x="250920" y="1844640"/>
            <a:ext cx="72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Закаливание (воздух, вода, солнц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Text Box 40"/>
          <p:cNvSpPr/>
          <p:nvPr/>
        </p:nvSpPr>
        <p:spPr>
          <a:xfrm>
            <a:off x="2340000" y="2205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Text Box 41"/>
          <p:cNvSpPr/>
          <p:nvPr/>
        </p:nvSpPr>
        <p:spPr>
          <a:xfrm>
            <a:off x="395280" y="386064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формирование осан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Text Box 42"/>
          <p:cNvSpPr/>
          <p:nvPr/>
        </p:nvSpPr>
        <p:spPr>
          <a:xfrm>
            <a:off x="900000" y="2421000"/>
            <a:ext cx="66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ыхательные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Text Box 43"/>
          <p:cNvSpPr/>
          <p:nvPr/>
        </p:nvSpPr>
        <p:spPr>
          <a:xfrm>
            <a:off x="187200" y="5084640"/>
            <a:ext cx="825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развитие физических качест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0" y="4437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для профилактики плоскостоп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2195640" y="314172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Массаж (самомассаж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1763640" y="465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1934640" y="5683320"/>
            <a:ext cx="509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релаксаци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2556000" y="3933720"/>
            <a:ext cx="31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851280" y="335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619280" y="2349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814680" y="248040"/>
            <a:ext cx="71535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Нетрадиционные средств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78" name="Picture 17" descr="P8098105"/>
          <p:cNvPicPr/>
          <p:nvPr/>
        </p:nvPicPr>
        <p:blipFill>
          <a:blip r:embed="rId1"/>
          <a:stretch/>
        </p:blipFill>
        <p:spPr>
          <a:xfrm>
            <a:off x="4788000" y="3500280"/>
            <a:ext cx="4059000" cy="304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P8098087"/>
          <p:cNvPicPr/>
          <p:nvPr/>
        </p:nvPicPr>
        <p:blipFill>
          <a:blip r:embed="rId2"/>
          <a:stretch/>
        </p:blipFill>
        <p:spPr>
          <a:xfrm>
            <a:off x="468360" y="350028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3"/>
          <p:cNvSpPr/>
          <p:nvPr/>
        </p:nvSpPr>
        <p:spPr>
          <a:xfrm>
            <a:off x="1835280" y="1268280"/>
            <a:ext cx="55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Упражнения на тренажерах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99280" y="578700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адачи мониторинга:</a:t>
            </a:r>
            <a:br>
              <a:rPr sz="4000"/>
            </a:br>
            <a:br>
              <a:rPr sz="40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1.  Выявить состояние физической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подготовленности и здоровья       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школьников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2.  Разработать рекомендации для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индивидуальной работы по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совершенствованию физической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подготовленности учащихся.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3.  Проанализировать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результативность работы по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физическому воспитанию,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сохранению здоровья учащихся в </a:t>
            </a:r>
            <a:br>
              <a:rPr sz="3200"/>
            </a:b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    школ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692280"/>
            <a:ext cx="76932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3280" y="261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Мониторинг состояния физической подготовленности уча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340000" y="1484280"/>
            <a:ext cx="3743280" cy="57636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естирование в начале год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124000" y="2565360"/>
            <a:ext cx="439272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оставление списков по уровням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зического развит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971640" y="3716280"/>
            <a:ext cx="316692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Ежемесячное тестир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1908000" y="4724280"/>
            <a:ext cx="5185080" cy="64800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Разработка рекомендаций по развитию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отстающих» качест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900000" y="5805360"/>
            <a:ext cx="2737080" cy="57492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тоговое тестирован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5435640" y="5734080"/>
            <a:ext cx="2592360" cy="64764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нализ результатов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Line 17"/>
          <p:cNvSpPr/>
          <p:nvPr/>
        </p:nvSpPr>
        <p:spPr>
          <a:xfrm>
            <a:off x="4067280" y="2060640"/>
            <a:ext cx="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Line 20"/>
          <p:cNvSpPr/>
          <p:nvPr/>
        </p:nvSpPr>
        <p:spPr>
          <a:xfrm>
            <a:off x="2700360" y="328464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5940360" y="3213000"/>
            <a:ext cx="0" cy="4334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3635280" y="6093000"/>
            <a:ext cx="165744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4859280" y="3789360"/>
            <a:ext cx="3097440" cy="576360"/>
          </a:xfrm>
          <a:prstGeom prst="rect">
            <a:avLst/>
          </a:prstGeom>
          <a:solidFill>
            <a:srgbClr val="f4d4d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тслеживание изменени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казателей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3348000" y="4365720"/>
            <a:ext cx="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5580000" y="4365720"/>
            <a:ext cx="0" cy="3585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3276720" y="5445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5724360" y="5445000"/>
            <a:ext cx="0" cy="289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684360" y="3376440"/>
            <a:ext cx="7827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973080" y="264960"/>
            <a:ext cx="646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Arial"/>
              </a:rPr>
              <a:t>Результативность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250920" y="1986840"/>
            <a:ext cx="5976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ение успеваемости по предмет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ост физической подготовленности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тивация к   соблюдению здорового образа жиз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вышение динамики состояния здоровья учащихс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18" descr="6"/>
          <p:cNvPicPr/>
          <p:nvPr/>
        </p:nvPicPr>
        <p:blipFill>
          <a:blip r:embed="rId1"/>
          <a:stretch/>
        </p:blipFill>
        <p:spPr>
          <a:xfrm>
            <a:off x="6012000" y="1989000"/>
            <a:ext cx="28494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733680" y="2615040"/>
            <a:ext cx="7679160" cy="168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Здоровьесберегающие технологии, должны, несомненно, использоваться в процессе оздоровления школьников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10920" y="1143000"/>
            <a:ext cx="7924680" cy="35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Литература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. Дереклеева Н.И. Двигательные игры, тренинги и уроки здоровья. Москва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«ВАКО», 2004.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.  Ковалько В.И. Здоровьесберегающие технологии. Издательство «ВАКО», 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2004.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. Коджаспиров Ю.Г. Развивающие игры на уроках физической культуры.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ООО «Дрофа», 2003.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4. Мишин Б.И. Настольная книга учителя физической культуры. АСТ Арстель   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Москва    2003.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Лях В.И., Зданевич А.А.  Комплексная программа физического воспитания 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учащихся 1-11 классов  Москва «Просвещение» 2007. 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6. Смирнов  Н.К. «Здоровьесберегающие образовательные технологии в </a:t>
            </a:r>
            <a:br>
              <a:rPr sz="1200"/>
            </a:br>
            <a:r>
              <a:rPr b="0" lang="ru-RU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    современной школе», Москва, 2002 г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2323080" y="459000"/>
            <a:ext cx="6010560" cy="754200"/>
          </a:xfrm>
          <a:prstGeom prst="rect">
            <a:avLst/>
          </a:prstGeom>
          <a:solidFill>
            <a:srgbClr val="f5f3a7"/>
          </a:solidFill>
          <a:ln w="76320">
            <a:solidFill>
              <a:srgbClr val="f0eec4"/>
            </a:solidFill>
            <a:miter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Актуальность тем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200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доровье школьников относится к приоритетным направлениям в сфере образова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увеличение числа учеников, имеющих различные функциональные отклонения в состоянии здоровь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нижение двигательной активности школьников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физическая культура может компенсировать отрицательные яв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7" name="Picture 13" descr="PE02711_"/>
          <p:cNvPicPr/>
          <p:nvPr/>
        </p:nvPicPr>
        <p:blipFill>
          <a:blip r:embed="rId1"/>
          <a:stretch/>
        </p:blipFill>
        <p:spPr>
          <a:xfrm>
            <a:off x="0" y="189000"/>
            <a:ext cx="1746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2400" y="401400"/>
            <a:ext cx="8216640" cy="944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Организация</a:t>
            </a: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учебного процесса без ущерба здоровью уча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 flipH="1">
            <a:off x="1835280" y="2781360"/>
            <a:ext cx="49687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239220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1844640" y="2157480"/>
            <a:ext cx="50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ПРИНЦИПЫ</a:t>
            </a:r>
            <a:r>
              <a:rPr b="1" lang="ru-RU" sz="2800" spc="-1" strike="noStrike">
                <a:solidFill>
                  <a:srgbClr val="0066cc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 Black"/>
              </a:rPr>
              <a:t>ВАЛЕОЛО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326160" y="321300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Сохранение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 flipH="1">
            <a:off x="539280" y="3789360"/>
            <a:ext cx="331164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Line 17"/>
          <p:cNvSpPr/>
          <p:nvPr/>
        </p:nvSpPr>
        <p:spPr>
          <a:xfrm>
            <a:off x="2124000" y="4797360"/>
            <a:ext cx="338472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1692360" y="4221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Укрепление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4356000" y="5877000"/>
            <a:ext cx="367200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995640" y="5300640"/>
            <a:ext cx="44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 Black"/>
              </a:rPr>
              <a:t>Формирование здоровь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284720" y="2852640"/>
            <a:ext cx="0" cy="1152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6227640" y="2781360"/>
            <a:ext cx="0" cy="1800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2268360" y="2781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66280" y="1331280"/>
            <a:ext cx="7832160" cy="3547440"/>
          </a:xfrm>
          <a:prstGeom prst="rect">
            <a:avLst/>
          </a:prstGeom>
          <a:solidFill>
            <a:srgbClr val="ffdfdf"/>
          </a:solidFill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Здоровьесберегающие образовательные технологии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– это многие из знакомых большинству педагогов психолого-педагогические приемы, методы, технологии, которые не наносят прямого или косвенного вреда здоровью учащихс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9"/>
          <p:cNvSpPr/>
          <p:nvPr/>
        </p:nvSpPr>
        <p:spPr>
          <a:xfrm>
            <a:off x="808200" y="492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34" descr="BD05578_"/>
          <p:cNvPicPr/>
          <p:nvPr/>
        </p:nvPicPr>
        <p:blipFill>
          <a:blip r:embed="rId1"/>
          <a:stretch/>
        </p:blipFill>
        <p:spPr>
          <a:xfrm>
            <a:off x="7236000" y="1628640"/>
            <a:ext cx="1517400" cy="2592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9" descr="BD07213_"/>
          <p:cNvPicPr/>
          <p:nvPr/>
        </p:nvPicPr>
        <p:blipFill>
          <a:blip r:embed="rId2"/>
          <a:stretch/>
        </p:blipFill>
        <p:spPr>
          <a:xfrm>
            <a:off x="7308720" y="4508640"/>
            <a:ext cx="1503360" cy="1827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3"/>
          <p:cNvSpPr/>
          <p:nvPr/>
        </p:nvSpPr>
        <p:spPr>
          <a:xfrm>
            <a:off x="395280" y="40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Причины нарушений здоровья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3708360" y="2060640"/>
            <a:ext cx="3384720" cy="3241440"/>
          </a:xfrm>
          <a:prstGeom prst="rect">
            <a:avLst/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облем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болевание опорно-двигательного аппарат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арушения осанки, плоскостопие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нижение зрени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рвно-психические расстрой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250920" y="2060640"/>
            <a:ext cx="3024000" cy="3241440"/>
          </a:xfrm>
          <a:prstGeom prst="rect">
            <a:avLst/>
          </a:prstGeom>
          <a:solidFill>
            <a:srgbClr val="ffef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лоподвижный образ жизни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правильная привычка. Незнание средств, фор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достаточная освещенность. Перегрузка учебными занятиям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AutoShape 53"/>
          <p:cNvSpPr/>
          <p:nvPr/>
        </p:nvSpPr>
        <p:spPr>
          <a:xfrm>
            <a:off x="3348000" y="3429000"/>
            <a:ext cx="28728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7"/>
          <p:cNvSpPr/>
          <p:nvPr/>
        </p:nvSpPr>
        <p:spPr>
          <a:xfrm>
            <a:off x="463680" y="2349360"/>
            <a:ext cx="8680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755640" y="2421000"/>
            <a:ext cx="770400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ктивное участие в процессе самих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чащихся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здание здоровьесберегающей среды в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коле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мпетентность и грамотность педагогов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ланомерная работа с родителям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заимодействие с социально-культурной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ферой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AutoShape 31"/>
          <p:cNvSpPr/>
          <p:nvPr/>
        </p:nvSpPr>
        <p:spPr>
          <a:xfrm>
            <a:off x="684360" y="260280"/>
            <a:ext cx="7416720" cy="1944720"/>
          </a:xfrm>
          <a:prstGeom prst="downArrowCallout">
            <a:avLst>
              <a:gd name="adj1" fmla="val 26275"/>
              <a:gd name="adj2" fmla="val 95344"/>
              <a:gd name="adj3" fmla="val 11523"/>
              <a:gd name="adj4" fmla="val 66667"/>
            </a:avLst>
          </a:prstGeom>
          <a:solidFill>
            <a:srgbClr val="ffdfd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 Black"/>
              </a:rPr>
              <a:t>У</a:t>
            </a:r>
            <a:r>
              <a:rPr b="1" lang="ru-RU" sz="2400" spc="-1" strike="noStrike">
                <a:solidFill>
                  <a:srgbClr val="990033"/>
                </a:solidFill>
                <a:latin typeface="Arial Black"/>
              </a:rPr>
              <a:t>СПЕХ РАБОТЫ ПО РЕАЛИЗАЦИИ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 Black"/>
              </a:rPr>
              <a:t>ЗДОРОВЬЕСБЕРЕГАЮЩИХ ТЕХНОЛОГ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Условия реализации здоровьесберегающего пространства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Гигиенический режи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Использование </a:t>
            </a:r>
            <a:br>
              <a:rPr sz="3600"/>
            </a:b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оздоровительных сил прир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Двигательный режим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2"/>
          <p:cNvSpPr/>
          <p:nvPr/>
        </p:nvSpPr>
        <p:spPr>
          <a:xfrm>
            <a:off x="2843280" y="3068640"/>
            <a:ext cx="3384360" cy="1224000"/>
          </a:xfrm>
          <a:prstGeom prst="ellipse">
            <a:avLst/>
          </a:prstGeom>
          <a:solidFill>
            <a:srgbClr val="f3d1f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Гигиеническ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Verdana"/>
              </a:rPr>
              <a:t>режи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Oval 31">
            <a:hlinkClick r:id="rId1" action="ppaction://hlinksldjump"/>
          </p:cNvPr>
          <p:cNvSpPr/>
          <p:nvPr/>
        </p:nvSpPr>
        <p:spPr>
          <a:xfrm>
            <a:off x="3276720" y="4869000"/>
            <a:ext cx="2519280" cy="15843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ребования 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спортивному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оборудовани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Oval 35"/>
          <p:cNvSpPr/>
          <p:nvPr/>
        </p:nvSpPr>
        <p:spPr>
          <a:xfrm>
            <a:off x="6156360" y="1916280"/>
            <a:ext cx="2557440" cy="1223640"/>
          </a:xfrm>
          <a:prstGeom prst="ellipse">
            <a:avLst/>
          </a:prstGeom>
          <a:solidFill>
            <a:srgbClr val="f4d9d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Освещен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зал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Oval 36">
            <a:hlinkClick r:id="rId2" action="ppaction://hlinksldjump"/>
          </p:cNvPr>
          <p:cNvSpPr/>
          <p:nvPr/>
        </p:nvSpPr>
        <p:spPr>
          <a:xfrm>
            <a:off x="3203640" y="1125360"/>
            <a:ext cx="2736720" cy="1295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ребования к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расписанию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уро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Oval 37"/>
          <p:cNvSpPr/>
          <p:nvPr/>
        </p:nvSpPr>
        <p:spPr>
          <a:xfrm>
            <a:off x="6156360" y="4221000"/>
            <a:ext cx="2735280" cy="1152720"/>
          </a:xfrm>
          <a:prstGeom prst="ellipse">
            <a:avLst/>
          </a:prstGeom>
          <a:solidFill>
            <a:srgbClr val="f0fdc7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Чисто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помещ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250920" y="4221000"/>
            <a:ext cx="2592360" cy="1225800"/>
          </a:xfrm>
          <a:prstGeom prst="ellipse">
            <a:avLst/>
          </a:prstGeom>
          <a:solidFill>
            <a:srgbClr val="c7fdd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Личная гигие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учащихс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Line 42"/>
          <p:cNvSpPr/>
          <p:nvPr/>
        </p:nvSpPr>
        <p:spPr>
          <a:xfrm flipV="1">
            <a:off x="5796000" y="2852280"/>
            <a:ext cx="43164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Line 43"/>
          <p:cNvSpPr/>
          <p:nvPr/>
        </p:nvSpPr>
        <p:spPr>
          <a:xfrm flipH="1" flipV="1">
            <a:off x="2700000" y="2924280"/>
            <a:ext cx="431640" cy="288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Line 44"/>
          <p:cNvSpPr/>
          <p:nvPr/>
        </p:nvSpPr>
        <p:spPr>
          <a:xfrm>
            <a:off x="5940360" y="4005360"/>
            <a:ext cx="64764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Line 45"/>
          <p:cNvSpPr/>
          <p:nvPr/>
        </p:nvSpPr>
        <p:spPr>
          <a:xfrm flipH="1">
            <a:off x="2339640" y="3933720"/>
            <a:ext cx="576360" cy="35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Line 46"/>
          <p:cNvSpPr/>
          <p:nvPr/>
        </p:nvSpPr>
        <p:spPr>
          <a:xfrm>
            <a:off x="4500720" y="429264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Line 55"/>
          <p:cNvSpPr/>
          <p:nvPr/>
        </p:nvSpPr>
        <p:spPr>
          <a:xfrm flipV="1">
            <a:off x="4500720" y="2565360"/>
            <a:ext cx="0" cy="503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Oval 56"/>
          <p:cNvSpPr/>
          <p:nvPr/>
        </p:nvSpPr>
        <p:spPr>
          <a:xfrm>
            <a:off x="179280" y="1916280"/>
            <a:ext cx="2592360" cy="1368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Воздушно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теплов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Verdana"/>
              </a:rPr>
              <a:t>режи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57"/>
          <p:cNvSpPr/>
          <p:nvPr/>
        </p:nvSpPr>
        <p:spPr>
          <a:xfrm>
            <a:off x="1626840" y="332640"/>
            <a:ext cx="5688360" cy="520560"/>
          </a:xfrm>
          <a:prstGeom prst="rect">
            <a:avLst/>
          </a:prstGeom>
          <a:solidFill>
            <a:srgbClr val="ffdbdb"/>
          </a:solidFill>
          <a:ln w="0">
            <a:noFill/>
          </a:ln>
          <a:effectLst>
            <a:outerShdw dist="153753" dir="2700000" blurRad="0" rotWithShape="0">
              <a:srgbClr val="99838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Условия  здоровьесбереж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36800" y="541440"/>
            <a:ext cx="8870400" cy="1887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Использование </a:t>
            </a:r>
            <a:br>
              <a:rPr sz="4400"/>
            </a:br>
            <a:r>
              <a:rPr b="1" lang="ru-RU" sz="4400" spc="-1" strike="noStrike">
                <a:solidFill>
                  <a:srgbClr val="990033"/>
                </a:solidFill>
                <a:latin typeface="Arial"/>
              </a:rPr>
              <a:t>оздоровительных сил природы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Picture 6" descr="Кросс 21 сентября 2006 год (14)"/>
          <p:cNvPicPr/>
          <p:nvPr/>
        </p:nvPicPr>
        <p:blipFill>
          <a:blip r:embed="rId1"/>
          <a:stretch/>
        </p:blipFill>
        <p:spPr>
          <a:xfrm>
            <a:off x="1928880" y="3143160"/>
            <a:ext cx="450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1T05:07:43Z</dcterms:created>
  <dc:creator>Татьяна</dc:creator>
  <dc:description/>
  <dc:language>en-US</dc:language>
  <cp:lastModifiedBy>Мингажев</cp:lastModifiedBy>
  <dcterms:modified xsi:type="dcterms:W3CDTF">2016-08-21T18:55:38Z</dcterms:modified>
  <cp:revision>113</cp:revision>
  <dc:subject/>
  <dc:title>ФИЗИЧЕСКАЯ КУЛЬТУР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c0a0000000000010250300207f7000400038000</vt:lpwstr>
  </property>
</Properties>
</file>