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36.png" ContentType="image/png"/>
  <Override PartName="/ppt/media/image29.png" ContentType="image/png"/>
  <Override PartName="/ppt/media/image10.png" ContentType="image/png"/>
  <Override PartName="/ppt/media/image54.gif" ContentType="image/gif"/>
  <Override PartName="/ppt/media/image34.png" ContentType="image/png"/>
  <Override PartName="/ppt/media/image31.gif" ContentType="image/gif"/>
  <Override PartName="/ppt/media/image2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62.gif" ContentType="image/gif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32.png" ContentType="image/png"/>
  <Override PartName="/ppt/media/image26.png" ContentType="image/png"/>
  <Override PartName="/ppt/media/image61.jpeg" ContentType="image/jpeg"/>
  <Override PartName="/ppt/media/image58.gif" ContentType="image/gif"/>
  <Override PartName="/ppt/media/image2.png" ContentType="image/png"/>
  <Override PartName="/ppt/media/image14.png" ContentType="image/png"/>
  <Override PartName="/ppt/media/image25.png" ContentType="image/png"/>
  <Override PartName="/ppt/media/image11.png" ContentType="image/png"/>
  <Override PartName="/ppt/media/image45.jpeg" ContentType="image/jpe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47.png" ContentType="image/png"/>
  <Override PartName="/ppt/media/image44.gif" ContentType="image/gif"/>
  <Override PartName="/ppt/media/image12.png" ContentType="image/png"/>
  <Override PartName="/ppt/media/image8.png" ContentType="image/png"/>
  <Override PartName="/ppt/media/image35.gif" ContentType="image/gif"/>
  <Override PartName="/ppt/media/image38.png" ContentType="image/png"/>
  <Override PartName="/ppt/media/image1.png" ContentType="image/png"/>
  <Override PartName="/ppt/media/image13.png" ContentType="image/png"/>
  <Override PartName="/ppt/media/image57.gif" ContentType="image/gif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0.gif" ContentType="image/gif"/>
  <Override PartName="/ppt/media/image55.jpeg" ContentType="image/jpeg"/>
  <Override PartName="/ppt/media/image43.png" ContentType="image/png"/>
  <Override PartName="/ppt/media/image46.png" ContentType="image/png"/>
  <Override PartName="/ppt/media/image49.gif" ContentType="image/gif"/>
  <Override PartName="/ppt/media/image51.jpeg" ContentType="image/jpeg"/>
  <Override PartName="/ppt/media/image52.png" ContentType="image/png"/>
  <Override PartName="/ppt/media/image50.gif" ContentType="image/gif"/>
  <Override PartName="/ppt/media/image53.png" ContentType="image/png"/>
  <Override PartName="/ppt/media/image5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838-E036-477A-B815-3E40D009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355-2762-44C8-9629-2791DEA4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CAB-6DE1-4B96-8430-59DB9056F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6657-B06D-4D7F-A18C-989D62C3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E68D-A77A-48CB-B6BA-5ED7A026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46E02-C36D-43C8-9F72-88063784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8895-668E-4F88-9CF1-BE4F2460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D827-0392-437D-BF34-A9595FDD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B2DD-55D0-4DA5-AA69-D950C18C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A94D-C3FD-4A78-9F2A-B3E12B5E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46CD-0383-4D23-A259-01CAE69C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546-6923-492E-A20F-9AE42038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BC21A-0706-4EC2-AE5B-60546EF9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5A11-70A1-4D8E-9F8A-91D20F66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1473-86A6-4E7A-A67D-AAF52894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C199-C6FA-46EE-B215-34E943C3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0F05-BE9D-400A-A935-4F0EA356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A521-F531-41AC-AAEA-419A5D9F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7540-2909-4EB1-A196-CA18285D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CC4C-D2A0-4609-BBBD-79F06DAE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861C-547C-4FF7-A9B4-BA48EA2C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A70-C3C3-4342-B8BB-911740BC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9D6-5829-4A4E-9321-DDC29102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A38-C839-4DC1-821A-A6CB0106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6E6A-1B08-4973-88DE-5C636735B58E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1440"/>
                <a:ext cx="1523880" cy="137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0840" y="1588680"/>
                <a:ext cx="1434600" cy="13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960" y="4139640"/>
                <a:ext cx="1523880" cy="142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65520" y="419040"/>
                <a:ext cx="1815840" cy="169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76240" y="3408480"/>
                <a:ext cx="1881360" cy="168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78920" y="4833000"/>
                <a:ext cx="1649160" cy="150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19880" y="241920"/>
                <a:ext cx="1644840" cy="16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03040" y="620640"/>
                <a:ext cx="114660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35120" y="3759840"/>
                <a:ext cx="1440" cy="1440"/>
              </a:xfrm>
              <a:custGeom>
                <a:avLst/>
                <a:gdLst>
                  <a:gd name="textAreaLeft" fmla="*/ 0 w 1440"/>
                  <a:gd name="textAreaRight" fmla="*/ 1800 w 144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57280" y="4217400"/>
                <a:ext cx="1212840" cy="118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37640"/>
                <a:ext cx="1338840" cy="162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59120"/>
                <a:ext cx="1086480" cy="1404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03120" y="5593320"/>
                <a:ext cx="1891080" cy="126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57280" y="1623240"/>
                <a:ext cx="1386720" cy="171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43160" y="5849640"/>
                <a:ext cx="1368720" cy="97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30640" y="2735280"/>
                <a:ext cx="1465920" cy="34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78960" y="5717520"/>
                <a:ext cx="1151640" cy="106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03480" y="985680"/>
                <a:ext cx="1712160" cy="162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17360" y="3697200"/>
                <a:ext cx="973080" cy="84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79320"/>
                <a:ext cx="1336680" cy="1496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14520"/>
                <a:ext cx="1219680" cy="1358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41200" y="0"/>
                <a:ext cx="1293480" cy="98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08160" y="973800"/>
                <a:ext cx="843840" cy="1064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3360" y="1426680"/>
              <a:ext cx="1102680" cy="1097280"/>
              <a:chOff x="5463360" y="1426680"/>
              <a:chExt cx="1102680" cy="10972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3360" y="1426680"/>
                <a:ext cx="1102680" cy="10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41200" y="1604160"/>
                <a:ext cx="75168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30040" y="1402920"/>
              <a:ext cx="852480" cy="848160"/>
              <a:chOff x="5630040" y="1402920"/>
              <a:chExt cx="852480" cy="84816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30040" y="1402920"/>
                <a:ext cx="852480" cy="84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71880" y="1542960"/>
                <a:ext cx="57456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2680" y="1871640"/>
              <a:ext cx="631800" cy="628560"/>
              <a:chOff x="5242680" y="1871640"/>
              <a:chExt cx="631800" cy="62856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2680" y="1871640"/>
                <a:ext cx="63180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3560" y="1980360"/>
                <a:ext cx="4165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9720" y="1788480"/>
              <a:ext cx="518400" cy="522000"/>
              <a:chOff x="5409720" y="1788480"/>
              <a:chExt cx="518400" cy="52200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9720" y="1788480"/>
                <a:ext cx="518400" cy="52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501880" y="1883160"/>
                <a:ext cx="33840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5600"/>
              <a:ext cx="291960" cy="290520"/>
              <a:chOff x="4718160" y="2055600"/>
              <a:chExt cx="291960" cy="29052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5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500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101280" y="993600"/>
              <a:ext cx="291960" cy="290520"/>
              <a:chOff x="6101280" y="993600"/>
              <a:chExt cx="291960" cy="29052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101280" y="993600"/>
                <a:ext cx="29196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61040" y="1053720"/>
                <a:ext cx="17748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1880" y="1871640"/>
              <a:ext cx="232200" cy="231120"/>
              <a:chOff x="5051880" y="1871640"/>
              <a:chExt cx="232200" cy="23112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1880" y="187164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3360" y="19227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8920" y="1058760"/>
              <a:ext cx="232200" cy="237240"/>
              <a:chOff x="6118920" y="1058760"/>
              <a:chExt cx="232200" cy="23724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8920" y="1058760"/>
                <a:ext cx="23220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8600" y="11109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6604-C73B-418B-9890-89E18D876B92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jpe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gif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gif"/><Relationship Id="rId3" Type="http://schemas.openxmlformats.org/officeDocument/2006/relationships/image" Target="../media/image58.gif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image" Target="../media/image62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Подзаголовок 2" descr=""/>
          <p:cNvPicPr/>
          <p:nvPr/>
        </p:nvPicPr>
        <p:blipFill>
          <a:blip r:embed="rId1"/>
          <a:stretch/>
        </p:blipFill>
        <p:spPr>
          <a:xfrm>
            <a:off x="2743200" y="3492360"/>
            <a:ext cx="6407280" cy="2536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E:\даша\140.gif"/>
          <p:cNvPicPr/>
          <p:nvPr/>
        </p:nvPicPr>
        <p:blipFill>
          <a:blip r:embed="rId2"/>
          <a:stretch/>
        </p:blipFill>
        <p:spPr>
          <a:xfrm>
            <a:off x="1258920" y="3860640"/>
            <a:ext cx="2252520" cy="1729080"/>
          </a:xfrm>
          <a:prstGeom prst="rect">
            <a:avLst/>
          </a:prstGeom>
          <a:ln w="0">
            <a:noFill/>
          </a:ln>
        </p:spPr>
      </p:pic>
      <p:pic>
        <p:nvPicPr>
          <p:cNvPr id="163" name="TextBox 3" descr=""/>
          <p:cNvPicPr/>
          <p:nvPr/>
        </p:nvPicPr>
        <p:blipFill>
          <a:blip r:embed="rId3"/>
          <a:stretch/>
        </p:blipFill>
        <p:spPr>
          <a:xfrm>
            <a:off x="4273560" y="4187880"/>
            <a:ext cx="4394160" cy="682560"/>
          </a:xfrm>
          <a:prstGeom prst="rect">
            <a:avLst/>
          </a:prstGeom>
          <a:ln w="0">
            <a:noFill/>
          </a:ln>
        </p:spPr>
      </p:pic>
      <p:pic>
        <p:nvPicPr>
          <p:cNvPr id="164" name="TextBox 4" descr=""/>
          <p:cNvPicPr/>
          <p:nvPr/>
        </p:nvPicPr>
        <p:blipFill>
          <a:blip r:embed="rId4"/>
          <a:stretch/>
        </p:blipFill>
        <p:spPr>
          <a:xfrm>
            <a:off x="1542960" y="500040"/>
            <a:ext cx="6362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Объект 2" descr=""/>
          <p:cNvPicPr/>
          <p:nvPr/>
        </p:nvPicPr>
        <p:blipFill>
          <a:blip r:embed="rId1"/>
          <a:stretch/>
        </p:blipFill>
        <p:spPr>
          <a:xfrm>
            <a:off x="1249200" y="4334040"/>
            <a:ext cx="7175520" cy="1908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E:\даша\balloons.gif"/>
          <p:cNvPicPr/>
          <p:nvPr/>
        </p:nvPicPr>
        <p:blipFill>
          <a:blip r:embed="rId2"/>
          <a:stretch/>
        </p:blipFill>
        <p:spPr>
          <a:xfrm>
            <a:off x="7164360" y="1989000"/>
            <a:ext cx="1540080" cy="2824200"/>
          </a:xfrm>
          <a:prstGeom prst="rect">
            <a:avLst/>
          </a:prstGeom>
          <a:ln w="0">
            <a:noFill/>
          </a:ln>
        </p:spPr>
      </p:pic>
      <p:pic>
        <p:nvPicPr>
          <p:cNvPr id="167" name="TextBox 4" descr=""/>
          <p:cNvPicPr/>
          <p:nvPr/>
        </p:nvPicPr>
        <p:blipFill>
          <a:blip r:embed="rId3"/>
          <a:stretch/>
        </p:blipFill>
        <p:spPr>
          <a:xfrm>
            <a:off x="317520" y="1311120"/>
            <a:ext cx="829008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Заголовок 2" descr=""/>
          <p:cNvPicPr/>
          <p:nvPr/>
        </p:nvPicPr>
        <p:blipFill>
          <a:blip r:embed="rId1"/>
          <a:stretch/>
        </p:blipFill>
        <p:spPr>
          <a:xfrm>
            <a:off x="963720" y="182520"/>
            <a:ext cx="7137360" cy="939960"/>
          </a:xfrm>
          <a:prstGeom prst="rect">
            <a:avLst/>
          </a:prstGeom>
          <a:ln w="0">
            <a:noFill/>
          </a:ln>
        </p:spPr>
      </p:pic>
      <p:pic>
        <p:nvPicPr>
          <p:cNvPr id="169" name="TextBox 3" descr=""/>
          <p:cNvPicPr/>
          <p:nvPr/>
        </p:nvPicPr>
        <p:blipFill>
          <a:blip r:embed="rId2"/>
          <a:stretch/>
        </p:blipFill>
        <p:spPr>
          <a:xfrm>
            <a:off x="542880" y="1017720"/>
            <a:ext cx="7705800" cy="207324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4" descr=""/>
          <p:cNvPicPr/>
          <p:nvPr/>
        </p:nvPicPr>
        <p:blipFill>
          <a:blip r:embed="rId3"/>
          <a:stretch/>
        </p:blipFill>
        <p:spPr>
          <a:xfrm>
            <a:off x="573120" y="3249720"/>
            <a:ext cx="7864560" cy="2627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E:\даша\331535632.gif"/>
          <p:cNvPicPr/>
          <p:nvPr/>
        </p:nvPicPr>
        <p:blipFill>
          <a:blip r:embed="rId4"/>
          <a:stretch/>
        </p:blipFill>
        <p:spPr>
          <a:xfrm>
            <a:off x="7093080" y="36684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extBox 3" descr=""/>
          <p:cNvPicPr/>
          <p:nvPr/>
        </p:nvPicPr>
        <p:blipFill>
          <a:blip r:embed="rId1"/>
          <a:stretch/>
        </p:blipFill>
        <p:spPr>
          <a:xfrm>
            <a:off x="1122480" y="298440"/>
            <a:ext cx="73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73" name="TextBox 4" descr=""/>
          <p:cNvPicPr/>
          <p:nvPr/>
        </p:nvPicPr>
        <p:blipFill>
          <a:blip r:embed="rId2"/>
          <a:stretch/>
        </p:blipFill>
        <p:spPr>
          <a:xfrm>
            <a:off x="1122480" y="3713040"/>
            <a:ext cx="7418160" cy="2627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E:\даша\331535632.gif"/>
          <p:cNvPicPr/>
          <p:nvPr/>
        </p:nvPicPr>
        <p:blipFill>
          <a:blip r:embed="rId3"/>
          <a:stretch/>
        </p:blipFill>
        <p:spPr>
          <a:xfrm>
            <a:off x="7451640" y="2862360"/>
            <a:ext cx="16210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TextBox 1" descr=""/>
          <p:cNvPicPr/>
          <p:nvPr/>
        </p:nvPicPr>
        <p:blipFill>
          <a:blip r:embed="rId1"/>
          <a:stretch/>
        </p:blipFill>
        <p:spPr>
          <a:xfrm>
            <a:off x="2206800" y="60480"/>
            <a:ext cx="4620960" cy="682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" descr="E:\даша\104260-3.gif"/>
          <p:cNvPicPr/>
          <p:nvPr/>
        </p:nvPicPr>
        <p:blipFill>
          <a:blip r:embed="rId2"/>
          <a:stretch/>
        </p:blipFill>
        <p:spPr>
          <a:xfrm>
            <a:off x="1133640" y="344520"/>
            <a:ext cx="1076040" cy="1400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Users\Владимир\Desktop\пп\DSCF3880.JPG"/>
          <p:cNvPicPr/>
          <p:nvPr/>
        </p:nvPicPr>
        <p:blipFill>
          <a:blip r:embed="rId3"/>
          <a:stretch/>
        </p:blipFill>
        <p:spPr>
          <a:xfrm rot="20678400">
            <a:off x="448920" y="1876320"/>
            <a:ext cx="3743280" cy="235296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2" descr=""/>
          <p:cNvPicPr/>
          <p:nvPr/>
        </p:nvPicPr>
        <p:blipFill>
          <a:blip r:embed="rId4"/>
          <a:stretch/>
        </p:blipFill>
        <p:spPr>
          <a:xfrm>
            <a:off x="3389400" y="3828960"/>
            <a:ext cx="2468520" cy="1455840"/>
          </a:xfrm>
          <a:prstGeom prst="rect">
            <a:avLst/>
          </a:prstGeom>
          <a:ln w="0">
            <a:noFill/>
          </a:ln>
        </p:spPr>
      </p:pic>
      <p:sp>
        <p:nvSpPr>
          <p:cNvPr id="179" name="TextBox 3"/>
          <p:cNvSpPr/>
          <p:nvPr/>
        </p:nvSpPr>
        <p:spPr>
          <a:xfrm>
            <a:off x="6388200" y="738360"/>
            <a:ext cx="25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Белый мяч футбо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моей ног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тится по по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травке молод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тоят воро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вратарь уш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качу я мячик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о-то будет го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5"/>
          <a:stretch/>
        </p:blipFill>
        <p:spPr>
          <a:xfrm rot="20957400">
            <a:off x="6167160" y="3750840"/>
            <a:ext cx="2914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0"/>
                            </p:stCondLst>
                            <p:childTnLst>
                              <p:par>
                                <p:cTn id="7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extBox 1" descr=""/>
          <p:cNvPicPr/>
          <p:nvPr/>
        </p:nvPicPr>
        <p:blipFill>
          <a:blip r:embed="rId1"/>
          <a:stretch/>
        </p:blipFill>
        <p:spPr>
          <a:xfrm>
            <a:off x="2170080" y="189000"/>
            <a:ext cx="4821120" cy="60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E:\даша\2417489-430844594513f253.gif"/>
          <p:cNvPicPr/>
          <p:nvPr/>
        </p:nvPicPr>
        <p:blipFill>
          <a:blip r:embed="rId2"/>
          <a:stretch/>
        </p:blipFill>
        <p:spPr>
          <a:xfrm>
            <a:off x="7308720" y="750960"/>
            <a:ext cx="1143000" cy="1390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E:\даша\4985679.gif"/>
          <p:cNvPicPr/>
          <p:nvPr/>
        </p:nvPicPr>
        <p:blipFill>
          <a:blip r:embed="rId3"/>
          <a:stretch/>
        </p:blipFill>
        <p:spPr>
          <a:xfrm>
            <a:off x="755640" y="5068800"/>
            <a:ext cx="1728720" cy="10987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5867280" y="4221000"/>
            <a:ext cx="30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расный, желтый и зеленый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голос светофо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ворит он: «Стой! Кати!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желтый – «Погоди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C:\Users\Владимир\Desktop\пп\DSCF3599.JPG"/>
          <p:cNvPicPr/>
          <p:nvPr/>
        </p:nvPicPr>
        <p:blipFill>
          <a:blip r:embed="rId4"/>
          <a:stretch/>
        </p:blipFill>
        <p:spPr>
          <a:xfrm>
            <a:off x="2484360" y="1484280"/>
            <a:ext cx="3816360" cy="2736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E:\даша\2417395-f9cbdba0242e1f73.gif"/>
          <p:cNvPicPr/>
          <p:nvPr/>
        </p:nvPicPr>
        <p:blipFill>
          <a:blip r:embed="rId5"/>
          <a:stretch/>
        </p:blipFill>
        <p:spPr>
          <a:xfrm>
            <a:off x="957240" y="907920"/>
            <a:ext cx="132408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TextBox 1" descr=""/>
          <p:cNvPicPr/>
          <p:nvPr/>
        </p:nvPicPr>
        <p:blipFill>
          <a:blip r:embed="rId1"/>
          <a:stretch/>
        </p:blipFill>
        <p:spPr>
          <a:xfrm>
            <a:off x="1828800" y="96840"/>
            <a:ext cx="5846760" cy="684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E:\даша\Chess_players.gif"/>
          <p:cNvPicPr/>
          <p:nvPr/>
        </p:nvPicPr>
        <p:blipFill>
          <a:blip r:embed="rId2"/>
          <a:stretch/>
        </p:blipFill>
        <p:spPr>
          <a:xfrm>
            <a:off x="395280" y="4678200"/>
            <a:ext cx="1828800" cy="125748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2413080" y="3889440"/>
            <a:ext cx="374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 влечёт домино и лот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ашкам сердце моё отда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них играет юнец и стар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малыш ещё ростом с букашк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 игре этой народ наш привы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игра эта – русские шаш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3" descr="C:\Users\Владимир\Desktop\пп\DSCF4085.JPG"/>
          <p:cNvPicPr/>
          <p:nvPr/>
        </p:nvPicPr>
        <p:blipFill>
          <a:blip r:embed="rId3"/>
          <a:stretch/>
        </p:blipFill>
        <p:spPr>
          <a:xfrm>
            <a:off x="1619280" y="1125360"/>
            <a:ext cx="5040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TextBox 1" descr=""/>
          <p:cNvPicPr/>
          <p:nvPr/>
        </p:nvPicPr>
        <p:blipFill>
          <a:blip r:embed="rId1"/>
          <a:stretch/>
        </p:blipFill>
        <p:spPr>
          <a:xfrm>
            <a:off x="1938240" y="49320"/>
            <a:ext cx="5340600" cy="682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3132000" y="1060560"/>
            <a:ext cx="33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ы собираемся в по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правиться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 в путь далекий уве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орога со д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E:\даша\34920000.gif"/>
          <p:cNvPicPr/>
          <p:nvPr/>
        </p:nvPicPr>
        <p:blipFill>
          <a:blip r:embed="rId2"/>
          <a:stretch/>
        </p:blipFill>
        <p:spPr>
          <a:xfrm>
            <a:off x="6732720" y="719280"/>
            <a:ext cx="1698480" cy="1463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E:\даша\jivotniea-1738.gif"/>
          <p:cNvPicPr/>
          <p:nvPr/>
        </p:nvPicPr>
        <p:blipFill>
          <a:blip r:embed="rId3"/>
          <a:stretch/>
        </p:blipFill>
        <p:spPr>
          <a:xfrm>
            <a:off x="2976480" y="2833560"/>
            <a:ext cx="2857680" cy="12128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C:\Users\Владимир\Desktop\пп\DSCF4053.JPG"/>
          <p:cNvPicPr/>
          <p:nvPr/>
        </p:nvPicPr>
        <p:blipFill>
          <a:blip r:embed="rId4"/>
          <a:stretch/>
        </p:blipFill>
        <p:spPr>
          <a:xfrm>
            <a:off x="647640" y="1511280"/>
            <a:ext cx="2338560" cy="1747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C:\Users\Владимир\Desktop\пп\DSCF4063.JPG"/>
          <p:cNvPicPr/>
          <p:nvPr/>
        </p:nvPicPr>
        <p:blipFill>
          <a:blip r:embed="rId5"/>
          <a:stretch/>
        </p:blipFill>
        <p:spPr>
          <a:xfrm>
            <a:off x="5724360" y="2492280"/>
            <a:ext cx="2536920" cy="1893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Users\Владимир\Desktop\пп\DSCF4072.JPG"/>
          <p:cNvPicPr/>
          <p:nvPr/>
        </p:nvPicPr>
        <p:blipFill>
          <a:blip r:embed="rId6"/>
          <a:stretch/>
        </p:blipFill>
        <p:spPr>
          <a:xfrm>
            <a:off x="1547640" y="4365720"/>
            <a:ext cx="2592720" cy="1936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E:\даша\EyesBlink.gif"/>
          <p:cNvPicPr/>
          <p:nvPr/>
        </p:nvPicPr>
        <p:blipFill>
          <a:blip r:embed="rId7"/>
          <a:stretch/>
        </p:blipFill>
        <p:spPr>
          <a:xfrm>
            <a:off x="6964200" y="5140440"/>
            <a:ext cx="146700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5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09800" y="1806480"/>
            <a:ext cx="7124400" cy="464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зовался творческий союз: «Ребенок – родитель - воспитатель»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ружились два детских коллектива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низилась заболеваемость у детей, повысился иммунитет, укрепилось здоровье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сширился кругозор, активизировался словарный запас у детей;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явилась фантазия и творческие способности.</a:t>
            </a:r>
            <a:endParaRPr b="0" lang="en-US" sz="26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06:23:51Z</dcterms:created>
  <dc:creator>Владимир</dc:creator>
  <dc:description/>
  <dc:language>en-US</dc:language>
  <cp:lastModifiedBy>МБДОУДС21</cp:lastModifiedBy>
  <dcterms:modified xsi:type="dcterms:W3CDTF">2017-10-17T09:52:57Z</dcterms:modified>
  <cp:revision>26</cp:revision>
  <dc:subject/>
  <dc:title>Летний   проект   с детьми старшей группы 2013год</dc:title>
</cp:coreProperties>
</file>