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Произвольный показ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451-842B-4637-AB9F-B8104A0B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D10-AA32-4E00-B0AA-75C733B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380-B007-41EC-95DA-3CC6F8D3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005-C40B-4144-8C8D-3EFDA94D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9AE-01A8-4DD8-8287-E4ECCB85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45C3-16C3-48E6-B5FC-CFA04C95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6ED0-9047-4F3C-ADE1-56A7032E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3C64-9243-4A75-93F1-004A024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2090-94F6-4315-848A-A31C72C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A0A-8A41-4F75-9E57-4464CD7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56A-9671-42BD-8B93-F67A931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577-B97D-4A3A-938D-5DF2BF4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1E8-FB3B-4087-896C-4E9A975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F390-0E6A-4154-969B-2E20312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D71D-9DCA-4B09-92A9-D8E4C08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D42-CC49-4F2D-9486-CA0B7126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513F-7D15-4187-91A7-ED3F770D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A53-D875-4160-ACAB-6A9566E1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46C-F58F-4BA0-8912-F694424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FBA-E860-4561-B00D-65B6E8E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637-E8B4-4435-89BE-66546DC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BCF-59FC-4242-B9AE-5B3E6EC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052-4D8B-43F7-A513-6D74046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A12-E800-4308-91C8-2D63A8D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9D2-A612-48C3-AA65-E1CCDFC04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98FE-F3DC-4018-8C3C-B86210928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1076400" y="273528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ТУРА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И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4546440" y="678960"/>
            <a:ext cx="39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к-сорев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пяти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snap0011"/>
          <p:cNvPicPr/>
          <p:nvPr/>
        </p:nvPicPr>
        <p:blipFill>
          <a:blip r:embed="rId1"/>
          <a:stretch/>
        </p:blipFill>
        <p:spPr>
          <a:xfrm>
            <a:off x="787320" y="241200"/>
            <a:ext cx="97164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4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326880"/>
            <a:ext cx="769608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5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пкое болото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16080" y="2276640"/>
            <a:ext cx="43275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ледуйте за Буратино по математическим к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торопитесь при выполнении вычислений, а то можете соскользнуть с кочки и увязнуть в боло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9"/>
          <p:cNvGrpSpPr/>
          <p:nvPr/>
        </p:nvGrpSpPr>
        <p:grpSpPr>
          <a:xfrm>
            <a:off x="188280" y="1737000"/>
            <a:ext cx="4556880" cy="4520520"/>
            <a:chOff x="188280" y="1737000"/>
            <a:chExt cx="4556880" cy="4520520"/>
          </a:xfrm>
        </p:grpSpPr>
        <p:sp>
          <p:nvSpPr>
            <p:cNvPr id="116" name="AutoShape 230"/>
            <p:cNvSpPr/>
            <p:nvPr/>
          </p:nvSpPr>
          <p:spPr>
            <a:xfrm>
              <a:off x="281160" y="1916280"/>
              <a:ext cx="4464000" cy="416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31"/>
            <p:cNvSpPr/>
            <p:nvPr/>
          </p:nvSpPr>
          <p:spPr>
            <a:xfrm rot="2665800">
              <a:off x="378720" y="45010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32"/>
            <p:cNvSpPr/>
            <p:nvPr/>
          </p:nvSpPr>
          <p:spPr>
            <a:xfrm rot="2665800">
              <a:off x="3691440" y="448344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33"/>
            <p:cNvSpPr/>
            <p:nvPr/>
          </p:nvSpPr>
          <p:spPr>
            <a:xfrm rot="2665800">
              <a:off x="2064600" y="45010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34"/>
            <p:cNvSpPr/>
            <p:nvPr/>
          </p:nvSpPr>
          <p:spPr>
            <a:xfrm rot="2665800">
              <a:off x="355680" y="36378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5"/>
            <p:cNvSpPr/>
            <p:nvPr/>
          </p:nvSpPr>
          <p:spPr>
            <a:xfrm rot="2665800">
              <a:off x="2022120" y="362952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6"/>
            <p:cNvSpPr/>
            <p:nvPr/>
          </p:nvSpPr>
          <p:spPr>
            <a:xfrm rot="2665800">
              <a:off x="3659760" y="3628440"/>
              <a:ext cx="816120" cy="7441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7"/>
            <p:cNvSpPr/>
            <p:nvPr/>
          </p:nvSpPr>
          <p:spPr>
            <a:xfrm rot="2665800">
              <a:off x="356040" y="28188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8"/>
            <p:cNvSpPr/>
            <p:nvPr/>
          </p:nvSpPr>
          <p:spPr>
            <a:xfrm rot="2665800">
              <a:off x="332280" y="1956960"/>
              <a:ext cx="815760" cy="74448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39"/>
            <p:cNvSpPr/>
            <p:nvPr/>
          </p:nvSpPr>
          <p:spPr>
            <a:xfrm rot="2665800">
              <a:off x="1981440" y="278964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40"/>
            <p:cNvSpPr/>
            <p:nvPr/>
          </p:nvSpPr>
          <p:spPr>
            <a:xfrm rot="2665800">
              <a:off x="3645360" y="277272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41"/>
            <p:cNvSpPr/>
            <p:nvPr/>
          </p:nvSpPr>
          <p:spPr>
            <a:xfrm rot="2665800">
              <a:off x="1945440" y="195912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2"/>
            <p:cNvSpPr/>
            <p:nvPr/>
          </p:nvSpPr>
          <p:spPr>
            <a:xfrm rot="2665800">
              <a:off x="3608280" y="1916280"/>
              <a:ext cx="816120" cy="7441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43"/>
            <p:cNvSpPr/>
            <p:nvPr/>
          </p:nvSpPr>
          <p:spPr>
            <a:xfrm rot="2665800">
              <a:off x="398520" y="53100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4"/>
            <p:cNvSpPr/>
            <p:nvPr/>
          </p:nvSpPr>
          <p:spPr>
            <a:xfrm rot="2665800">
              <a:off x="2047320" y="53334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45"/>
            <p:cNvSpPr/>
            <p:nvPr/>
          </p:nvSpPr>
          <p:spPr>
            <a:xfrm rot="2665800">
              <a:off x="3722400" y="53182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6"/>
            <p:cNvSpPr/>
            <p:nvPr/>
          </p:nvSpPr>
          <p:spPr>
            <a:xfrm>
              <a:off x="794160" y="511704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47"/>
            <p:cNvSpPr/>
            <p:nvPr/>
          </p:nvSpPr>
          <p:spPr>
            <a:xfrm flipH="1">
              <a:off x="710280" y="42400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48"/>
            <p:cNvSpPr/>
            <p:nvPr/>
          </p:nvSpPr>
          <p:spPr>
            <a:xfrm>
              <a:off x="2467800" y="5119200"/>
              <a:ext cx="10620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9"/>
            <p:cNvSpPr/>
            <p:nvPr/>
          </p:nvSpPr>
          <p:spPr>
            <a:xfrm>
              <a:off x="4111200" y="510336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0"/>
            <p:cNvSpPr/>
            <p:nvPr/>
          </p:nvSpPr>
          <p:spPr>
            <a:xfrm>
              <a:off x="762480" y="342684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1"/>
            <p:cNvSpPr/>
            <p:nvPr/>
          </p:nvSpPr>
          <p:spPr>
            <a:xfrm>
              <a:off x="2405880" y="3411720"/>
              <a:ext cx="10548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52"/>
            <p:cNvSpPr/>
            <p:nvPr/>
          </p:nvSpPr>
          <p:spPr>
            <a:xfrm>
              <a:off x="4059720" y="341172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53"/>
            <p:cNvSpPr/>
            <p:nvPr/>
          </p:nvSpPr>
          <p:spPr>
            <a:xfrm flipH="1">
              <a:off x="2383560" y="4248000"/>
              <a:ext cx="5436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4"/>
            <p:cNvSpPr/>
            <p:nvPr/>
          </p:nvSpPr>
          <p:spPr>
            <a:xfrm flipH="1">
              <a:off x="4020840" y="4231800"/>
              <a:ext cx="5436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5"/>
            <p:cNvSpPr/>
            <p:nvPr/>
          </p:nvSpPr>
          <p:spPr>
            <a:xfrm flipH="1">
              <a:off x="689760" y="25660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6"/>
            <p:cNvSpPr/>
            <p:nvPr/>
          </p:nvSpPr>
          <p:spPr>
            <a:xfrm flipH="1">
              <a:off x="2313000" y="254664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7"/>
            <p:cNvSpPr/>
            <p:nvPr/>
          </p:nvSpPr>
          <p:spPr>
            <a:xfrm flipH="1">
              <a:off x="3978360" y="25156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258"/>
                <p:cNvSpPr txBox="1"/>
                <p:nvPr/>
              </p:nvSpPr>
              <p:spPr>
                <a:xfrm>
                  <a:off x="2586960" y="5181120"/>
                  <a:ext cx="362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259"/>
                <p:cNvSpPr txBox="1"/>
                <p:nvPr/>
              </p:nvSpPr>
              <p:spPr>
                <a:xfrm>
                  <a:off x="894600" y="5169240"/>
                  <a:ext cx="37368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260"/>
                <p:cNvSpPr txBox="1"/>
                <p:nvPr/>
              </p:nvSpPr>
              <p:spPr>
                <a:xfrm>
                  <a:off x="4217040" y="5172840"/>
                  <a:ext cx="36180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261"/>
                <p:cNvSpPr txBox="1"/>
                <p:nvPr/>
              </p:nvSpPr>
              <p:spPr>
                <a:xfrm>
                  <a:off x="775800" y="433872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7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262"/>
                <p:cNvSpPr txBox="1"/>
                <p:nvPr/>
              </p:nvSpPr>
              <p:spPr>
                <a:xfrm>
                  <a:off x="2450160" y="434628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36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263"/>
                <p:cNvSpPr txBox="1"/>
                <p:nvPr/>
              </p:nvSpPr>
              <p:spPr>
                <a:xfrm>
                  <a:off x="4098960" y="433872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04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264"/>
                <p:cNvSpPr txBox="1"/>
                <p:nvPr/>
              </p:nvSpPr>
              <p:spPr>
                <a:xfrm>
                  <a:off x="648360" y="5573160"/>
                  <a:ext cx="28332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265"/>
                <p:cNvSpPr txBox="1"/>
                <p:nvPr/>
              </p:nvSpPr>
              <p:spPr>
                <a:xfrm>
                  <a:off x="3988080" y="5565240"/>
                  <a:ext cx="283320" cy="2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266"/>
                <p:cNvSpPr txBox="1"/>
                <p:nvPr/>
              </p:nvSpPr>
              <p:spPr>
                <a:xfrm>
                  <a:off x="2283480" y="5584680"/>
                  <a:ext cx="29736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267"/>
                <p:cNvSpPr txBox="1"/>
                <p:nvPr/>
              </p:nvSpPr>
              <p:spPr>
                <a:xfrm>
                  <a:off x="864360" y="3499200"/>
                  <a:ext cx="60372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36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268"/>
                <p:cNvSpPr txBox="1"/>
                <p:nvPr/>
              </p:nvSpPr>
              <p:spPr>
                <a:xfrm>
                  <a:off x="2500920" y="3500640"/>
                  <a:ext cx="5914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18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269"/>
                <p:cNvSpPr txBox="1"/>
                <p:nvPr/>
              </p:nvSpPr>
              <p:spPr>
                <a:xfrm>
                  <a:off x="4153320" y="3483360"/>
                  <a:ext cx="5914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7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Object 270"/>
                <p:cNvSpPr txBox="1"/>
                <p:nvPr/>
              </p:nvSpPr>
              <p:spPr>
                <a:xfrm>
                  <a:off x="771480" y="2645280"/>
                  <a:ext cx="2167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Object 271"/>
                <p:cNvSpPr txBox="1"/>
                <p:nvPr/>
              </p:nvSpPr>
              <p:spPr>
                <a:xfrm>
                  <a:off x="2360520" y="2652840"/>
                  <a:ext cx="21600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272"/>
                <p:cNvSpPr txBox="1"/>
                <p:nvPr/>
              </p:nvSpPr>
              <p:spPr>
                <a:xfrm>
                  <a:off x="4043160" y="2606760"/>
                  <a:ext cx="21600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heel spokes="8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"/>
                            </p:stCondLst>
                            <p:childTnLst>
                              <p:par>
                                <p:cTn id="41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577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577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77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76960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6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62480" y="1744560"/>
            <a:ext cx="55800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окрестностях пруда четыре болота. В каждом болоте по 58 кочек, а на каждой кочке живет   по шесть лягушек. Каждая лягушка мечтает стать лягушкой-путешественнице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колько нужно уток, чтобы осуществилась их мечт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Надеюсь, вы не забыли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пособ передвижения лягушки-путешественницы по воздуху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Лягушка2"/>
          <p:cNvPicPr/>
          <p:nvPr/>
        </p:nvPicPr>
        <p:blipFill>
          <a:blip r:embed="rId1"/>
          <a:srcRect l="6567" t="4325" r="7000" b="5396"/>
          <a:stretch/>
        </p:blipFill>
        <p:spPr>
          <a:xfrm>
            <a:off x="1409760" y="232092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Лягушка2"/>
          <p:cNvPicPr/>
          <p:nvPr/>
        </p:nvPicPr>
        <p:blipFill>
          <a:blip r:embed="rId2"/>
          <a:srcRect l="6567" t="4325" r="7000" b="5396"/>
          <a:stretch/>
        </p:blipFill>
        <p:spPr>
          <a:xfrm>
            <a:off x="169920" y="29988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Лягушка2"/>
          <p:cNvPicPr/>
          <p:nvPr/>
        </p:nvPicPr>
        <p:blipFill>
          <a:blip r:embed="rId3"/>
          <a:srcRect l="7002" t="4321" r="6561" b="5392"/>
          <a:stretch/>
        </p:blipFill>
        <p:spPr>
          <a:xfrm>
            <a:off x="1795320" y="3767040"/>
            <a:ext cx="1764000" cy="1490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Лягушка2"/>
          <p:cNvPicPr/>
          <p:nvPr/>
        </p:nvPicPr>
        <p:blipFill>
          <a:blip r:embed="rId4"/>
          <a:srcRect l="6567" t="4325" r="7000" b="5396"/>
          <a:stretch/>
        </p:blipFill>
        <p:spPr>
          <a:xfrm>
            <a:off x="258840" y="4535640"/>
            <a:ext cx="1763640" cy="149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0"/>
                            </p:stCondLst>
                            <p:childTnLst>
                              <p:par>
                                <p:cTn id="44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238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238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238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38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238"/>
                            </p:stCondLst>
                            <p:childTnLst>
                              <p:par>
                                <p:cTn id="4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238"/>
                            </p:stCondLst>
                            <p:childTnLst>
                              <p:par>
                                <p:cTn id="5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238"/>
                            </p:stCondLst>
                            <p:childTnLst>
                              <p:par>
                                <p:cTn id="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1" descr=""/>
          <p:cNvPicPr/>
          <p:nvPr/>
        </p:nvPicPr>
        <p:blipFill>
          <a:blip r:embed="rId1">
            <a:lum contrast="48000"/>
          </a:blip>
          <a:srcRect l="18395" t="1473" r="19478" b="68668"/>
          <a:stretch/>
        </p:blipFill>
        <p:spPr>
          <a:xfrm>
            <a:off x="1646280" y="1774800"/>
            <a:ext cx="1882800" cy="132084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miter/>
          </a:ln>
        </p:spPr>
      </p:pic>
      <p:pic>
        <p:nvPicPr>
          <p:cNvPr id="166" name="Picture 23" descr=""/>
          <p:cNvPicPr/>
          <p:nvPr/>
        </p:nvPicPr>
        <p:blipFill>
          <a:blip r:embed="rId2">
            <a:lum contrast="48000"/>
          </a:blip>
          <a:srcRect l="18395" t="34413" r="19246" b="35558"/>
          <a:stretch/>
        </p:blipFill>
        <p:spPr>
          <a:xfrm>
            <a:off x="3630600" y="1766880"/>
            <a:ext cx="1940040" cy="1333440"/>
          </a:xfrm>
          <a:prstGeom prst="rect">
            <a:avLst/>
          </a:prstGeom>
          <a:ln w="25560">
            <a:solidFill>
              <a:srgbClr val="0000ff"/>
            </a:solidFill>
            <a:prstDash val="sysDot"/>
            <a:miter/>
          </a:ln>
        </p:spPr>
      </p:pic>
      <p:pic>
        <p:nvPicPr>
          <p:cNvPr id="167" name="Picture 22" descr=""/>
          <p:cNvPicPr/>
          <p:nvPr/>
        </p:nvPicPr>
        <p:blipFill>
          <a:blip r:embed="rId3">
            <a:lum contrast="48000"/>
          </a:blip>
          <a:srcRect l="18241" t="67905" r="19478" b="1909"/>
          <a:stretch/>
        </p:blipFill>
        <p:spPr>
          <a:xfrm>
            <a:off x="5673600" y="1773360"/>
            <a:ext cx="1855800" cy="1344600"/>
          </a:xfrm>
          <a:prstGeom prst="rect">
            <a:avLst/>
          </a:prstGeom>
          <a:ln w="25560">
            <a:solidFill>
              <a:srgbClr val="008000"/>
            </a:solidFill>
            <a:prstDash val="sysDot"/>
            <a:miter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76960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7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9" name="Picture 30" descr="Рисунок31"/>
          <p:cNvPicPr/>
          <p:nvPr/>
        </p:nvPicPr>
        <p:blipFill>
          <a:blip r:embed="rId4"/>
          <a:stretch/>
        </p:blipFill>
        <p:spPr>
          <a:xfrm>
            <a:off x="2165400" y="3144960"/>
            <a:ext cx="49370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"/>
                            </p:stCondLst>
                            <p:childTnLst>
                              <p:par>
                                <p:cTn id="54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238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238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238"/>
                            </p:stCondLst>
                            <p:childTnLst>
                              <p:par>
                                <p:cTn id="5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238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8480" y="645840"/>
            <a:ext cx="87613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помощь Буратино всем большое спасибо!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1" name="Picture 11" descr="буратино 2"/>
          <p:cNvPicPr/>
          <p:nvPr/>
        </p:nvPicPr>
        <p:blipFill>
          <a:blip r:embed="rId1">
            <a:lum contrast="18000"/>
          </a:blip>
          <a:srcRect l="2222" t="0" r="8418" b="6553"/>
          <a:stretch/>
        </p:blipFill>
        <p:spPr>
          <a:xfrm>
            <a:off x="539640" y="1773360"/>
            <a:ext cx="3049560" cy="4432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7080" y="2195640"/>
            <a:ext cx="454644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долев так много испыт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 оказались у двери в Мир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Входите в неё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жу вам я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бро пожаловать, друзь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8200"/>
                            </p:stCondLst>
                            <p:childTnLst>
                              <p:par>
                                <p:cTn id="62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34680"/>
            <a:ext cx="770436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560" y="1916280"/>
            <a:ext cx="84042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Соперникам по очереди задаются вопросы. Будьте внимательны, так как некоторые из них адресованы всему классу. В этом случае отвечает та команда, участники которой первыми поднимут ру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Если команда не может ответить на вопрос или дает неправильный ответ, то право ответа предоставляется соперн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За каждый правильный ответ команда получает 1 бал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 зависимости от количества набранных баллов, в конце урока соревнующиеся получают оцен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78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400" y="552600"/>
            <a:ext cx="87757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матическая версия сказки А.Толстого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Золотой ключик, или Приключения Буратино»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28880" y="2141640"/>
            <a:ext cx="521496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ире много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рустных и смеш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прожить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м нельзя без н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усть герои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рят нам теп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усть добро нав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беждает зло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200"/>
                            </p:stCondLst>
                            <p:childTnLst>
                              <p:par>
                                <p:cTn id="6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4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4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4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320" y="547200"/>
            <a:ext cx="87980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1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0840" y="1716120"/>
            <a:ext cx="42224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 числа, в которых цифры заменены звездочками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и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;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32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и 31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гадайте корни урав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5 ·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4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1 = 1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йдите значение вы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69 · 27 + 3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2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202 · 87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10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8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6" descr="Копия snap421"/>
          <p:cNvPicPr/>
          <p:nvPr/>
        </p:nvPicPr>
        <p:blipFill>
          <a:blip r:embed="rId1"/>
          <a:stretch/>
        </p:blipFill>
        <p:spPr>
          <a:xfrm>
            <a:off x="4905360" y="1808280"/>
            <a:ext cx="308628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238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238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238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238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38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238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238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238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38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238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238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238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238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188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2160" y="2569680"/>
            <a:ext cx="551196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Буратино лег спать пораньше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семь часов вечера, предварительно заведя будильник на восемь часов с тем, чтобы встать утр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колько часов он проспал, пока его не разбудил будильник?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131"/>
          <p:cNvPicPr/>
          <p:nvPr/>
        </p:nvPicPr>
        <p:blipFill>
          <a:blip r:embed="rId1"/>
          <a:stretch/>
        </p:blipFill>
        <p:spPr>
          <a:xfrm>
            <a:off x="539640" y="2205000"/>
            <a:ext cx="257328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50"/>
                            </p:stCondLst>
                            <p:childTnLst>
                              <p:par>
                                <p:cTn id="22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857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857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857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857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8880" y="2199960"/>
            <a:ext cx="5985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У Буратино в комоде лежали вперемежку три пары чулок с красными полосками и 5 пар чулок с синими полоск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Какое наименьшее число чулок он должен взять из комода в темноте, чтобы иметь не менее пары чулок одного цвета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snap0003"/>
          <p:cNvPicPr/>
          <p:nvPr/>
        </p:nvPicPr>
        <p:blipFill>
          <a:blip r:embed="rId1"/>
          <a:stretch/>
        </p:blipFill>
        <p:spPr>
          <a:xfrm>
            <a:off x="560520" y="2182680"/>
            <a:ext cx="203976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"/>
                            </p:stCondLst>
                            <p:childTnLst>
                              <p:par>
                                <p:cTn id="25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37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37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37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1" descr="Карабас"/>
          <p:cNvPicPr/>
          <p:nvPr/>
        </p:nvPicPr>
        <p:blipFill>
          <a:blip r:embed="rId1"/>
          <a:srcRect l="9553" t="10575" r="9118" b="1815"/>
          <a:stretch/>
        </p:blipFill>
        <p:spPr>
          <a:xfrm>
            <a:off x="1187280" y="2087640"/>
            <a:ext cx="2297160" cy="3504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51440" y="2342880"/>
            <a:ext cx="476712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Одна утка на вертеле жарится до готовности один ча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За сколько часов зажарятся на одном вертеле сразу две утк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50"/>
                            </p:stCondLst>
                            <p:childTnLst>
                              <p:par>
                                <p:cTn id="28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217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217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217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461880"/>
            <a:ext cx="769644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7600" y="2108160"/>
            <a:ext cx="43182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Найдите корень уравн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х + 3)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7 = 133;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81 – 8х = 45;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24 : (х – 14) = 31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Рисунок121"/>
          <p:cNvPicPr/>
          <p:nvPr/>
        </p:nvPicPr>
        <p:blipFill>
          <a:blip r:embed="rId1"/>
          <a:stretch/>
        </p:blipFill>
        <p:spPr>
          <a:xfrm>
            <a:off x="4613400" y="1779480"/>
            <a:ext cx="3592440" cy="424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"/>
                            </p:stCondLst>
                            <p:childTnLst>
                              <p:par>
                                <p:cTn id="319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38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38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238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238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238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238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38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238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5202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4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2100240"/>
            <a:ext cx="5959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Лиса Алиса и кот Базилио  посоветовали Буратино вырыть три ям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первую ямку положить </a:t>
            </a:r>
            <a:r>
              <a:rPr b="1" i="1" lang="ru-RU" sz="25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 монет, во вторую – на три монеты меньше, чем в первую, а в третью – в два раза больше, чем во вторую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оставьте уравнение и запишите его в тетрадях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Рисунок21"/>
          <p:cNvPicPr/>
          <p:nvPr/>
        </p:nvPicPr>
        <p:blipFill>
          <a:blip r:embed="rId1"/>
          <a:stretch/>
        </p:blipFill>
        <p:spPr>
          <a:xfrm>
            <a:off x="330120" y="1830240"/>
            <a:ext cx="268920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"/>
                            </p:stCondLst>
                            <p:childTnLst>
                              <p:par>
                                <p:cTn id="38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238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238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238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238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5:41:58Z</dcterms:created>
  <dc:creator>Зайцев Анатолий Семенович</dc:creator>
  <dc:description/>
  <dc:language>en-US</dc:language>
  <cp:lastModifiedBy>Учитель</cp:lastModifiedBy>
  <dcterms:modified xsi:type="dcterms:W3CDTF">2009-10-16T04:26:17Z</dcterms:modified>
  <cp:revision>53</cp:revision>
  <dc:subject/>
  <dc:title>Натуральные числа урок-сказка</dc:title>
</cp:coreProperties>
</file>