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14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  <p:custShowLst>
    <p:custShow name="Произвольный показ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7393-67D3-4BDE-B269-F4F255A1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226D-171D-428C-B39C-4F7B3121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C45F-0F65-44A2-A8AE-F57EB881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CA75-4D0B-4C9B-83B2-4BC2A673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4E80-9077-487F-8B68-179CC533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1FE3-B059-4885-AE3D-2DF676D4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C876-3164-4034-9B4F-3EF39A39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4DA1-028D-4ECE-A652-081053EB5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9A3E-E897-4149-A7AC-28276B82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1BA-821F-45A8-B057-22479FD7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A070-1DE5-450F-8729-38C1F39A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772-1EB7-4444-8E80-A9461668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D588-67CB-496A-961B-230D0023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3B779-7E3F-474A-BE5C-44A5330F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6EAF-9048-4A42-A4D3-8576D834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E59-BD69-4BC2-9587-CDBC1355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A69B-704F-44D7-AE53-5D8363A41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90D1-D1DB-43E7-9484-CBF255B2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61A4-7C18-46BD-8ABC-865BE17E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3F9-6FDF-4548-A5DF-9BF3312B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609-CA12-46F6-8403-87271622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6F3-6868-47C4-9579-3862B680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FD6C-1EFA-4BE3-8895-9770BEFF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B815-583E-4926-9B2A-F1CEB8DF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6B7A-D762-4AFF-A0AB-283910DE4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50000">
              <a:srgbClr val="ffff99"/>
            </a:gs>
            <a:gs pos="100000">
              <a:srgbClr val="66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85347-1E05-421A-9F0C-19116911D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1076400" y="273528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ТУРАЛЬН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ЧИС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4546440" y="678960"/>
            <a:ext cx="393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рок-сорев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ля пяти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snap0011"/>
          <p:cNvPicPr/>
          <p:nvPr/>
        </p:nvPicPr>
        <p:blipFill>
          <a:blip r:embed="rId1"/>
          <a:stretch/>
        </p:blipFill>
        <p:spPr>
          <a:xfrm>
            <a:off x="787320" y="241200"/>
            <a:ext cx="971640" cy="1432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400"/>
                            </p:stCondLst>
                            <p:childTnLst>
                              <p:par>
                                <p:cTn id="1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4640" y="326880"/>
            <a:ext cx="769608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5</a:t>
            </a:r>
            <a:br>
              <a:rPr sz="32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пкое болото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816080" y="2276640"/>
            <a:ext cx="432756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оследуйте за Буратино по математическим к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Не торопитесь при выполнении вычислений, а то можете соскользнуть с кочки и увязнуть в болоте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29"/>
          <p:cNvGrpSpPr/>
          <p:nvPr/>
        </p:nvGrpSpPr>
        <p:grpSpPr>
          <a:xfrm>
            <a:off x="188280" y="1737000"/>
            <a:ext cx="4556880" cy="4520520"/>
            <a:chOff x="188280" y="1737000"/>
            <a:chExt cx="4556880" cy="4520520"/>
          </a:xfrm>
        </p:grpSpPr>
        <p:sp>
          <p:nvSpPr>
            <p:cNvPr id="116" name="AutoShape 230"/>
            <p:cNvSpPr/>
            <p:nvPr/>
          </p:nvSpPr>
          <p:spPr>
            <a:xfrm>
              <a:off x="281160" y="1916280"/>
              <a:ext cx="4464000" cy="416232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231"/>
            <p:cNvSpPr/>
            <p:nvPr/>
          </p:nvSpPr>
          <p:spPr>
            <a:xfrm rot="2665800">
              <a:off x="378720" y="45010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232"/>
            <p:cNvSpPr/>
            <p:nvPr/>
          </p:nvSpPr>
          <p:spPr>
            <a:xfrm rot="2665800">
              <a:off x="3691440" y="448344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233"/>
            <p:cNvSpPr/>
            <p:nvPr/>
          </p:nvSpPr>
          <p:spPr>
            <a:xfrm rot="2665800">
              <a:off x="2064600" y="45010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234"/>
            <p:cNvSpPr/>
            <p:nvPr/>
          </p:nvSpPr>
          <p:spPr>
            <a:xfrm rot="2665800">
              <a:off x="355680" y="36378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35"/>
            <p:cNvSpPr/>
            <p:nvPr/>
          </p:nvSpPr>
          <p:spPr>
            <a:xfrm rot="2665800">
              <a:off x="2022120" y="362952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36"/>
            <p:cNvSpPr/>
            <p:nvPr/>
          </p:nvSpPr>
          <p:spPr>
            <a:xfrm rot="2665800">
              <a:off x="3659760" y="3628440"/>
              <a:ext cx="816120" cy="7441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7"/>
            <p:cNvSpPr/>
            <p:nvPr/>
          </p:nvSpPr>
          <p:spPr>
            <a:xfrm rot="2665800">
              <a:off x="356040" y="28188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38"/>
            <p:cNvSpPr/>
            <p:nvPr/>
          </p:nvSpPr>
          <p:spPr>
            <a:xfrm rot="2665800">
              <a:off x="332280" y="1956960"/>
              <a:ext cx="815760" cy="74448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39"/>
            <p:cNvSpPr/>
            <p:nvPr/>
          </p:nvSpPr>
          <p:spPr>
            <a:xfrm rot="2665800">
              <a:off x="1981440" y="278964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240"/>
            <p:cNvSpPr/>
            <p:nvPr/>
          </p:nvSpPr>
          <p:spPr>
            <a:xfrm rot="2665800">
              <a:off x="3645360" y="277272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241"/>
            <p:cNvSpPr/>
            <p:nvPr/>
          </p:nvSpPr>
          <p:spPr>
            <a:xfrm rot="2665800">
              <a:off x="1945440" y="195912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42"/>
            <p:cNvSpPr/>
            <p:nvPr/>
          </p:nvSpPr>
          <p:spPr>
            <a:xfrm rot="2665800">
              <a:off x="3608280" y="1916280"/>
              <a:ext cx="816120" cy="74412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243"/>
            <p:cNvSpPr/>
            <p:nvPr/>
          </p:nvSpPr>
          <p:spPr>
            <a:xfrm rot="2665800">
              <a:off x="398520" y="53100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8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4"/>
            <p:cNvSpPr/>
            <p:nvPr/>
          </p:nvSpPr>
          <p:spPr>
            <a:xfrm rot="2665800">
              <a:off x="2047320" y="5333400"/>
              <a:ext cx="81576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45"/>
            <p:cNvSpPr/>
            <p:nvPr/>
          </p:nvSpPr>
          <p:spPr>
            <a:xfrm rot="2665800">
              <a:off x="3722400" y="5318280"/>
              <a:ext cx="816120" cy="744840"/>
            </a:xfrm>
            <a:prstGeom prst="irregularSeal2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80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46"/>
            <p:cNvSpPr/>
            <p:nvPr/>
          </p:nvSpPr>
          <p:spPr>
            <a:xfrm>
              <a:off x="794160" y="511704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47"/>
            <p:cNvSpPr/>
            <p:nvPr/>
          </p:nvSpPr>
          <p:spPr>
            <a:xfrm flipH="1">
              <a:off x="710280" y="42400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48"/>
            <p:cNvSpPr/>
            <p:nvPr/>
          </p:nvSpPr>
          <p:spPr>
            <a:xfrm>
              <a:off x="2467800" y="5119200"/>
              <a:ext cx="10620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49"/>
            <p:cNvSpPr/>
            <p:nvPr/>
          </p:nvSpPr>
          <p:spPr>
            <a:xfrm>
              <a:off x="4111200" y="510336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0"/>
            <p:cNvSpPr/>
            <p:nvPr/>
          </p:nvSpPr>
          <p:spPr>
            <a:xfrm>
              <a:off x="762480" y="342684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51"/>
            <p:cNvSpPr/>
            <p:nvPr/>
          </p:nvSpPr>
          <p:spPr>
            <a:xfrm>
              <a:off x="2405880" y="3411720"/>
              <a:ext cx="10548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252"/>
            <p:cNvSpPr/>
            <p:nvPr/>
          </p:nvSpPr>
          <p:spPr>
            <a:xfrm>
              <a:off x="4059720" y="3411720"/>
              <a:ext cx="106560" cy="357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53"/>
            <p:cNvSpPr/>
            <p:nvPr/>
          </p:nvSpPr>
          <p:spPr>
            <a:xfrm flipH="1">
              <a:off x="2383560" y="4248000"/>
              <a:ext cx="5436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4"/>
            <p:cNvSpPr/>
            <p:nvPr/>
          </p:nvSpPr>
          <p:spPr>
            <a:xfrm flipH="1">
              <a:off x="4020840" y="4231800"/>
              <a:ext cx="5436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55"/>
            <p:cNvSpPr/>
            <p:nvPr/>
          </p:nvSpPr>
          <p:spPr>
            <a:xfrm flipH="1">
              <a:off x="689760" y="25660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6"/>
            <p:cNvSpPr/>
            <p:nvPr/>
          </p:nvSpPr>
          <p:spPr>
            <a:xfrm flipH="1">
              <a:off x="2313000" y="254664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7"/>
            <p:cNvSpPr/>
            <p:nvPr/>
          </p:nvSpPr>
          <p:spPr>
            <a:xfrm flipH="1">
              <a:off x="3978360" y="2515680"/>
              <a:ext cx="540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head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258"/>
                <p:cNvSpPr txBox="1"/>
                <p:nvPr/>
              </p:nvSpPr>
              <p:spPr>
                <a:xfrm>
                  <a:off x="2586960" y="5181120"/>
                  <a:ext cx="3625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259"/>
                <p:cNvSpPr txBox="1"/>
                <p:nvPr/>
              </p:nvSpPr>
              <p:spPr>
                <a:xfrm>
                  <a:off x="894600" y="5169240"/>
                  <a:ext cx="37368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6" name="Object 260"/>
                <p:cNvSpPr txBox="1"/>
                <p:nvPr/>
              </p:nvSpPr>
              <p:spPr>
                <a:xfrm>
                  <a:off x="4217040" y="5172840"/>
                  <a:ext cx="36180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7" name="Object 261"/>
                <p:cNvSpPr txBox="1"/>
                <p:nvPr/>
              </p:nvSpPr>
              <p:spPr>
                <a:xfrm>
                  <a:off x="775800" y="433872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785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8" name="Object 262"/>
                <p:cNvSpPr txBox="1"/>
                <p:nvPr/>
              </p:nvSpPr>
              <p:spPr>
                <a:xfrm>
                  <a:off x="2450160" y="434628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136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263"/>
                <p:cNvSpPr txBox="1"/>
                <p:nvPr/>
              </p:nvSpPr>
              <p:spPr>
                <a:xfrm>
                  <a:off x="4098960" y="4338720"/>
                  <a:ext cx="5893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+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04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0" name="Object 264"/>
                <p:cNvSpPr txBox="1"/>
                <p:nvPr/>
              </p:nvSpPr>
              <p:spPr>
                <a:xfrm>
                  <a:off x="648360" y="5573160"/>
                  <a:ext cx="283320" cy="19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27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1" name="Object 265"/>
                <p:cNvSpPr txBox="1"/>
                <p:nvPr/>
              </p:nvSpPr>
              <p:spPr>
                <a:xfrm>
                  <a:off x="3988080" y="5565240"/>
                  <a:ext cx="283320" cy="20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3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266"/>
                <p:cNvSpPr txBox="1"/>
                <p:nvPr/>
              </p:nvSpPr>
              <p:spPr>
                <a:xfrm>
                  <a:off x="2283480" y="5584680"/>
                  <a:ext cx="297360" cy="19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4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267"/>
                <p:cNvSpPr txBox="1"/>
                <p:nvPr/>
              </p:nvSpPr>
              <p:spPr>
                <a:xfrm>
                  <a:off x="864360" y="3499200"/>
                  <a:ext cx="60372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436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268"/>
                <p:cNvSpPr txBox="1"/>
                <p:nvPr/>
              </p:nvSpPr>
              <p:spPr>
                <a:xfrm>
                  <a:off x="2500920" y="3500640"/>
                  <a:ext cx="5914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2184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5" name="Object 269"/>
                <p:cNvSpPr txBox="1"/>
                <p:nvPr/>
              </p:nvSpPr>
              <p:spPr>
                <a:xfrm>
                  <a:off x="4153320" y="3483360"/>
                  <a:ext cx="59148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3279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6" name="Object 270"/>
                <p:cNvSpPr txBox="1"/>
                <p:nvPr/>
              </p:nvSpPr>
              <p:spPr>
                <a:xfrm>
                  <a:off x="771480" y="2645280"/>
                  <a:ext cx="21672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7" name="Object 271"/>
                <p:cNvSpPr txBox="1"/>
                <p:nvPr/>
              </p:nvSpPr>
              <p:spPr>
                <a:xfrm>
                  <a:off x="2360520" y="2652840"/>
                  <a:ext cx="216000" cy="20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8" name="Object 272"/>
                <p:cNvSpPr txBox="1"/>
                <p:nvPr/>
              </p:nvSpPr>
              <p:spPr>
                <a:xfrm>
                  <a:off x="4043160" y="2606760"/>
                  <a:ext cx="216000" cy="20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:</m:t>
                      </m:r>
                      <m:r>
                        <m:t xml:space="preserve"> 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 spd="med">
    <p:wheel spokes="8"/>
    <p:sndAc>
      <p:stSnd>
        <p:snd r:embed="rId1" name="chimes.wav"/>
      </p:stSnd>
    </p:sndAc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"/>
                            </p:stCondLst>
                            <p:childTnLst>
                              <p:par>
                                <p:cTn id="41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577"/>
                            </p:stCondLst>
                            <p:childTnLst>
                              <p:par>
                                <p:cTn id="4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6577"/>
                            </p:stCondLst>
                            <p:childTnLst>
                              <p:par>
                                <p:cTn id="4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77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76960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6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62480" y="1744560"/>
            <a:ext cx="55800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окрестностях пруда четыре болота. В каждом болоте по 58 кочек, а на каждой кочке живет   по шесть лягушек. Каждая лягушка мечтает стать лягушкой-путешественнице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колько нужно уток, чтобы осуществилась их мечта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Надеюсь, вы не забыли 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пособ передвижения лягушки-путешественницы по воздуху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Лягушка2"/>
          <p:cNvPicPr/>
          <p:nvPr/>
        </p:nvPicPr>
        <p:blipFill>
          <a:blip r:embed="rId1"/>
          <a:srcRect l="6567" t="4325" r="7000" b="5396"/>
          <a:stretch/>
        </p:blipFill>
        <p:spPr>
          <a:xfrm>
            <a:off x="1409760" y="232092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Лягушка2"/>
          <p:cNvPicPr/>
          <p:nvPr/>
        </p:nvPicPr>
        <p:blipFill>
          <a:blip r:embed="rId2"/>
          <a:srcRect l="6567" t="4325" r="7000" b="5396"/>
          <a:stretch/>
        </p:blipFill>
        <p:spPr>
          <a:xfrm>
            <a:off x="169920" y="2998800"/>
            <a:ext cx="1763640" cy="1490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Лягушка2"/>
          <p:cNvPicPr/>
          <p:nvPr/>
        </p:nvPicPr>
        <p:blipFill>
          <a:blip r:embed="rId3"/>
          <a:srcRect l="7002" t="4321" r="6561" b="5392"/>
          <a:stretch/>
        </p:blipFill>
        <p:spPr>
          <a:xfrm>
            <a:off x="1795320" y="3767040"/>
            <a:ext cx="1764000" cy="1490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Лягушка2"/>
          <p:cNvPicPr/>
          <p:nvPr/>
        </p:nvPicPr>
        <p:blipFill>
          <a:blip r:embed="rId4"/>
          <a:srcRect l="6567" t="4325" r="7000" b="5396"/>
          <a:stretch/>
        </p:blipFill>
        <p:spPr>
          <a:xfrm>
            <a:off x="258840" y="4535640"/>
            <a:ext cx="1763640" cy="1490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900"/>
                            </p:stCondLst>
                            <p:childTnLst>
                              <p:par>
                                <p:cTn id="44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4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238"/>
                            </p:stCondLst>
                            <p:childTnLst>
                              <p:par>
                                <p:cTn id="45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238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238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38"/>
                            </p:stCondLst>
                            <p:childTnLst>
                              <p:par>
                                <p:cTn id="4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7238"/>
                            </p:stCondLst>
                            <p:childTnLst>
                              <p:par>
                                <p:cTn id="4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8238"/>
                            </p:stCondLst>
                            <p:childTnLst>
                              <p:par>
                                <p:cTn id="5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9238"/>
                            </p:stCondLst>
                            <p:childTnLst>
                              <p:par>
                                <p:cTn id="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1" descr=""/>
          <p:cNvPicPr/>
          <p:nvPr/>
        </p:nvPicPr>
        <p:blipFill>
          <a:blip r:embed="rId1">
            <a:lum contrast="48000"/>
          </a:blip>
          <a:srcRect l="18395" t="1473" r="19478" b="68668"/>
          <a:stretch/>
        </p:blipFill>
        <p:spPr>
          <a:xfrm>
            <a:off x="1646280" y="1774800"/>
            <a:ext cx="1882800" cy="132084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miter/>
          </a:ln>
        </p:spPr>
      </p:pic>
      <p:pic>
        <p:nvPicPr>
          <p:cNvPr id="166" name="Picture 23" descr=""/>
          <p:cNvPicPr/>
          <p:nvPr/>
        </p:nvPicPr>
        <p:blipFill>
          <a:blip r:embed="rId2">
            <a:lum contrast="48000"/>
          </a:blip>
          <a:srcRect l="18395" t="34413" r="19246" b="35558"/>
          <a:stretch/>
        </p:blipFill>
        <p:spPr>
          <a:xfrm>
            <a:off x="3630600" y="1766880"/>
            <a:ext cx="1940040" cy="1333440"/>
          </a:xfrm>
          <a:prstGeom prst="rect">
            <a:avLst/>
          </a:prstGeom>
          <a:ln w="25560">
            <a:solidFill>
              <a:srgbClr val="0000ff"/>
            </a:solidFill>
            <a:prstDash val="sysDot"/>
            <a:miter/>
          </a:ln>
        </p:spPr>
      </p:pic>
      <p:pic>
        <p:nvPicPr>
          <p:cNvPr id="167" name="Picture 22" descr=""/>
          <p:cNvPicPr/>
          <p:nvPr/>
        </p:nvPicPr>
        <p:blipFill>
          <a:blip r:embed="rId3">
            <a:lum contrast="48000"/>
          </a:blip>
          <a:srcRect l="18241" t="67905" r="19478" b="1909"/>
          <a:stretch/>
        </p:blipFill>
        <p:spPr>
          <a:xfrm>
            <a:off x="5673600" y="1773360"/>
            <a:ext cx="1855800" cy="1344600"/>
          </a:xfrm>
          <a:prstGeom prst="rect">
            <a:avLst/>
          </a:prstGeom>
          <a:ln w="25560">
            <a:solidFill>
              <a:srgbClr val="008000"/>
            </a:solidFill>
            <a:prstDash val="sysDot"/>
            <a:miter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31800" y="549000"/>
            <a:ext cx="769608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7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9" name="Picture 30" descr="Рисунок31"/>
          <p:cNvPicPr/>
          <p:nvPr/>
        </p:nvPicPr>
        <p:blipFill>
          <a:blip r:embed="rId4"/>
          <a:stretch/>
        </p:blipFill>
        <p:spPr>
          <a:xfrm>
            <a:off x="2165400" y="3144960"/>
            <a:ext cx="4937040" cy="3325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5" name="chimes.wav"/>
      </p:stSnd>
    </p:sndAc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900"/>
                            </p:stCondLst>
                            <p:childTnLst>
                              <p:par>
                                <p:cTn id="54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4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3238"/>
                            </p:stCondLst>
                            <p:childTnLst>
                              <p:par>
                                <p:cTn id="5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4238"/>
                            </p:stCondLst>
                            <p:childTnLst>
                              <p:par>
                                <p:cTn id="5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238"/>
                            </p:stCondLst>
                            <p:childTnLst>
                              <p:par>
                                <p:cTn id="5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238"/>
                            </p:stCondLst>
                            <p:childTnLst>
                              <p:par>
                                <p:cTn id="5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58480" y="645840"/>
            <a:ext cx="8761320" cy="6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 помощь Буратино всем большое спасибо!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1" name="Picture 11" descr="буратино 2"/>
          <p:cNvPicPr/>
          <p:nvPr/>
        </p:nvPicPr>
        <p:blipFill>
          <a:blip r:embed="rId1">
            <a:lum contrast="18000"/>
          </a:blip>
          <a:srcRect l="2222" t="0" r="8418" b="6553"/>
          <a:stretch/>
        </p:blipFill>
        <p:spPr>
          <a:xfrm>
            <a:off x="539640" y="1773360"/>
            <a:ext cx="3049560" cy="443232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97080" y="2195640"/>
            <a:ext cx="4546440" cy="36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реодолев так много испытан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ы оказались у двери в Мир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Входите в неё,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кажу вам я.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обро пожаловать, друзья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3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4000"/>
                            </p:stCondLst>
                            <p:childTnLst>
                              <p:par>
                                <p:cTn id="6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5000"/>
                            </p:stCondLst>
                            <p:childTnLst>
                              <p:par>
                                <p:cTn id="6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6000"/>
                            </p:stCondLst>
                            <p:childTnLst>
                              <p:par>
                                <p:cTn id="6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8200"/>
                            </p:stCondLst>
                            <p:childTnLst>
                              <p:par>
                                <p:cTn id="62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634680"/>
            <a:ext cx="770436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вила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2560" y="1916280"/>
            <a:ext cx="84042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Соперникам по очереди задаются вопросы. Будьте внимательны, так как некоторые из них адресованы всему классу. В этом случае отвечает та команда, участники которой первыми поднимут ру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Если команда не может ответить на вопрос или дает неправильный ответ, то право ответа предоставляется соперн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За каждый правильный ответ команда получает 1 бал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В зависимости от количества набранных баллов, в конце урока соревнующиеся получают оцен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800"/>
                            </p:stCondLst>
                            <p:childTnLst>
                              <p:par>
                                <p:cTn id="34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878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8400" y="552600"/>
            <a:ext cx="877572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тематическая версия сказки А.Толстого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«Золотой ключик, или Приключения Буратино»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28880" y="2141640"/>
            <a:ext cx="521496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мире много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Грустных и смеш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 прожить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м нельзя без них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усть герои сказ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арят нам тепл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усть добро наве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беждает зло!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200"/>
                            </p:stCondLst>
                            <p:childTnLst>
                              <p:par>
                                <p:cTn id="6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40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94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14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4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44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4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6320" y="547200"/>
            <a:ext cx="879804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1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80840" y="1716120"/>
            <a:ext cx="422244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равните числа, в которых цифры заменены звездочками: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и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;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32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и 31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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гадайте корни уравн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5 ·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=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x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4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;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y </a:t>
            </a:r>
            <a:r>
              <a:rPr b="1" lang="en-US" sz="22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1 = 15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йдите значение выраж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а) 69 · 27 + 31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27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б) 202 · 87 </a:t>
            </a:r>
            <a:r>
              <a:rPr b="1" lang="ru-RU" sz="2200" spc="-1" strike="noStrike">
                <a:solidFill>
                  <a:srgbClr val="0000ff"/>
                </a:solidFill>
                <a:latin typeface="Symbol"/>
                <a:ea typeface="Symbol"/>
              </a:rPr>
              <a:t>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102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· 87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6" descr="Копия snap421"/>
          <p:cNvPicPr/>
          <p:nvPr/>
        </p:nvPicPr>
        <p:blipFill>
          <a:blip r:embed="rId1"/>
          <a:stretch/>
        </p:blipFill>
        <p:spPr>
          <a:xfrm>
            <a:off x="4905360" y="1808280"/>
            <a:ext cx="3086280" cy="4390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238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238"/>
                            </p:stCondLst>
                            <p:childTnLst>
                              <p:par>
                                <p:cTn id="1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238"/>
                            </p:stCondLst>
                            <p:childTnLst>
                              <p:par>
                                <p:cTn id="1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6238"/>
                            </p:stCondLst>
                            <p:childTnLst>
                              <p:par>
                                <p:cTn id="1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7238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238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9238"/>
                            </p:stCondLst>
                            <p:childTnLst>
                              <p:par>
                                <p:cTn id="1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238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1238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2238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3238"/>
                            </p:stCondLst>
                            <p:childTnLst>
                              <p:par>
                                <p:cTn id="1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6" dur="1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238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238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188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2160" y="2569680"/>
            <a:ext cx="5511960" cy="36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Буратино лег спать пораньше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семь часов вечера, предварительно заведя будильник на восемь часов с тем, чтобы встать утро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колько часов он проспал, пока его не разбудил будильник?</a:t>
            </a:r>
            <a:r>
              <a:rPr b="0" lang="ru-RU" sz="25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234131"/>
          <p:cNvPicPr/>
          <p:nvPr/>
        </p:nvPicPr>
        <p:blipFill>
          <a:blip r:embed="rId1"/>
          <a:stretch/>
        </p:blipFill>
        <p:spPr>
          <a:xfrm>
            <a:off x="539640" y="2205000"/>
            <a:ext cx="2573280" cy="2613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350"/>
                            </p:stCondLst>
                            <p:childTnLst>
                              <p:par>
                                <p:cTn id="22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857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857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857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857"/>
                            </p:stCondLst>
                            <p:childTnLst>
                              <p:par>
                                <p:cTn id="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4759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918880" y="2199960"/>
            <a:ext cx="59850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У Буратино в комоде лежали вперемежку три пары чулок с красными полосками и 5 пар чулок с синими полоскам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Какое наименьшее число чулок он должен взять из комода в темноте, чтобы иметь не менее пары чулок одного цвета?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snap0003"/>
          <p:cNvPicPr/>
          <p:nvPr/>
        </p:nvPicPr>
        <p:blipFill>
          <a:blip r:embed="rId1"/>
          <a:stretch/>
        </p:blipFill>
        <p:spPr>
          <a:xfrm>
            <a:off x="560520" y="2182680"/>
            <a:ext cx="203976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"/>
                            </p:stCondLst>
                            <p:childTnLst>
                              <p:par>
                                <p:cTn id="257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5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37"/>
                            </p:stCondLst>
                            <p:childTnLst>
                              <p:par>
                                <p:cTn id="2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037"/>
                            </p:stCondLst>
                            <p:childTnLst>
                              <p:par>
                                <p:cTn id="2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0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037"/>
                            </p:stCondLst>
                            <p:childTnLst>
                              <p:par>
                                <p:cTn id="2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1" descr="Карабас"/>
          <p:cNvPicPr/>
          <p:nvPr/>
        </p:nvPicPr>
        <p:blipFill>
          <a:blip r:embed="rId1"/>
          <a:srcRect l="9553" t="10575" r="9118" b="1815"/>
          <a:stretch/>
        </p:blipFill>
        <p:spPr>
          <a:xfrm>
            <a:off x="1187280" y="2087640"/>
            <a:ext cx="2297160" cy="35049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2 </a:t>
            </a:r>
            <a:br>
              <a:rPr sz="32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51440" y="2342880"/>
            <a:ext cx="4767120" cy="33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Одна утка на вертеле жарится до готовности один час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За сколько часов зажарятся на одном вертеле сразу две утки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  <p:sndAc>
      <p:stSnd>
        <p:snd r:embed="rId2" name="chimes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50"/>
                            </p:stCondLst>
                            <p:childTnLst>
                              <p:par>
                                <p:cTn id="288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9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217"/>
                            </p:stCondLst>
                            <p:childTnLst>
                              <p:par>
                                <p:cTn id="2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217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217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2960" y="461880"/>
            <a:ext cx="769644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7600" y="2108160"/>
            <a:ext cx="43182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Найдите корень уравн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(х + 3) </a:t>
            </a:r>
            <a:r>
              <a:rPr b="1" lang="ru-RU" sz="2800" spc="-1" strike="noStrike">
                <a:solidFill>
                  <a:srgbClr val="0000ff"/>
                </a:solidFill>
                <a:latin typeface="Symbol"/>
                <a:ea typeface="Symbol"/>
              </a:rPr>
              <a:t>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7 = 133;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81 – 8х = 45;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команд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124 : (х – 14) = 31.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2" descr="Рисунок121"/>
          <p:cNvPicPr/>
          <p:nvPr/>
        </p:nvPicPr>
        <p:blipFill>
          <a:blip r:embed="rId1"/>
          <a:stretch/>
        </p:blipFill>
        <p:spPr>
          <a:xfrm>
            <a:off x="4613400" y="1779480"/>
            <a:ext cx="3592440" cy="4240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"/>
                            </p:stCondLst>
                            <p:childTnLst>
                              <p:par>
                                <p:cTn id="319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238"/>
                            </p:stCondLst>
                            <p:childTnLst>
                              <p:par>
                                <p:cTn id="3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38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238"/>
                            </p:stCondLst>
                            <p:childTnLst>
                              <p:par>
                                <p:cTn id="3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238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238"/>
                            </p:stCondLst>
                            <p:childTnLst>
                              <p:par>
                                <p:cTn id="3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238"/>
                            </p:stCondLst>
                            <p:childTnLst>
                              <p:par>
                                <p:cTn id="3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6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9238"/>
                            </p:stCondLst>
                            <p:childTnLst>
                              <p:par>
                                <p:cTn id="3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238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74640" y="5202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Задание № 4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24080" y="2100240"/>
            <a:ext cx="59594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Лиса Алиса и кот Базилио  посоветовали Буратино вырыть три ямки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В первую ямку положить </a:t>
            </a:r>
            <a:r>
              <a:rPr b="1" i="1" lang="ru-RU" sz="25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 монет, во вторую – на три монеты меньше, чем в первую, а в третью – в два раза больше, чем во вторую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Arial"/>
              </a:rPr>
              <a:t>Составьте уравнение и запишите его в тетрадях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Рисунок21"/>
          <p:cNvPicPr/>
          <p:nvPr/>
        </p:nvPicPr>
        <p:blipFill>
          <a:blip r:embed="rId1"/>
          <a:stretch/>
        </p:blipFill>
        <p:spPr>
          <a:xfrm>
            <a:off x="330120" y="1830240"/>
            <a:ext cx="2689200" cy="3884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  <p:sndAc>
      <p:stSnd>
        <p:snd r:embed="rId2" name="chimes.wav"/>
      </p:stSnd>
    </p:sndAc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"/>
                            </p:stCondLst>
                            <p:childTnLst>
                              <p:par>
                                <p:cTn id="380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8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238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4238"/>
                            </p:stCondLst>
                            <p:childTnLst>
                              <p:par>
                                <p:cTn id="3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3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238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238"/>
                            </p:stCondLst>
                            <p:childTnLst>
                              <p:par>
                                <p:cTn id="4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2T15:41:58Z</dcterms:created>
  <dc:creator>Зайцев Анатолий Семенович</dc:creator>
  <dc:description/>
  <dc:language>en-US</dc:language>
  <cp:lastModifiedBy>Учитель</cp:lastModifiedBy>
  <dcterms:modified xsi:type="dcterms:W3CDTF">2009-10-16T04:26:17Z</dcterms:modified>
  <cp:revision>53</cp:revision>
  <dc:subject/>
  <dc:title>Натуральные числа урок-сказка</dc:title>
</cp:coreProperties>
</file>