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7EA-60B6-477F-B869-07DE66333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465-8C34-4066-AD41-57705B906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159-224A-4A7B-BC35-46AE7CE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F4D-514F-4251-AE98-52B13CF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A39-C3AE-4789-A3AF-2DAA0A69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6D8-80FD-48A6-903D-D6557C22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670-7709-48DC-B756-33A3D3B3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EB1-F97F-449F-80B2-97DCB79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947-CD1B-49DE-96C1-B9060D34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00D-B373-45BB-9426-1928C5CD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B99-2F59-4547-9F97-6EAB98D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9A9-3910-4CC9-B4EC-6763AE9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250-1377-4272-9228-C7A9D46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F85-B21D-417C-B8CD-97856BB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63D0-D3D5-4037-B6D9-D62DF8AF1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987480"/>
            <a:ext cx="7412040" cy="1774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476360" y="3573360"/>
            <a:ext cx="639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ил воспитатель МКДОУ ЦРР- детский сад №10 Брылева М.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24000" y="26028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пыхтит, как пар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ажно кверху держит но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шумит, остепенится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гласит чайку нап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чайник.jpg"/>
          <p:cNvPicPr/>
          <p:nvPr/>
        </p:nvPicPr>
        <p:blipFill>
          <a:blip r:embed="rId2"/>
          <a:stretch/>
        </p:blipFill>
        <p:spPr>
          <a:xfrm>
            <a:off x="2124000" y="2581200"/>
            <a:ext cx="4359240" cy="427680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68360" y="260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хочешь чай - любую выбира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т они - толсту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то такие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9" descr="кружка.jpg"/>
          <p:cNvPicPr/>
          <p:nvPr/>
        </p:nvPicPr>
        <p:blipFill>
          <a:blip r:embed="rId2"/>
          <a:stretch/>
        </p:blipFill>
        <p:spPr>
          <a:xfrm>
            <a:off x="5824440" y="1628640"/>
            <a:ext cx="3319560" cy="2924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кружка.jpg"/>
          <p:cNvPicPr/>
          <p:nvPr/>
        </p:nvPicPr>
        <p:blipFill>
          <a:blip r:embed="rId3"/>
          <a:stretch/>
        </p:blipFill>
        <p:spPr>
          <a:xfrm>
            <a:off x="2916360" y="3716280"/>
            <a:ext cx="3319200" cy="2924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кружка.jpg"/>
          <p:cNvPicPr/>
          <p:nvPr/>
        </p:nvPicPr>
        <p:blipFill>
          <a:blip r:embed="rId4"/>
          <a:stretch/>
        </p:blipFill>
        <p:spPr>
          <a:xfrm>
            <a:off x="179280" y="1628640"/>
            <a:ext cx="3319560" cy="292428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826920" y="105264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395280" y="2602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 пыхтит и дышит паром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к горячий пышет паром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внутри напиток – травник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– любимый мамин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заварной чайник.jpg"/>
          <p:cNvPicPr/>
          <p:nvPr/>
        </p:nvPicPr>
        <p:blipFill>
          <a:blip r:embed="rId2"/>
          <a:stretch/>
        </p:blipFill>
        <p:spPr>
          <a:xfrm>
            <a:off x="1476360" y="2421000"/>
            <a:ext cx="5900760" cy="4103640"/>
          </a:xfrm>
          <a:prstGeom prst="rect">
            <a:avLst/>
          </a:prstGeom>
          <a:ln w="0">
            <a:noFill/>
          </a:ln>
        </p:spPr>
      </p:pic>
    </p:spTree>
  </p:cSld>
  <p:transition advTm="1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5280" y="189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плите стоит горячей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кусноту под крышкой пряче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шу варит в ней мамул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учки две, одна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кастрюля.jpg"/>
          <p:cNvPicPr/>
          <p:nvPr/>
        </p:nvPicPr>
        <p:blipFill>
          <a:blip r:embed="rId2"/>
          <a:stretch/>
        </p:blipFill>
        <p:spPr>
          <a:xfrm>
            <a:off x="1547640" y="2205000"/>
            <a:ext cx="5975640" cy="465300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395280" y="404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а всем очень нравитс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блюдечке красавиц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одной рукой милашк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Желтенькая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чашка и блюдце.jpg"/>
          <p:cNvPicPr/>
          <p:nvPr/>
        </p:nvPicPr>
        <p:blipFill>
          <a:blip r:embed="rId2"/>
          <a:stretch/>
        </p:blipFill>
        <p:spPr>
          <a:xfrm>
            <a:off x="1332000" y="2492280"/>
            <a:ext cx="5904000" cy="40165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5280" y="333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оладьи, и омлет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картошку на обед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 блины – вот это да!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Жарит всё 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сковорода.jpg"/>
          <p:cNvPicPr/>
          <p:nvPr/>
        </p:nvPicPr>
        <p:blipFill>
          <a:blip r:embed="rId2"/>
          <a:stretch/>
        </p:blipFill>
        <p:spPr>
          <a:xfrm>
            <a:off x="755640" y="2205000"/>
            <a:ext cx="7488360" cy="431964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24000" y="18900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торожненько, смотри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руку ты его бери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 всегда и сам поймёшь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порежет руку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Нож 2.jpg"/>
          <p:cNvPicPr/>
          <p:nvPr/>
        </p:nvPicPr>
        <p:blipFill>
          <a:blip r:embed="rId2"/>
          <a:stretch/>
        </p:blipFill>
        <p:spPr>
          <a:xfrm>
            <a:off x="1332000" y="1844640"/>
            <a:ext cx="6696000" cy="46753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333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м столовой суп в обед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йной пробую десер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мне ещё немножко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моя большая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ложка 1.jpg"/>
          <p:cNvPicPr/>
          <p:nvPr/>
        </p:nvPicPr>
        <p:blipFill>
          <a:blip r:embed="rId2"/>
          <a:stretch/>
        </p:blipFill>
        <p:spPr>
          <a:xfrm>
            <a:off x="1258920" y="2060640"/>
            <a:ext cx="6408720" cy="453708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900000" y="33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уп, салат, пюре, кот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ают всегда в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тарелка.jpg"/>
          <p:cNvPicPr/>
          <p:nvPr/>
        </p:nvPicPr>
        <p:blipFill>
          <a:blip r:embed="rId2"/>
          <a:stretch/>
        </p:blipFill>
        <p:spPr>
          <a:xfrm>
            <a:off x="971640" y="1844640"/>
            <a:ext cx="7200720" cy="4675320"/>
          </a:xfrm>
          <a:prstGeom prst="rect">
            <a:avLst/>
          </a:prstGeom>
          <a:ln w="0">
            <a:noFill/>
          </a:ln>
        </p:spPr>
      </p:pic>
      <p:pic>
        <p:nvPicPr>
          <p:cNvPr id="64" name="Запи1438.WAV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4"/>
          <p:cNvSpPr/>
          <p:nvPr/>
        </p:nvSpPr>
        <p:spPr>
          <a:xfrm>
            <a:off x="2286000" y="2602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убы ест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 не умею е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 кусок наколю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тебя накор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вилка 1.jpg"/>
          <p:cNvPicPr/>
          <p:nvPr/>
        </p:nvPicPr>
        <p:blipFill>
          <a:blip r:embed="rId2"/>
          <a:stretch/>
        </p:blipFill>
        <p:spPr>
          <a:xfrm>
            <a:off x="1476360" y="2276640"/>
            <a:ext cx="6120000" cy="439236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15:13:24Z</dcterms:created>
  <dc:creator>1</dc:creator>
  <dc:description/>
  <dc:language>en-US</dc:language>
  <cp:lastModifiedBy>user</cp:lastModifiedBy>
  <dcterms:modified xsi:type="dcterms:W3CDTF">2017-10-17T18:27:48Z</dcterms:modified>
  <cp:revision>33</cp:revision>
  <dc:subject/>
  <dc:title>Слайд 1</dc:title>
</cp:coreProperties>
</file>