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  <p:sldId id="286" r:id="rId41"/>
    <p:sldId id="287" r:id="rId42"/>
    <p:sldId id="288" r:id="rId43"/>
    <p:sldId id="289" r:id="rId44"/>
    <p:sldId id="290" r:id="rId45"/>
    <p:sldId id="291" r:id="rId46"/>
    <p:sldId id="292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slide" Target="slides/slide31.xml"/><Relationship Id="rId42" Type="http://schemas.openxmlformats.org/officeDocument/2006/relationships/slide" Target="slides/slide32.xml"/><Relationship Id="rId43" Type="http://schemas.openxmlformats.org/officeDocument/2006/relationships/slide" Target="slides/slide33.xml"/><Relationship Id="rId44" Type="http://schemas.openxmlformats.org/officeDocument/2006/relationships/slide" Target="slides/slide34.xml"/><Relationship Id="rId45" Type="http://schemas.openxmlformats.org/officeDocument/2006/relationships/slide" Target="slides/slide35.xml"/><Relationship Id="rId46" Type="http://schemas.openxmlformats.org/officeDocument/2006/relationships/slide" Target="slides/slide36.xml"/><Relationship Id="rId47" Type="http://schemas.openxmlformats.org/officeDocument/2006/relationships/slide" Target="slides/slide37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402B2-2FC3-49CC-B7C7-A191B419A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E9E41-6907-40BC-BA0D-1D6FDFEE5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802555-2644-45D7-8691-F9A19C5AC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67E693-94F1-4839-8D5C-74F43AC8C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DB44F6-7DFA-4DD7-BFD7-40A5FA1F6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1AB7BC-189E-4F6D-B7A8-FDE5F9325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A139B4-2A6E-4CF5-BAE9-AF44AD115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FB4025-C404-4018-9D88-41BA8501A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CD3823-50CB-4D72-BF93-E51636DA5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E2628C-EC47-4132-823C-AE92B2FCA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65F1E9-1CE8-4B06-92DF-06DA14646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AF564-CADF-44AD-9A33-A6A00DEBD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9E9A9-EF1C-482E-B476-FFEACF98B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2B988-A5E8-4600-83FD-633DFFD52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DB487-E430-4BD1-9B63-4F8E1C60F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8D7A3-A09C-456D-B59C-D360E51AD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EB1AE-E52E-4D18-8D1C-0487A4753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FDEF8-3571-44D6-A431-454C0AE08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9C0F8-FAA8-415B-8CC6-5A84B3E36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3B570-9D9E-48AE-9CAC-7272A62C1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D4F13-F5AE-4E28-8669-9E023F355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9A908-134C-46CC-A965-FC56CA507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FEDE9-6759-4BCB-BBAF-A82183BD7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EA692-BAA3-40F3-BBAF-0EA4F61E4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4BF6E-A9E6-48FF-B5C9-B6F1DE9A3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D634B-EF64-483D-98F9-A4295C345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7DFF22-66DA-4974-B0B3-DF777531B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AC032E-C5E7-4439-81BF-4FF76A8AA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660C64-CD85-4A47-9E62-EF6EDB448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997039-6010-4C65-91ED-790BBED02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CEBD99-DAC7-4E3A-8B5E-8713A54C5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B081D-9AC7-477A-A827-47FAA44E3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E1743E-D42E-4DCD-88E1-032E1A397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799C2D-477B-4556-9F8F-A78E15565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BB2D7B-EFFB-493F-82E0-D2FFA3C59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89DCDE-9541-4B75-BAF9-10AB1871F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257029-154C-4A3A-8EBC-EF192CEFD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8CFA3E-8077-43B6-A5A8-CFC3BF459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C0BF17-E55A-4776-A541-EBFC5E1BC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DFCCBE-6D16-4155-89E9-EBA121610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DFEC74-738F-4CB2-B3F9-3306B8F2F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D96BD7-2C59-45AF-93FB-9234EB982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BFAF2-433D-4470-B236-882870B9C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414DDB-F449-4A3C-B0B8-64F999617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993406-62D9-466A-A324-DCEDE3D29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B7BC25-B1CD-4724-AAFD-B82A17FE2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A3FED9-AEA6-4104-B2D7-9F07C3D08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06E1D1-2E44-402F-865A-951F13C1F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7B2A81-03B4-44F6-8BE7-2556E1018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624101-F1BA-4D2C-A58E-A21F5BD1D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311E53-B761-4328-82AA-0EF214A82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6E00F1-4BAD-49D4-9D16-E70F9F944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C582A0-53A2-4F30-9885-28A6B7992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0DF70-CB06-4A72-9D35-7D0BB2E99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36EFF0-1044-48C0-B7C9-A07E39D5E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18B98F-14DE-4FE6-BEF5-B13653402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DE573B-6BDC-433A-A68E-F4F889383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7CD9AA-1A22-441F-8D08-B8B10C981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32BB84-7947-48D9-8DE3-C5F00ED75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AE9BE2-360F-42EF-9EB1-C4654F6A6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32AAD9-015E-4FE7-9C80-BAE1C8D96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3D4CF2-843D-4E37-9B69-D009A1496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DC1948-0D80-4EC3-9BDD-B86522EFD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89CB09-7954-43DE-969A-5AB19CAFF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03C6A-CAEB-4835-9B8D-CFB581890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8BB668-8132-4996-9BD0-E81F4A3F7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0BCCFB-26B6-47D7-AAB3-F9EB70267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1DC37F-66AD-461F-9908-E69B2E153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26F5AF-02A6-4643-ABE6-A4E8BBCBA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B323A0-9624-4D0F-BEF2-3770199DE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63D4FA-940E-435B-BB6E-B16761022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F683E3-3A19-4470-AC73-EF5C9FE7E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3E509A-E281-458A-AC13-2C0E43A19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98E5CC-80D3-4101-A291-7406A2BA0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236454-163A-45F0-B9E0-AC568E91F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0BB54-1E95-4CA9-8D74-127F14820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39A173-7FCA-4F8D-B38E-BDA1FC809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4FCC25-97EF-4AC7-8E0E-A5B13743A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DCBF3C-900C-4361-A00E-93289E3DE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97D624-D22C-4C5B-BB8F-808311C55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73D4B3-F218-4DE7-A674-51DED89BC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FFBB87-663D-426E-B70F-A4C24C82B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411876-5455-4763-AFE1-D574CC56E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454E10-67F5-48CF-8FDE-7F85CB22A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5CDEF8-C01A-4117-B5AE-1618A442A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9FF7EF-72CE-4155-9373-873F7C3C2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F0F87-A2E5-4B2D-86C6-C48671CF8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A692C0-701D-431E-BDDB-D7412C58B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80E51C-6E6A-418A-A251-3B2934AE9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B1AB3D-ADCC-4F74-911E-2F0B9C75F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7AC077-2FD5-45F5-AEBC-27C3713C6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75EF68-A10D-485C-A0DE-963DFAD1D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675B9D-1897-4DD6-B2DF-837E585E7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0650DA-1706-483E-8127-6D1651EF1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928857-9F63-4872-8E94-029B87392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C1931A-C84D-46F0-9E1A-CD29822A1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A4CDE6-B6A9-40CD-96C8-3958385D1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5251A-6BFC-471F-8A50-9CBDD917C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F9057A-C728-49C3-89C1-0E18FDE5E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8E16EE-980E-4CD0-85D4-513B5570B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643A74-1331-4619-84CA-C9D16E8F9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28B044-FC67-4939-BCFE-7CF27DADE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108A0F-ED81-442E-8144-0F895735B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9A6903-3C09-4D5C-A164-C04B565B8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73CD13-5A76-462E-A6AF-788AAF7EC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44EB7C-132A-4AD1-845E-5057684E6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90D448-4295-4916-A340-351A45F29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26B66C-00A2-4DF8-B560-9A5B56AC1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2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645C0-7B3C-4CE1-8174-7CF5CBD6939C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4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12640" y="5346720"/>
            <a:ext cx="8631360" cy="11160"/>
            <a:chOff x="512640" y="5346720"/>
            <a:chExt cx="8631360" cy="111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2"/>
            <a:stretch/>
          </p:blipFill>
          <p:spPr>
            <a:xfrm>
              <a:off x="512640" y="534672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9B212-2AC7-455A-88CE-94767A1DB11C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2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4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B0AAE-BF72-4148-9B39-2C6E4681C06F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12640" y="3438360"/>
            <a:ext cx="8631360" cy="11160"/>
            <a:chOff x="512640" y="3438360"/>
            <a:chExt cx="8631360" cy="111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2"/>
            <a:stretch/>
          </p:blipFill>
          <p:spPr>
            <a:xfrm>
              <a:off x="512640" y="34383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335DF-2285-4801-96B2-3EDDCF3A01FE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12640" y="6016680"/>
            <a:ext cx="8631360" cy="12600"/>
            <a:chOff x="512640" y="6016680"/>
            <a:chExt cx="8631360" cy="1260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2"/>
            <a:stretch/>
          </p:blipFill>
          <p:spPr>
            <a:xfrm>
              <a:off x="512640" y="60166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A4986-2932-4852-94B2-6FDEEEB58002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3753D-E6D5-4983-8721-8A2F6C67C43A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12640" y="5846760"/>
            <a:ext cx="8631360" cy="11160"/>
            <a:chOff x="512640" y="5846760"/>
            <a:chExt cx="8631360" cy="1116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2"/>
            <a:stretch/>
          </p:blipFill>
          <p:spPr>
            <a:xfrm>
              <a:off x="512640" y="58467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9065A-40EA-4176-9AFB-59A216DC8610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021B8-F065-4AA1-B2A3-DEC35BADAA31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E1B92-94C6-4C9D-9DB9-9494AF61107F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5760" y="11592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Medium"/>
              </a:rPr>
              <a:t>ОКРУЖАЮЩИЙ МИР: ТЕХНОЛОГИИ И ПРИЕМЫ В ОРГАНИЗАЦИИ ДЕЯТЕЛЬНОСТИ</a:t>
            </a:r>
            <a:endParaRPr b="0" lang="en-US" sz="3200" spc="-1" strike="noStrike">
              <a:solidFill>
                <a:srgbClr val="4e3b30"/>
              </a:solidFill>
              <a:latin typeface="Franklin Gothic Medium"/>
            </a:endParaRPr>
          </a:p>
        </p:txBody>
      </p:sp>
      <p:pic>
        <p:nvPicPr>
          <p:cNvPr id="400" name="" descr=""/>
          <p:cNvPicPr/>
          <p:nvPr/>
        </p:nvPicPr>
        <p:blipFill>
          <a:blip r:embed="rId1"/>
          <a:stretch/>
        </p:blipFill>
        <p:spPr>
          <a:xfrm>
            <a:off x="304920" y="1554120"/>
            <a:ext cx="86868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Заголовок 1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8686800" cy="100008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 txBox="1"/>
          <p:nvPr/>
        </p:nvSpPr>
        <p:spPr>
          <a:xfrm>
            <a:off x="304920" y="1197000"/>
            <a:ext cx="86868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e3b30"/>
                </a:solidFill>
                <a:latin typeface="Franklin Gothic Book"/>
              </a:rPr>
              <a:t>5. </a:t>
            </a:r>
            <a:r>
              <a:rPr b="1" lang="ru-RU" sz="1600" spc="-1" strike="noStrike">
                <a:solidFill>
                  <a:srgbClr val="4e3b30"/>
                </a:solidFill>
                <a:latin typeface="Franklin Gothic Book"/>
              </a:rPr>
              <a:t>Цель: </a:t>
            </a:r>
            <a:r>
              <a:rPr b="0" lang="ru-RU" sz="1600" spc="-1" strike="noStrike">
                <a:solidFill>
                  <a:srgbClr val="4e3b30"/>
                </a:solidFill>
                <a:latin typeface="Franklin Gothic Book"/>
              </a:rPr>
              <a:t>«Выяснить вместе с детьми, для чего людям нужен транспорт?»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e3b30"/>
                </a:solidFill>
                <a:latin typeface="Franklin Gothic Book"/>
              </a:rPr>
              <a:t>6. </a:t>
            </a:r>
            <a:r>
              <a:rPr b="1" lang="ru-RU" sz="1600" spc="-1" strike="noStrike">
                <a:solidFill>
                  <a:srgbClr val="4e3b30"/>
                </a:solidFill>
                <a:latin typeface="Franklin Gothic Book"/>
              </a:rPr>
              <a:t>Задачи: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4e3b30"/>
                </a:solidFill>
                <a:uFillTx/>
                <a:latin typeface="Franklin Gothic Book"/>
              </a:rPr>
              <a:t>Образовательные: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e3b30"/>
                </a:solidFill>
                <a:latin typeface="Franklin Gothic Book"/>
              </a:rPr>
              <a:t>-познакомить детей с разным видом транспорта;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e3b30"/>
                </a:solidFill>
                <a:latin typeface="Franklin Gothic Book"/>
              </a:rPr>
              <a:t>-познакомить с профессиями людей, работающих на разных видах транспорта;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e3b30"/>
                </a:solidFill>
                <a:latin typeface="Franklin Gothic Book"/>
              </a:rPr>
              <a:t>-закреплять понятия «наземный» «подземный» «водный» «Воздушный» транспорт;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e3b30"/>
                </a:solidFill>
                <a:latin typeface="Franklin Gothic Book"/>
              </a:rPr>
              <a:t>-закреплять правила поведения в общественном транспорте, правила перехода улицы;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4e3b30"/>
                </a:solidFill>
                <a:uFillTx/>
                <a:latin typeface="Franklin Gothic Book"/>
              </a:rPr>
              <a:t>Развивающие: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e3b30"/>
                </a:solidFill>
                <a:latin typeface="Franklin Gothic Book"/>
              </a:rPr>
              <a:t>-развивать наглядно-образное мышление через использование классификации предметов по существенным признакам;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e3b30"/>
                </a:solidFill>
                <a:latin typeface="Franklin Gothic Book"/>
              </a:rPr>
              <a:t>-расширять объём памяти посредством увеличения объёма зрительно запоминаемых объектов;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e3b30"/>
                </a:solidFill>
                <a:latin typeface="Franklin Gothic Book"/>
              </a:rPr>
              <a:t>-развивать любознательность, мышление, фонетический слух, мелкую моторику.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e3b30"/>
                </a:solidFill>
                <a:latin typeface="Franklin Gothic Book"/>
              </a:rPr>
              <a:t>-развивать навыки эффективного опознания предметов, умения узнавать предметы по существенным и несущественным признакам.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4e3b30"/>
                </a:solidFill>
                <a:uFillTx/>
                <a:latin typeface="Franklin Gothic Book"/>
              </a:rPr>
              <a:t>Воспитательные: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e3b30"/>
                </a:solidFill>
                <a:latin typeface="Franklin Gothic Book"/>
              </a:rPr>
              <a:t>-воспитывать познавательный интерес;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e3b30"/>
                </a:solidFill>
                <a:latin typeface="Franklin Gothic Book"/>
              </a:rPr>
              <a:t>-воспитывать уважение к профессии водителя.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76280" y="11592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Medium"/>
              </a:rPr>
              <a:t>7. ХОД НЕПОСРЕДСТВЕННО -  ОБРАЗОВАТЕЛЬНОЙ ДЕЯТЕЛЬНОСТИ. </a:t>
            </a:r>
            <a:endParaRPr b="0" lang="en-US" sz="32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88520" indent="-488520">
              <a:spcBef>
                <a:spcPts val="799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Вводная часть - мотивационный этап (игровая или проблемная ситуация)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488520" indent="-488520">
              <a:spcBef>
                <a:spcPts val="799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Основная часть - содержательный, деятельностный этап (проектирование, решений проблемной ситуации, выполнение действий)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488520" indent="-488520">
              <a:spcBef>
                <a:spcPts val="799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Заключительная часть - рефлексивный этап (анализ результатов деятельности, рефлексия, подведение итогов)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488520" indent="-488520">
              <a:spcBef>
                <a:spcPts val="799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488520" indent="-488520">
              <a:spcBef>
                <a:spcPts val="799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488520" indent="-488520">
              <a:spcBef>
                <a:spcPts val="799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Medium"/>
              </a:rPr>
              <a:t>ВВОДНАЯ ЧАСТЬ НОД </a:t>
            </a:r>
            <a:br>
              <a:rPr sz="3200"/>
            </a:br>
            <a:r>
              <a:rPr b="0" lang="ru-RU" sz="3200" spc="-1" strike="noStrike">
                <a:solidFill>
                  <a:srgbClr val="4e3b30"/>
                </a:solidFill>
                <a:latin typeface="Franklin Gothic Medium"/>
              </a:rPr>
              <a:t>ПРАВИЛА ПОСТРОЕНИЯ МОТИВАЦИИ: </a:t>
            </a:r>
            <a:endParaRPr b="0" lang="en-US" sz="32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-учёт возраста;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-мотивация должна быть экономной (2-3 мин);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-завершённость ситуации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Итог вводной части: 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сформирована мотивация детей на предстоящую деятельность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e3b30"/>
                </a:solidFill>
                <a:latin typeface="Franklin Gothic Medium"/>
              </a:rPr>
              <a:t>ОСНОВНАЯ ЧАСТЬ НОД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250920" y="1125360"/>
            <a:ext cx="868680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1. Активизировать мышление детей при помощи поисковых и проблемных вопросов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4e3b30"/>
                </a:solidFill>
                <a:uFillTx/>
                <a:latin typeface="Franklin Gothic Book"/>
              </a:rPr>
              <a:t>Поисковые вопросы: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где? куда? откуда? как? когда? какой?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4e3b30"/>
                </a:solidFill>
                <a:uFillTx/>
                <a:latin typeface="Franklin Gothic Book"/>
              </a:rPr>
              <a:t>Проблемные вопросы: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почему? зачем? что было бы, если бы?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2. Использовать дидактические игры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3. Вовлекать детей в различные виды деятельности.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e3b30"/>
                </a:solidFill>
                <a:latin typeface="Franklin Gothic Book"/>
              </a:rPr>
              <a:t>Итог основной части: </a:t>
            </a: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происходит усвоение нового способа действия или нового знания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e3b30"/>
                </a:solidFill>
                <a:latin typeface="Franklin Gothic Medium"/>
              </a:rPr>
              <a:t>ЗАКЛЮЧИТЕЛЬНАЯ ЧАСТЬ 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Необходимо зафиксировать новые понятия и новые знания.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514440" indent="-514440">
              <a:spcBef>
                <a:spcPts val="799"/>
              </a:spcBef>
              <a:buClr>
                <a:srgbClr val="f0a22e"/>
              </a:buClr>
              <a:buSzPct val="70000"/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Провести анализ с детьми собственной и коллективной деятельности на занятии.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e3b30"/>
                </a:solidFill>
                <a:latin typeface="Franklin Gothic Medium"/>
              </a:rPr>
              <a:t>НЮАНСЫ НОД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0" name="Прямоугольник 3"/>
          <p:cNvSpPr/>
          <p:nvPr/>
        </p:nvSpPr>
        <p:spPr>
          <a:xfrm>
            <a:off x="611280" y="1484280"/>
            <a:ext cx="79214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1. Педагог должен быть эмоциональным, артистичным, использовать максимум наглядност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2. Дети должны перемещаться в групповом пространств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3. Интеграция НО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1" name="" descr=""/>
          <p:cNvPicPr/>
          <p:nvPr/>
        </p:nvPicPr>
        <p:blipFill>
          <a:blip r:embed="rId1"/>
          <a:stretch/>
        </p:blipFill>
        <p:spPr>
          <a:xfrm>
            <a:off x="1528920" y="5877000"/>
            <a:ext cx="86868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Rectangle 2" descr=""/>
          <p:cNvPicPr/>
          <p:nvPr/>
        </p:nvPicPr>
        <p:blipFill>
          <a:blip r:embed="rId1"/>
          <a:stretch/>
        </p:blipFill>
        <p:spPr>
          <a:xfrm>
            <a:off x="208080" y="401760"/>
            <a:ext cx="8539200" cy="4037040"/>
          </a:xfrm>
          <a:prstGeom prst="rect">
            <a:avLst/>
          </a:prstGeom>
          <a:ln w="0">
            <a:noFill/>
          </a:ln>
        </p:spPr>
      </p:pic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684000" y="4797360"/>
            <a:ext cx="8280360" cy="1727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443329"/>
                </a:solidFill>
                <a:latin typeface="Franklin Gothic Book"/>
              </a:rPr>
              <a:t> </a:t>
            </a:r>
            <a:r>
              <a:rPr b="1" i="1" lang="ru-RU" sz="2000" spc="-1" strike="noStrike">
                <a:solidFill>
                  <a:srgbClr val="443329"/>
                </a:solidFill>
                <a:latin typeface="Franklin Gothic Book"/>
              </a:rPr>
              <a:t>)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68360" y="907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2060"/>
              </a:solidFill>
              <a:latin typeface="Franklin Gothic Medium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395280" y="476280"/>
            <a:ext cx="842472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Franklin Gothic Book"/>
              </a:rPr>
              <a:t>Технология </a:t>
            </a:r>
            <a:r>
              <a:rPr b="0" lang="ru-RU" sz="2800" spc="-1" strike="noStrike">
                <a:solidFill>
                  <a:srgbClr val="603b14"/>
                </a:solidFill>
                <a:latin typeface="Franklin Gothic Book"/>
              </a:rPr>
              <a:t>– это совокупность приемов, применяемых в каком-либо деле, мастерстве, искусстве (толковый словарь)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Franklin Gothic Book"/>
              </a:rPr>
              <a:t>Педагогическая технология</a:t>
            </a:r>
            <a:r>
              <a:rPr b="0" lang="ru-RU" sz="2800" spc="-1" strike="noStrike">
                <a:solidFill>
                  <a:srgbClr val="002060"/>
                </a:solidFill>
                <a:latin typeface="Franklin Gothic Book"/>
              </a:rPr>
              <a:t> </a:t>
            </a: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– это совокупность психолого-педагогических установок, определяющих специальный набор и компоновку форм, методов, способов, приёмов обучения, воспитательных средств; она есть организационно - методический инструментарий педагогического процесса . </a:t>
            </a:r>
            <a:r>
              <a:rPr b="0" i="1" lang="ru-RU" sz="2800" spc="-1" strike="noStrike">
                <a:solidFill>
                  <a:srgbClr val="4e3b30"/>
                </a:solidFill>
                <a:latin typeface="Franklin Gothic Book"/>
              </a:rPr>
              <a:t>(Б.Т.Лихачёв)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03b14"/>
                </a:solidFill>
                <a:latin typeface="Franklin Gothic Medium"/>
              </a:rPr>
              <a:t>ОСНОВНЫЕ ТРЕБОВАНИЯ (КРИТЕРИИ) ПЕДАГОГИЧЕСКОЙ ТЕХНОЛОГИИ:</a:t>
            </a:r>
            <a:endParaRPr b="0" lang="en-US" sz="3200" spc="-1" strike="noStrike">
              <a:solidFill>
                <a:srgbClr val="4e3b30"/>
              </a:solidFill>
              <a:latin typeface="Franklin Gothic Medium"/>
            </a:endParaRPr>
          </a:p>
        </p:txBody>
      </p:sp>
      <p:pic>
        <p:nvPicPr>
          <p:cNvPr id="437" name="Содержимое 3" descr=""/>
          <p:cNvPicPr/>
          <p:nvPr/>
        </p:nvPicPr>
        <p:blipFill>
          <a:blip r:embed="rId1"/>
          <a:stretch/>
        </p:blipFill>
        <p:spPr>
          <a:xfrm>
            <a:off x="237960" y="1444680"/>
            <a:ext cx="8766360" cy="46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8" name="Содержимое 3" descr=""/>
          <p:cNvPicPr/>
          <p:nvPr/>
        </p:nvPicPr>
        <p:blipFill>
          <a:blip r:embed="rId1"/>
          <a:stretch/>
        </p:blipFill>
        <p:spPr>
          <a:xfrm>
            <a:off x="237960" y="396720"/>
            <a:ext cx="8534520" cy="606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324000" y="47628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Medium"/>
              </a:rPr>
              <a:t>«ОЗНАКОМЛЕНИЕ С ОКРУЖАЮЩИМ МИРОМ»:</a:t>
            </a:r>
            <a:br>
              <a:rPr sz="3200"/>
            </a:br>
            <a:endParaRPr b="0" lang="en-US" sz="32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324000" y="206064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организация НОД,  методы и приемы;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современные технологии при обучении;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РППС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Содержимое 3" descr=""/>
          <p:cNvPicPr/>
          <p:nvPr/>
        </p:nvPicPr>
        <p:blipFill>
          <a:blip r:embed="rId1"/>
          <a:stretch/>
        </p:blipFill>
        <p:spPr>
          <a:xfrm>
            <a:off x="444600" y="396720"/>
            <a:ext cx="8248680" cy="627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03b14"/>
                </a:solidFill>
                <a:latin typeface="Franklin Gothic Medium"/>
              </a:rPr>
              <a:t>СОВРЕМЕННЫЕ ОБРАЗОВАТЕЛЬНЫЕ ТЕХНОЛОГИИ</a:t>
            </a:r>
            <a:endParaRPr b="0" lang="en-US" sz="32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здоровьесберегающие технологии;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технологии проектной деятельности;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технология исследовательской деятельности;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4e3b30"/>
                </a:solidFill>
                <a:latin typeface="Franklin Gothic Book"/>
              </a:rPr>
              <a:t> </a:t>
            </a: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информационно-коммуникационные технологии;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игровая технология;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технология «ТРИЗ» </a:t>
            </a:r>
            <a:r>
              <a:rPr b="1" lang="ru-RU" sz="28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 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03b14"/>
                </a:solidFill>
                <a:latin typeface="Franklin Gothic Medium"/>
              </a:rPr>
              <a:t>ЗДОРОВЬЕСБЕРЕГАЮЩИЕ  ТЕХНОЛОГИИ</a:t>
            </a:r>
            <a:br>
              <a:rPr sz="3200"/>
            </a:br>
            <a:endParaRPr b="0" lang="en-US" sz="32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i="1" lang="ru-RU" sz="32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4e3b30"/>
                </a:solidFill>
                <a:latin typeface="Franklin Gothic Book"/>
              </a:rPr>
              <a:t>Цель: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4e3b30"/>
                </a:solidFill>
                <a:latin typeface="Franklin Gothic Book"/>
              </a:rPr>
              <a:t>обеспечение ребенку возможности сохранения здоровья, формирование у него необходимых знаний, умений, навыков по здоровому образу жизни.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4" name="Содержимое 3" descr=""/>
          <p:cNvPicPr/>
          <p:nvPr/>
        </p:nvPicPr>
        <p:blipFill>
          <a:blip r:embed="rId1"/>
          <a:stretch/>
        </p:blipFill>
        <p:spPr>
          <a:xfrm>
            <a:off x="444600" y="401760"/>
            <a:ext cx="8242200" cy="57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03b14"/>
                </a:solidFill>
                <a:latin typeface="Franklin Gothic Medium"/>
              </a:rPr>
              <a:t>ТЕХНОЛОГИИ ПРОЕКТНОЙ ДЕЯТЕЛЬНОСТИ</a:t>
            </a:r>
            <a:br>
              <a:rPr sz="3200"/>
            </a:br>
            <a:endParaRPr b="0" lang="en-US" sz="32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1" i="1" lang="ru-RU" sz="32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4e3b30"/>
                </a:solidFill>
                <a:latin typeface="Franklin Gothic Book"/>
              </a:rPr>
              <a:t>Цель: 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4e3b30"/>
                </a:solidFill>
                <a:latin typeface="Franklin Gothic Book"/>
              </a:rPr>
              <a:t>развитие и обогащение социально-личностного опыта посредством включения детей в сферу межличностного взаимодействия.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ru-RU" sz="36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7" name="Заголовок 1" descr=""/>
          <p:cNvPicPr/>
          <p:nvPr/>
        </p:nvPicPr>
        <p:blipFill>
          <a:blip r:embed="rId1"/>
          <a:stretch/>
        </p:blipFill>
        <p:spPr>
          <a:xfrm>
            <a:off x="457200" y="244440"/>
            <a:ext cx="8229600" cy="1236600"/>
          </a:xfrm>
          <a:prstGeom prst="rect">
            <a:avLst/>
          </a:prstGeom>
          <a:ln w="0">
            <a:noFill/>
          </a:ln>
        </p:spPr>
      </p:pic>
      <p:pic>
        <p:nvPicPr>
          <p:cNvPr id="448" name="Содержимое 4" descr=""/>
          <p:cNvPicPr/>
          <p:nvPr/>
        </p:nvPicPr>
        <p:blipFill>
          <a:blip r:embed="rId2"/>
          <a:stretch/>
        </p:blipFill>
        <p:spPr>
          <a:xfrm>
            <a:off x="457200" y="822240"/>
            <a:ext cx="8248680" cy="512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Содержимое 3" descr=""/>
          <p:cNvPicPr/>
          <p:nvPr/>
        </p:nvPicPr>
        <p:blipFill>
          <a:blip r:embed="rId1"/>
          <a:stretch/>
        </p:blipFill>
        <p:spPr>
          <a:xfrm>
            <a:off x="444600" y="463680"/>
            <a:ext cx="8254800" cy="56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603b14"/>
                </a:solidFill>
                <a:latin typeface="Franklin Gothic Medium"/>
              </a:rPr>
              <a:t>ТЕХНОЛОГИЯ ИССЛЕДОВАТЕЛЬСКОЙ ДЕЯТЕЛЬНОСТИ</a:t>
            </a:r>
            <a:br>
              <a:rPr sz="3200"/>
            </a:br>
            <a:endParaRPr b="0" lang="en-US" sz="29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468360" y="1773360"/>
            <a:ext cx="822960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i="1" lang="ru-RU" sz="28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i="1" lang="ru-RU" sz="3600" spc="-1" strike="noStrike">
                <a:solidFill>
                  <a:srgbClr val="4e3b30"/>
                </a:solidFill>
                <a:latin typeface="Franklin Gothic Book"/>
              </a:rPr>
              <a:t>Цель: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i="1" lang="ru-RU" sz="3600" spc="-1" strike="noStrike">
                <a:solidFill>
                  <a:srgbClr val="4e3b30"/>
                </a:solidFill>
                <a:latin typeface="Franklin Gothic Book"/>
              </a:rPr>
              <a:t>сформировать у дошкольников основные ключевые компетенции, способность к исследовательскому типу мышления.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ru-RU" sz="36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"/>
          <p:cNvSpPr txBox="1"/>
          <p:nvPr/>
        </p:nvSpPr>
        <p:spPr>
          <a:xfrm>
            <a:off x="457200" y="333000"/>
            <a:ext cx="829152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2060"/>
                </a:solidFill>
                <a:latin typeface="Franklin Gothic Book"/>
              </a:rPr>
              <a:t>	</a:t>
            </a:r>
            <a:r>
              <a:rPr b="1" i="1" lang="ru-RU" sz="2200" spc="-1" strike="noStrike">
                <a:solidFill>
                  <a:srgbClr val="002060"/>
                </a:solidFill>
                <a:latin typeface="Franklin Gothic Book"/>
              </a:rPr>
              <a:t>	</a:t>
            </a:r>
            <a:r>
              <a:rPr b="1" i="1" lang="ru-RU" sz="3200" spc="-1" strike="noStrike">
                <a:solidFill>
                  <a:srgbClr val="603b14"/>
                </a:solidFill>
                <a:latin typeface="Franklin Gothic Book"/>
              </a:rPr>
              <a:t>Методы и приемы организации экспериментально – исследовательской деятельности: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эвристические беседы;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постановка и решение вопросов проблемного характера;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наблюдения;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моделирование (создание моделей об изменениях в неживой природе);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опыты;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фиксация результатов: наблюдений, опытов, экспериментов,  трудовой деятельности;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«погружение» в краски, звуки, запахи и образы природы;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подражание голосам и звукам природы;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использование художественного слова;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дидактические игры, игровые обучающие и творчески развивающие ситуации;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трудовые поручения, действия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603b14"/>
                </a:solidFill>
                <a:latin typeface="Franklin Gothic Book"/>
              </a:rPr>
              <a:t>СОДЕРЖАНИЕ ПОЗНАВАТЕЛЬНО-ИССЛЕДОВАТЕЛЬСКОЙ ДЕЯТЕЛЬНОСТИ</a:t>
            </a:r>
            <a:br>
              <a:rPr sz="3200"/>
            </a:br>
            <a:endParaRPr b="0" lang="en-US" sz="2900" spc="-1" strike="noStrike">
              <a:solidFill>
                <a:srgbClr val="4e3b30"/>
              </a:solidFill>
              <a:latin typeface="Franklin Gothic Medium"/>
            </a:endParaRPr>
          </a:p>
        </p:txBody>
      </p:sp>
      <p:pic>
        <p:nvPicPr>
          <p:cNvPr id="454" name="Содержимое 3" descr=""/>
          <p:cNvPicPr/>
          <p:nvPr/>
        </p:nvPicPr>
        <p:blipFill>
          <a:blip r:embed="rId1"/>
          <a:stretch/>
        </p:blipFill>
        <p:spPr>
          <a:xfrm>
            <a:off x="291960" y="1542960"/>
            <a:ext cx="8712360" cy="454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95280" y="5445000"/>
            <a:ext cx="861048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Medium"/>
              </a:rPr>
              <a:t>ОРГАНИЗАЦИЯ НОД </a:t>
            </a:r>
            <a:br>
              <a:rPr sz="3200"/>
            </a:br>
            <a:r>
              <a:rPr b="0" lang="ru-RU" sz="3200" spc="-1" strike="noStrike">
                <a:solidFill>
                  <a:srgbClr val="4e3b30"/>
                </a:solidFill>
                <a:latin typeface="Franklin Gothic Medium"/>
              </a:rPr>
              <a:t>«ОЗНАКОМЛЕНИЕ С ОКРУЖАЮЩИМ МИРОМ»</a:t>
            </a:r>
            <a:endParaRPr b="0" lang="en-US" sz="32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280800" y="666360"/>
            <a:ext cx="429084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0761f"/>
                </a:solidFill>
                <a:latin typeface="Franklin Gothic Medium"/>
              </a:rPr>
              <a:t>ФГОС ДО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45080" y="666360"/>
            <a:ext cx="429264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0761f"/>
                </a:solidFill>
                <a:latin typeface="Franklin Gothic Medium"/>
              </a:rPr>
              <a:t>НОД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4647960" y="1315800"/>
            <a:ext cx="4289400" cy="394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07" name="" descr=""/>
          <p:cNvPicPr/>
          <p:nvPr/>
        </p:nvPicPr>
        <p:blipFill>
          <a:blip r:embed="rId1"/>
          <a:stretch/>
        </p:blipFill>
        <p:spPr>
          <a:xfrm>
            <a:off x="280800" y="1315800"/>
            <a:ext cx="4290840" cy="39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5" name="Содержимое 3" descr=""/>
          <p:cNvPicPr/>
          <p:nvPr/>
        </p:nvPicPr>
        <p:blipFill>
          <a:blip r:embed="rId1"/>
          <a:stretch/>
        </p:blipFill>
        <p:spPr>
          <a:xfrm>
            <a:off x="444600" y="390600"/>
            <a:ext cx="8254800" cy="57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03b14"/>
                </a:solidFill>
                <a:latin typeface="Franklin Gothic Medium"/>
              </a:rPr>
              <a:t>ИНФОРМАЦИОННО-КОММУНИКАЦИОННЫЕ ТЕХНОЛОГИИ</a:t>
            </a:r>
            <a:endParaRPr b="0" lang="en-US" sz="32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457200" y="134136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Задачи: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18960" indent="-318960">
              <a:spcBef>
                <a:spcPts val="799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идти в ногу со временем;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18960" indent="-318960">
              <a:spcBef>
                <a:spcPts val="799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стать для ребенка проводником  в мир новых технологий; наставником в выборе  компьютерных программ;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18960" indent="-318960">
              <a:spcBef>
                <a:spcPts val="799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сформировать основы информационной культуры его личности;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18960" indent="-318960">
              <a:spcBef>
                <a:spcPts val="799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повысить профессиональный уровень педагогов и компетентность родителей.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03b14"/>
                </a:solidFill>
                <a:latin typeface="Franklin Gothic Medium"/>
              </a:rPr>
              <a:t>ИГРОВАЯ ТЕХНОЛОГИЯ:</a:t>
            </a:r>
            <a:br>
              <a:rPr sz="3200"/>
            </a:br>
            <a:endParaRPr b="0" lang="en-US" sz="32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  </a:t>
            </a:r>
            <a:r>
              <a:rPr b="0" lang="ru-RU" sz="2200" spc="-1" strike="noStrike">
                <a:solidFill>
                  <a:srgbClr val="4e3b30"/>
                </a:solidFill>
                <a:latin typeface="Franklin Gothic Book"/>
              </a:rPr>
              <a:t>  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01680" indent="-301680" algn="just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игры и упражнения, формирующие умение выделять основные, характерные признаки предметов, сравнивать, сопоставлять их;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01680" indent="-301680" algn="just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группы игр на обобщение предметов по определенным признакам;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01680" indent="-301680" algn="just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группы игр, в процессе которых у дошкольников развивается умение отличать реальные явления от нереальных;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01680" indent="-301680" algn="just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 </a:t>
            </a: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группы игр, воспитывающих умение владеть собой, быстроту реакции на слово, смекалку и др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01680" indent="-3016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    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82296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603b14"/>
                </a:solidFill>
                <a:latin typeface="Franklin Gothic Medium"/>
              </a:rPr>
              <a:t>ТЕХНОЛОГИЯ «ТРИЗ» </a:t>
            </a:r>
            <a:br>
              <a:rPr sz="2900"/>
            </a:br>
            <a:r>
              <a:rPr b="1" lang="ru-RU" sz="2900" spc="-1" strike="noStrike">
                <a:solidFill>
                  <a:srgbClr val="4e3b30"/>
                </a:solidFill>
                <a:latin typeface="Franklin Gothic Medium"/>
              </a:rPr>
              <a:t>(ТЕОРИЯ РЕШЕНИЯ ИЗОБРЕТАТЕЛЬСКИХ ЗАДАЧ)</a:t>
            </a:r>
            <a:endParaRPr b="0" lang="en-US" sz="29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1" i="1" lang="ru-RU" sz="2800" spc="-1" strike="noStrike">
                <a:solidFill>
                  <a:srgbClr val="4e3b30"/>
                </a:solidFill>
                <a:latin typeface="Franklin Gothic Book"/>
              </a:rPr>
              <a:t>Цель:</a:t>
            </a: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развитие, мышления, системности, диалектичности;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развитие поисковой активности, стремления к новизне;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развитие речи и творческого воображения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        </a:t>
            </a:r>
            <a:r>
              <a:rPr b="1" i="1" lang="ru-RU" sz="2800" spc="-1" strike="noStrike">
                <a:solidFill>
                  <a:srgbClr val="4e3b30"/>
                </a:solidFill>
                <a:latin typeface="Franklin Gothic Book"/>
              </a:rPr>
              <a:t>Задача</a:t>
            </a: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: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привить ребенку радость творческих открытий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539280" y="644076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subTitle"/>
          </p:nvPr>
        </p:nvSpPr>
        <p:spPr>
          <a:xfrm>
            <a:off x="323640" y="476280"/>
            <a:ext cx="8458200" cy="5261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43329"/>
                </a:solidFill>
                <a:latin typeface="Franklin Gothic Book"/>
              </a:rPr>
              <a:t>Организация развивающей предметно – пространственной среды 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43329"/>
                </a:solidFill>
                <a:latin typeface="Franklin Gothic Book"/>
              </a:rPr>
              <a:t>(РППС)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43329"/>
                </a:solidFill>
                <a:latin typeface="Franklin Gothic Book"/>
              </a:rPr>
              <a:t>для познавательно-исследовательской деятельности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43329"/>
                </a:solidFill>
                <a:latin typeface="Franklin Gothic Book"/>
              </a:rPr>
              <a:t>по ознакомлению с  окружающим  миром.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e3b30"/>
                </a:solidFill>
                <a:latin typeface="Franklin Gothic Medium"/>
              </a:rPr>
              <a:t>ТРЕБОВАНИЯ ФГОС К РППС 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Содержательно-насыщенная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Трансформируемая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Полифункциональная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Вариативная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Доступная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Безопасная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e3b30"/>
                </a:solidFill>
                <a:latin typeface="Franklin Gothic Medium"/>
              </a:rPr>
              <a:t>ДОМАШНЕЕ ЗАДАНИЕ: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67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До конца октября сделать и сдать презентации   с текстом  по слайдам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в группу №6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по теме: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«РППС для ознакомления с окружающим миром  детей в  группе №…»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"/>
          <p:cNvSpPr txBox="1"/>
          <p:nvPr/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1" i="1" lang="ru-RU" sz="32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1" lang="ru-RU" sz="4800" spc="-1" strike="noStrike">
                <a:solidFill>
                  <a:srgbClr val="4e3b30"/>
                </a:solidFill>
                <a:latin typeface="Monotype Corsiva"/>
              </a:rPr>
              <a:t>Творите сами. Как нет детей без воображения, так нет и педагога без творческих порывов.</a:t>
            </a:r>
            <a:br>
              <a:rPr sz="4800"/>
            </a:br>
            <a:r>
              <a:rPr b="1" lang="ru-RU" sz="4800" spc="-1" strike="noStrike">
                <a:solidFill>
                  <a:srgbClr val="4e3b30"/>
                </a:solidFill>
                <a:latin typeface="Monotype Corsiva"/>
              </a:rPr>
              <a:t>Творческих Вам успехов!</a:t>
            </a:r>
            <a:endParaRPr b="0" lang="en-US" sz="48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e3b30"/>
                </a:solidFill>
                <a:latin typeface="Franklin Gothic Medium"/>
              </a:rPr>
              <a:t>НОД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304920" y="1554120"/>
            <a:ext cx="8686800" cy="50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НОД – это ведущая форма организации совместной деятельности взрослого и детей, которая определяется уровнем освоения общеобразовательной программы ДО и решением  конкретных образовательных задач в соответствии с возрастом детей и текущей темой, которая соединяет обучающую функцию и совместную деятельность, но процесс обучения остается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e3b30"/>
                </a:solidFill>
                <a:latin typeface="Franklin Gothic Medium"/>
              </a:rPr>
              <a:t>ОТЛИЧИЕ «ЗАНЯТИЯ» ОТ «НОД»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324000" y="206064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формы  организации;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позиция педагога по отношению к детям;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структура НОД.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2" name=""/>
          <p:cNvGraphicFramePr/>
          <p:nvPr/>
        </p:nvGraphicFramePr>
        <p:xfrm>
          <a:off x="179280" y="189000"/>
          <a:ext cx="8713800" cy="6140520"/>
        </p:xfrm>
        <a:graphic>
          <a:graphicData uri="http://schemas.openxmlformats.org/drawingml/2006/table">
            <a:tbl>
              <a:tblPr/>
              <a:tblGrid>
                <a:gridCol w="4032360"/>
                <a:gridCol w="4681440"/>
              </a:tblGrid>
              <a:tr h="191880">
                <a:tc>
                  <a:txBody>
                    <a:bodyPr lIns="31680" rIns="316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радиционный подход (занятия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1680" marR="3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овременный подход (НОД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1680" marR="3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31680" rIns="316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чебная деятельность и игр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1680" marR="3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гра и другие виды детской деятельности в  совместной деятельности детей и взросл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1680" marR="3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3960">
                <a:tc>
                  <a:txBody>
                    <a:bodyPr lIns="31680" rIns="316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чебная модель, т.е. занят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1680" marR="3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тказ от учебной модели в детском саду, т.е. от занят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1680" marR="3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76360">
                <a:tc>
                  <a:txBody>
                    <a:bodyPr lIns="31680" rIns="316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лавная цель - освоение знаний, умений, навыков (ЗУН)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1680" marR="3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сновная цель – подлинная активность (деятельность) детей, а освоение знаний, умений и навыков – побочный эффект этой активности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Calibri"/>
                        </a:rPr>
                        <a:t>Виды деятельности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игровая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познавательно-исследовательская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коммуникативная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 восприятие художественной литературы и фольклора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конструирование из разных материалов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 изобразительная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двигательная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самообслуживание и элементарный бытовой труд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музыкальная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1680" marR="3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360">
                <a:tc>
                  <a:txBody>
                    <a:bodyPr lIns="31680" rIns="316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ведение педагог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зрослый – отдален от детей, вне круга, противостоит детям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1680" marR="3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зрослый – партнер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 рядом с детьми (вместе), в едином пространстве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1680" marR="3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9200">
                <a:tc>
                  <a:txBody>
                    <a:bodyPr lIns="31680" rIns="316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рганизация пространства: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мещение за рядами столов, как за партами, глядя в затылок другого ребен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1680" marR="3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ксимальное приближение к ситуации «круглого стола», приглашающего к равному участию в работе, обсуждении, исследовании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1680" marR="3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7080">
                <a:tc>
                  <a:txBody>
                    <a:bodyPr lIns="31680" rIns="316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тепень свободы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Жесткое закрепление рабочих мест, запрет на перемещение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прещено свободное общение детей. Вводится дисциплинарное требование тишины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1680" marR="3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вободное размещение детей и перемещение в процессе деятельности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решено свободное общение (рабочий гул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ети могут обсуждать работу, задавать друг другу вопросы и т.п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1680" marR="3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7280">
                <a:tc>
                  <a:txBody>
                    <a:bodyPr lIns="31680" rIns="316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следствия позиции воспитателя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ызывает пассивность ребенка, невозможность самостоятельно принять решение, эмоциональный дискомфорт, страх что-то сделать не так и агрессию как оборотную сторону страха, как разрядку накапливающегося напряжения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1680" marR="3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пособствует развитию у ребенка активности, самостоятельности, умения принять решение, пробовать делать что-то, не боясь, что получиться неправильно, вызывает стремление к достижению, благоприятствует эмоциональному комфорт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1680" marR="3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6868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e3b30"/>
                </a:solidFill>
                <a:latin typeface="Franklin Gothic Medium"/>
              </a:rPr>
              <a:t>ФГОС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395280" y="1197000"/>
            <a:ext cx="41911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4e3b30"/>
                </a:solidFill>
                <a:latin typeface="Franklin Gothic Book"/>
              </a:rPr>
              <a:t>Образовательные области (направления развития):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Franklin Gothic Book"/>
              </a:rPr>
              <a:t>1.познавательное развитие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03b14"/>
                </a:solidFill>
                <a:latin typeface="Franklin Gothic Book"/>
              </a:rPr>
              <a:t>2. социально-коммуникативное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03b14"/>
                </a:solidFill>
                <a:latin typeface="Franklin Gothic Book"/>
              </a:rPr>
              <a:t>3. Речевое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03b14"/>
                </a:solidFill>
                <a:latin typeface="Franklin Gothic Book"/>
              </a:rPr>
              <a:t>4. Художественно –эстетическое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03b14"/>
                </a:solidFill>
                <a:latin typeface="Franklin Gothic Book"/>
              </a:rPr>
              <a:t>5. Физическое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4642920" y="1267920"/>
            <a:ext cx="4343400" cy="506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4e3b30"/>
                </a:solidFill>
                <a:latin typeface="Franklin Gothic Book"/>
              </a:rPr>
              <a:t>Детские виды деятельности: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Franklin Gothic Book"/>
              </a:rPr>
              <a:t>1. Познавательно-исследовательская деятельность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2. Коммуникативная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3. восприятие художественной литературы и фольклора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4. конструирование из разных материалов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5. Изобразительная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6. Двигательная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7. Самообслуживание и элементарный бытовой труд.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8. Музыкальная.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6" name=""/>
          <p:cNvGraphicFramePr/>
          <p:nvPr/>
        </p:nvGraphicFramePr>
        <p:xfrm>
          <a:off x="179280" y="189000"/>
          <a:ext cx="8713800" cy="6140520"/>
        </p:xfrm>
        <a:graphic>
          <a:graphicData uri="http://schemas.openxmlformats.org/drawingml/2006/table">
            <a:tbl>
              <a:tblPr/>
              <a:tblGrid>
                <a:gridCol w="4032360"/>
                <a:gridCol w="4681440"/>
              </a:tblGrid>
              <a:tr h="191880">
                <a:tc>
                  <a:txBody>
                    <a:bodyPr lIns="31680" rIns="316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радиционный подход (занятия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1680" marR="3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овременный подход (НОД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1680" marR="3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31680" rIns="316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чебная деятельность и игр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1680" marR="3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гра и другие виды детской деятельности в  совместной деятельности детей и взросл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1680" marR="3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3960">
                <a:tc>
                  <a:txBody>
                    <a:bodyPr lIns="31680" rIns="316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чебная модель, т.е. занят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1680" marR="3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тказ от учебной модели в детском саду, т.е. от занят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1680" marR="3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76360">
                <a:tc>
                  <a:txBody>
                    <a:bodyPr lIns="31680" rIns="316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лавная цель - освоение знаний, умений, навыков (ЗУН)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1680" marR="3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сновная цель – подлинная активность (деятельность) детей, а освоение знаний, умений и навыков – побочный эффект этой активности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Calibri"/>
                        </a:rPr>
                        <a:t>Виды деятельности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игровая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познавательно-исследовательская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коммуникативная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 восприятие художественной литературы и фольклора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конструирование из разных материалов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 изобразительная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двигательная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самообслуживание и элементарный бытовой труд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музыкальная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1680" marR="3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360">
                <a:tc>
                  <a:txBody>
                    <a:bodyPr lIns="31680" rIns="316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ведение педагог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зрослый – отдален от детей, вне круга, противостоит детям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1680" marR="3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зрослый – партнер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 рядом с детьми (вместе), в едином пространстве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1680" marR="3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9200">
                <a:tc>
                  <a:txBody>
                    <a:bodyPr lIns="31680" rIns="316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рганизация пространства: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мещение за рядами столов, как за партами, глядя в затылок другого ребен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1680" marR="3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ксимальное приближение к ситуации «круглого стола», приглашающего к равному участию в работе, обсуждении, исследовании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1680" marR="3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7080">
                <a:tc>
                  <a:txBody>
                    <a:bodyPr lIns="31680" rIns="316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тепень свободы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Жесткое закрепление рабочих мест, запрет на перемещение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прещено свободное общение детей. Вводится дисциплинарное требование тишины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1680" marR="3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вободное размещение детей и перемещение в процессе деятельности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решено свободное общение (рабочий гул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ети могут обсуждать работу, задавать друг другу вопросы и т.п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1680" marR="3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7280">
                <a:tc>
                  <a:txBody>
                    <a:bodyPr lIns="31680" rIns="316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следствия позиции воспитателя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ызывает пассивность ребенка, невозможность самостоятельно принять решение, эмоциональный дискомфорт, страх что-то сделать не так и агрессию как оборотную сторону страха, как разрядку накапливающегося напряжения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1680" marR="3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1680" rIns="3168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пособствует развитию у ребенка активности, самостоятельности, умения принять решение, пробовать делать что-то, не боясь, что получиться неправильно, вызывает стремление к достижению, благоприятствует эмоциональному комфорт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1680" marR="31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Заголовок 1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8686800" cy="100008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 txBox="1"/>
          <p:nvPr/>
        </p:nvSpPr>
        <p:spPr>
          <a:xfrm>
            <a:off x="304920" y="1553760"/>
            <a:ext cx="8686800" cy="518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1. </a:t>
            </a:r>
            <a:r>
              <a:rPr b="1" lang="ru-RU" sz="2400" spc="-1" strike="noStrike">
                <a:solidFill>
                  <a:srgbClr val="2a2003"/>
                </a:solidFill>
                <a:latin typeface="Franklin Gothic Book"/>
              </a:rPr>
              <a:t>Заголовок. </a:t>
            </a:r>
            <a:r>
              <a:rPr b="0" lang="ru-RU" sz="2400" spc="-1" strike="noStrike">
                <a:solidFill>
                  <a:srgbClr val="2a2003"/>
                </a:solidFill>
                <a:latin typeface="Franklin Gothic Book"/>
              </a:rPr>
              <a:t>«Конспект непосредственно - образовательной деятельности  по познавательному развитию. Тема «Транспорт».  Для детей подготовительной группы общеразвивающей направленности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a2003"/>
                </a:solidFill>
                <a:latin typeface="Franklin Gothic Book"/>
              </a:rPr>
              <a:t> </a:t>
            </a:r>
            <a:r>
              <a:rPr b="0" lang="ru-RU" sz="2400" spc="-1" strike="noStrike">
                <a:solidFill>
                  <a:srgbClr val="2a2003"/>
                </a:solidFill>
                <a:latin typeface="Franklin Gothic Book"/>
              </a:rPr>
              <a:t>2. </a:t>
            </a:r>
            <a:r>
              <a:rPr b="1" lang="ru-RU" sz="2400" spc="-1" strike="noStrike">
                <a:solidFill>
                  <a:srgbClr val="2a2003"/>
                </a:solidFill>
                <a:latin typeface="Franklin Gothic Book"/>
              </a:rPr>
              <a:t>Приоритетное направление </a:t>
            </a:r>
            <a:r>
              <a:rPr b="0" lang="ru-RU" sz="2400" spc="-1" strike="noStrike">
                <a:solidFill>
                  <a:srgbClr val="2a2003"/>
                </a:solidFill>
                <a:latin typeface="Franklin Gothic Book"/>
              </a:rPr>
              <a:t>(познавательная развитие), интеграция с другими образовательными областями, интеграция </a:t>
            </a:r>
            <a:r>
              <a:rPr b="0" lang="ru-RU" sz="2400" spc="-1" strike="noStrike">
                <a:solidFill>
                  <a:srgbClr val="2a2003"/>
                </a:solidFill>
                <a:latin typeface="Franklin Gothic Book"/>
                <a:ea typeface="Calibri"/>
              </a:rPr>
              <a:t>детских видов деятельности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a2003"/>
                </a:solidFill>
                <a:latin typeface="Franklin Gothic Book"/>
              </a:rPr>
              <a:t>3. </a:t>
            </a:r>
            <a:r>
              <a:rPr b="1" lang="ru-RU" sz="2400" spc="-1" strike="noStrike">
                <a:solidFill>
                  <a:srgbClr val="2a2003"/>
                </a:solidFill>
                <a:latin typeface="Franklin Gothic Book"/>
              </a:rPr>
              <a:t>Формы организации </a:t>
            </a:r>
            <a:r>
              <a:rPr b="0" lang="ru-RU" sz="2400" spc="-1" strike="noStrike">
                <a:solidFill>
                  <a:srgbClr val="2a2003"/>
                </a:solidFill>
                <a:latin typeface="Franklin Gothic Book"/>
              </a:rPr>
              <a:t>коллективной деятельности (работа по подгруппам, в парах, совместная деятельность педагога с детьми) и самостоятельной деятельности детей (если она запланирована)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a2003"/>
                </a:solidFill>
                <a:latin typeface="Franklin Gothic Book"/>
              </a:rPr>
              <a:t>4. Материал и оборудование; предварительная работа; планируемые результаты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8T19:05:21Z</dcterms:created>
  <dc:creator>Елена</dc:creator>
  <dc:description/>
  <dc:language>en-US</dc:language>
  <cp:lastModifiedBy>user</cp:lastModifiedBy>
  <dcterms:modified xsi:type="dcterms:W3CDTF">2017-10-17T17:10:29Z</dcterms:modified>
  <cp:revision>181</cp:revision>
  <dc:subject/>
  <dc:title>Слайд 1</dc:title>
</cp:coreProperties>
</file>