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39B-CC5C-4A83-9895-94908C7C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BBAD-6E6F-4E7F-AD33-FC5C6D34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27F56-BC8F-498B-8177-8EABFB76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E8291-67D1-493A-B5BE-F3E773BD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3B3DD-0607-4B73-AC5D-41FCB815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629E4-8C2A-44B1-972A-5B16E01E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EE9B2-50E2-4C15-B375-668C51B3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09F67-0136-429D-B938-02F31D73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C7C9F-3943-498C-A9DB-3EC377A9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B1D70-9988-4FFB-9A00-134DC696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E050C-C56D-4867-9FCA-E4315353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E0CB-4BC4-405D-A8E8-8B7D9316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205-2599-429F-8D1B-E2A8675C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A5D8-5666-41CF-B516-8BE4670B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BF0F-85C7-458C-BC54-839748E0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A60E-3658-408A-9F29-3913A3DF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6608-640D-45DC-93F3-3018E114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A8B2-CDB0-4C2A-87A8-0CD92588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7F99-19BA-4B96-8BED-BDABE807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C5CC-88CC-4F3D-BDEF-CE6B8AA6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56A-03BB-4814-93F7-539A7ED2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9391-D567-4252-801D-4CC0C7A8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835C-59DA-451A-A9D8-B8DA321A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AF32-053F-44E6-9061-C3E47A30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5E63-FF48-4CE9-A65A-BBEDEC2F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1E53-AD59-4F58-BDDF-2F44C47F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C63CD-6BFE-4491-999C-31853459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F59A9-E606-4CFC-84B4-2754331A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3E54E-D67A-457F-9FE9-A9BEB66E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4EA02-3E6E-494D-9C9A-83933567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FF091-BD81-4DB9-8701-FBD34ABC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CE81-CCD1-4B89-8844-907A0E0E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AFD3D-C806-49FB-B5F1-4A5EA5AA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C56BF-C12D-4DD9-BCD4-C234B054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4FF61-2FFC-459D-AF0D-7300194E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87EC8-6AF0-495E-8C19-3E5ED459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AD5BC-9DD8-4799-8691-90FA9BC4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4866C-2A38-4B3D-98AF-187F6887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676DC-424C-4FE4-938D-79967E2E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D9BCC-C199-4401-A38C-158805C6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076C9-7EF1-4604-8D1C-7959E858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54A1E-99DF-4079-AACC-F9DF6D68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8D3-9B6C-43BB-9971-5C7E35A0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C09CD-8606-4AA5-AF13-69766914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BFC8F-E621-4D75-A5FC-22B8C0BE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8374C-CDD6-4946-B7C7-1D9B524D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4ECA1-828D-435B-AE33-D0E939C1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41DE0-8B40-4049-85FF-E6E6BDD6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782E5-5035-491B-A9D0-01C5441B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EA172-7000-4FDC-A3F5-7245E90A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6FA3F-4FBD-4F96-B320-FF385FE8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D9F82-0267-44ED-8C42-08B0B186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02D0F-9696-4622-8598-6B59DB3C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E13E-F99A-40A6-80C0-890AD8EB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30D09-C71F-4D28-90B4-7A71AA59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6B22C-3A19-4325-B23C-56285D5D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D9BC3-9994-4878-ADCA-776D7A13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BCE78-374A-4480-AFB8-B856063C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DFF59-71AC-42AB-9566-11B16CBD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BEAC0-2FC7-453D-B590-5233F803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564DB-2BF1-42AF-A822-1CA6E8CC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795A9-65A7-4D58-851C-E2C61867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98904-077C-4EA9-8079-F0C91E43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ADF59-3BE3-4897-B2FA-54C25A15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ADE-01DD-4AA4-97EC-0C5225FC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90D1D-6DAC-4BA3-A0FA-36686099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82046-61B6-4330-A9DB-B876EF0F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976B3-DE0D-4076-810A-021C1643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D4EA2-B1E6-4E09-AA3A-A7D3070A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5C0A4-5748-4D74-A2F3-7CC5D8AF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2B1E2-8B2B-4D7B-BA17-1157A146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D5194-5479-4343-AADE-8435E90C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6D539-CDA3-4936-B775-66DF4FD7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1338D-6F41-46CD-AA95-450C43AA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FC1FE-4FEE-4172-B1AF-520679B7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7A6C-0AB4-43D6-BA6A-A026D53E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2C1E1-F390-4B2E-BD07-9CFE0C4E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DD5B2-5D56-4494-8926-646428AA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B0549-0646-47EC-9FE2-6B3275DE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7C1CD-64FE-4F54-9F72-9F630CA2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A1469-568D-4C7A-A329-A6285109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42051-0B97-4283-AB95-A64C2D3D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B732D-627B-4C19-856E-3AF54C9C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6B293-30B7-45B0-9FF8-12A5BA01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CF734-CBC5-484C-8F5B-C938269F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1BCB6-D7E1-4327-8FD8-8B2343C2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30E-C773-4B91-8207-DA9769E4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DC6C3-9A96-4C86-98CF-D91DBDF9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E8782-066E-44A7-A20A-F9D5FDDE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6B1E0-848D-499C-95D2-05B05B42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67E9C-6CE6-49C0-876F-1722D7F6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0A9BC-6404-4716-81AD-3B4FB0C2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11731-895C-4378-969E-33075E57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0705F-8088-42EE-9B6A-8B911341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20F38-A3ED-4EF3-9A8F-D4B7BEBF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C53B3-69B9-49A5-9E96-958585D6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1C38C-C508-47C2-9F71-84E11999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97A-53D9-48A2-A96F-A874DF5C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C0D0F-AE13-4BC6-B273-6575D201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68DBC-2241-46BA-8369-531C25A2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963EB-2C06-4560-9E42-B70B42F7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6D3EE-709F-4B71-953D-97B71469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DD05A-7E9F-4359-9D5F-BDA1D1CA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9F776-0763-4810-8862-BDB648B4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DD846-9D41-4DF5-ADAA-47FBA1C9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7315C-F7D5-48E7-BB7A-CD80E3F5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ECDE7-3B4E-48D8-A06C-1B6B0BF2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9D5E6-E59C-42FB-9297-FFF258C4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9E30-12B1-4472-ACDA-BDE390052C5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7D9A-123F-4413-A06E-910AC22B99E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2AF6-CCE4-475A-9718-AD25ED8BA3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1AC0-CBF7-4488-8B8B-1C16729AAD6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9AE4-A2FA-4091-A170-3A52A830AD8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41C4-AE49-464F-8851-AF77E7B6861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E94B-E898-4795-81D9-4195637E11D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8478-960A-47A5-B7A4-AE27E2AD1BB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5EF0-D4A3-4DE8-BC95-9C5EC5357A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76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ОКРУЖАЮЩИЙ МИР: ТЕХНОЛОГИИ И ПРИЕМЫ В ОРГАНИЗАЦИИ ДЕЯТЕЛЬНОСТИ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19700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5. 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Цель: 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«Выяснить вместе с детьми, для чего людям нужен транспорт?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6. 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Задачи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4e3b30"/>
                </a:solidFill>
                <a:uFillTx/>
                <a:latin typeface="Franklin Gothic Book"/>
              </a:rPr>
              <a:t>Образовательные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познакомить детей с разным видом транспорта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познакомить с профессиями людей, работающих на разных видах транспорта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закреплять понятия «наземный» «подземный» «водный» «Воздушный» транспорт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закреплять правила поведения в общественном транспорте, правила перехода улицы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4e3b30"/>
                </a:solidFill>
                <a:uFillTx/>
                <a:latin typeface="Franklin Gothic Book"/>
              </a:rPr>
              <a:t>Развивающие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развивать наглядно-образное мышление через использование классификации предметов по существенным признакам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расширять объём памяти посредством увеличения объёма зрительно запоминаемых объектов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развивать любознательность, мышление, фонетический слух, мелкую моторику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развивать навыки эффективного опознания предметов, умения узнавать предметы по существенным и несущественным признакам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4e3b30"/>
                </a:solidFill>
                <a:uFillTx/>
                <a:latin typeface="Franklin Gothic Book"/>
              </a:rPr>
              <a:t>Воспитательные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воспитывать познавательный интерес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воспитывать уважение к профессии водителя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7628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7. ХОД НЕПОСРЕДСТВЕННО -  ОБРАЗОВАТЕЛЬНОЙ ДЕЯТЕЛЬНОСТИ. 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водная часть - мотивационный этап (игровая или проблемная ситуация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сновная часть - содержательный, деятельностный этап (проектирование, решений проблемной ситуации, выполнение действий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ключительная часть - рефлексивный этап (анализ результатов деятельности, рефлексия, подведение итогов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ВВОДНАЯ ЧАСТЬ НОД 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ПРАВИЛА ПОСТРОЕНИЯ МОТИВАЦИИ: 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учёт возраст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мотивация должна быть экономной (2-3 мин)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завершённость ситуаци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тог вводной части: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формирована мотивация детей на предстоящую деятельност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ОСНОВНАЯ ЧАСТЬ НОД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50920" y="1125360"/>
            <a:ext cx="8686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. Активизировать мышление детей при помощи поисковых и проблемных вопросо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Поисковые вопросы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где? куда? откуда? как? когда? какой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Проблемные вопросы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чему? зачем? что было бы, если бы?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2. Использовать дидактические игр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3. Вовлекать детей в различные виды деятельности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Итог основной части: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оисходит усвоение нового способа действия или нового зна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ЗАКЛЮЧИТЕЛЬНАЯ ЧАСТЬ 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обходимо зафиксировать новые понятия и новые знани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вести анализ с детьми собственной и коллективной деятельности на заняти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НЮАНСЫ НОД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0" name="Прямоугольник 3"/>
          <p:cNvSpPr/>
          <p:nvPr/>
        </p:nvSpPr>
        <p:spPr>
          <a:xfrm>
            <a:off x="611280" y="1484280"/>
            <a:ext cx="792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1. Педагог должен быть эмоциональным, артистичным, использовать максимум нагляд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2. Дети должны перемещаться в групповом пространств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3. Интеграция Н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528920" y="587700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08080" y="401760"/>
            <a:ext cx="8539200" cy="40370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4000" y="4797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43329"/>
                </a:solidFill>
                <a:latin typeface="Franklin Gothic Book"/>
              </a:rPr>
              <a:t> </a:t>
            </a:r>
            <a:r>
              <a:rPr b="1" i="1" lang="ru-RU" sz="2000" spc="-1" strike="noStrike">
                <a:solidFill>
                  <a:srgbClr val="443329"/>
                </a:solidFill>
                <a:latin typeface="Franklin Gothic Book"/>
              </a:rPr>
              <a:t>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90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95280" y="476280"/>
            <a:ext cx="8424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Технология </a:t>
            </a:r>
            <a:r>
              <a:rPr b="0" lang="ru-RU" sz="2800" spc="-1" strike="noStrike">
                <a:solidFill>
                  <a:srgbClr val="603b14"/>
                </a:solidFill>
                <a:latin typeface="Franklin Gothic Book"/>
              </a:rPr>
              <a:t>– это совокупность приемов, применяемых в каком-либо деле, мастерстве, искусстве (толковый словарь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Педагогическая технология</a:t>
            </a: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– это совокупность психолого-педагогических установок, определяющих специальный набор и компоновку форм, методов, способов, приёмов обучения, воспитательных средств; она есть организационно - методический инструментарий педагогического процесса . 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(Б.Т.Лихачёв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Franklin Gothic Medium"/>
              </a:rPr>
              <a:t>ОСНОВНЫЕ ТРЕБОВАНИЯ (КРИТЕРИИ) ПЕДАГОГИЧЕСКОЙ ТЕХНОЛОГИИ: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7" name="Содержимое 3" descr=""/>
          <p:cNvPicPr/>
          <p:nvPr/>
        </p:nvPicPr>
        <p:blipFill>
          <a:blip r:embed="rId1"/>
          <a:stretch/>
        </p:blipFill>
        <p:spPr>
          <a:xfrm>
            <a:off x="237960" y="1444680"/>
            <a:ext cx="87663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Содержимое 3" descr=""/>
          <p:cNvPicPr/>
          <p:nvPr/>
        </p:nvPicPr>
        <p:blipFill>
          <a:blip r:embed="rId1"/>
          <a:stretch/>
        </p:blipFill>
        <p:spPr>
          <a:xfrm>
            <a:off x="237960" y="396720"/>
            <a:ext cx="8534520" cy="606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«ОЗНАКОМЛЕНИЕ С ОКРУЖАЮЩИМ МИРОМ»: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24000" y="2060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рганизация НОД,  методы и приемы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временные технологии при обучени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ППС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Содержимое 3" descr=""/>
          <p:cNvPicPr/>
          <p:nvPr/>
        </p:nvPicPr>
        <p:blipFill>
          <a:blip r:embed="rId1"/>
          <a:stretch/>
        </p:blipFill>
        <p:spPr>
          <a:xfrm>
            <a:off x="444600" y="396720"/>
            <a:ext cx="82486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Franklin Gothic Medium"/>
              </a:rPr>
              <a:t>СОВРЕМЕННЫЕ ОБРАЗОВАТЕЛЬНЫЕ ТЕХНОЛОГИИ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здоровьесберегающие технолог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технологии проектной деятель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технология исследовательской деятель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нформационно-коммуникационные технолог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гровая технолог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технология «ТРИЗ»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Franklin Gothic Medium"/>
              </a:rPr>
              <a:t>ЗДОРОВЬЕСБЕРЕГАЮЩИЕ  ТЕХНОЛОГИИ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Цель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обеспечение ребенку возможности сохранения здоровья, формирование у него необходимых знаний, умений, навыков по здоровому образу жизни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Содержимое 3" descr=""/>
          <p:cNvPicPr/>
          <p:nvPr/>
        </p:nvPicPr>
        <p:blipFill>
          <a:blip r:embed="rId1"/>
          <a:stretch/>
        </p:blipFill>
        <p:spPr>
          <a:xfrm>
            <a:off x="444600" y="401760"/>
            <a:ext cx="82422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Franklin Gothic Medium"/>
              </a:rPr>
              <a:t>ТЕХНОЛОГИИ ПРОЕКТНОЙ ДЕЯТЕЛЬНОСТИ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Цель: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Franklin Gothic Book"/>
              </a:rPr>
              <a:t>развитие и обогащение социально-личностного опыта посредством включения детей в сферу межличностного взаимодействия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236600"/>
          </a:xfrm>
          <a:prstGeom prst="rect">
            <a:avLst/>
          </a:prstGeom>
          <a:ln w="0">
            <a:noFill/>
          </a:ln>
        </p:spPr>
      </p:pic>
      <p:pic>
        <p:nvPicPr>
          <p:cNvPr id="448" name="Содержимое 4" descr=""/>
          <p:cNvPicPr/>
          <p:nvPr/>
        </p:nvPicPr>
        <p:blipFill>
          <a:blip r:embed="rId2"/>
          <a:stretch/>
        </p:blipFill>
        <p:spPr>
          <a:xfrm>
            <a:off x="457200" y="822240"/>
            <a:ext cx="824868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Содержимое 3" descr=""/>
          <p:cNvPicPr/>
          <p:nvPr/>
        </p:nvPicPr>
        <p:blipFill>
          <a:blip r:embed="rId1"/>
          <a:stretch/>
        </p:blipFill>
        <p:spPr>
          <a:xfrm>
            <a:off x="444600" y="463680"/>
            <a:ext cx="825480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03b14"/>
                </a:solidFill>
                <a:latin typeface="Franklin Gothic Medium"/>
              </a:rPr>
              <a:t>ТЕХНОЛОГИЯ ИССЛЕДОВАТЕЛЬСКОЙ ДЕЯТЕЛЬНОСТИ</a:t>
            </a:r>
            <a:br>
              <a:rPr sz="32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68360" y="1773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i="1" lang="ru-RU" sz="3600" spc="-1" strike="noStrike">
                <a:solidFill>
                  <a:srgbClr val="4e3b30"/>
                </a:solidFill>
                <a:latin typeface="Franklin Gothic Book"/>
              </a:rPr>
              <a:t>Цель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ru-RU" sz="3600" spc="-1" strike="noStrike">
                <a:solidFill>
                  <a:srgbClr val="4e3b30"/>
                </a:solidFill>
                <a:latin typeface="Franklin Gothic Book"/>
              </a:rPr>
              <a:t>сформировать у дошкольников основные ключевые компетенции, способность к исследовательскому типу мышления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333000"/>
            <a:ext cx="8291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Franklin Gothic Book"/>
              </a:rPr>
              <a:t>	</a:t>
            </a:r>
            <a:r>
              <a:rPr b="1" i="1" lang="ru-RU" sz="2200" spc="-1" strike="noStrike">
                <a:solidFill>
                  <a:srgbClr val="002060"/>
                </a:solidFill>
                <a:latin typeface="Franklin Gothic Book"/>
              </a:rPr>
              <a:t>	</a:t>
            </a:r>
            <a:r>
              <a:rPr b="1" i="1" lang="ru-RU" sz="3200" spc="-1" strike="noStrike">
                <a:solidFill>
                  <a:srgbClr val="603b14"/>
                </a:solidFill>
                <a:latin typeface="Franklin Gothic Book"/>
              </a:rPr>
              <a:t>Методы и приемы организации экспериментально – исследовательской деятельност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эвристические беседы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становка и решение вопросов проблемного характер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наблюдени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оделирование (создание моделей об изменениях в неживой природе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ыты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фиксация результатов: наблюдений, опытов, экспериментов,  трудовой деятельност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«погружение» в краски, звуки, запахи и образы природы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дражание голосам и звукам природы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спользование художественного слов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дидактические игры, игровые обучающие и творчески развивающие ситуаци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удовые поручения, действи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03b14"/>
                </a:solidFill>
                <a:latin typeface="Franklin Gothic Book"/>
              </a:rPr>
              <a:t>СОДЕРЖАНИЕ ПОЗНАВАТЕЛЬНО-ИССЛЕДОВАТЕЛЬСКОЙ ДЕЯТЕЛЬНОСТИ</a:t>
            </a:r>
            <a:br>
              <a:rPr sz="32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4" name="Содержимое 3" descr=""/>
          <p:cNvPicPr/>
          <p:nvPr/>
        </p:nvPicPr>
        <p:blipFill>
          <a:blip r:embed="rId1"/>
          <a:stretch/>
        </p:blipFill>
        <p:spPr>
          <a:xfrm>
            <a:off x="291960" y="1542960"/>
            <a:ext cx="871236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544500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ОРГАНИЗАЦИЯ НОД 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«ОЗНАКОМЛЕНИЕ С ОКРУЖАЮЩИМ МИРОМ»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0761f"/>
                </a:solidFill>
                <a:latin typeface="Franklin Gothic Medium"/>
              </a:rPr>
              <a:t>ФГОС ДО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0761f"/>
                </a:solidFill>
                <a:latin typeface="Franklin Gothic Medium"/>
              </a:rPr>
              <a:t>НОД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647960" y="1315800"/>
            <a:ext cx="4289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280800" y="1315800"/>
            <a:ext cx="42908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Содержимое 3" descr=""/>
          <p:cNvPicPr/>
          <p:nvPr/>
        </p:nvPicPr>
        <p:blipFill>
          <a:blip r:embed="rId1"/>
          <a:stretch/>
        </p:blipFill>
        <p:spPr>
          <a:xfrm>
            <a:off x="444600" y="390600"/>
            <a:ext cx="82548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Franklin Gothic Medium"/>
              </a:rPr>
              <a:t>ИНФОРМАЦИОННО-КОММУНИКАЦИОННЫЕ ТЕХНОЛОГИИ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дач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дти в ногу со временем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ать для ребенка проводником  в мир новых технологий; наставником в выборе  компьютерных программ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формировать основы информационной культуры его лич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высить профессиональный уровень педагогов и компетентность родителей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Franklin Gothic Medium"/>
              </a:rPr>
              <a:t>ИГРОВАЯ ТЕХНОЛОГИЯ: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 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just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гры и упражнения, формирующие умение выделять основные, характерные признаки предметов, сравнивать, сопоставлять их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just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группы игр на обобщение предметов по определенным признака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just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группы игр, в процессе которых у дошкольников развивается умение отличать реальные явления от нереальных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just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группы игр, воспитывающих умение владеть собой, быстроту реакции на слово, смекалку и др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   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03b14"/>
                </a:solidFill>
                <a:latin typeface="Franklin Gothic Medium"/>
              </a:rPr>
              <a:t>ТЕХНОЛОГИЯ «ТРИЗ» </a:t>
            </a:r>
            <a:br>
              <a:rPr sz="2900"/>
            </a:br>
            <a:r>
              <a:rPr b="1" lang="ru-RU" sz="2900" spc="-1" strike="noStrike">
                <a:solidFill>
                  <a:srgbClr val="4e3b30"/>
                </a:solidFill>
                <a:latin typeface="Franklin Gothic Medium"/>
              </a:rPr>
              <a:t>(ТЕОРИЯ РЕШЕНИЯ ИЗОБРЕТАТЕЛЬСКИХ ЗАДАЧ)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Цель: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азвитие, мышления, системности, диалектичности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азвитие поисковой активности, стремления к новизн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азвитие речи и творческого воображ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       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Задача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ивить ребенку радость творческих открыти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280" y="64407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323640" y="476280"/>
            <a:ext cx="8458200" cy="526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3329"/>
                </a:solidFill>
                <a:latin typeface="Franklin Gothic Book"/>
              </a:rPr>
              <a:t>Организация развивающей предметно – пространственной среды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3329"/>
                </a:solidFill>
                <a:latin typeface="Franklin Gothic Book"/>
              </a:rPr>
              <a:t>(РППС)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3329"/>
                </a:solidFill>
                <a:latin typeface="Franklin Gothic Book"/>
              </a:rPr>
              <a:t>для познавательно-исследовательской деятельности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3329"/>
                </a:solidFill>
                <a:latin typeface="Franklin Gothic Book"/>
              </a:rPr>
              <a:t>по ознакомлению с  окружающим  миром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ТРЕБОВАНИЯ ФГОС К РППС 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держательно-насыщенна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рансформируема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лифункциональна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ариативна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ступна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езопасна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ДОМАШНЕЕ ЗАДАНИЕ: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 конца октября сделать и сдать презентации   с текстом  по слайдам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группу №6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теме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РППС для ознакомления с окружающим миром  детей в  группе №…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4800" spc="-1" strike="noStrike">
                <a:solidFill>
                  <a:srgbClr val="4e3b30"/>
                </a:solidFill>
                <a:latin typeface="Monotype Corsiva"/>
              </a:rPr>
              <a:t>Творите сами. Как нет детей без воображения, так нет и педагога без творческих порывов.</a:t>
            </a:r>
            <a:br>
              <a:rPr sz="4800"/>
            </a:br>
            <a:r>
              <a:rPr b="1" lang="ru-RU" sz="4800" spc="-1" strike="noStrike">
                <a:solidFill>
                  <a:srgbClr val="4e3b30"/>
                </a:solidFill>
                <a:latin typeface="Monotype Corsiva"/>
              </a:rPr>
              <a:t>Творческих Вам успехов!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НОД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55412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ОД – это ведущая форма организации совместной деятельности взрослого и детей, которая определяется уровнем освоения общеобразовательной программы ДО и решением  конкретных образовательных задач в соответствии с возрастом детей и текущей темой, которая соединяет обучающую функцию и совместную деятельность, но процесс обучения остаетс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ОТЛИЧИЕ «ЗАНЯТИЯ» ОТ «НОД»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24000" y="2060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ормы  организации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зиция педагога по отношению к детям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руктура НОД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179280" y="189000"/>
          <a:ext cx="8713800" cy="6140520"/>
        </p:xfrm>
        <a:graphic>
          <a:graphicData uri="http://schemas.openxmlformats.org/drawingml/2006/table">
            <a:tbl>
              <a:tblPr/>
              <a:tblGrid>
                <a:gridCol w="4032360"/>
                <a:gridCol w="4681440"/>
              </a:tblGrid>
              <a:tr h="191880"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диционный подход (занят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ременный подход (НОД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ая деятельность и иг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а и другие виды детской деятельности в  совместной деятельности детей и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ая модель, т.е. зан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каз от учебной модели в детском саду, т.е. от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636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авная цель - освоение знаний, умений, навыков (ЗУ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ая цель – подлинная активность (деятельность) детей, а освоение знаний, умений и навыков – побочный эффект этой активност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Виды деятельно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игрова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познавательно-исследовательска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коммуникативна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восприятие художественной литературы и фольклор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конструирование из разных материалов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изобразительна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двигательна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самообслуживание и элементарный бытовой тру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музыкальная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едение педагог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рослый – отдален от детей, вне круга, противостоит детя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рослый – партнер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рядом с детьми (вместе), в едином пространств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я пространства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мещение за рядами столов, как за партами, глядя в затылок другого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приближение к ситуации «круглого стола», приглашающего к равному участию в работе, обсуждении, исследован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 свобод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сткое закрепление рабочих мест, запрет на перемещ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рещено свободное общение детей. Вводится дисциплинарное требование тиши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ое размещение детей и перемещение в процессе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ешено свободное общение (рабочий гу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и могут обсуждать работу, задавать друг другу вопросы и т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ствия позиции воспитате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зывает пассивность ребенка, невозможность самостоятельно принять решение, эмоциональный дискомфорт, страх что-то сделать не так и агрессию как оборотную сторону страха, как разрядку накапливающегося напряж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собствует развитию у ребенка активности, самостоятельности, умения принять решение, пробовать делать что-то, не боясь, что получиться неправильно, вызывает стремление к достижению, благоприятствует эмоциональному комфор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ФГОС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95280" y="1197000"/>
            <a:ext cx="41911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Образовательные области (направления развития)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1.познавательное развити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3b14"/>
                </a:solidFill>
                <a:latin typeface="Franklin Gothic Book"/>
              </a:rPr>
              <a:t>2. социально-коммуникативно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3b14"/>
                </a:solidFill>
                <a:latin typeface="Franklin Gothic Book"/>
              </a:rPr>
              <a:t>3. Речево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3b14"/>
                </a:solidFill>
                <a:latin typeface="Franklin Gothic Book"/>
              </a:rPr>
              <a:t>4. Художественно –эстетическо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3b14"/>
                </a:solidFill>
                <a:latin typeface="Franklin Gothic Book"/>
              </a:rPr>
              <a:t>5. Физическо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2920" y="1267920"/>
            <a:ext cx="43434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Детские виды деятельности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Franklin Gothic Book"/>
              </a:rPr>
              <a:t>1. Познавательно-исследовательская деятельность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2. Коммуникативная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3. восприятие художественной литературы и фольклор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4. конструирование из разных материал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5. Изобразительна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6. Двигательна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7. Самообслуживание и элементарный бытовой труд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8. Музыкальная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79280" y="189000"/>
          <a:ext cx="8713800" cy="6140520"/>
        </p:xfrm>
        <a:graphic>
          <a:graphicData uri="http://schemas.openxmlformats.org/drawingml/2006/table">
            <a:tbl>
              <a:tblPr/>
              <a:tblGrid>
                <a:gridCol w="4032360"/>
                <a:gridCol w="4681440"/>
              </a:tblGrid>
              <a:tr h="191880"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диционный подход (занят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ременный подход (НОД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ая деятельность и иг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а и другие виды детской деятельности в  совместной деятельности детей и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ая модель, т.е. зан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каз от учебной модели в детском саду, т.е. от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636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авная цель - освоение знаний, умений, навыков (ЗУ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ая цель – подлинная активность (деятельность) детей, а освоение знаний, умений и навыков – побочный эффект этой активност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Виды деятельно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игрова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познавательно-исследовательска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коммуникативна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восприятие художественной литературы и фольклор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конструирование из разных материалов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изобразительна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двигательна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самообслуживание и элементарный бытовой тру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музыкальная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едение педагог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рослый – отдален от детей, вне круга, противостоит детя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рослый – партнер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рядом с детьми (вместе), в едином пространств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я пространства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мещение за рядами столов, как за партами, глядя в затылок другого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приближение к ситуации «круглого стола», приглашающего к равному участию в работе, обсуждении, исследован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 свобод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сткое закрепление рабочих мест, запрет на перемещ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рещено свободное общение детей. Вводится дисциплинарное требование тиши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ое размещение детей и перемещение в процессе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ешено свободное общение (рабочий гу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и могут обсуждать работу, задавать друг другу вопросы и т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ствия позиции воспитате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зывает пассивность ребенка, невозможность самостоятельно принять решение, эмоциональный дискомфорт, страх что-то сделать не так и агрессию как оборотную сторону страха, как разрядку накапливающегося напряж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собствует развитию у ребенка активности, самостоятельности, умения принять решение, пробовать делать что-то, не боясь, что получиться неправильно, вызывает стремление к достижению, благоприятствует эмоциональному комфор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3760"/>
            <a:ext cx="8686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Заголовок. </a:t>
            </a:r>
            <a:r>
              <a:rPr b="0" lang="ru-RU" sz="2400" spc="-1" strike="noStrike">
                <a:solidFill>
                  <a:srgbClr val="2a2003"/>
                </a:solidFill>
                <a:latin typeface="Franklin Gothic Book"/>
              </a:rPr>
              <a:t>«Конспект непосредственно - образовательной деятельности  по познавательному развитию. Тема «Транспорт».  Для детей подготовительной группы общеразвивающей направленност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003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2a2003"/>
                </a:solidFill>
                <a:latin typeface="Franklin Gothic Book"/>
              </a:rPr>
              <a:t>2. </a:t>
            </a: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Приоритетное направление </a:t>
            </a:r>
            <a:r>
              <a:rPr b="0" lang="ru-RU" sz="2400" spc="-1" strike="noStrike">
                <a:solidFill>
                  <a:srgbClr val="2a2003"/>
                </a:solidFill>
                <a:latin typeface="Franklin Gothic Book"/>
              </a:rPr>
              <a:t>(познавательная развитие), интеграция с другими образовательными областями, интеграция </a:t>
            </a:r>
            <a:r>
              <a:rPr b="0" lang="ru-RU" sz="2400" spc="-1" strike="noStrike">
                <a:solidFill>
                  <a:srgbClr val="2a2003"/>
                </a:solidFill>
                <a:latin typeface="Franklin Gothic Book"/>
                <a:ea typeface="Calibri"/>
              </a:rPr>
              <a:t>детских видов деятельност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003"/>
                </a:solidFill>
                <a:latin typeface="Franklin Gothic Book"/>
              </a:rPr>
              <a:t>3. </a:t>
            </a: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Формы организации </a:t>
            </a:r>
            <a:r>
              <a:rPr b="0" lang="ru-RU" sz="2400" spc="-1" strike="noStrike">
                <a:solidFill>
                  <a:srgbClr val="2a2003"/>
                </a:solidFill>
                <a:latin typeface="Franklin Gothic Book"/>
              </a:rPr>
              <a:t>коллективной деятельности (работа по подгруппам, в парах, совместная деятельность педагога с детьми) и самостоятельной деятельности детей (если она запланирована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003"/>
                </a:solidFill>
                <a:latin typeface="Franklin Gothic Book"/>
              </a:rPr>
              <a:t>4. Материал и оборудование; предварительная работа; планируемые результат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user</cp:lastModifiedBy>
  <dcterms:modified xsi:type="dcterms:W3CDTF">2017-10-17T17:10:29Z</dcterms:modified>
  <cp:revision>181</cp:revision>
  <dc:subject/>
  <dc:title>Слайд 1</dc:title>
</cp:coreProperties>
</file>