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29F6-B5D0-4E1E-AC35-357D3CFC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821-628A-46A7-89B2-650B85EB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44E-63D5-486B-8064-7E58D50E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B48-B892-47F3-ACE5-3BC44161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EF18-63D0-4590-A994-F428D189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5881-DFB1-4F40-AAA3-BD7497F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8C88D-E9B7-4C55-96A6-E9FA0CE5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A995-8DDA-4DF6-8B7D-EF3638A6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F6EE-6F8B-44E3-A94E-86BF6C7C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5B62-23FB-4DD6-A6D7-247FC9D7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20A9-9091-4F99-83DC-5FB9A7CA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E5A-65BC-4BFD-8FE2-A61EC1A8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9FDB-2663-4C5D-A923-BDB744A7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C6B6C-5DF0-458E-BB28-B9AF0A67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C2973-A923-4D79-A844-A5BB082F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192A-6EFE-43D2-B279-88BB31A8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7C78-E4E9-4456-8B4F-1BA6C99B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64F5-D34F-45EE-9A52-17D84A36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DF3-367B-4572-AEC9-E0DD4B62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262-5EE5-4602-9032-0C8D19FE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587-9B16-475C-B567-F6BA35A0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90D0-B5B1-4BDD-A336-4AC80943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5CC-89E0-46DC-AE68-7C92F460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5696-AA72-4054-8BD3-7AC39B32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8D54-8555-40EF-9A4B-4E9992F744D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b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b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b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aaaaa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7c8f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0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b76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b76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3b7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3b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3b7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b7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3b7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18E9-4CC3-4472-93CB-699C79D7DA1E}" type="slidenum">
              <a:rPr b="0" lang="ru-RU" sz="1000" spc="-1" strike="noStrike">
                <a:solidFill>
                  <a:srgbClr val="003b7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848720" cy="302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4800" spc="-1" strike="noStrike">
                <a:solidFill>
                  <a:srgbClr val="000099"/>
                </a:solidFill>
                <a:latin typeface="Comic Sans MS"/>
              </a:rPr>
              <a:t>Формирование валеологической культуры детей дошкольного возраста</a:t>
            </a:r>
            <a:endParaRPr b="0" lang="en-US" sz="4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835280" y="4797000"/>
            <a:ext cx="6976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Verdana"/>
              </a:rPr>
              <a:t>Выполнила</a:t>
            </a: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: Горюнова Лидия</a:t>
            </a: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a50021"/>
                </a:solidFill>
                <a:latin typeface="Verdana"/>
              </a:rPr>
              <a:t>Николаевна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, воспитатель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детский сад №218 компенсирующего вида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г. Красноярск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глядны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324000" y="404640"/>
          <a:ext cx="8137440" cy="6377040"/>
        </p:xfrm>
        <a:graphic>
          <a:graphicData uri="http://schemas.openxmlformats.org/drawingml/2006/table">
            <a:tbl>
              <a:tblPr/>
              <a:tblGrid>
                <a:gridCol w="6030720"/>
                <a:gridCol w="2106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риём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Наблюдение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формирование основного содержания знаний дошкольников об органах, их функциях, гигиене; развитие наглядно-образной, наглядно-действенной форм мышления, речи.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34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ссматривание картин, таблиц, муляжей, репродукций, схем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дачи: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уточнение, обогащение представлений детей об организме, обогащение словаря детей; формирование наглядных образов тех органов, восприятие которых в жизни  невозможно;  обогащение, систематизация знаний детей;  активизация словаря, развитие связной речи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бразец рассказа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дание творческого характера 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485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лайды, диафильмы, кинофильмы – демонстрация их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дачи: 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ширение знаний детей; развитие речи; формирование конкретных представлений о явлениях, восприятие которых в жизни затруднено, невозможно;  возможность познакомить с явлениями, протекающими длительное время. 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ы– обсуждение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овторный показ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ссказ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художественное слово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6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исование на темы, близкие к их содержанию</a:t>
                      </a:r>
                      <a:endParaRPr b="0" lang="en-US" sz="16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Наглядны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84" name="Picture 18" descr="C:\Users\User\Desktop\КРАСКИ\DSCN7211.JPG"/>
          <p:cNvPicPr/>
          <p:nvPr/>
        </p:nvPicPr>
        <p:blipFill>
          <a:blip r:embed="rId1"/>
          <a:stretch/>
        </p:blipFill>
        <p:spPr>
          <a:xfrm>
            <a:off x="3786120" y="3357720"/>
            <a:ext cx="5183280" cy="3311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C:\Users\User\Desktop\КРАСКИ\DSCN7216.JPG"/>
          <p:cNvPicPr/>
          <p:nvPr/>
        </p:nvPicPr>
        <p:blipFill>
          <a:blip r:embed="rId2"/>
          <a:stretch/>
        </p:blipFill>
        <p:spPr>
          <a:xfrm>
            <a:off x="142920" y="642960"/>
            <a:ext cx="47973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актически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50920" y="620640"/>
          <a:ext cx="8242200" cy="6308640"/>
        </p:xfrm>
        <a:graphic>
          <a:graphicData uri="http://schemas.openxmlformats.org/drawingml/2006/table">
            <a:tbl>
              <a:tblPr/>
              <a:tblGrid>
                <a:gridCol w="6111720"/>
                <a:gridCol w="21304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риём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3b7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479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Игровой метод</a:t>
                      </a:r>
                      <a:r>
                        <a:rPr b="0" lang="ru-RU" sz="20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использование разнообразных компонентов игровой деятельности в сочетании с другими приёмами; 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ы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указания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бъяснения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оказ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- воображаемая игровая ситуация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3b7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111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Моделирование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создание моделей, их использование,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формирования знаний о свойствах, структуре, отношениях,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вязях, объектов.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3b7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Экспериментирование</a:t>
                      </a:r>
                      <a:r>
                        <a:rPr b="0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самостоятельная поисковая деятельность детей с целью решения поставленной задачи.</a:t>
                      </a: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5760">
                      <a:solidFill>
                        <a:srgbClr val="003b76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04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актически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89" name="Picture 3" descr="C:\Users\User\Desktop\КРАСКИ\DSCN7219.JPG"/>
          <p:cNvPicPr/>
          <p:nvPr/>
        </p:nvPicPr>
        <p:blipFill>
          <a:blip r:embed="rId1"/>
          <a:stretch/>
        </p:blipFill>
        <p:spPr>
          <a:xfrm>
            <a:off x="4143240" y="3260880"/>
            <a:ext cx="4786560" cy="3384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C:\Users\User\Desktop\КРАСКИ\DSCN7218.JPG"/>
          <p:cNvPicPr/>
          <p:nvPr/>
        </p:nvPicPr>
        <p:blipFill>
          <a:blip r:embed="rId2"/>
          <a:stretch/>
        </p:blipFill>
        <p:spPr>
          <a:xfrm>
            <a:off x="214200" y="642960"/>
            <a:ext cx="4741920" cy="340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omic Sans MS"/>
              </a:rPr>
              <a:t>Формы организации детей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1280" y="620640"/>
            <a:ext cx="763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1" action="ppaction://hlinksldjump"/>
              </a:rPr>
              <a:t>занятия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экскурсии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наблюдения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дидактические игры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чтение специальной литературы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Verdana"/>
                <a:hlinkClick r:id="rId2" action="ppaction://hlinksldjump"/>
              </a:rPr>
              <a:t>сюжетно-ролевые игры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простейшие физиологические опыты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моделирование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самостоятельное наблюдение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индивидуальным занятиям в уголках здоровья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занятиям-консультациям и пр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93" name="Picture 7" descr="C:\Users\User\Desktop\КРАСКИ\DSCN7184.JPG"/>
          <p:cNvPicPr/>
          <p:nvPr/>
        </p:nvPicPr>
        <p:blipFill>
          <a:blip r:embed="rId3"/>
          <a:stretch/>
        </p:blipFill>
        <p:spPr>
          <a:xfrm>
            <a:off x="5286240" y="4143240"/>
            <a:ext cx="3500640" cy="252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C:\Users\User\Desktop\КРАСКИ\DSCN7198.JPG"/>
          <p:cNvPicPr/>
          <p:nvPr/>
        </p:nvPicPr>
        <p:blipFill>
          <a:blip r:embed="rId4"/>
          <a:stretch/>
        </p:blipFill>
        <p:spPr>
          <a:xfrm>
            <a:off x="428760" y="4143240"/>
            <a:ext cx="4740120" cy="25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Виды занятий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01684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Экскурсии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Консультации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Игры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Путешествия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Лабораторные работы, эксперименты, работы с  проблемными ситуациями; 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Праздники, конкурсы, викторины и т.д. 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000099"/>
                </a:solidFill>
                <a:latin typeface="Verdana"/>
              </a:rPr>
              <a:t>Таким образом, формы работы должны соответствовать возрастным особенностям ребёнка и способствовать развитию его познавательных способностей.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97" name="Picture 8" descr="C:\Users\User\Desktop\КРАСКИ\DSCN7182.JPG"/>
          <p:cNvPicPr/>
          <p:nvPr/>
        </p:nvPicPr>
        <p:blipFill>
          <a:blip r:embed="rId1"/>
          <a:stretch/>
        </p:blipFill>
        <p:spPr>
          <a:xfrm>
            <a:off x="4643280" y="3643200"/>
            <a:ext cx="3857760" cy="30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Users\User\Desktop\КРАСКИ\DSCN7181.JPG"/>
          <p:cNvPicPr/>
          <p:nvPr/>
        </p:nvPicPr>
        <p:blipFill>
          <a:blip r:embed="rId2"/>
          <a:stretch/>
        </p:blipFill>
        <p:spPr>
          <a:xfrm>
            <a:off x="642960" y="3714840"/>
            <a:ext cx="382104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Формы работы с родителями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824688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Пропаганда валеологических знаний среди родителей</a:t>
            </a:r>
            <a:r>
              <a:rPr b="0" lang="ru-RU" sz="21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с привлечением специалистов из поликлиник, университетов, физкультурной академии, педагогических колледжей.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Дни открытых дверей в ДОУ</a:t>
            </a:r>
            <a:r>
              <a:rPr b="0" lang="ru-RU" sz="21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с целью ознакомления с методикой валеологического воспитания и образования.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Совместные праздники здоровья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Участие родителей в оформлении предметно-игровой среды по валеологии</a:t>
            </a:r>
            <a:r>
              <a:rPr b="0" lang="ru-RU" sz="2100" spc="-1" strike="noStrike">
                <a:solidFill>
                  <a:srgbClr val="a50021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(изготовление наглядного и раздаточного материала).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a50021"/>
                </a:solidFill>
                <a:latin typeface="Verdana"/>
              </a:rPr>
              <a:t>Экскурсии</a:t>
            </a:r>
            <a:r>
              <a:rPr b="0" lang="ru-RU" sz="2100" spc="-1" strike="noStrike">
                <a:solidFill>
                  <a:srgbClr val="000099"/>
                </a:solidFill>
                <a:latin typeface="Verdana"/>
              </a:rPr>
              <a:t> с детьми по месту работы некоторых родителей: в клинику, бактериологическую лабораторию, детскую поликлинику (стоматология, рентгеновский кабинет, глазной кабинет, ЛОР, педиатр и т.д.)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795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Comic Sans MS"/>
              </a:rPr>
              <a:t>Формы работы с родителями: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642960"/>
            <a:ext cx="842976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99"/>
                </a:solidFill>
                <a:latin typeface="Verdana"/>
              </a:rPr>
              <a:t>Практическая работа с родителями</a:t>
            </a:r>
            <a:r>
              <a:rPr b="0" lang="ru-RU" sz="2000" spc="-1" strike="noStrike">
                <a:solidFill>
                  <a:srgbClr val="003b76"/>
                </a:solidFill>
                <a:latin typeface="Verdana"/>
              </a:rPr>
              <a:t>: обучение правилам закаливания, точечного массажа, технике выполнения упражнений, оказания первой помощи. Разработка уголков для родителей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99"/>
                </a:solidFill>
                <a:latin typeface="Verdana"/>
              </a:rPr>
              <a:t>Создание совместно с ребёнком </a:t>
            </a:r>
            <a:r>
              <a:rPr b="1" lang="ru-RU" sz="2000" spc="-1" strike="noStrike">
                <a:solidFill>
                  <a:srgbClr val="003b76"/>
                </a:solidFill>
                <a:latin typeface="Verdana"/>
              </a:rPr>
              <a:t>газет</a:t>
            </a:r>
            <a:r>
              <a:rPr b="0" lang="ru-RU" sz="2000" spc="-1" strike="noStrike">
                <a:solidFill>
                  <a:srgbClr val="003b76"/>
                </a:solidFill>
                <a:latin typeface="Verdana"/>
              </a:rPr>
              <a:t> о здоровье, здоровом образе жизни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99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d99"/>
                </a:solidFill>
                <a:latin typeface="Verdana"/>
              </a:rPr>
              <a:t>Ведение дневника здоровья</a:t>
            </a:r>
            <a:r>
              <a:rPr b="0" lang="ru-RU" sz="2000" spc="-1" strike="noStrike">
                <a:solidFill>
                  <a:srgbClr val="003b76"/>
                </a:solidFill>
                <a:latin typeface="Verdana"/>
              </a:rPr>
              <a:t>, в котором будут отмечаться положительные сдвиги в знаниях и умениях дошкольника и родителями и воспитателями. В дневнике можно указывать книги о здоровье, рисовать рисунки о болезни и здоровье, о предметах, помогающих поддерживать чистоту в доме и в организме, отмечать свое самочувствие и состояние в течение дня, используя яркие и понятные символы, как для детей, так и для воспитателей и родителей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203" name="Picture 4" descr="C:\Users\User\Desktop\КРАСКИ\b_d7d54aa3983e8f8912ed66ebd28ac268.jpg"/>
          <p:cNvPicPr/>
          <p:nvPr/>
        </p:nvPicPr>
        <p:blipFill>
          <a:blip r:embed="rId1"/>
          <a:stretch/>
        </p:blipFill>
        <p:spPr>
          <a:xfrm>
            <a:off x="1071720" y="4572000"/>
            <a:ext cx="3431880" cy="2286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User\Desktop\КРАСКИ\b87958715b6c.jpg"/>
          <p:cNvPicPr/>
          <p:nvPr/>
        </p:nvPicPr>
        <p:blipFill>
          <a:blip r:embed="rId2"/>
          <a:stretch/>
        </p:blipFill>
        <p:spPr>
          <a:xfrm>
            <a:off x="5072040" y="460692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6960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Уголок здоровья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71520" y="1142640"/>
            <a:ext cx="5715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В уголке здоровья должны 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Verdana"/>
              </a:rPr>
              <a:t>содержаться следующие материалы</a:t>
            </a:r>
            <a:endParaRPr b="0" lang="en-US" sz="18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Папка с иллюстрациями «Человек и его организм»;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дидактические игры по темам;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книги о здоровье и ЗОЖ;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схемы, иллюстрации по темам</a:t>
            </a: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;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тетрадь «Хочу все уметь и знать»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(индивидуальные домашние задания по физическому воспитанию);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микроскопы, микропрепараты, песочные часы, муляжи – для проведения наблюдений, экспериментирования;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аптечка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с предметами для оказания первой помощи при травмах;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анатомическая кукла; 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— </a:t>
            </a:r>
            <a:r>
              <a:rPr b="1" lang="ru-RU" sz="1600" spc="-1" strike="noStrike">
                <a:solidFill>
                  <a:srgbClr val="004d99"/>
                </a:solidFill>
                <a:latin typeface="Verdana"/>
              </a:rPr>
              <a:t>папка «Скоро в школу»:</a:t>
            </a:r>
            <a:r>
              <a:rPr b="0" lang="ru-RU" sz="1600" spc="-1" strike="noStrike">
                <a:solidFill>
                  <a:srgbClr val="004d99"/>
                </a:solidFill>
                <a:latin typeface="Verdana"/>
              </a:rPr>
              <a:t> </a:t>
            </a:r>
            <a:br>
              <a:rPr sz="1600"/>
            </a:b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 «Мой режим дня в школе»; </a:t>
            </a:r>
            <a:br>
              <a:rPr sz="1600"/>
            </a:b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 «Упражнения для снятия утомления»; </a:t>
            </a:r>
            <a:br>
              <a:rPr sz="1600"/>
            </a:b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 «Безопасная дорога в школу»; </a:t>
            </a:r>
            <a:br>
              <a:rPr sz="1600"/>
            </a:br>
            <a:r>
              <a:rPr b="0" i="1" lang="ru-RU" sz="1600" spc="-1" strike="noStrike">
                <a:solidFill>
                  <a:srgbClr val="004d99"/>
                </a:solidFill>
                <a:latin typeface="Verdana"/>
              </a:rPr>
              <a:t> «Первая помощь при ожоге, уколе, ссадине» и др.</a:t>
            </a: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207" name="Picture 14" descr="C:\Users\User\Desktop\КРАСКИ\DSCN7185.JPG"/>
          <p:cNvPicPr/>
          <p:nvPr/>
        </p:nvPicPr>
        <p:blipFill>
          <a:blip r:embed="rId1"/>
          <a:stretch/>
        </p:blipFill>
        <p:spPr>
          <a:xfrm>
            <a:off x="214200" y="3675240"/>
            <a:ext cx="2928960" cy="22874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C:\Users\User\Desktop\КРАСКИ\DSCN7186.JPG"/>
          <p:cNvPicPr/>
          <p:nvPr/>
        </p:nvPicPr>
        <p:blipFill>
          <a:blip r:embed="rId2"/>
          <a:stretch/>
        </p:blipFill>
        <p:spPr>
          <a:xfrm>
            <a:off x="214200" y="1214280"/>
            <a:ext cx="29466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252720" y="907560"/>
            <a:ext cx="7628040" cy="909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cc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a50021"/>
                </a:solidFill>
                <a:latin typeface="Verdana"/>
              </a:rPr>
              <a:t>Список использованной       литературы: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600" y="1714320"/>
            <a:ext cx="80550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Т.А. Тарасова «Я и мое здоровье».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Т.А. Шарыгина «Беседы о здоровье»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С.Е. Шукшина «Я и моё тело»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«Здоровый малыш» (Программа оздоровления детей в ДОУ)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Журналы «Дошкольное образование».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"Здоровый дошкольник 21 века" Антонов Ю.Е., Кузнецова М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76"/>
                </a:solidFill>
                <a:latin typeface="Verdana"/>
              </a:rPr>
              <a:t>Л.В. Гаврючина «Здоровьесберегающие технологии в ДОУ»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7812000" cy="7146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50021"/>
                </a:solidFill>
                <a:latin typeface="Comic Sans MS"/>
              </a:rPr>
              <a:t>Определение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85480" y="999720"/>
            <a:ext cx="835812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Валеологическое образование</a:t>
            </a:r>
            <a:r>
              <a:rPr b="0" lang="ru-RU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a50021"/>
                </a:solidFill>
                <a:latin typeface="Verdana"/>
              </a:rPr>
              <a:t>–  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целенаправленный процесс воспитания и обучения детей дошкольного возраста способам укрепления и сохранения своего здоровья; это процесс и результат овладения учащимися системой научных знаний и познавательных умений и навыков, формирования на их основе  валеологического сознания (</a:t>
            </a:r>
            <a:r>
              <a:rPr b="0" i="1" lang="ru-RU" sz="2000" spc="-1" strike="noStrike">
                <a:solidFill>
                  <a:srgbClr val="a50021"/>
                </a:solidFill>
                <a:latin typeface="Verdana"/>
              </a:rPr>
              <a:t>я могу и хочу быть здоровым</a:t>
            </a:r>
            <a:r>
              <a:rPr b="0" lang="ru-RU" sz="2000" spc="-1" strike="noStrike">
                <a:solidFill>
                  <a:srgbClr val="a50021"/>
                </a:solidFill>
                <a:latin typeface="Verdana"/>
              </a:rPr>
              <a:t>), а также культуры здоровья личности и общества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60" name="Picture 8" descr="C:\Users\User\Desktop\КРАСКИ\DSCN7187.JPG"/>
          <p:cNvPicPr/>
          <p:nvPr/>
        </p:nvPicPr>
        <p:blipFill>
          <a:blip r:embed="rId1"/>
          <a:stretch/>
        </p:blipFill>
        <p:spPr>
          <a:xfrm>
            <a:off x="4786200" y="3216240"/>
            <a:ext cx="4214880" cy="3397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C:\Users\User\Desktop\КРАСКИ\DSCN7220.JPG"/>
          <p:cNvPicPr/>
          <p:nvPr/>
        </p:nvPicPr>
        <p:blipFill>
          <a:blip r:embed="rId2"/>
          <a:stretch/>
        </p:blipFill>
        <p:spPr>
          <a:xfrm>
            <a:off x="214200" y="3214800"/>
            <a:ext cx="445788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00120" y="642960"/>
            <a:ext cx="6858000" cy="128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Цель валеологии: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28760" y="1928880"/>
            <a:ext cx="8143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b76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разработка технологий «первичного конструирования», формирования здоровья и расширения резервных возможностей организма (увеличение количества и качества здоровья).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64" name="Picture 6" descr="C:\Users\User\Desktop\КРАСКИ\0_60c76_9a05d066_L.jpeg"/>
          <p:cNvPicPr/>
          <p:nvPr/>
        </p:nvPicPr>
        <p:blipFill>
          <a:blip r:embed="rId1"/>
          <a:stretch/>
        </p:blipFill>
        <p:spPr>
          <a:xfrm>
            <a:off x="7477200" y="4714920"/>
            <a:ext cx="166680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Объект исследования валеологии: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4200" y="1642680"/>
            <a:ext cx="87156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Verdana"/>
                <a:ea typeface="Times New Roman"/>
              </a:rPr>
              <a:t>формирование  мотивации детей </a:t>
            </a:r>
            <a:endParaRPr b="0" lang="en-US" sz="34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50021"/>
                </a:solidFill>
                <a:latin typeface="Verdana"/>
                <a:ea typeface="Times New Roman"/>
              </a:rPr>
              <a:t>к здоровому образу жизни.</a:t>
            </a:r>
            <a:endParaRPr b="0" lang="en-US" sz="34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67" name="Picture 14" descr="C:\Users\User\Desktop\КРАСКИ\DSCN7191.JPG"/>
          <p:cNvPicPr/>
          <p:nvPr/>
        </p:nvPicPr>
        <p:blipFill>
          <a:blip r:embed="rId1"/>
          <a:stretch/>
        </p:blipFill>
        <p:spPr>
          <a:xfrm>
            <a:off x="4643280" y="3357720"/>
            <a:ext cx="4313520" cy="2781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C:\Users\User\Desktop\КРАСКИ\DSCN7193.JPG"/>
          <p:cNvPicPr/>
          <p:nvPr/>
        </p:nvPicPr>
        <p:blipFill>
          <a:blip r:embed="rId2"/>
          <a:stretch/>
        </p:blipFill>
        <p:spPr>
          <a:xfrm>
            <a:off x="214200" y="3357720"/>
            <a:ext cx="4353120" cy="27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9680" y="277560"/>
            <a:ext cx="818676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Comic Sans MS"/>
              </a:rPr>
              <a:t>Предмет валеологии:</a:t>
            </a:r>
            <a:endParaRPr b="0" lang="en-US" sz="4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896472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педагогические условия формирования основ здорового образа жизни у дошкольников.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a50021"/>
                </a:solidFill>
                <a:latin typeface="Verdana"/>
              </a:rPr>
              <a:t>Предметом также  является не столько здоровье, сколько способы, механизмы его становления.</a:t>
            </a: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b76"/>
              </a:solidFill>
              <a:latin typeface="Verdana"/>
            </a:endParaRPr>
          </a:p>
        </p:txBody>
      </p:sp>
      <p:pic>
        <p:nvPicPr>
          <p:cNvPr id="171" name="Picture 4" descr="C:\Users\User\Desktop\КРАСКИ\DSCN7212.JPG"/>
          <p:cNvPicPr/>
          <p:nvPr/>
        </p:nvPicPr>
        <p:blipFill>
          <a:blip r:embed="rId1"/>
          <a:stretch/>
        </p:blipFill>
        <p:spPr>
          <a:xfrm>
            <a:off x="4500720" y="4000680"/>
            <a:ext cx="406872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Принципы валеологического образова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97256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инцип «Не навреди!»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определяет, что в обучении детей можно использовать только те способы, методы, технологии и средства, которые: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ост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, легки в освоении и не требуют значительных материальных затрат, для усвоения этих технологий достаточно иметь желание быть здоровым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доступн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, могут быть освоены самостоятельно и осознанно людьми разного возраста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безопасн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 все оздоровительные педагогические технологии не могут причинить вреда детям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ффективн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 быстро дают положительный результат. При этом дети имеют возможность отслеживать каждый свой шаг и контролировать свое состояние;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экспертируемы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, то есть дают возможность легко измерять результаты деятельности по изменению состояния здоровья при помощи простейших диагностических методик.</a:t>
            </a:r>
            <a:endParaRPr b="0" lang="en-US" sz="20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640" y="296640"/>
            <a:ext cx="6408720" cy="479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Comic Sans MS"/>
              </a:rPr>
              <a:t>Задачи валеологического образования в ДОУ</a:t>
            </a:r>
            <a:endParaRPr b="0" lang="en-US" sz="2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37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знания о человеке, о его болезнях, ценностях человеческой жизни; 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у детей с ранних лет валеологическое сознание, бережное и заботливое отношение к собственному здоровью, здоровью других людей, как высочайшей ценности;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формировать практические умения и привычки по укреплению личного здоровья;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спитывать у детей мотивации здорового образа жизни и мотивационные установки на приоритет здоровья перед болезнями;</a:t>
            </a:r>
            <a:endParaRPr b="0" lang="en-US" sz="2400" spc="-1" strike="noStrike">
              <a:solidFill>
                <a:srgbClr val="003b76"/>
              </a:solidFill>
              <a:latin typeface="Verdana"/>
            </a:endParaRPr>
          </a:p>
          <a:p>
            <a:pPr marL="274320" indent="-274320">
              <a:lnSpc>
                <a:spcPct val="90000"/>
              </a:lnSpc>
              <a:spcBef>
                <a:spcPts val="524"/>
              </a:spcBef>
              <a:buClr>
                <a:srgbClr val="008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воспитывать у детей желание активно участвовать в оздоровлении окружающих людей, используя приобретённые теоретические знания и элементы практических привычек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  <a:p>
            <a:pPr marL="2743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3b76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ловесны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549360"/>
          <a:ext cx="8964720" cy="6208560"/>
        </p:xfrm>
        <a:graphic>
          <a:graphicData uri="http://schemas.openxmlformats.org/drawingml/2006/table">
            <a:tbl>
              <a:tblPr/>
              <a:tblGrid>
                <a:gridCol w="6504120"/>
                <a:gridCol w="2460600"/>
              </a:tblGrid>
              <a:tr h="50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Вид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Comic Sans MS"/>
                        </a:rPr>
                        <a:t>Приём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2183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сказ педагога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(Создавать яркие, точные представления о строении, функциях организма, правилах гигиены и т.д.)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иторические вопрос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бмен мнениями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беседа до и после рассказа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рассматривание наглядностей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19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сказы детей 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совершенствовать знания, умения отражать сложившиеся представления, повышать степень обобщенности знаний)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вопросы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напоминания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соучастие воспитателя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анализ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– </a:t>
                      </a:r>
                      <a:r>
                        <a:rPr b="0" lang="ru-RU" sz="18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оценка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</a:tr>
              <a:tr h="91476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Беседа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(уточнение, коррекция знаний, их обобщение, систематизация; развитие умения участвовать в диалоге, слушать и слышать, удерживать внимание, сосредотачивать умственные силы)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Чтение художественного произведения:</a:t>
                      </a:r>
                      <a:r>
                        <a:rPr b="0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расширять, обогащать знания детей, формировать способность к восприятию, пониманию.</a:t>
                      </a:r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8000"/>
                      </a:solidFill>
                    </a:lnL>
                    <a:lnR w="13680">
                      <a:solidFill>
                        <a:srgbClr val="008000"/>
                      </a:solidFill>
                    </a:lnR>
                    <a:lnT w="13680">
                      <a:solidFill>
                        <a:srgbClr val="008000"/>
                      </a:solidFill>
                    </a:lnT>
                    <a:lnB w="13680">
                      <a:solidFill>
                        <a:srgbClr val="008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b76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omic Sans MS"/>
              </a:rPr>
              <a:t>Словесные методы обучения</a:t>
            </a:r>
            <a:endParaRPr b="0" lang="en-US" sz="32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79" name="Picture 3" descr="C:\Users\User\Desktop\КРАСКИ\DSCN7220.JPG"/>
          <p:cNvPicPr/>
          <p:nvPr/>
        </p:nvPicPr>
        <p:blipFill>
          <a:blip r:embed="rId1"/>
          <a:stretch/>
        </p:blipFill>
        <p:spPr>
          <a:xfrm>
            <a:off x="4143240" y="3071880"/>
            <a:ext cx="4765680" cy="3591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Users\User\Desktop\КРАСКИ\DSCN7214.JPG"/>
          <p:cNvPicPr/>
          <p:nvPr/>
        </p:nvPicPr>
        <p:blipFill>
          <a:blip r:embed="rId2"/>
          <a:stretch/>
        </p:blipFill>
        <p:spPr>
          <a:xfrm>
            <a:off x="214200" y="642960"/>
            <a:ext cx="4429080" cy="300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9:18:59Z</dcterms:created>
  <dc:creator>Ксения и Екатерина</dc:creator>
  <dc:description/>
  <dc:language>en-US</dc:language>
  <cp:lastModifiedBy>1</cp:lastModifiedBy>
  <dcterms:modified xsi:type="dcterms:W3CDTF">2017-10-17T14:15:32Z</dcterms:modified>
  <cp:revision>52</cp:revision>
  <dc:subject/>
  <dc:title>Валеологическое образование  в ДОУ</dc:title>
</cp:coreProperties>
</file>