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555-2A68-4E68-B1F8-05F20CD2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F7E-BD6E-45CF-B810-B5F92F93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875-A155-4AEE-8296-AA71E468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733-E979-4926-AB67-5C25BCC1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F8F-08E2-46DF-8407-2EF5A5BC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0631-F238-40B7-811B-7BF45EE1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E838-3819-44AD-BF07-97465F42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DFE4-8F96-45DC-B806-DD38E6F3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63AE-75FD-4F38-A63D-3FF80E11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B6ED-F365-4A74-B1FE-FD594BB9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C09A-BFA0-4F61-BA4E-F7AB2E28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27D-C227-4573-899B-0278B08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138F-97C1-459A-AAD7-4C35E13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6363-AE06-4399-9D97-9BAB11E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C18F-659D-428C-9319-0910A9B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B481-15DC-434C-A375-879C3E3C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B3A3-3159-4FA0-B02E-3D9BC07A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C11-3A99-4A80-870E-1A152AD2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AB5-9D59-4597-9D00-5B3F3648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D82-ADB7-4A01-885B-B7C0847A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6F5-27B7-4CAC-B55B-9AD1072E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87B-40A0-4E1D-A520-A534019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3CA-C930-40C3-8F1F-C5A7858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F9B-6365-4FA1-A6F6-025254F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0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0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175E-6A39-49B1-AC3F-DB8EE39D40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b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b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b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0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0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b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b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b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b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F94E-FD15-41CC-A6C5-CC8D99984627}" type="slidenum">
              <a:rPr b="0" lang="ru-RU" sz="1000" spc="-1" strike="noStrike">
                <a:solidFill>
                  <a:srgbClr val="003b7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9.xm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84872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Формирование валеологической культуры детей дошкольного возраста</a:t>
            </a:r>
            <a:endParaRPr b="0" lang="en-US" sz="4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835280" y="4797000"/>
            <a:ext cx="6976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Verdana"/>
              </a:rPr>
              <a:t>Выполнила</a:t>
            </a: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: Горюнова Лидия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Verdana"/>
              </a:rPr>
              <a:t>Николаевна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, воспитатель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детский сад №218 компенсирующего вида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г. Красноярск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глядны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24000" y="404640"/>
          <a:ext cx="8137440" cy="6377040"/>
        </p:xfrm>
        <a:graphic>
          <a:graphicData uri="http://schemas.openxmlformats.org/drawingml/2006/table">
            <a:tbl>
              <a:tblPr/>
              <a:tblGrid>
                <a:gridCol w="6030720"/>
                <a:gridCol w="210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риём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Наблюдение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формирование основного содержания знаний дошкольников об органах, их функциях, гигиене; развитие наглядно-образной, наглядно-действенной форм мышления, речи.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34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ссматривание картин, таблиц, муляжей, репродукций, схем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адачи: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точнение, обогащение представлений детей об организме, обогащение словаря детей; формирование наглядных образов тех органов, восприятие которых в жизни  невозможно;  обогащение, систематизация знаний детей;  активизация словаря, развитие связной речи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бразец рассказа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адание творческого характера 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485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лайды, диафильмы, кинофильмы – демонстрация их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адачи: 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ширение знаний детей; развитие речи; формирование конкретных представлений о явлениях, восприятие которых в жизни затруднено, невозможно;  возможность познакомить с явлениями, протекающими длительное время. 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ы– обсуждение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овторный показ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ссказ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художественное слово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исование на темы, близкие к их содержанию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глядны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84" name="Picture 18" descr="C:\Users\User\Desktop\КРАСКИ\DSCN7211.JPG"/>
          <p:cNvPicPr/>
          <p:nvPr/>
        </p:nvPicPr>
        <p:blipFill>
          <a:blip r:embed="rId1"/>
          <a:stretch/>
        </p:blipFill>
        <p:spPr>
          <a:xfrm>
            <a:off x="3786120" y="3357720"/>
            <a:ext cx="5183280" cy="3311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C:\Users\User\Desktop\КРАСКИ\DSCN7216.JPG"/>
          <p:cNvPicPr/>
          <p:nvPr/>
        </p:nvPicPr>
        <p:blipFill>
          <a:blip r:embed="rId2"/>
          <a:stretch/>
        </p:blipFill>
        <p:spPr>
          <a:xfrm>
            <a:off x="142920" y="642960"/>
            <a:ext cx="47973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актически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620640"/>
          <a:ext cx="8242200" cy="6308640"/>
        </p:xfrm>
        <a:graphic>
          <a:graphicData uri="http://schemas.openxmlformats.org/drawingml/2006/table">
            <a:tbl>
              <a:tblPr/>
              <a:tblGrid>
                <a:gridCol w="6111720"/>
                <a:gridCol w="2130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риём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3b7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Игровой метод</a:t>
                      </a:r>
                      <a:r>
                        <a:rPr b="0" lang="ru-RU" sz="20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использование разнообразных компонентов игровой деятельности в сочетании с другими приёмами; 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указания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бъяснения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оказ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 воображаемая игровая ситуация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3b7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оделирование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создание моделей, их использование,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ормирования знаний о свойствах, структуре, отношениях,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вязях, объектов.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3b7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Экспериментирование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самостоятельная поисковая деятельность детей с целью решения поставленной задачи.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3b7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актически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89" name="Picture 3" descr="C:\Users\User\Desktop\КРАСКИ\DSCN7219.JPG"/>
          <p:cNvPicPr/>
          <p:nvPr/>
        </p:nvPicPr>
        <p:blipFill>
          <a:blip r:embed="rId1"/>
          <a:stretch/>
        </p:blipFill>
        <p:spPr>
          <a:xfrm>
            <a:off x="4143240" y="3260880"/>
            <a:ext cx="4786560" cy="3384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Users\User\Desktop\КРАСКИ\DSCN7218.JPG"/>
          <p:cNvPicPr/>
          <p:nvPr/>
        </p:nvPicPr>
        <p:blipFill>
          <a:blip r:embed="rId2"/>
          <a:stretch/>
        </p:blipFill>
        <p:spPr>
          <a:xfrm>
            <a:off x="214200" y="642960"/>
            <a:ext cx="47419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Формы организации детей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620640"/>
            <a:ext cx="7632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занятия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экскурсии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наблюдения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идактические игры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чтение специальной литературы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сюжетно-ролевые игры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ростейшие физиологические опыты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моделирование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самостоятельное наблюдение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индивидуальным занятиям в уголках здоровья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занятиям-консультациям и пр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93" name="Picture 7" descr="C:\Users\User\Desktop\КРАСКИ\DSCN7184.JPG"/>
          <p:cNvPicPr/>
          <p:nvPr/>
        </p:nvPicPr>
        <p:blipFill>
          <a:blip r:embed="rId3"/>
          <a:stretch/>
        </p:blipFill>
        <p:spPr>
          <a:xfrm>
            <a:off x="5286240" y="4143240"/>
            <a:ext cx="3500640" cy="252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C:\Users\User\Desktop\КРАСКИ\DSCN7198.JPG"/>
          <p:cNvPicPr/>
          <p:nvPr/>
        </p:nvPicPr>
        <p:blipFill>
          <a:blip r:embed="rId4"/>
          <a:stretch/>
        </p:blipFill>
        <p:spPr>
          <a:xfrm>
            <a:off x="428760" y="4143240"/>
            <a:ext cx="474012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Виды занятий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01684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Экскурсии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Консультации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Игры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Путешествия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Лабораторные работы, эксперименты, работы с  проблемными ситуациями; 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Праздники, конкурсы, викторины и т.д. 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Таким образом, формы работы должны соответствовать возрастным особенностям ребёнка и способствовать развитию его познавательных способностей.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97" name="Picture 8" descr="C:\Users\User\Desktop\КРАСКИ\DSCN7182.JPG"/>
          <p:cNvPicPr/>
          <p:nvPr/>
        </p:nvPicPr>
        <p:blipFill>
          <a:blip r:embed="rId1"/>
          <a:stretch/>
        </p:blipFill>
        <p:spPr>
          <a:xfrm>
            <a:off x="4643280" y="3643200"/>
            <a:ext cx="3857760" cy="30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Users\User\Desktop\КРАСКИ\DSCN7181.JPG"/>
          <p:cNvPicPr/>
          <p:nvPr/>
        </p:nvPicPr>
        <p:blipFill>
          <a:blip r:embed="rId2"/>
          <a:stretch/>
        </p:blipFill>
        <p:spPr>
          <a:xfrm>
            <a:off x="642960" y="3714840"/>
            <a:ext cx="38210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Формы работы с родителями: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4688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Пропаганда валеологических знаний среди родителей</a:t>
            </a:r>
            <a:r>
              <a:rPr b="0" lang="ru-RU" sz="21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с привлечением специалистов из поликлиник, университетов, физкультурной академии, педагогических колледжей.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Дни открытых дверей в ДОУ</a:t>
            </a:r>
            <a:r>
              <a:rPr b="0" lang="ru-RU" sz="21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с целью ознакомления с методикой валеологического воспитания и образования.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Совместные праздники здоровья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Участие родителей в оформлении предметно-игровой среды по валеологии</a:t>
            </a:r>
            <a:r>
              <a:rPr b="0" lang="ru-RU" sz="21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(изготовление наглядного и раздаточного материала).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Экскурсии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 с детьми по месту работы некоторых родителей: в клинику, бактериологическую лабораторию, детскую поликлинику (стоматология, рентгеновский кабинет, глазной кабинет, ЛОР, педиатр и т.д.)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95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Формы работы с родителями: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64296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99"/>
                </a:solidFill>
                <a:latin typeface="Verdana"/>
              </a:rPr>
              <a:t>Практическая работа с родителями</a:t>
            </a:r>
            <a:r>
              <a:rPr b="0" lang="ru-RU" sz="2000" spc="-1" strike="noStrike">
                <a:solidFill>
                  <a:srgbClr val="003b76"/>
                </a:solidFill>
                <a:latin typeface="Verdana"/>
              </a:rPr>
              <a:t>: обучение правилам закаливания, точечного массажа, технике выполнения упражнений, оказания первой помощи. Разработка уголков для родителей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99"/>
                </a:solidFill>
                <a:latin typeface="Verdana"/>
              </a:rPr>
              <a:t>Создание совместно с ребёнком </a:t>
            </a:r>
            <a:r>
              <a:rPr b="1" lang="ru-RU" sz="2000" spc="-1" strike="noStrike">
                <a:solidFill>
                  <a:srgbClr val="003b76"/>
                </a:solidFill>
                <a:latin typeface="Verdana"/>
              </a:rPr>
              <a:t>газет</a:t>
            </a:r>
            <a:r>
              <a:rPr b="0" lang="ru-RU" sz="2000" spc="-1" strike="noStrike">
                <a:solidFill>
                  <a:srgbClr val="003b76"/>
                </a:solidFill>
                <a:latin typeface="Verdana"/>
              </a:rPr>
              <a:t> о здоровье, здоровом образе жизни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99"/>
                </a:solidFill>
                <a:latin typeface="Verdana"/>
              </a:rPr>
              <a:t>Ведение дневника здоровья</a:t>
            </a:r>
            <a:r>
              <a:rPr b="0" lang="ru-RU" sz="2000" spc="-1" strike="noStrike">
                <a:solidFill>
                  <a:srgbClr val="003b76"/>
                </a:solidFill>
                <a:latin typeface="Verdana"/>
              </a:rPr>
              <a:t>, в котором будут отмечаться положительные сдвиги в знаниях и умениях дошкольника и родителями и воспитателями. В дневнике можно указывать книги о здоровье, рисовать рисунки о болезни и здоровье, о предметах, помогающих поддерживать чистоту в доме и в организме, отмечать свое самочувствие и состояние в течение дня, используя яркие и понятные символы, как для детей, так и для воспитателей и родителей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203" name="Picture 4" descr="C:\Users\User\Desktop\КРАСКИ\b_d7d54aa3983e8f8912ed66ebd28ac268.jpg"/>
          <p:cNvPicPr/>
          <p:nvPr/>
        </p:nvPicPr>
        <p:blipFill>
          <a:blip r:embed="rId1"/>
          <a:stretch/>
        </p:blipFill>
        <p:spPr>
          <a:xfrm>
            <a:off x="1071720" y="4572000"/>
            <a:ext cx="343188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User\Desktop\КРАСКИ\b87958715b6c.jpg"/>
          <p:cNvPicPr/>
          <p:nvPr/>
        </p:nvPicPr>
        <p:blipFill>
          <a:blip r:embed="rId2"/>
          <a:stretch/>
        </p:blipFill>
        <p:spPr>
          <a:xfrm>
            <a:off x="5072040" y="460692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6960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Уголок здоровья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71520" y="114264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В уголке здоровья должны 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содержаться следующие материалы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Папка с иллюстрациями «Человек и его организм»;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дидактические игры по темам;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книги о здоровье и ЗОЖ;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схемы, иллюстрации по темам</a:t>
            </a: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;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тетрадь «Хочу все уметь и знать»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(индивидуальные домашние задания по физическому воспитанию);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микроскопы, микропрепараты, песочные часы, муляжи – для проведения наблюдений, экспериментирования;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аптечка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с предметами для оказания первой помощи при травмах;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анатомическая кукла;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папка «Скоро в школу»: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</a:t>
            </a:r>
            <a:br>
              <a:rPr sz="1600"/>
            </a:b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 «Мой режим дня в школе»; </a:t>
            </a:r>
            <a:br>
              <a:rPr sz="1600"/>
            </a:b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 «Упражнения для снятия утомления»; </a:t>
            </a:r>
            <a:br>
              <a:rPr sz="1600"/>
            </a:b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 «Безопасная дорога в школу»; </a:t>
            </a:r>
            <a:br>
              <a:rPr sz="1600"/>
            </a:b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 «Первая помощь при ожоге, уколе, ссадине» и др.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207" name="Picture 14" descr="C:\Users\User\Desktop\КРАСКИ\DSCN7185.JPG"/>
          <p:cNvPicPr/>
          <p:nvPr/>
        </p:nvPicPr>
        <p:blipFill>
          <a:blip r:embed="rId1"/>
          <a:stretch/>
        </p:blipFill>
        <p:spPr>
          <a:xfrm>
            <a:off x="214200" y="3675240"/>
            <a:ext cx="2928960" cy="228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:\Users\User\Desktop\КРАСКИ\DSCN7186.JPG"/>
          <p:cNvPicPr/>
          <p:nvPr/>
        </p:nvPicPr>
        <p:blipFill>
          <a:blip r:embed="rId2"/>
          <a:stretch/>
        </p:blipFill>
        <p:spPr>
          <a:xfrm>
            <a:off x="214200" y="1214280"/>
            <a:ext cx="2946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252720" y="907560"/>
            <a:ext cx="7628040" cy="90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Список использованной       литературы: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600" y="1714320"/>
            <a:ext cx="8055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Т.А. Тарасова «Я и мое здоровье».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Т.А. Шарыгина «Беседы о здоровье»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С.Е. Шукшина «Я и моё тело»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«Здоровый малыш» (Программа оздоровления детей в ДОУ)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Журналы «Дошкольное образование».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"Здоровый дошкольник 21 века" Антонов Ю.Е., Кузнецова М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Л.В. Гаврючина «Здоровьесберегающие технологии в ДОУ»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81200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Определение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3581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Валеологическое образование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Verdana"/>
              </a:rPr>
              <a:t>– 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целенаправленный процесс воспитания и обучения детей дошкольного возраста способам укрепления и сохранения своего здоровья; это процесс и результат овладения учащимися системой научных знаний и познавательных умений и навыков, формирования на их основе  валеологического сознания (</a:t>
            </a:r>
            <a:r>
              <a:rPr b="0" i="1" lang="ru-RU" sz="2000" spc="-1" strike="noStrike">
                <a:solidFill>
                  <a:srgbClr val="a50021"/>
                </a:solidFill>
                <a:latin typeface="Verdana"/>
              </a:rPr>
              <a:t>я могу и хочу быть здоровым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), а также культуры здоровья личности и общества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60" name="Picture 8" descr="C:\Users\User\Desktop\КРАСКИ\DSCN7187.JPG"/>
          <p:cNvPicPr/>
          <p:nvPr/>
        </p:nvPicPr>
        <p:blipFill>
          <a:blip r:embed="rId1"/>
          <a:stretch/>
        </p:blipFill>
        <p:spPr>
          <a:xfrm>
            <a:off x="4786200" y="3216240"/>
            <a:ext cx="4214880" cy="3397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Users\User\Desktop\КРАСКИ\DSCN7220.JPG"/>
          <p:cNvPicPr/>
          <p:nvPr/>
        </p:nvPicPr>
        <p:blipFill>
          <a:blip r:embed="rId2"/>
          <a:stretch/>
        </p:blipFill>
        <p:spPr>
          <a:xfrm>
            <a:off x="214200" y="3214800"/>
            <a:ext cx="445788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642960"/>
            <a:ext cx="6858000" cy="128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Цель валеологии: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143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разработка технологий «первичного конструирования», формирования здоровья и расширения резервных возможностей организма (увеличение количества и качества здоровья).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64" name="Picture 6" descr="C:\Users\User\Desktop\КРАСКИ\0_60c76_9a05d066_L.jpeg"/>
          <p:cNvPicPr/>
          <p:nvPr/>
        </p:nvPicPr>
        <p:blipFill>
          <a:blip r:embed="rId1"/>
          <a:stretch/>
        </p:blipFill>
        <p:spPr>
          <a:xfrm>
            <a:off x="7477200" y="4714920"/>
            <a:ext cx="1666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Объект исследования валеологии: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715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Verdana"/>
                <a:ea typeface="Times New Roman"/>
              </a:rPr>
              <a:t>формирование  мотивации детей </a:t>
            </a:r>
            <a:endParaRPr b="0" lang="en-US" sz="34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Verdana"/>
                <a:ea typeface="Times New Roman"/>
              </a:rPr>
              <a:t>к здоровому образу жизни.</a:t>
            </a:r>
            <a:endParaRPr b="0" lang="en-US" sz="34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67" name="Picture 14" descr="C:\Users\User\Desktop\КРАСКИ\DSCN7191.JPG"/>
          <p:cNvPicPr/>
          <p:nvPr/>
        </p:nvPicPr>
        <p:blipFill>
          <a:blip r:embed="rId1"/>
          <a:stretch/>
        </p:blipFill>
        <p:spPr>
          <a:xfrm>
            <a:off x="4643280" y="3357720"/>
            <a:ext cx="4313520" cy="2781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C:\Users\User\Desktop\КРАСКИ\DSCN7193.JPG"/>
          <p:cNvPicPr/>
          <p:nvPr/>
        </p:nvPicPr>
        <p:blipFill>
          <a:blip r:embed="rId2"/>
          <a:stretch/>
        </p:blipFill>
        <p:spPr>
          <a:xfrm>
            <a:off x="214200" y="3357720"/>
            <a:ext cx="435312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Предмет валеологии: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89647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педагогические условия формирования основ здорового образа жизни у дошкольников.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Предметом также  является не столько здоровье, сколько способы, механизмы его становления.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71" name="Picture 4" descr="C:\Users\User\Desktop\КРАСКИ\DSCN7212.JPG"/>
          <p:cNvPicPr/>
          <p:nvPr/>
        </p:nvPicPr>
        <p:blipFill>
          <a:blip r:embed="rId1"/>
          <a:stretch/>
        </p:blipFill>
        <p:spPr>
          <a:xfrm>
            <a:off x="4500720" y="4000680"/>
            <a:ext cx="40687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инципы валеологического образова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9725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инцип «Не навреди!»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определяет, что в обучении детей можно использовать только те способы, методы, технологии и средства, которые: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ост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, легки в освоении и не требуют значительных материальных затрат, для усвоения этих технологий достаточно иметь желание быть здоровым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ступн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, могут быть освоены самостоятельно и осознанно людьми разного возраста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езопасн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 все оздоровительные педагогические технологии не могут причинить вреда детям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эффективн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 быстро дают положительный результат. При этом дети имеют возможность отслеживать каждый свой шаг и контролировать свое состояние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экспертируем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 дают возможность легко измерять результаты деятельности по изменению состояния здоровья при помощи простейших диагностических методик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296640"/>
            <a:ext cx="6408720" cy="47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Задачи валеологического образования в ДОУ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ировать знания о человеке, о его болезнях, ценностях человеческой жизни; 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ировать у детей с ранних лет валеологическое сознание, бережное и заботливое отношение к собственному здоровью, здоровью других людей, как высочайшей ценности;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ировать практические умения и привычки по укреплению личного здоровья;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спитывать у детей мотивации здорового образа жизни и мотивационные установки на приоритет здоровья перед болезнями;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спитывать у детей желание активно участвовать в оздоровлении окружающих людей, используя приобретённые теоретические знания и элементы практических привычек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ловесны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549360"/>
          <a:ext cx="8964720" cy="6208560"/>
        </p:xfrm>
        <a:graphic>
          <a:graphicData uri="http://schemas.openxmlformats.org/drawingml/2006/table">
            <a:tbl>
              <a:tblPr/>
              <a:tblGrid>
                <a:gridCol w="6504120"/>
                <a:gridCol w="2460600"/>
              </a:tblGrid>
              <a:tr h="50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Приём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1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сказ педагога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(Создавать яркие, точные представления о строении, функциях организма, правилах гигиены и т.д.)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иторические вопрос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бмен мнениями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беседа до и после рассказа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ссматривание наглядностей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9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сказы детей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совершенствовать знания, умения отражать сложившиеся представления, повышать степень обобщенности знаний)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напоминания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участие воспитателя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анализ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14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седа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(уточнение, коррекция знаний, их обобщение, систематизация; развитие умения участвовать в диалоге, слушать и слышать, удерживать внимание, сосредотачивать умственные силы)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тение художественного произведения: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расширять, обогащать знания детей, формировать способность к восприятию, пониманию.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ловесны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79" name="Picture 3" descr="C:\Users\User\Desktop\КРАСКИ\DSCN7220.JPG"/>
          <p:cNvPicPr/>
          <p:nvPr/>
        </p:nvPicPr>
        <p:blipFill>
          <a:blip r:embed="rId1"/>
          <a:stretch/>
        </p:blipFill>
        <p:spPr>
          <a:xfrm>
            <a:off x="4143240" y="3071880"/>
            <a:ext cx="4765680" cy="3591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Users\User\Desktop\КРАСКИ\DSCN7214.JPG"/>
          <p:cNvPicPr/>
          <p:nvPr/>
        </p:nvPicPr>
        <p:blipFill>
          <a:blip r:embed="rId2"/>
          <a:stretch/>
        </p:blipFill>
        <p:spPr>
          <a:xfrm>
            <a:off x="214200" y="642960"/>
            <a:ext cx="4429080" cy="300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9:18:59Z</dcterms:created>
  <dc:creator>Ксения и Екатерина</dc:creator>
  <dc:description/>
  <dc:language>en-US</dc:language>
  <cp:lastModifiedBy>1</cp:lastModifiedBy>
  <dcterms:modified xsi:type="dcterms:W3CDTF">2017-10-17T14:15:32Z</dcterms:modified>
  <cp:revision>52</cp:revision>
  <dc:subject/>
  <dc:title>Валеологическое образование  в ДОУ</dc:title>
</cp:coreProperties>
</file>