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9C1-0E1F-42D0-984D-79DAB4CD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40B7-3EA9-424F-A3AF-4C524D1A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946B-6CCE-45FC-BD79-CC0BE7600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FE0F-8474-4C23-98D6-CAE159EF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2E58-43A9-4262-BF50-832EBAAB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D9A18-9EF3-4BF9-B816-02971DE9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7EA6-5488-4DD7-974F-2827C895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5D82-8A80-4725-93F8-B42ABAAF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2D2D-F351-4774-AAF9-DF0EA1D6E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506D-1F58-4215-87C1-E504BF48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C534-32CB-40AF-B1DD-19C4C692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282B-E8DC-4A82-8BAD-6D4DBECB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62AE-6FBF-4336-A66C-C647BB7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8BF0-4209-4772-AE10-60DDAAAC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148C-3C41-4BF6-A3DA-42996D47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971C-D3DC-4FA8-82F4-CBE9257A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B543-352C-4ACF-B471-758A9381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920A-D3FB-47DB-94A7-F27E13AE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1F6-EDE2-4964-A642-5866FEA2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8E4-829A-4168-9064-BB7345A5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9DD-3411-4E70-A07E-6453E870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889-8B01-422E-BE00-AE8F903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095B-515C-4A43-820B-DA3672FC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F82-9278-45D3-AD1B-1CC75339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1.wmf"/><Relationship Id="rId32" Type="http://schemas.openxmlformats.org/officeDocument/2006/relationships/image" Target="../media/image1.wmf"/><Relationship Id="rId33" Type="http://schemas.openxmlformats.org/officeDocument/2006/relationships/image" Target="../media/image1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1.wmf"/><Relationship Id="rId37" Type="http://schemas.openxmlformats.org/officeDocument/2006/relationships/image" Target="../media/image1.wmf"/><Relationship Id="rId38" Type="http://schemas.openxmlformats.org/officeDocument/2006/relationships/image" Target="../media/image1.wmf"/><Relationship Id="rId39" Type="http://schemas.openxmlformats.org/officeDocument/2006/relationships/image" Target="../media/image1.wmf"/><Relationship Id="rId40" Type="http://schemas.openxmlformats.org/officeDocument/2006/relationships/image" Target="../media/image1.wmf"/><Relationship Id="rId41" Type="http://schemas.openxmlformats.org/officeDocument/2006/relationships/image" Target="../media/image1.wmf"/><Relationship Id="rId42" Type="http://schemas.openxmlformats.org/officeDocument/2006/relationships/image" Target="../media/image1.wmf"/><Relationship Id="rId43" Type="http://schemas.openxmlformats.org/officeDocument/2006/relationships/image" Target="../media/image1.wmf"/><Relationship Id="rId44" Type="http://schemas.openxmlformats.org/officeDocument/2006/relationships/image" Target="../media/image1.wmf"/><Relationship Id="rId45" Type="http://schemas.openxmlformats.org/officeDocument/2006/relationships/image" Target="../media/image1.wmf"/><Relationship Id="rId46" Type="http://schemas.openxmlformats.org/officeDocument/2006/relationships/image" Target="../media/image1.wmf"/><Relationship Id="rId47" Type="http://schemas.openxmlformats.org/officeDocument/2006/relationships/image" Target="../media/image1.wmf"/><Relationship Id="rId48" Type="http://schemas.openxmlformats.org/officeDocument/2006/relationships/image" Target="../media/image1.wmf"/><Relationship Id="rId49" Type="http://schemas.openxmlformats.org/officeDocument/2006/relationships/image" Target="../media/image1.wmf"/><Relationship Id="rId50" Type="http://schemas.openxmlformats.org/officeDocument/2006/relationships/image" Target="../media/image1.wmf"/><Relationship Id="rId51" Type="http://schemas.openxmlformats.org/officeDocument/2006/relationships/image" Target="../media/image1.wmf"/><Relationship Id="rId52" Type="http://schemas.openxmlformats.org/officeDocument/2006/relationships/image" Target="../media/image1.wmf"/><Relationship Id="rId53" Type="http://schemas.openxmlformats.org/officeDocument/2006/relationships/image" Target="../media/image1.wmf"/><Relationship Id="rId54" Type="http://schemas.openxmlformats.org/officeDocument/2006/relationships/image" Target="../media/image1.wmf"/><Relationship Id="rId55" Type="http://schemas.openxmlformats.org/officeDocument/2006/relationships/image" Target="../media/image1.wmf"/><Relationship Id="rId56" Type="http://schemas.openxmlformats.org/officeDocument/2006/relationships/image" Target="../media/image1.wmf"/><Relationship Id="rId57" Type="http://schemas.openxmlformats.org/officeDocument/2006/relationships/image" Target="../media/image1.wmf"/><Relationship Id="rId58" Type="http://schemas.openxmlformats.org/officeDocument/2006/relationships/image" Target="../media/image2.png"/><Relationship Id="rId59" Type="http://schemas.openxmlformats.org/officeDocument/2006/relationships/image" Target="../media/image2.png"/><Relationship Id="rId60" Type="http://schemas.openxmlformats.org/officeDocument/2006/relationships/image" Target="../media/image3.png"/><Relationship Id="rId61" Type="http://schemas.openxmlformats.org/officeDocument/2006/relationships/image" Target="../media/image4.png"/><Relationship Id="rId62" Type="http://schemas.openxmlformats.org/officeDocument/2006/relationships/image" Target="../media/image5.png"/><Relationship Id="rId63" Type="http://schemas.openxmlformats.org/officeDocument/2006/relationships/slideLayout" Target="../slideLayouts/slideLayout13.xml"/><Relationship Id="rId64" Type="http://schemas.openxmlformats.org/officeDocument/2006/relationships/slideLayout" Target="../slideLayouts/slideLayout14.xml"/><Relationship Id="rId65" Type="http://schemas.openxmlformats.org/officeDocument/2006/relationships/slideLayout" Target="../slideLayouts/slideLayout15.xml"/><Relationship Id="rId66" Type="http://schemas.openxmlformats.org/officeDocument/2006/relationships/slideLayout" Target="../slideLayouts/slideLayout16.xml"/><Relationship Id="rId67" Type="http://schemas.openxmlformats.org/officeDocument/2006/relationships/slideLayout" Target="../slideLayouts/slideLayout17.xml"/><Relationship Id="rId68" Type="http://schemas.openxmlformats.org/officeDocument/2006/relationships/slideLayout" Target="../slideLayouts/slideLayout18.xml"/><Relationship Id="rId69" Type="http://schemas.openxmlformats.org/officeDocument/2006/relationships/slideLayout" Target="../slideLayouts/slideLayout19.xml"/><Relationship Id="rId70" Type="http://schemas.openxmlformats.org/officeDocument/2006/relationships/slideLayout" Target="../slideLayouts/slideLayout20.xml"/><Relationship Id="rId71" Type="http://schemas.openxmlformats.org/officeDocument/2006/relationships/slideLayout" Target="../slideLayouts/slideLayout21.xml"/><Relationship Id="rId72" Type="http://schemas.openxmlformats.org/officeDocument/2006/relationships/slideLayout" Target="../slideLayouts/slideLayout22.xml"/><Relationship Id="rId73" Type="http://schemas.openxmlformats.org/officeDocument/2006/relationships/slideLayout" Target="../slideLayouts/slideLayout23.xml"/><Relationship Id="rId7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b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accb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5385b1"/>
                </a:gs>
                <a:gs pos="50000">
                  <a:srgbClr val="629dd1"/>
                </a:gs>
                <a:gs pos="100000">
                  <a:srgbClr val="5385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33b63"/>
                </a:gs>
                <a:gs pos="50000">
                  <a:srgbClr val="297fd5"/>
                </a:gs>
                <a:gs pos="100000">
                  <a:srgbClr val="133b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ebb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B221-374D-4A0A-8666-406731CDB0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b2f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accb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5385b1"/>
                </a:gs>
                <a:gs pos="50000">
                  <a:srgbClr val="629dd1"/>
                </a:gs>
                <a:gs pos="100000">
                  <a:srgbClr val="5385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33b63"/>
                </a:gs>
                <a:gs pos="50000">
                  <a:srgbClr val="297fd5"/>
                </a:gs>
                <a:gs pos="100000">
                  <a:srgbClr val="133b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ebb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5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accbf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5385b1"/>
                </a:gs>
                <a:gs pos="50000">
                  <a:srgbClr val="629dd1"/>
                </a:gs>
                <a:gs pos="100000">
                  <a:srgbClr val="5385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5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5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5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59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7" name="Picture 18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19" descr="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20" descr="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21" descr="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22" descr="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23" descr="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24" descr="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25" descr="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7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76" name="Picture 27" descr="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28" descr="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29" descr="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30" descr="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31" descr="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Picture 32" descr="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Picture 33" descr="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Picture 34" descr="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Picture 35" descr="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Picture 36" descr="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Picture 37" descr="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7" name="Picture 38" descr="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8" name="Picture 39" descr="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9" name="Picture 40" descr="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0" name="Picture 41" descr="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1" name="Picture 42" descr="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43" descr="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44" descr="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45" descr="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95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133b63"/>
                </a:gs>
                <a:gs pos="50000">
                  <a:srgbClr val="297fd5"/>
                </a:gs>
                <a:gs pos="100000">
                  <a:srgbClr val="133b6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5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5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3ebbf0"/>
                </a:gs>
                <a:gs pos="50000">
                  <a:srgbClr val="9454c3"/>
                </a:gs>
                <a:gs pos="100000">
                  <a:srgbClr val="3eb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3ebb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ccbf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4285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6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6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572B-7197-4E2D-9381-D08DC354C5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3"/>
    <p:sldLayoutId id="2147483663" r:id="rId64"/>
    <p:sldLayoutId id="2147483664" r:id="rId65"/>
    <p:sldLayoutId id="2147483665" r:id="rId66"/>
    <p:sldLayoutId id="2147483666" r:id="rId67"/>
    <p:sldLayoutId id="2147483667" r:id="rId68"/>
    <p:sldLayoutId id="2147483668" r:id="rId69"/>
    <p:sldLayoutId id="2147483669" r:id="rId70"/>
    <p:sldLayoutId id="2147483670" r:id="rId71"/>
    <p:sldLayoutId id="2147483671" r:id="rId72"/>
    <p:sldLayoutId id="2147483672" r:id="rId73"/>
    <p:sldLayoutId id="2147483673" r:id="rId7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183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852"/>
                </a:solidFill>
                <a:latin typeface="Times New Roman"/>
                <a:ea typeface="Times New Roman"/>
              </a:rPr>
              <a:t>Презентация на  тему: «Интерьер жилого дома»</a:t>
            </a:r>
            <a:br>
              <a:rPr sz="4400"/>
            </a:br>
            <a:endParaRPr b="0" lang="en-US" sz="44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987640" y="4149720"/>
            <a:ext cx="460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аяся 6Б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азия «Тарасов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пьянова Ал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Панфилова В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Кухн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ую роль в композиции интерьера играют цвет и свет, формы и характер оборуд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кухня 3"/>
          <p:cNvPicPr/>
          <p:nvPr/>
        </p:nvPicPr>
        <p:blipFill>
          <a:blip r:embed="rId2"/>
          <a:stretch/>
        </p:blipFill>
        <p:spPr>
          <a:xfrm>
            <a:off x="3924360" y="1598760"/>
            <a:ext cx="3743280" cy="4497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Санитарно-гигиеническая зона.</a:t>
            </a:r>
            <a:br>
              <a:rPr sz="3600"/>
            </a:b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Ванная комната. Туалет</a:t>
            </a: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ванная 2"/>
          <p:cNvPicPr/>
          <p:nvPr/>
        </p:nvPicPr>
        <p:blipFill>
          <a:blip r:embed="rId1"/>
          <a:stretch/>
        </p:blipFill>
        <p:spPr>
          <a:xfrm>
            <a:off x="4067280" y="2205000"/>
            <a:ext cx="3617640" cy="345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8" descr="ванная 1"/>
          <p:cNvPicPr/>
          <p:nvPr/>
        </p:nvPicPr>
        <p:blipFill>
          <a:blip r:embed="rId2"/>
          <a:stretch/>
        </p:blipFill>
        <p:spPr>
          <a:xfrm>
            <a:off x="179280" y="2276640"/>
            <a:ext cx="3745080" cy="338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Ванная комнат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ванная"/>
          <p:cNvPicPr/>
          <p:nvPr/>
        </p:nvPicPr>
        <p:blipFill>
          <a:blip r:embed="rId1"/>
          <a:stretch/>
        </p:blipFill>
        <p:spPr>
          <a:xfrm>
            <a:off x="263520" y="1628640"/>
            <a:ext cx="7332840" cy="46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Декоративное убранство жилья</a:t>
            </a: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единяет в себе утилитарные (необходимые в повседневной жизни) и декоративные элементы, украшающие быт человека: ковры, посуду, цветы, картины, музыкальное оформ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ое убранство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7" descr="рамки"/>
          <p:cNvPicPr/>
          <p:nvPr/>
        </p:nvPicPr>
        <p:blipFill>
          <a:blip r:embed="rId1"/>
          <a:stretch/>
        </p:blipFill>
        <p:spPr>
          <a:xfrm>
            <a:off x="250920" y="1557360"/>
            <a:ext cx="7399080" cy="4608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Мебель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мебель"/>
          <p:cNvPicPr/>
          <p:nvPr/>
        </p:nvPicPr>
        <p:blipFill>
          <a:blip r:embed="rId1"/>
          <a:stretch/>
        </p:blipFill>
        <p:spPr>
          <a:xfrm>
            <a:off x="324000" y="1125360"/>
            <a:ext cx="7272360" cy="53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ое убранство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о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р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б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за с цвет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картина 3"/>
          <p:cNvPicPr/>
          <p:nvPr/>
        </p:nvPicPr>
        <p:blipFill>
          <a:blip r:embed="rId5"/>
          <a:stretch/>
        </p:blipFill>
        <p:spPr>
          <a:xfrm>
            <a:off x="3995640" y="1600200"/>
            <a:ext cx="3672000" cy="4708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в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у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диванные подушки"/>
          <p:cNvPicPr/>
          <p:nvPr/>
        </p:nvPicPr>
        <p:blipFill>
          <a:blip r:embed="rId2"/>
          <a:stretch/>
        </p:blipFill>
        <p:spPr>
          <a:xfrm>
            <a:off x="3324240" y="1484280"/>
            <a:ext cx="3911760" cy="4969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картина 2"/>
          <p:cNvPicPr/>
          <p:nvPr/>
        </p:nvPicPr>
        <p:blipFill>
          <a:blip r:embed="rId1"/>
          <a:stretch/>
        </p:blipFill>
        <p:spPr>
          <a:xfrm>
            <a:off x="4427640" y="1341360"/>
            <a:ext cx="3168720" cy="46800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украшения 1"/>
          <p:cNvPicPr/>
          <p:nvPr/>
        </p:nvPicPr>
        <p:blipFill>
          <a:blip r:embed="rId2"/>
          <a:stretch/>
        </p:blipFill>
        <p:spPr>
          <a:xfrm>
            <a:off x="324000" y="1413000"/>
            <a:ext cx="3695400" cy="46288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полка"/>
          <p:cNvPicPr/>
          <p:nvPr/>
        </p:nvPicPr>
        <p:blipFill>
          <a:blip r:embed="rId1"/>
          <a:stretch/>
        </p:blipFill>
        <p:spPr>
          <a:xfrm>
            <a:off x="4211640" y="1628640"/>
            <a:ext cx="3218040" cy="4464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украшение 2"/>
          <p:cNvPicPr/>
          <p:nvPr/>
        </p:nvPicPr>
        <p:blipFill>
          <a:blip r:embed="rId2"/>
          <a:stretch/>
        </p:blipFill>
        <p:spPr>
          <a:xfrm>
            <a:off x="611280" y="1628640"/>
            <a:ext cx="266544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Интерьер жилого дома</a:t>
            </a:r>
            <a:br>
              <a:rPr sz="3600"/>
            </a:b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ьер – это внутреннее пространство дома, складывающееся из планировки квартиры, внутреннего убранства помещений ( комнат, прихожей, кухни, санузла), их связи между собой, с оборудованием, мебелью и декоративным оформл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16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столик"/>
          <p:cNvPicPr/>
          <p:nvPr/>
        </p:nvPicPr>
        <p:blipFill>
          <a:blip r:embed="rId1"/>
          <a:stretch/>
        </p:blipFill>
        <p:spPr>
          <a:xfrm>
            <a:off x="4356000" y="1628640"/>
            <a:ext cx="2952720" cy="4032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фен шуй"/>
          <p:cNvPicPr/>
          <p:nvPr/>
        </p:nvPicPr>
        <p:blipFill>
          <a:blip r:embed="rId2"/>
          <a:stretch/>
        </p:blipFill>
        <p:spPr>
          <a:xfrm>
            <a:off x="611280" y="1628640"/>
            <a:ext cx="302400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Декоративные украшени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украшение интерьера"/>
          <p:cNvPicPr/>
          <p:nvPr/>
        </p:nvPicPr>
        <p:blipFill>
          <a:blip r:embed="rId1"/>
          <a:stretch/>
        </p:blipFill>
        <p:spPr>
          <a:xfrm>
            <a:off x="1763640" y="1628640"/>
            <a:ext cx="453708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свещение жилого дом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тественное освещение (дневной солнечный св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усственное осве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 светиль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го 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бинированного 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стного 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ольная лам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ш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ильники направленного осв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ильник-ноч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коративный свети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свещение жилого дом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освещение 1"/>
          <p:cNvPicPr/>
          <p:nvPr/>
        </p:nvPicPr>
        <p:blipFill>
          <a:blip r:embed="rId1"/>
          <a:stretch/>
        </p:blipFill>
        <p:spPr>
          <a:xfrm>
            <a:off x="250920" y="1700280"/>
            <a:ext cx="7345440" cy="4321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свещение жилого дом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н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о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е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авл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освещение"/>
          <p:cNvPicPr/>
          <p:nvPr/>
        </p:nvPicPr>
        <p:blipFill>
          <a:blip r:embed="rId2"/>
          <a:stretch/>
        </p:blipFill>
        <p:spPr>
          <a:xfrm>
            <a:off x="3995640" y="1628640"/>
            <a:ext cx="360072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Светильник общего освещения</a:t>
            </a: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стра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ме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вещает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люстра"/>
          <p:cNvPicPr/>
          <p:nvPr/>
        </p:nvPicPr>
        <p:blipFill>
          <a:blip r:embed="rId2"/>
          <a:stretch/>
        </p:blipFill>
        <p:spPr>
          <a:xfrm>
            <a:off x="3564000" y="1628640"/>
            <a:ext cx="4032360" cy="4658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тделка квартиры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и - различаю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цвету, рисунк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у оклеив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у,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ого 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готовле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клеим обои"/>
          <p:cNvPicPr/>
          <p:nvPr/>
        </p:nvPicPr>
        <p:blipFill>
          <a:blip r:embed="rId2"/>
          <a:stretch/>
        </p:blipFill>
        <p:spPr>
          <a:xfrm>
            <a:off x="4140360" y="1844640"/>
            <a:ext cx="322416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тделка стен, пол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ольная пл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стенная пли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керамичкская плитка 3"/>
          <p:cNvPicPr/>
          <p:nvPr/>
        </p:nvPicPr>
        <p:blipFill>
          <a:blip r:embed="rId3"/>
          <a:stretch/>
        </p:blipFill>
        <p:spPr>
          <a:xfrm>
            <a:off x="4356000" y="1413000"/>
            <a:ext cx="2857680" cy="183816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керамическая плитка 1"/>
          <p:cNvPicPr/>
          <p:nvPr/>
        </p:nvPicPr>
        <p:blipFill>
          <a:blip r:embed="rId4"/>
          <a:stretch/>
        </p:blipFill>
        <p:spPr>
          <a:xfrm>
            <a:off x="4427640" y="3933720"/>
            <a:ext cx="2857320" cy="1838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42852"/>
                </a:solidFill>
                <a:latin typeface="Arial"/>
              </a:rPr>
              <a:t>Декоративное оформление помещения</a:t>
            </a:r>
            <a:endParaRPr b="0" lang="en-US" sz="36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ративные ткани и текстильные изделия (обивка мягкой мебели, ковры и дорожки, занавеси на окна и двери, покрывала, скатерт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ративные ткани придают интерьеру неповторимый характер, создают атмосферу уюта и тепл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Гардины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рдины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авеси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на из мяг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бивной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зрач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кани, тюл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ж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" descr="шторы 7"/>
          <p:cNvPicPr/>
          <p:nvPr/>
        </p:nvPicPr>
        <p:blipFill>
          <a:blip r:embed="rId2"/>
          <a:stretch/>
        </p:blipFill>
        <p:spPr>
          <a:xfrm>
            <a:off x="3708360" y="1550880"/>
            <a:ext cx="3888000" cy="45514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852"/>
                </a:solidFill>
                <a:latin typeface="Arial"/>
              </a:rPr>
              <a:t>Три основные качества интерьера:</a:t>
            </a:r>
            <a:endParaRPr b="0" lang="en-US" sz="32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е качества способствуют нормальным условиям проживания(кухня, спальня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гиенические качества учитываются во время строительства жилья (звуковая изоляция, воздухообме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стетические качества интерьера – это гармония вещей и простран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зиция интерьера – это особое расположение и соотношение его составных частей: мебели, светильников, бытового оборудования, функциональных з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Шторы с ламбрекеном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мбрекен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еречная штор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ая закрыв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у креп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авес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шторы 8"/>
          <p:cNvPicPr/>
          <p:nvPr/>
        </p:nvPicPr>
        <p:blipFill>
          <a:blip r:embed="rId2"/>
          <a:stretch/>
        </p:blipFill>
        <p:spPr>
          <a:xfrm>
            <a:off x="4140360" y="1600200"/>
            <a:ext cx="3527280" cy="48531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формление  окна тканями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шторы 3"/>
          <p:cNvPicPr/>
          <p:nvPr/>
        </p:nvPicPr>
        <p:blipFill>
          <a:blip r:embed="rId1"/>
          <a:stretch/>
        </p:blipFill>
        <p:spPr>
          <a:xfrm>
            <a:off x="755640" y="1484280"/>
            <a:ext cx="6408720" cy="4608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торы – э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навеси 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тной тка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б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ъемными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движ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4" descr="шторы"/>
          <p:cNvPicPr/>
          <p:nvPr/>
        </p:nvPicPr>
        <p:blipFill>
          <a:blip r:embed="rId2"/>
          <a:stretch/>
        </p:blipFill>
        <p:spPr>
          <a:xfrm>
            <a:off x="3708360" y="404640"/>
            <a:ext cx="3600360" cy="59770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Шторы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Вертикальные жалюзи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алюзи -  ря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изонта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вертика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стин, о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рыв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уская св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закрыва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лируя комна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ул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вертикальные жалюзи"/>
          <p:cNvPicPr/>
          <p:nvPr/>
        </p:nvPicPr>
        <p:blipFill>
          <a:blip r:embed="rId2"/>
          <a:stretch/>
        </p:blipFill>
        <p:spPr>
          <a:xfrm>
            <a:off x="3708360" y="1557360"/>
            <a:ext cx="374328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Функциональные зоны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вартире есть несколько функциональных зо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отдыха (общая ком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приготовления пищи (кухн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приема пищи (столов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сна (спальня, детск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на для отдыха детей (детская или общая комна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7" descr="жилая комната 1"/>
          <p:cNvPicPr/>
          <p:nvPr/>
        </p:nvPicPr>
        <p:blipFill>
          <a:blip r:embed="rId7"/>
          <a:stretch/>
        </p:blipFill>
        <p:spPr>
          <a:xfrm>
            <a:off x="0" y="1484280"/>
            <a:ext cx="4067280" cy="410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Общая комната. Зал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36165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ирование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ст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д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7" descr="жилая комната 2"/>
          <p:cNvPicPr/>
          <p:nvPr/>
        </p:nvPicPr>
        <p:blipFill>
          <a:blip r:embed="rId2"/>
          <a:stretch/>
        </p:blipFill>
        <p:spPr>
          <a:xfrm>
            <a:off x="3276720" y="1557360"/>
            <a:ext cx="4373280" cy="4464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Зона отдыха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н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б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7" descr="жилая комната 3"/>
          <p:cNvPicPr/>
          <p:nvPr/>
        </p:nvPicPr>
        <p:blipFill>
          <a:blip r:embed="rId2"/>
          <a:stretch/>
        </p:blipFill>
        <p:spPr>
          <a:xfrm>
            <a:off x="3203640" y="1628640"/>
            <a:ext cx="4446360" cy="4464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Зона для сна. Спальн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95280" y="1598760"/>
            <a:ext cx="365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Спальня 1"/>
          <p:cNvPicPr/>
          <p:nvPr/>
        </p:nvPicPr>
        <p:blipFill>
          <a:blip r:embed="rId1"/>
          <a:srcRect l="0" t="5687" r="0" b="0"/>
          <a:stretch/>
        </p:blipFill>
        <p:spPr>
          <a:xfrm>
            <a:off x="263520" y="1616040"/>
            <a:ext cx="7404120" cy="4549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Спальня. Детска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спальня 5"/>
          <p:cNvPicPr/>
          <p:nvPr/>
        </p:nvPicPr>
        <p:blipFill>
          <a:blip r:embed="rId1"/>
          <a:stretch/>
        </p:blipFill>
        <p:spPr>
          <a:xfrm>
            <a:off x="250920" y="1214280"/>
            <a:ext cx="7416720" cy="5167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42852"/>
                </a:solidFill>
                <a:latin typeface="Arial"/>
              </a:rPr>
              <a:t>Зона отдыха. Каминная</a:t>
            </a:r>
            <a:endParaRPr b="0" lang="en-US" sz="4000" spc="-1" strike="noStrike">
              <a:solidFill>
                <a:srgbClr val="24285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066920" y="1557000"/>
            <a:ext cx="36176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требности человека, традиции общества, мода, условия строительства накладывают свой отпечаток на инте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каминная"/>
          <p:cNvPicPr/>
          <p:nvPr/>
        </p:nvPicPr>
        <p:blipFill>
          <a:blip r:embed="rId2"/>
          <a:stretch/>
        </p:blipFill>
        <p:spPr>
          <a:xfrm>
            <a:off x="263520" y="1628640"/>
            <a:ext cx="361620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9:22:52Z</dcterms:created>
  <dc:creator>1</dc:creator>
  <dc:description/>
  <dc:language>en-US</dc:language>
  <cp:lastModifiedBy>Вероника</cp:lastModifiedBy>
  <dcterms:modified xsi:type="dcterms:W3CDTF">2016-06-12T18:13:39Z</dcterms:modified>
  <cp:revision>20</cp:revision>
  <dc:subject/>
  <dc:title>Интерьер жилого дома</dc:title>
</cp:coreProperties>
</file>