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A6D-18E6-46E3-B9F4-111B83F5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75C-8E61-409A-A86C-F447D5CB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744-9403-4FB8-93DF-B3AAED4A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464-23D1-401C-856B-87B38AE0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D33-32C4-4686-94DC-08FDD9ED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C036-74FF-40E1-828F-7EBFF71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D75B-27C1-4BD6-8872-C72463A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6E46-471E-4229-98D9-86A9E798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2A0E-89A7-49BA-82E5-AE05A7C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559E-7E37-4FDD-9EA6-36E9A4A8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2387-DCBF-429C-B6FF-87E8638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021-0DAF-4E1C-99B5-C26DC4A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9AD8-D3A2-4D9F-96A3-95BC90A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2590-3231-41E6-AA1E-DA857D08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37F1-04C7-4407-8FB6-BC0DBB1C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9072-3AD2-46D8-A041-DFAC9CBD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1E8C-EA25-4AC0-BED7-D8464D7C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D09-C3FE-42F1-86C1-D7862F27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55E-AB1D-4E7F-8972-2E7225DB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EE6-B327-4120-A2A3-E962B621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9E9-579A-41CF-8AEA-FA390A9A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3CA-EC77-4E91-88C1-29FD83E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B6B-B8C0-4F6F-BB0D-2B6FAC7B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DF0-373B-435A-9574-D4F89CE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slideLayout" Target="../slideLayouts/slideLayout13.xml"/><Relationship Id="rId64" Type="http://schemas.openxmlformats.org/officeDocument/2006/relationships/slideLayout" Target="../slideLayouts/slideLayout14.xml"/><Relationship Id="rId65" Type="http://schemas.openxmlformats.org/officeDocument/2006/relationships/slideLayout" Target="../slideLayouts/slideLayout15.xml"/><Relationship Id="rId66" Type="http://schemas.openxmlformats.org/officeDocument/2006/relationships/slideLayout" Target="../slideLayouts/slideLayout16.xml"/><Relationship Id="rId67" Type="http://schemas.openxmlformats.org/officeDocument/2006/relationships/slideLayout" Target="../slideLayouts/slideLayout17.xml"/><Relationship Id="rId68" Type="http://schemas.openxmlformats.org/officeDocument/2006/relationships/slideLayout" Target="../slideLayouts/slideLayout18.xml"/><Relationship Id="rId69" Type="http://schemas.openxmlformats.org/officeDocument/2006/relationships/slideLayout" Target="../slideLayouts/slideLayout19.xml"/><Relationship Id="rId70" Type="http://schemas.openxmlformats.org/officeDocument/2006/relationships/slideLayout" Target="../slideLayouts/slideLayout20.xml"/><Relationship Id="rId71" Type="http://schemas.openxmlformats.org/officeDocument/2006/relationships/slideLayout" Target="../slideLayouts/slideLayout21.xml"/><Relationship Id="rId72" Type="http://schemas.openxmlformats.org/officeDocument/2006/relationships/slideLayout" Target="../slideLayouts/slideLayout22.xml"/><Relationship Id="rId73" Type="http://schemas.openxmlformats.org/officeDocument/2006/relationships/slideLayout" Target="../slideLayouts/slideLayout23.xml"/><Relationship Id="rId7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b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accb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5385b1"/>
                </a:gs>
                <a:gs pos="50000">
                  <a:srgbClr val="629dd1"/>
                </a:gs>
                <a:gs pos="100000">
                  <a:srgbClr val="5385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33b63"/>
                </a:gs>
                <a:gs pos="50000">
                  <a:srgbClr val="297fd5"/>
                </a:gs>
                <a:gs pos="100000">
                  <a:srgbClr val="133b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ebb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600-922B-4708-BD76-34C3C85B57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b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accb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5385b1"/>
                </a:gs>
                <a:gs pos="50000">
                  <a:srgbClr val="629dd1"/>
                </a:gs>
                <a:gs pos="100000">
                  <a:srgbClr val="5385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33b63"/>
                </a:gs>
                <a:gs pos="50000">
                  <a:srgbClr val="297fd5"/>
                </a:gs>
                <a:gs pos="100000">
                  <a:srgbClr val="133b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ebb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accb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5385b1"/>
                </a:gs>
                <a:gs pos="50000">
                  <a:srgbClr val="629dd1"/>
                </a:gs>
                <a:gs pos="100000">
                  <a:srgbClr val="5385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33b63"/>
                </a:gs>
                <a:gs pos="50000">
                  <a:srgbClr val="297fd5"/>
                </a:gs>
                <a:gs pos="100000">
                  <a:srgbClr val="133b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ebb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BDC-1017-48E2-88E4-8164BE19A3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3"/>
    <p:sldLayoutId id="2147483663" r:id="rId64"/>
    <p:sldLayoutId id="2147483664" r:id="rId65"/>
    <p:sldLayoutId id="2147483665" r:id="rId66"/>
    <p:sldLayoutId id="2147483666" r:id="rId67"/>
    <p:sldLayoutId id="2147483667" r:id="rId68"/>
    <p:sldLayoutId id="2147483668" r:id="rId69"/>
    <p:sldLayoutId id="2147483669" r:id="rId70"/>
    <p:sldLayoutId id="2147483670" r:id="rId71"/>
    <p:sldLayoutId id="2147483671" r:id="rId72"/>
    <p:sldLayoutId id="2147483672" r:id="rId73"/>
    <p:sldLayoutId id="2147483673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183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852"/>
                </a:solidFill>
                <a:latin typeface="Times New Roman"/>
                <a:ea typeface="Times New Roman"/>
              </a:rPr>
              <a:t>Презентация на  тему: «Интерьер жилого дома»</a:t>
            </a:r>
            <a:br>
              <a:rPr sz="4400"/>
            </a:b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987640" y="4149720"/>
            <a:ext cx="460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яся 6Б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«Тарас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пьянова Ал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анфилов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Кухн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ую роль в композиции интерьера играют цвет и свет, формы и характер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кухня 3"/>
          <p:cNvPicPr/>
          <p:nvPr/>
        </p:nvPicPr>
        <p:blipFill>
          <a:blip r:embed="rId2"/>
          <a:stretch/>
        </p:blipFill>
        <p:spPr>
          <a:xfrm>
            <a:off x="3924360" y="1598760"/>
            <a:ext cx="3743280" cy="449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Санитарно-гигиеническая зона.</a:t>
            </a:r>
            <a:br>
              <a:rPr sz="3600"/>
            </a:b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Ванная комната. Туалет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ванная 2"/>
          <p:cNvPicPr/>
          <p:nvPr/>
        </p:nvPicPr>
        <p:blipFill>
          <a:blip r:embed="rId1"/>
          <a:stretch/>
        </p:blipFill>
        <p:spPr>
          <a:xfrm>
            <a:off x="4067280" y="2205000"/>
            <a:ext cx="3617640" cy="345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ванная 1"/>
          <p:cNvPicPr/>
          <p:nvPr/>
        </p:nvPicPr>
        <p:blipFill>
          <a:blip r:embed="rId2"/>
          <a:stretch/>
        </p:blipFill>
        <p:spPr>
          <a:xfrm>
            <a:off x="179280" y="2276640"/>
            <a:ext cx="374508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Ванная комнат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ванная"/>
          <p:cNvPicPr/>
          <p:nvPr/>
        </p:nvPicPr>
        <p:blipFill>
          <a:blip r:embed="rId1"/>
          <a:stretch/>
        </p:blipFill>
        <p:spPr>
          <a:xfrm>
            <a:off x="263520" y="1628640"/>
            <a:ext cx="733284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Декоративное убранство жилья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яет в себе утилитарные (необходимые в повседневной жизни) и декоративные элементы, украшающие быт человека: ковры, посуду, цветы, картины, музыкальное офор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ое убранство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рамки"/>
          <p:cNvPicPr/>
          <p:nvPr/>
        </p:nvPicPr>
        <p:blipFill>
          <a:blip r:embed="rId1"/>
          <a:stretch/>
        </p:blipFill>
        <p:spPr>
          <a:xfrm>
            <a:off x="250920" y="1557360"/>
            <a:ext cx="739908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Мебель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мебель"/>
          <p:cNvPicPr/>
          <p:nvPr/>
        </p:nvPicPr>
        <p:blipFill>
          <a:blip r:embed="rId1"/>
          <a:stretch/>
        </p:blipFill>
        <p:spPr>
          <a:xfrm>
            <a:off x="324000" y="1125360"/>
            <a:ext cx="7272360" cy="53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ое убранство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за с цве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картина 3"/>
          <p:cNvPicPr/>
          <p:nvPr/>
        </p:nvPicPr>
        <p:blipFill>
          <a:blip r:embed="rId5"/>
          <a:stretch/>
        </p:blipFill>
        <p:spPr>
          <a:xfrm>
            <a:off x="3995640" y="1600200"/>
            <a:ext cx="3672000" cy="4708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в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диванные подушки"/>
          <p:cNvPicPr/>
          <p:nvPr/>
        </p:nvPicPr>
        <p:blipFill>
          <a:blip r:embed="rId2"/>
          <a:stretch/>
        </p:blipFill>
        <p:spPr>
          <a:xfrm>
            <a:off x="3324240" y="1484280"/>
            <a:ext cx="391176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картина 2"/>
          <p:cNvPicPr/>
          <p:nvPr/>
        </p:nvPicPr>
        <p:blipFill>
          <a:blip r:embed="rId1"/>
          <a:stretch/>
        </p:blipFill>
        <p:spPr>
          <a:xfrm>
            <a:off x="4427640" y="1341360"/>
            <a:ext cx="3168720" cy="4680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украшения 1"/>
          <p:cNvPicPr/>
          <p:nvPr/>
        </p:nvPicPr>
        <p:blipFill>
          <a:blip r:embed="rId2"/>
          <a:stretch/>
        </p:blipFill>
        <p:spPr>
          <a:xfrm>
            <a:off x="324000" y="1413000"/>
            <a:ext cx="3695400" cy="462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полка"/>
          <p:cNvPicPr/>
          <p:nvPr/>
        </p:nvPicPr>
        <p:blipFill>
          <a:blip r:embed="rId1"/>
          <a:stretch/>
        </p:blipFill>
        <p:spPr>
          <a:xfrm>
            <a:off x="4211640" y="1628640"/>
            <a:ext cx="3218040" cy="4464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украшение 2"/>
          <p:cNvPicPr/>
          <p:nvPr/>
        </p:nvPicPr>
        <p:blipFill>
          <a:blip r:embed="rId2"/>
          <a:stretch/>
        </p:blipFill>
        <p:spPr>
          <a:xfrm>
            <a:off x="611280" y="1628640"/>
            <a:ext cx="266544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Интерьер жилого дома</a:t>
            </a:r>
            <a:br>
              <a:rPr sz="3600"/>
            </a:b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ьер – это внутреннее пространство дома, складывающееся из планировки квартиры, внутреннего убранства помещений ( комнат, прихожей, кухни, санузла), их связи между собой, с оборудованием, мебелью и декоративным оформ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столик"/>
          <p:cNvPicPr/>
          <p:nvPr/>
        </p:nvPicPr>
        <p:blipFill>
          <a:blip r:embed="rId1"/>
          <a:stretch/>
        </p:blipFill>
        <p:spPr>
          <a:xfrm>
            <a:off x="4356000" y="1628640"/>
            <a:ext cx="2952720" cy="403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фен шуй"/>
          <p:cNvPicPr/>
          <p:nvPr/>
        </p:nvPicPr>
        <p:blipFill>
          <a:blip r:embed="rId2"/>
          <a:stretch/>
        </p:blipFill>
        <p:spPr>
          <a:xfrm>
            <a:off x="611280" y="1628640"/>
            <a:ext cx="302400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украшение интерьера"/>
          <p:cNvPicPr/>
          <p:nvPr/>
        </p:nvPicPr>
        <p:blipFill>
          <a:blip r:embed="rId1"/>
          <a:stretch/>
        </p:blipFill>
        <p:spPr>
          <a:xfrm>
            <a:off x="1763640" y="1628640"/>
            <a:ext cx="453708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свещение жилого дом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е освещение (дневной солнечный с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енное осв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светиль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бинированно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но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ольная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ш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ильники направленно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ильник-н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оративный свет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свещение жилого дом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освещение 1"/>
          <p:cNvPicPr/>
          <p:nvPr/>
        </p:nvPicPr>
        <p:blipFill>
          <a:blip r:embed="rId1"/>
          <a:stretch/>
        </p:blipFill>
        <p:spPr>
          <a:xfrm>
            <a:off x="250920" y="1700280"/>
            <a:ext cx="7345440" cy="432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свещение жилого дом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освещение"/>
          <p:cNvPicPr/>
          <p:nvPr/>
        </p:nvPicPr>
        <p:blipFill>
          <a:blip r:embed="rId2"/>
          <a:stretch/>
        </p:blipFill>
        <p:spPr>
          <a:xfrm>
            <a:off x="3995640" y="162864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Светильник общего освещения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стр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ме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ещае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люстра"/>
          <p:cNvPicPr/>
          <p:nvPr/>
        </p:nvPicPr>
        <p:blipFill>
          <a:blip r:embed="rId2"/>
          <a:stretch/>
        </p:blipFill>
        <p:spPr>
          <a:xfrm>
            <a:off x="3564000" y="1628640"/>
            <a:ext cx="4032360" cy="465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тделка квартир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и - различ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цвету, рисун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у оклеи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у,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го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клеим обои"/>
          <p:cNvPicPr/>
          <p:nvPr/>
        </p:nvPicPr>
        <p:blipFill>
          <a:blip r:embed="rId2"/>
          <a:stretch/>
        </p:blipFill>
        <p:spPr>
          <a:xfrm>
            <a:off x="4140360" y="1844640"/>
            <a:ext cx="322416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тделка стен, пол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ьная пл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енная пл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керамичкская плитка 3"/>
          <p:cNvPicPr/>
          <p:nvPr/>
        </p:nvPicPr>
        <p:blipFill>
          <a:blip r:embed="rId3"/>
          <a:stretch/>
        </p:blipFill>
        <p:spPr>
          <a:xfrm>
            <a:off x="4356000" y="1413000"/>
            <a:ext cx="2857680" cy="1838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керамическая плитка 1"/>
          <p:cNvPicPr/>
          <p:nvPr/>
        </p:nvPicPr>
        <p:blipFill>
          <a:blip r:embed="rId4"/>
          <a:stretch/>
        </p:blipFill>
        <p:spPr>
          <a:xfrm>
            <a:off x="4427640" y="3933720"/>
            <a:ext cx="2857320" cy="1838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Декоративное оформление помещения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ративные ткани и текстильные изделия (обивка мягкой мебели, ковры и дорожки, занавеси на окна и двери, покрывала, скатер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ративные ткани придают интерьеру неповторимый характер, создают атмосферу уюта и теп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Гардин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дины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авеси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на из мяг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ивной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ани, тю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ж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шторы 7"/>
          <p:cNvPicPr/>
          <p:nvPr/>
        </p:nvPicPr>
        <p:blipFill>
          <a:blip r:embed="rId2"/>
          <a:stretch/>
        </p:blipFill>
        <p:spPr>
          <a:xfrm>
            <a:off x="3708360" y="1550880"/>
            <a:ext cx="3888000" cy="455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852"/>
                </a:solidFill>
                <a:latin typeface="Arial"/>
              </a:rPr>
              <a:t>Три основные качества интерьера:</a:t>
            </a:r>
            <a:endParaRPr b="0" lang="en-US" sz="32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е качества способствуют нормальным условиям проживания(кухня, спальня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ические качества учитываются во время строительства жилья (звуковая изоляция, воздухообме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тетические качества интерьера – это гармония вещей и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интерьера – это особое расположение и соотношение его составных частей: мебели, светильников, бытового оборудования, функциональных з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Шторы с ламбрекеном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мбрек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еречная ш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ая закр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у кре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ав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шторы 8"/>
          <p:cNvPicPr/>
          <p:nvPr/>
        </p:nvPicPr>
        <p:blipFill>
          <a:blip r:embed="rId2"/>
          <a:stretch/>
        </p:blipFill>
        <p:spPr>
          <a:xfrm>
            <a:off x="4140360" y="1600200"/>
            <a:ext cx="3527280" cy="485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формление  окна тканями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шторы 3"/>
          <p:cNvPicPr/>
          <p:nvPr/>
        </p:nvPicPr>
        <p:blipFill>
          <a:blip r:embed="rId1"/>
          <a:stretch/>
        </p:blipFill>
        <p:spPr>
          <a:xfrm>
            <a:off x="755640" y="1484280"/>
            <a:ext cx="6408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ры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авеси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б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мным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виж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шторы"/>
          <p:cNvPicPr/>
          <p:nvPr/>
        </p:nvPicPr>
        <p:blipFill>
          <a:blip r:embed="rId2"/>
          <a:stretch/>
        </p:blipFill>
        <p:spPr>
          <a:xfrm>
            <a:off x="3708360" y="404640"/>
            <a:ext cx="3600360" cy="5977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Штор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Вертикальные жалюзи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юзи -  р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зонт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ртик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ин,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ская с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кры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лируя комна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вертикальные жалюзи"/>
          <p:cNvPicPr/>
          <p:nvPr/>
        </p:nvPicPr>
        <p:blipFill>
          <a:blip r:embed="rId2"/>
          <a:stretch/>
        </p:blipFill>
        <p:spPr>
          <a:xfrm>
            <a:off x="3708360" y="1557360"/>
            <a:ext cx="374328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Функциональные зон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вартире есть несколько функциональных зо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отдыха (общая ком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приготовления пищи (кух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приема пищи (стол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сна (спальня, детс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отдыха детей (детская или общая ком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жилая комната 1"/>
          <p:cNvPicPr/>
          <p:nvPr/>
        </p:nvPicPr>
        <p:blipFill>
          <a:blip r:embed="rId7"/>
          <a:stretch/>
        </p:blipFill>
        <p:spPr>
          <a:xfrm>
            <a:off x="0" y="1484280"/>
            <a:ext cx="4067280" cy="410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бщая комната. Зал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3616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ировани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д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жилая комната 2"/>
          <p:cNvPicPr/>
          <p:nvPr/>
        </p:nvPicPr>
        <p:blipFill>
          <a:blip r:embed="rId2"/>
          <a:stretch/>
        </p:blipFill>
        <p:spPr>
          <a:xfrm>
            <a:off x="3276720" y="1557360"/>
            <a:ext cx="437328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Зона отдых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жилая комната 3"/>
          <p:cNvPicPr/>
          <p:nvPr/>
        </p:nvPicPr>
        <p:blipFill>
          <a:blip r:embed="rId2"/>
          <a:stretch/>
        </p:blipFill>
        <p:spPr>
          <a:xfrm>
            <a:off x="3203640" y="1628640"/>
            <a:ext cx="444636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Зона для сна. Спальн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95280" y="1598760"/>
            <a:ext cx="365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Спальня 1"/>
          <p:cNvPicPr/>
          <p:nvPr/>
        </p:nvPicPr>
        <p:blipFill>
          <a:blip r:embed="rId1"/>
          <a:srcRect l="0" t="5687" r="0" b="0"/>
          <a:stretch/>
        </p:blipFill>
        <p:spPr>
          <a:xfrm>
            <a:off x="263520" y="1616040"/>
            <a:ext cx="7404120" cy="454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Спальня. Детска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спальня 5"/>
          <p:cNvPicPr/>
          <p:nvPr/>
        </p:nvPicPr>
        <p:blipFill>
          <a:blip r:embed="rId1"/>
          <a:stretch/>
        </p:blipFill>
        <p:spPr>
          <a:xfrm>
            <a:off x="250920" y="1214280"/>
            <a:ext cx="7416720" cy="516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Зона отдыха. Каминна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66920" y="155700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и человека, традиции общества, мода, условия строительства накладывают свой отпечаток на инте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каминная"/>
          <p:cNvPicPr/>
          <p:nvPr/>
        </p:nvPicPr>
        <p:blipFill>
          <a:blip r:embed="rId2"/>
          <a:stretch/>
        </p:blipFill>
        <p:spPr>
          <a:xfrm>
            <a:off x="263520" y="1628640"/>
            <a:ext cx="36162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22:52Z</dcterms:created>
  <dc:creator>1</dc:creator>
  <dc:description/>
  <dc:language>en-US</dc:language>
  <cp:lastModifiedBy>Вероника</cp:lastModifiedBy>
  <dcterms:modified xsi:type="dcterms:W3CDTF">2016-06-12T18:13:39Z</dcterms:modified>
  <cp:revision>20</cp:revision>
  <dc:subject/>
  <dc:title>Интерьер жилого дома</dc:title>
</cp:coreProperties>
</file>