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33C-87DA-46E7-B17F-A5EEB6A9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A8E-5137-407A-A6A2-FD3DF842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DF9-66A5-48BF-B9AD-C16288F9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C6F-FC90-4A05-82FF-B0BDA685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1C4-0D7D-44E5-8F34-1A684003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19A-AC20-4CBC-A75C-5A9759AD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CED-124D-49E4-9284-3BB73353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D58-49C6-4969-A836-3D97A7D1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B4D-5EF9-4356-B62F-E032459B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7E3-3E02-46C4-B263-BBD90CBC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5A8-48F2-458F-A103-59E90753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9F93-9430-4FD8-B9A1-04BD8F31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3699-E4C5-469F-B162-206DA65917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loballab.ru/mim/mim/intro/all.2476.ru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907920" y="1901880"/>
            <a:ext cx="8242560" cy="1579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708360" y="4941720"/>
            <a:ext cx="45784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Segoe Print"/>
              </a:rPr>
              <a:t>Учитель математики МАОУ «Петропавловская СОШ№1» Плюснина Александра Леонид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755640" y="620640"/>
            <a:ext cx="590400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ЗАДАНИЕ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№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Comic Sans MS"/>
              </a:rPr>
              <a:t>Прочитайте двойные нерав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857160" y="2500200"/>
            <a:ext cx="564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16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55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56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3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4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5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100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200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43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44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755640" y="620640"/>
            <a:ext cx="590400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ЗАДАНИЕ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500280" y="2000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785880" y="1285920"/>
            <a:ext cx="564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0f17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222268"/>
                </a:solidFill>
                <a:latin typeface="Comic Sans MS"/>
              </a:rPr>
              <a:t>Напишите вместо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Comic Sans MS"/>
              </a:rPr>
              <a:t>знак </a:t>
            </a:r>
            <a:r>
              <a:rPr b="1" lang="ru-RU" sz="2000" spc="-1" strike="noStrike">
                <a:solidFill>
                  <a:srgbClr val="222268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Comic Sans MS"/>
              </a:rPr>
              <a:t>или  </a:t>
            </a:r>
            <a:r>
              <a:rPr b="1" lang="ru-RU" sz="2000" spc="-1" strike="noStrike">
                <a:solidFill>
                  <a:srgbClr val="222268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222268"/>
                </a:solidFill>
                <a:latin typeface="Comic Sans MS"/>
              </a:rPr>
              <a:t>  та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Comic Sans MS"/>
              </a:rPr>
              <a:t>чтобы было верное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3571920" y="300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5880" y="2428920"/>
            <a:ext cx="58579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204 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 </a:t>
            </a: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 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554   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</a:t>
            </a: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0    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</a:t>
            </a: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   4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8269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</a:t>
            </a: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  82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18324921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</a:t>
            </a: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  183248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69398801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</a:t>
            </a: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  693988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6756540623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</a:t>
            </a: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  67565406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755640" y="620640"/>
            <a:ext cx="590400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ЗАДАНИЕ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№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3500280" y="2000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785880" y="150012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Вместо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 поставьте цифру так, чтобы неравенство было верны</a:t>
            </a: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571920" y="300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13920" y="2571480"/>
            <a:ext cx="4643640" cy="26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617</a:t>
            </a:r>
            <a:r>
              <a:rPr b="0" lang="ru-RU" sz="3600" spc="-1" strike="noStrike">
                <a:solidFill>
                  <a:srgbClr val="ff3300"/>
                </a:solidFill>
                <a:latin typeface="Comic Sans MS"/>
                <a:ea typeface="Arial"/>
              </a:rPr>
              <a:t>*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 </a:t>
            </a: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61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3453</a:t>
            </a:r>
            <a:r>
              <a:rPr b="0" lang="ru-RU" sz="36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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 </a:t>
            </a: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34</a:t>
            </a:r>
            <a:r>
              <a:rPr b="0" lang="ru-RU" sz="3600" spc="-1" strike="noStrike">
                <a:solidFill>
                  <a:srgbClr val="ff3300"/>
                </a:solidFill>
                <a:latin typeface="Comic Sans MS"/>
                <a:ea typeface="Arial"/>
              </a:rPr>
              <a:t>*</a:t>
            </a: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3128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 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  </a:t>
            </a: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312</a:t>
            </a:r>
            <a:r>
              <a:rPr b="0" lang="ru-RU" sz="3600" spc="-1" strike="noStrike">
                <a:solidFill>
                  <a:srgbClr val="ff3300"/>
                </a:solidFill>
                <a:latin typeface="Comic Sans MS"/>
                <a:ea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2785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  </a:t>
            </a: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27</a:t>
            </a:r>
            <a:r>
              <a:rPr b="0" lang="ru-RU" sz="3600" spc="-1" strike="noStrike">
                <a:solidFill>
                  <a:srgbClr val="ff3300"/>
                </a:solidFill>
                <a:latin typeface="Comic Sans MS"/>
                <a:ea typeface="Arial"/>
              </a:rPr>
              <a:t>*</a:t>
            </a: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755640" y="620640"/>
            <a:ext cx="590400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ЗАДАНИЕ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№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3500280" y="2000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785880" y="1500120"/>
            <a:ext cx="5643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Запишите в тетрадь все натуральные числа, которые на координатном луче находятся между числам 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794  и  801</a:t>
            </a:r>
            <a:r>
              <a:rPr b="0" lang="ru-RU" sz="16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3571920" y="300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714240" y="35506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= 795; 796; 797; 798; 799; 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3500280" y="2928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411640" y="292824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794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 801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214200" y="285840"/>
            <a:ext cx="8929800" cy="6572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ЗАДАНИЕ №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500280" y="2000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571920" y="300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3500280" y="2928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http://rasfokus.ru/images/photos/medium/1e90f16bfa48589d8d4309ba76579e14.jpg"/>
          <p:cNvPicPr/>
          <p:nvPr/>
        </p:nvPicPr>
        <p:blipFill>
          <a:blip r:embed="rId2"/>
          <a:stretch/>
        </p:blipFill>
        <p:spPr>
          <a:xfrm>
            <a:off x="-85680" y="3486240"/>
            <a:ext cx="5207040" cy="3384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3"/>
          <p:cNvSpPr/>
          <p:nvPr/>
        </p:nvSpPr>
        <p:spPr>
          <a:xfrm>
            <a:off x="410760" y="1214280"/>
            <a:ext cx="79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8928"/>
                </a:solidFill>
                <a:latin typeface="Comic Sans MS"/>
              </a:rPr>
              <a:t>Запиши числа в виде двойного нерав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2214720" y="2571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987280" y="2133360"/>
            <a:ext cx="569916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58040" indent="-15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ина реки </a:t>
            </a:r>
            <a:r>
              <a:rPr b="1" lang="ru-RU" sz="2800" spc="-1" strike="noStrike">
                <a:solidFill>
                  <a:srgbClr val="009a46"/>
                </a:solidFill>
                <a:latin typeface="Comic Sans MS"/>
              </a:rPr>
              <a:t>Джид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567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м.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040" indent="-15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2800" spc="-1" strike="noStrike">
                <a:solidFill>
                  <a:srgbClr val="009a46"/>
                </a:solidFill>
                <a:latin typeface="Comic Sans MS"/>
              </a:rPr>
              <a:t>Селенг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102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м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040" indent="-15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                   </a:t>
            </a:r>
            <a:r>
              <a:rPr b="1" lang="ru-RU" sz="2800" spc="-1" strike="noStrike">
                <a:solidFill>
                  <a:srgbClr val="009a46"/>
                </a:solidFill>
                <a:latin typeface="Comic Sans MS"/>
              </a:rPr>
              <a:t>Уд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467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040" indent="-15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040" indent="-15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8040" indent="-15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6643800" y="4429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Горизонтальный свиток 17"/>
          <p:cNvSpPr/>
          <p:nvPr/>
        </p:nvSpPr>
        <p:spPr>
          <a:xfrm flipH="1">
            <a:off x="4643280" y="4071960"/>
            <a:ext cx="4391280" cy="16606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a46"/>
                </a:solidFill>
                <a:latin typeface="Arial"/>
              </a:rPr>
              <a:t>467</a:t>
            </a:r>
            <a:r>
              <a:rPr b="1" lang="ru-RU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0" lang="ru-RU" sz="3200" spc="-1" strike="noStrike">
                <a:solidFill>
                  <a:srgbClr val="009a46"/>
                </a:solidFill>
                <a:latin typeface="Arial"/>
              </a:rPr>
              <a:t> 567</a:t>
            </a:r>
            <a:r>
              <a:rPr b="1" lang="ru-RU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0" lang="ru-RU" sz="3200" spc="-1" strike="noStrike">
                <a:solidFill>
                  <a:srgbClr val="009a46"/>
                </a:solidFill>
                <a:latin typeface="Arial"/>
              </a:rPr>
              <a:t> 10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Print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loballab.ru/mim/mim/intro/all.2476.ru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dreaminginjavascript.wordpress.com/2008/07/15/javascript-numbers-can-bit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3284640"/>
            <a:ext cx="51134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Segoe Print"/>
              </a:rPr>
              <a:t>Автор шаблона презентации:</a:t>
            </a:r>
            <a:br>
              <a:rPr sz="2400"/>
            </a:br>
            <a:r>
              <a:rPr b="0" lang="ru-RU" sz="2400" spc="-1" strike="noStrike">
                <a:solidFill>
                  <a:srgbClr val="262673"/>
                </a:solidFill>
                <a:latin typeface="Segoe Print"/>
              </a:rPr>
              <a:t>Шумарина Вера Алексеевна,учитель ГКС(К)ОУ С(К)ОШ №11 </a:t>
            </a:r>
            <a:r>
              <a:rPr b="0" lang="en-US" sz="2400" spc="-1" strike="noStrike">
                <a:solidFill>
                  <a:srgbClr val="262673"/>
                </a:solidFill>
                <a:latin typeface="Segoe Print"/>
              </a:rPr>
              <a:t>VIII</a:t>
            </a:r>
            <a:r>
              <a:rPr b="0" lang="ru-RU" sz="2400" spc="-1" strike="noStrike">
                <a:solidFill>
                  <a:srgbClr val="262673"/>
                </a:solidFill>
                <a:latin typeface="Segoe Print"/>
              </a:rPr>
              <a:t>вида. </a:t>
            </a:r>
            <a:br>
              <a:rPr sz="2400"/>
            </a:br>
            <a:r>
              <a:rPr b="0" lang="ru-RU" sz="2400" spc="-1" strike="noStrike">
                <a:solidFill>
                  <a:srgbClr val="262673"/>
                </a:solidFill>
                <a:latin typeface="Segoe Print"/>
              </a:rPr>
              <a:t>г. Балашов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62673"/>
                </a:solidFill>
                <a:latin typeface="Segoe Print"/>
              </a:rPr>
              <a:t>Сайт:</a:t>
            </a:r>
            <a:r>
              <a:rPr b="0" i="1" lang="en-US" sz="2400" spc="-1" strike="noStrike">
                <a:solidFill>
                  <a:srgbClr val="262673"/>
                </a:solidFill>
                <a:latin typeface="Segoe Print"/>
              </a:rPr>
              <a:t>http</a:t>
            </a:r>
            <a:r>
              <a:rPr b="0" i="1" lang="ru-RU" sz="2400" spc="-1" strike="noStrike">
                <a:solidFill>
                  <a:srgbClr val="262673"/>
                </a:solidFill>
                <a:latin typeface="Segoe Print"/>
              </a:rPr>
              <a:t>://</a:t>
            </a:r>
            <a:r>
              <a:rPr b="0" i="1" lang="en-US" sz="2400" spc="-1" strike="noStrike">
                <a:solidFill>
                  <a:srgbClr val="262673"/>
                </a:solidFill>
                <a:latin typeface="Segoe Print"/>
              </a:rPr>
              <a:t>pedsovet.su</a:t>
            </a:r>
            <a:r>
              <a:rPr b="0" i="1" lang="ru-RU" sz="2400" spc="-1" strike="noStrike">
                <a:solidFill>
                  <a:srgbClr val="262673"/>
                </a:solidFill>
                <a:latin typeface="Segoe Print"/>
              </a:rPr>
              <a:t>/</a:t>
            </a:r>
            <a:r>
              <a:rPr b="0" lang="ru-RU" sz="2400" spc="-1" strike="noStrike">
                <a:solidFill>
                  <a:srgbClr val="262673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8:23:50Z</dcterms:created>
  <dc:creator>home</dc:creator>
  <dc:description/>
  <dc:language>en-US</dc:language>
  <cp:lastModifiedBy>Елена</cp:lastModifiedBy>
  <dcterms:modified xsi:type="dcterms:W3CDTF">2017-10-17T07:45:33Z</dcterms:modified>
  <cp:revision>17</cp:revision>
  <dc:subject/>
  <dc:title>Слайд 1</dc:title>
</cp:coreProperties>
</file>